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074-C343-4FFE-A5E1-AB8A1E11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585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283B-6F50-49C4-BAA1-E03D244C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32B-4F1B-46A2-9E42-E07FB37E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BA1D-F653-4513-8E1B-B2311412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E6AB-64E9-4C7E-9961-E17A9C0D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9932-9ACD-42AA-B4ED-6BD676D1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E9E7-91A4-435E-80AE-7F0496C6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C07-0D05-4EF3-BFF0-D04B34B0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C8F-2EAF-49A7-A5B6-11740CFA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6475-148B-4553-9251-DCA91F69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4F93-58CE-41D1-9CB9-2EEDF76D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585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4659-872E-4602-AE40-D4FF78D4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54AD-10C5-4D44-8B5C-98D3D3498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" name="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3251b1"/>
                </a:gs>
                <a:gs pos="50000">
                  <a:srgbClr val="00279f"/>
                </a:gs>
                <a:gs pos="100000">
                  <a:srgbClr val="3251b1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9760" y="222120"/>
              <a:ext cx="8682120" cy="64072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b66ba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4b66ba"/>
                </a:gs>
                <a:gs pos="5000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b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pter 14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ibrium and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25 M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0.40 M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Kb = 1.8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ove they’re buffer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the pH be if .020 mol of HCl is added to 1.0 L of both of the preceding solu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the pH be if 0.050 mol of solid NaOH is added to each of the procee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Buffer capac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 of a buffered solution is determined by the ratio 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/[HA]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long as this doesn’t change much the pH won’t change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re concentrated these two are the more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solution will be able to absor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r concentrations bigger buffer capa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Buffer Capac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change in pH that occurs when 0.010 mol of HCl(g) is added to 1.0L of each of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00 M HAc and 5.00 M Na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050 M HAc and 0.050 M Na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= 1.8x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Buffer capac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buffers have a rati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/[HA]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most resistant to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when 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= [HA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pH = pKa (since log1=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itra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limole (mmol) = 1/1000 m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arity = mmol/mL = mol/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s calculations easier because we will rarely add Liters of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ng a solution of known concentration until the substance being tested is consum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called the equivalence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 of pH vs. mL is a titration cur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trong acid with Strong Ba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e stoichiome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equilibrium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both dissociate comple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tration of 50.0 mL of 0.200 M H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0.100 M Na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the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eak acid with Strong ba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n equilibr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stoichiome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do equilibr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trate 50.0 mL of 0.10 M H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Ka = 7.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with 0.10 M NaO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4040" y="625320"/>
            <a:ext cx="615960" cy="652680"/>
          </a:xfrm>
          <a:custGeom>
            <a:avLst/>
            <a:gdLst/>
            <a:ahLst/>
            <a:rect l="l" t="t" r="r" b="b"/>
            <a:pathLst>
              <a:path w="1712" h="1812">
                <a:moveTo>
                  <a:pt x="1736" y="2009"/>
                </a:moveTo>
                <a:cubicBezTo>
                  <a:pt x="1765" y="1981"/>
                  <a:pt x="1782" y="1976"/>
                  <a:pt x="1811" y="1960"/>
                </a:cubicBezTo>
                <a:cubicBezTo>
                  <a:pt x="1888" y="2026"/>
                  <a:pt x="1930" y="2103"/>
                  <a:pt x="1960" y="2208"/>
                </a:cubicBezTo>
                <a:cubicBezTo>
                  <a:pt x="2002" y="2352"/>
                  <a:pt x="1994" y="2470"/>
                  <a:pt x="1935" y="2604"/>
                </a:cubicBezTo>
                <a:cubicBezTo>
                  <a:pt x="1871" y="2749"/>
                  <a:pt x="1763" y="2858"/>
                  <a:pt x="1637" y="2952"/>
                </a:cubicBezTo>
                <a:cubicBezTo>
                  <a:pt x="1589" y="2976"/>
                  <a:pt x="1575" y="2985"/>
                  <a:pt x="1538" y="2977"/>
                </a:cubicBezTo>
                <a:cubicBezTo>
                  <a:pt x="1544" y="2894"/>
                  <a:pt x="1541" y="2804"/>
                  <a:pt x="1588" y="2729"/>
                </a:cubicBezTo>
                <a:cubicBezTo>
                  <a:pt x="1656" y="2622"/>
                  <a:pt x="1775" y="2642"/>
                  <a:pt x="1860" y="2704"/>
                </a:cubicBezTo>
                <a:cubicBezTo>
                  <a:pt x="1974" y="2786"/>
                  <a:pt x="2040" y="2892"/>
                  <a:pt x="2108" y="3001"/>
                </a:cubicBezTo>
                <a:cubicBezTo>
                  <a:pt x="2125" y="3028"/>
                  <a:pt x="2145" y="3052"/>
                  <a:pt x="2158" y="3076"/>
                </a:cubicBezTo>
              </a:path>
              <a:path w="1712" h="1812">
                <a:moveTo>
                  <a:pt x="2629" y="2729"/>
                </a:moveTo>
                <a:cubicBezTo>
                  <a:pt x="2578" y="2716"/>
                  <a:pt x="2577" y="2688"/>
                  <a:pt x="2530" y="2729"/>
                </a:cubicBezTo>
                <a:cubicBezTo>
                  <a:pt x="2460" y="2790"/>
                  <a:pt x="2414" y="2842"/>
                  <a:pt x="2381" y="2927"/>
                </a:cubicBezTo>
                <a:cubicBezTo>
                  <a:pt x="2348" y="3011"/>
                  <a:pt x="2354" y="3045"/>
                  <a:pt x="2381" y="3125"/>
                </a:cubicBezTo>
                <a:cubicBezTo>
                  <a:pt x="2503" y="3125"/>
                  <a:pt x="2513" y="3112"/>
                  <a:pt x="2604" y="3026"/>
                </a:cubicBezTo>
                <a:cubicBezTo>
                  <a:pt x="2668" y="2965"/>
                  <a:pt x="2697" y="2888"/>
                  <a:pt x="2704" y="2803"/>
                </a:cubicBezTo>
                <a:cubicBezTo>
                  <a:pt x="2704" y="2795"/>
                  <a:pt x="2704" y="2786"/>
                  <a:pt x="2704" y="2778"/>
                </a:cubicBezTo>
                <a:cubicBezTo>
                  <a:pt x="2665" y="2791"/>
                  <a:pt x="2667" y="2878"/>
                  <a:pt x="2679" y="2927"/>
                </a:cubicBezTo>
                <a:cubicBezTo>
                  <a:pt x="2697" y="3004"/>
                  <a:pt x="2771" y="3060"/>
                  <a:pt x="2828" y="3076"/>
                </a:cubicBezTo>
              </a:path>
              <a:path w="1712" h="1812">
                <a:moveTo>
                  <a:pt x="2902" y="1736"/>
                </a:moveTo>
                <a:cubicBezTo>
                  <a:pt x="3006" y="1815"/>
                  <a:pt x="3073" y="1934"/>
                  <a:pt x="3125" y="2059"/>
                </a:cubicBezTo>
                <a:cubicBezTo>
                  <a:pt x="3216" y="2279"/>
                  <a:pt x="3263" y="2515"/>
                  <a:pt x="3249" y="2753"/>
                </a:cubicBezTo>
                <a:cubicBezTo>
                  <a:pt x="3237" y="2950"/>
                  <a:pt x="3174" y="3199"/>
                  <a:pt x="3076" y="3373"/>
                </a:cubicBezTo>
                <a:cubicBezTo>
                  <a:pt x="3001" y="3473"/>
                  <a:pt x="2977" y="3506"/>
                  <a:pt x="2902" y="35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65200" y="696960"/>
            <a:ext cx="3392640" cy="749160"/>
          </a:xfrm>
          <a:custGeom>
            <a:avLst/>
            <a:gdLst/>
            <a:ahLst/>
            <a:rect l="l" t="t" r="r" b="b"/>
            <a:pathLst>
              <a:path w="9427" h="2084">
                <a:moveTo>
                  <a:pt x="4465" y="2654"/>
                </a:moveTo>
                <a:cubicBezTo>
                  <a:pt x="4465" y="2613"/>
                  <a:pt x="4465" y="2605"/>
                  <a:pt x="4465" y="2580"/>
                </a:cubicBezTo>
                <a:cubicBezTo>
                  <a:pt x="4390" y="2580"/>
                  <a:pt x="4386" y="2608"/>
                  <a:pt x="4341" y="2679"/>
                </a:cubicBezTo>
                <a:cubicBezTo>
                  <a:pt x="4224" y="2864"/>
                  <a:pt x="4105" y="3081"/>
                  <a:pt x="4068" y="3299"/>
                </a:cubicBezTo>
                <a:cubicBezTo>
                  <a:pt x="4051" y="3402"/>
                  <a:pt x="4036" y="3597"/>
                  <a:pt x="4192" y="3597"/>
                </a:cubicBezTo>
                <a:cubicBezTo>
                  <a:pt x="4332" y="3597"/>
                  <a:pt x="4460" y="3458"/>
                  <a:pt x="4514" y="3349"/>
                </a:cubicBezTo>
                <a:cubicBezTo>
                  <a:pt x="4536" y="3284"/>
                  <a:pt x="4544" y="3269"/>
                  <a:pt x="4539" y="3225"/>
                </a:cubicBezTo>
                <a:cubicBezTo>
                  <a:pt x="4454" y="3225"/>
                  <a:pt x="4407" y="3266"/>
                  <a:pt x="4341" y="3324"/>
                </a:cubicBezTo>
                <a:cubicBezTo>
                  <a:pt x="4265" y="3391"/>
                  <a:pt x="4237" y="3431"/>
                  <a:pt x="4217" y="3522"/>
                </a:cubicBezTo>
              </a:path>
              <a:path w="9427" h="2084">
                <a:moveTo>
                  <a:pt x="4762" y="3373"/>
                </a:moveTo>
                <a:cubicBezTo>
                  <a:pt x="4762" y="3398"/>
                  <a:pt x="4762" y="3406"/>
                  <a:pt x="4738" y="3398"/>
                </a:cubicBezTo>
              </a:path>
              <a:path w="9427" h="2084">
                <a:moveTo>
                  <a:pt x="5159" y="2729"/>
                </a:moveTo>
                <a:cubicBezTo>
                  <a:pt x="5142" y="2816"/>
                  <a:pt x="5086" y="2888"/>
                  <a:pt x="5060" y="2977"/>
                </a:cubicBezTo>
                <a:cubicBezTo>
                  <a:pt x="5023" y="3105"/>
                  <a:pt x="4986" y="3190"/>
                  <a:pt x="4986" y="3324"/>
                </a:cubicBezTo>
                <a:cubicBezTo>
                  <a:pt x="4986" y="3365"/>
                  <a:pt x="4986" y="3373"/>
                  <a:pt x="4986" y="3398"/>
                </a:cubicBezTo>
                <a:cubicBezTo>
                  <a:pt x="5019" y="3398"/>
                  <a:pt x="5063" y="3433"/>
                  <a:pt x="5085" y="3423"/>
                </a:cubicBezTo>
                <a:cubicBezTo>
                  <a:pt x="5129" y="3404"/>
                  <a:pt x="5125" y="3385"/>
                  <a:pt x="5159" y="3373"/>
                </a:cubicBezTo>
              </a:path>
              <a:path w="9427" h="2084">
                <a:moveTo>
                  <a:pt x="5581" y="2778"/>
                </a:moveTo>
                <a:cubicBezTo>
                  <a:pt x="5532" y="2803"/>
                  <a:pt x="5492" y="2887"/>
                  <a:pt x="5482" y="2952"/>
                </a:cubicBezTo>
                <a:cubicBezTo>
                  <a:pt x="5471" y="3024"/>
                  <a:pt x="5436" y="3117"/>
                  <a:pt x="5482" y="3175"/>
                </a:cubicBezTo>
                <a:cubicBezTo>
                  <a:pt x="5540" y="3248"/>
                  <a:pt x="5621" y="3174"/>
                  <a:pt x="5680" y="3150"/>
                </a:cubicBezTo>
                <a:cubicBezTo>
                  <a:pt x="5769" y="3114"/>
                  <a:pt x="5844" y="3073"/>
                  <a:pt x="5928" y="3026"/>
                </a:cubicBezTo>
              </a:path>
              <a:path w="9427" h="2084">
                <a:moveTo>
                  <a:pt x="6003" y="2604"/>
                </a:moveTo>
                <a:cubicBezTo>
                  <a:pt x="5902" y="2726"/>
                  <a:pt x="5887" y="2818"/>
                  <a:pt x="5854" y="2977"/>
                </a:cubicBezTo>
                <a:cubicBezTo>
                  <a:pt x="5820" y="3141"/>
                  <a:pt x="5784" y="3306"/>
                  <a:pt x="5779" y="3473"/>
                </a:cubicBezTo>
                <a:cubicBezTo>
                  <a:pt x="5779" y="3539"/>
                  <a:pt x="5779" y="3556"/>
                  <a:pt x="5779" y="3597"/>
                </a:cubicBezTo>
              </a:path>
              <a:path w="9427" h="2084">
                <a:moveTo>
                  <a:pt x="6325" y="3051"/>
                </a:moveTo>
                <a:cubicBezTo>
                  <a:pt x="6303" y="3029"/>
                  <a:pt x="6298" y="3020"/>
                  <a:pt x="6276" y="3026"/>
                </a:cubicBezTo>
                <a:cubicBezTo>
                  <a:pt x="6240" y="3085"/>
                  <a:pt x="6229" y="3150"/>
                  <a:pt x="6226" y="3225"/>
                </a:cubicBezTo>
                <a:cubicBezTo>
                  <a:pt x="6223" y="3314"/>
                  <a:pt x="6228" y="3405"/>
                  <a:pt x="6325" y="3448"/>
                </a:cubicBezTo>
                <a:cubicBezTo>
                  <a:pt x="6386" y="3475"/>
                  <a:pt x="6490" y="3416"/>
                  <a:pt x="6548" y="3398"/>
                </a:cubicBezTo>
              </a:path>
              <a:path w="9427" h="2084">
                <a:moveTo>
                  <a:pt x="6375" y="3225"/>
                </a:moveTo>
                <a:cubicBezTo>
                  <a:pt x="6367" y="3241"/>
                  <a:pt x="6358" y="3258"/>
                  <a:pt x="6350" y="3274"/>
                </a:cubicBezTo>
                <a:cubicBezTo>
                  <a:pt x="6438" y="3198"/>
                  <a:pt x="6529" y="3181"/>
                  <a:pt x="6623" y="3125"/>
                </a:cubicBezTo>
                <a:cubicBezTo>
                  <a:pt x="6639" y="3109"/>
                  <a:pt x="6656" y="3092"/>
                  <a:pt x="6672" y="3076"/>
                </a:cubicBezTo>
              </a:path>
              <a:path w="9427" h="2084">
                <a:moveTo>
                  <a:pt x="6350" y="2952"/>
                </a:moveTo>
                <a:cubicBezTo>
                  <a:pt x="6362" y="2868"/>
                  <a:pt x="6417" y="2819"/>
                  <a:pt x="6499" y="2778"/>
                </a:cubicBezTo>
                <a:cubicBezTo>
                  <a:pt x="6577" y="2739"/>
                  <a:pt x="6665" y="2710"/>
                  <a:pt x="6747" y="2679"/>
                </a:cubicBezTo>
              </a:path>
              <a:path w="9427" h="2084">
                <a:moveTo>
                  <a:pt x="7193" y="3051"/>
                </a:moveTo>
                <a:cubicBezTo>
                  <a:pt x="7236" y="3040"/>
                  <a:pt x="7273" y="3022"/>
                  <a:pt x="7317" y="3001"/>
                </a:cubicBezTo>
                <a:cubicBezTo>
                  <a:pt x="7374" y="2975"/>
                  <a:pt x="7406" y="2960"/>
                  <a:pt x="7466" y="2952"/>
                </a:cubicBezTo>
              </a:path>
              <a:path w="9427" h="2084">
                <a:moveTo>
                  <a:pt x="7813" y="2679"/>
                </a:moveTo>
                <a:cubicBezTo>
                  <a:pt x="7878" y="2646"/>
                  <a:pt x="7944" y="2607"/>
                  <a:pt x="8012" y="2580"/>
                </a:cubicBezTo>
                <a:cubicBezTo>
                  <a:pt x="8073" y="2556"/>
                  <a:pt x="8112" y="2560"/>
                  <a:pt x="8161" y="2530"/>
                </a:cubicBezTo>
              </a:path>
              <a:path w="9427" h="2084">
                <a:moveTo>
                  <a:pt x="7962" y="2654"/>
                </a:moveTo>
                <a:cubicBezTo>
                  <a:pt x="7883" y="2689"/>
                  <a:pt x="7703" y="2739"/>
                  <a:pt x="7640" y="2803"/>
                </a:cubicBezTo>
                <a:cubicBezTo>
                  <a:pt x="7605" y="2838"/>
                  <a:pt x="7575" y="2926"/>
                  <a:pt x="7590" y="2977"/>
                </a:cubicBezTo>
                <a:cubicBezTo>
                  <a:pt x="7614" y="3058"/>
                  <a:pt x="7729" y="3073"/>
                  <a:pt x="7789" y="3125"/>
                </a:cubicBezTo>
                <a:cubicBezTo>
                  <a:pt x="7844" y="3172"/>
                  <a:pt x="7856" y="3239"/>
                  <a:pt x="7813" y="3299"/>
                </a:cubicBezTo>
                <a:cubicBezTo>
                  <a:pt x="7773" y="3355"/>
                  <a:pt x="7683" y="3454"/>
                  <a:pt x="7615" y="3473"/>
                </a:cubicBezTo>
                <a:cubicBezTo>
                  <a:pt x="7574" y="3473"/>
                  <a:pt x="7566" y="3473"/>
                  <a:pt x="7541" y="3473"/>
                </a:cubicBezTo>
              </a:path>
              <a:path w="9427" h="2084">
                <a:moveTo>
                  <a:pt x="8434" y="3001"/>
                </a:moveTo>
                <a:cubicBezTo>
                  <a:pt x="8499" y="2982"/>
                  <a:pt x="8545" y="2956"/>
                  <a:pt x="8607" y="2952"/>
                </a:cubicBezTo>
                <a:cubicBezTo>
                  <a:pt x="8667" y="2948"/>
                  <a:pt x="8711" y="2943"/>
                  <a:pt x="8756" y="2977"/>
                </a:cubicBezTo>
              </a:path>
              <a:path w="9427" h="2084">
                <a:moveTo>
                  <a:pt x="8508" y="3249"/>
                </a:moveTo>
                <a:cubicBezTo>
                  <a:pt x="8491" y="3266"/>
                  <a:pt x="8475" y="3282"/>
                  <a:pt x="8458" y="3299"/>
                </a:cubicBezTo>
                <a:cubicBezTo>
                  <a:pt x="8542" y="3289"/>
                  <a:pt x="8623" y="3273"/>
                  <a:pt x="8706" y="3249"/>
                </a:cubicBezTo>
                <a:cubicBezTo>
                  <a:pt x="8784" y="3224"/>
                  <a:pt x="8812" y="3214"/>
                  <a:pt x="8855" y="3175"/>
                </a:cubicBezTo>
              </a:path>
              <a:path w="9427" h="2084">
                <a:moveTo>
                  <a:pt x="9971" y="2257"/>
                </a:moveTo>
                <a:cubicBezTo>
                  <a:pt x="9971" y="2249"/>
                  <a:pt x="9971" y="2240"/>
                  <a:pt x="9971" y="2232"/>
                </a:cubicBezTo>
                <a:cubicBezTo>
                  <a:pt x="9917" y="2246"/>
                  <a:pt x="9842" y="2317"/>
                  <a:pt x="9798" y="2356"/>
                </a:cubicBezTo>
                <a:cubicBezTo>
                  <a:pt x="9695" y="2447"/>
                  <a:pt x="9613" y="2552"/>
                  <a:pt x="9525" y="2654"/>
                </a:cubicBezTo>
                <a:cubicBezTo>
                  <a:pt x="9479" y="2700"/>
                  <a:pt x="9465" y="2712"/>
                  <a:pt x="9451" y="2753"/>
                </a:cubicBezTo>
              </a:path>
              <a:path w="9427" h="2084">
                <a:moveTo>
                  <a:pt x="9699" y="2257"/>
                </a:moveTo>
                <a:cubicBezTo>
                  <a:pt x="9691" y="2249"/>
                  <a:pt x="9682" y="2240"/>
                  <a:pt x="9674" y="2232"/>
                </a:cubicBezTo>
                <a:cubicBezTo>
                  <a:pt x="9674" y="2323"/>
                  <a:pt x="9695" y="2335"/>
                  <a:pt x="9748" y="2406"/>
                </a:cubicBezTo>
                <a:cubicBezTo>
                  <a:pt x="9831" y="2518"/>
                  <a:pt x="9893" y="2576"/>
                  <a:pt x="10021" y="2629"/>
                </a:cubicBezTo>
              </a:path>
              <a:path w="9427" h="2084">
                <a:moveTo>
                  <a:pt x="10393" y="2084"/>
                </a:moveTo>
                <a:cubicBezTo>
                  <a:pt x="10479" y="2041"/>
                  <a:pt x="10523" y="2009"/>
                  <a:pt x="10616" y="2009"/>
                </a:cubicBezTo>
                <a:cubicBezTo>
                  <a:pt x="10633" y="2009"/>
                  <a:pt x="10649" y="2009"/>
                  <a:pt x="10666" y="2009"/>
                </a:cubicBezTo>
                <a:cubicBezTo>
                  <a:pt x="10666" y="2079"/>
                  <a:pt x="10658" y="2172"/>
                  <a:pt x="10616" y="2232"/>
                </a:cubicBezTo>
                <a:cubicBezTo>
                  <a:pt x="10552" y="2323"/>
                  <a:pt x="10462" y="2399"/>
                  <a:pt x="10393" y="2480"/>
                </a:cubicBezTo>
                <a:cubicBezTo>
                  <a:pt x="10370" y="2503"/>
                  <a:pt x="10362" y="2507"/>
                  <a:pt x="10368" y="2530"/>
                </a:cubicBezTo>
                <a:cubicBezTo>
                  <a:pt x="10455" y="2516"/>
                  <a:pt x="10527" y="2468"/>
                  <a:pt x="10616" y="2456"/>
                </a:cubicBezTo>
                <a:cubicBezTo>
                  <a:pt x="10641" y="2456"/>
                  <a:pt x="10666" y="2456"/>
                  <a:pt x="10691" y="2456"/>
                </a:cubicBezTo>
              </a:path>
              <a:path w="9427" h="2084">
                <a:moveTo>
                  <a:pt x="9575" y="3076"/>
                </a:moveTo>
                <a:cubicBezTo>
                  <a:pt x="9533" y="3076"/>
                  <a:pt x="9525" y="3076"/>
                  <a:pt x="9500" y="3076"/>
                </a:cubicBezTo>
                <a:cubicBezTo>
                  <a:pt x="9608" y="3043"/>
                  <a:pt x="9734" y="2998"/>
                  <a:pt x="9847" y="2977"/>
                </a:cubicBezTo>
                <a:cubicBezTo>
                  <a:pt x="10170" y="2917"/>
                  <a:pt x="10486" y="2881"/>
                  <a:pt x="10815" y="2877"/>
                </a:cubicBezTo>
                <a:cubicBezTo>
                  <a:pt x="10996" y="2875"/>
                  <a:pt x="11321" y="2842"/>
                  <a:pt x="11460" y="2902"/>
                </a:cubicBezTo>
              </a:path>
              <a:path w="9427" h="2084">
                <a:moveTo>
                  <a:pt x="10021" y="3820"/>
                </a:moveTo>
                <a:cubicBezTo>
                  <a:pt x="9964" y="3834"/>
                  <a:pt x="9957" y="3896"/>
                  <a:pt x="9971" y="3845"/>
                </a:cubicBezTo>
                <a:cubicBezTo>
                  <a:pt x="9982" y="3806"/>
                  <a:pt x="9996" y="3825"/>
                  <a:pt x="9996" y="3770"/>
                </a:cubicBezTo>
                <a:cubicBezTo>
                  <a:pt x="9964" y="3781"/>
                  <a:pt x="9957" y="3788"/>
                  <a:pt x="9947" y="3820"/>
                </a:cubicBezTo>
              </a:path>
              <a:path w="9427" h="2084">
                <a:moveTo>
                  <a:pt x="10542" y="3398"/>
                </a:moveTo>
                <a:cubicBezTo>
                  <a:pt x="10550" y="3390"/>
                  <a:pt x="10559" y="3381"/>
                  <a:pt x="10567" y="3373"/>
                </a:cubicBezTo>
                <a:cubicBezTo>
                  <a:pt x="10522" y="3418"/>
                  <a:pt x="10491" y="3461"/>
                  <a:pt x="10468" y="3522"/>
                </a:cubicBezTo>
                <a:cubicBezTo>
                  <a:pt x="10429" y="3622"/>
                  <a:pt x="10363" y="3711"/>
                  <a:pt x="10344" y="3820"/>
                </a:cubicBezTo>
                <a:cubicBezTo>
                  <a:pt x="10344" y="3870"/>
                  <a:pt x="10344" y="3886"/>
                  <a:pt x="10344" y="3919"/>
                </a:cubicBezTo>
              </a:path>
              <a:path w="9427" h="2084">
                <a:moveTo>
                  <a:pt x="11038" y="3423"/>
                </a:moveTo>
                <a:cubicBezTo>
                  <a:pt x="10956" y="3423"/>
                  <a:pt x="10932" y="3433"/>
                  <a:pt x="10864" y="3473"/>
                </a:cubicBezTo>
                <a:cubicBezTo>
                  <a:pt x="10828" y="3494"/>
                  <a:pt x="10740" y="3535"/>
                  <a:pt x="10765" y="3597"/>
                </a:cubicBezTo>
                <a:cubicBezTo>
                  <a:pt x="10791" y="3660"/>
                  <a:pt x="10855" y="3689"/>
                  <a:pt x="10889" y="3746"/>
                </a:cubicBezTo>
                <a:cubicBezTo>
                  <a:pt x="10944" y="3838"/>
                  <a:pt x="10907" y="3859"/>
                  <a:pt x="10864" y="3919"/>
                </a:cubicBezTo>
                <a:cubicBezTo>
                  <a:pt x="10840" y="3969"/>
                  <a:pt x="10832" y="3986"/>
                  <a:pt x="10790" y="3994"/>
                </a:cubicBezTo>
              </a:path>
              <a:path w="9427" h="2084">
                <a:moveTo>
                  <a:pt x="10914" y="3423"/>
                </a:moveTo>
                <a:cubicBezTo>
                  <a:pt x="10979" y="3434"/>
                  <a:pt x="10951" y="3448"/>
                  <a:pt x="11013" y="3448"/>
                </a:cubicBezTo>
                <a:cubicBezTo>
                  <a:pt x="11085" y="3448"/>
                  <a:pt x="11145" y="3434"/>
                  <a:pt x="11212" y="3423"/>
                </a:cubicBezTo>
                <a:cubicBezTo>
                  <a:pt x="11228" y="3423"/>
                  <a:pt x="11245" y="3423"/>
                  <a:pt x="11261" y="3423"/>
                </a:cubicBezTo>
              </a:path>
              <a:path w="9427" h="2084">
                <a:moveTo>
                  <a:pt x="11460" y="3423"/>
                </a:moveTo>
                <a:cubicBezTo>
                  <a:pt x="11365" y="3526"/>
                  <a:pt x="11264" y="3637"/>
                  <a:pt x="11212" y="3770"/>
                </a:cubicBezTo>
                <a:cubicBezTo>
                  <a:pt x="11182" y="3848"/>
                  <a:pt x="11146" y="4001"/>
                  <a:pt x="11286" y="3994"/>
                </a:cubicBezTo>
                <a:cubicBezTo>
                  <a:pt x="11350" y="3991"/>
                  <a:pt x="11501" y="3874"/>
                  <a:pt x="11534" y="3820"/>
                </a:cubicBezTo>
                <a:cubicBezTo>
                  <a:pt x="11586" y="3735"/>
                  <a:pt x="11565" y="3661"/>
                  <a:pt x="11509" y="3597"/>
                </a:cubicBezTo>
                <a:cubicBezTo>
                  <a:pt x="11452" y="3533"/>
                  <a:pt x="11417" y="3522"/>
                  <a:pt x="11336" y="3522"/>
                </a:cubicBezTo>
              </a:path>
              <a:path w="9427" h="2084">
                <a:moveTo>
                  <a:pt x="11708" y="3894"/>
                </a:moveTo>
                <a:cubicBezTo>
                  <a:pt x="11763" y="3894"/>
                  <a:pt x="11802" y="3872"/>
                  <a:pt x="11857" y="3870"/>
                </a:cubicBezTo>
                <a:cubicBezTo>
                  <a:pt x="11970" y="3865"/>
                  <a:pt x="12073" y="3880"/>
                  <a:pt x="12179" y="3845"/>
                </a:cubicBezTo>
              </a:path>
              <a:path w="9427" h="2084">
                <a:moveTo>
                  <a:pt x="12750" y="3547"/>
                </a:moveTo>
                <a:cubicBezTo>
                  <a:pt x="12738" y="3593"/>
                  <a:pt x="12702" y="3651"/>
                  <a:pt x="12675" y="3696"/>
                </a:cubicBezTo>
                <a:cubicBezTo>
                  <a:pt x="12616" y="3793"/>
                  <a:pt x="12551" y="3884"/>
                  <a:pt x="12477" y="3969"/>
                </a:cubicBezTo>
              </a:path>
              <a:path w="9427" h="2084">
                <a:moveTo>
                  <a:pt x="12526" y="3572"/>
                </a:moveTo>
                <a:cubicBezTo>
                  <a:pt x="12499" y="3637"/>
                  <a:pt x="12484" y="3701"/>
                  <a:pt x="12526" y="3770"/>
                </a:cubicBezTo>
                <a:cubicBezTo>
                  <a:pt x="12565" y="3834"/>
                  <a:pt x="12676" y="3929"/>
                  <a:pt x="12750" y="3944"/>
                </a:cubicBezTo>
                <a:cubicBezTo>
                  <a:pt x="12816" y="3944"/>
                  <a:pt x="12833" y="3944"/>
                  <a:pt x="12874" y="3944"/>
                </a:cubicBezTo>
              </a:path>
              <a:path w="9427" h="2084">
                <a:moveTo>
                  <a:pt x="13072" y="2084"/>
                </a:moveTo>
                <a:cubicBezTo>
                  <a:pt x="13131" y="2062"/>
                  <a:pt x="13149" y="2044"/>
                  <a:pt x="13221" y="2084"/>
                </a:cubicBezTo>
                <a:cubicBezTo>
                  <a:pt x="13382" y="2175"/>
                  <a:pt x="13436" y="2411"/>
                  <a:pt x="13469" y="2580"/>
                </a:cubicBezTo>
                <a:cubicBezTo>
                  <a:pt x="13521" y="2844"/>
                  <a:pt x="13505" y="3114"/>
                  <a:pt x="13444" y="3373"/>
                </a:cubicBezTo>
                <a:cubicBezTo>
                  <a:pt x="13394" y="3583"/>
                  <a:pt x="13288" y="3757"/>
                  <a:pt x="13196" y="3944"/>
                </a:cubicBezTo>
                <a:cubicBezTo>
                  <a:pt x="13188" y="3969"/>
                  <a:pt x="13179" y="3993"/>
                  <a:pt x="13171" y="4018"/>
                </a:cubicBezTo>
              </a:path>
              <a:path w="9427" h="2084">
                <a:moveTo>
                  <a:pt x="9550" y="1935"/>
                </a:moveTo>
                <a:cubicBezTo>
                  <a:pt x="9482" y="1944"/>
                  <a:pt x="9464" y="1942"/>
                  <a:pt x="9426" y="2009"/>
                </a:cubicBezTo>
                <a:cubicBezTo>
                  <a:pt x="9306" y="2223"/>
                  <a:pt x="9277" y="2464"/>
                  <a:pt x="9252" y="2704"/>
                </a:cubicBezTo>
                <a:cubicBezTo>
                  <a:pt x="9220" y="3018"/>
                  <a:pt x="9202" y="3436"/>
                  <a:pt x="9376" y="3721"/>
                </a:cubicBezTo>
                <a:cubicBezTo>
                  <a:pt x="9490" y="3835"/>
                  <a:pt x="9518" y="3871"/>
                  <a:pt x="9624" y="38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42000" y="812880"/>
            <a:ext cx="1928880" cy="268200"/>
          </a:xfrm>
          <a:custGeom>
            <a:avLst/>
            <a:gdLst/>
            <a:ahLst/>
            <a:rect l="l" t="t" r="r" b="b"/>
            <a:pathLst>
              <a:path w="5359" h="745">
                <a:moveTo>
                  <a:pt x="16346" y="2431"/>
                </a:moveTo>
                <a:cubicBezTo>
                  <a:pt x="16346" y="2406"/>
                  <a:pt x="16346" y="2398"/>
                  <a:pt x="16321" y="2406"/>
                </a:cubicBezTo>
                <a:cubicBezTo>
                  <a:pt x="16267" y="2434"/>
                  <a:pt x="16214" y="2522"/>
                  <a:pt x="16173" y="2580"/>
                </a:cubicBezTo>
                <a:cubicBezTo>
                  <a:pt x="16110" y="2670"/>
                  <a:pt x="16041" y="2776"/>
                  <a:pt x="15999" y="2877"/>
                </a:cubicBezTo>
                <a:cubicBezTo>
                  <a:pt x="15977" y="2944"/>
                  <a:pt x="15972" y="2962"/>
                  <a:pt x="15949" y="3001"/>
                </a:cubicBezTo>
              </a:path>
              <a:path w="5359" h="745">
                <a:moveTo>
                  <a:pt x="16024" y="2282"/>
                </a:moveTo>
                <a:cubicBezTo>
                  <a:pt x="16080" y="2282"/>
                  <a:pt x="16080" y="2294"/>
                  <a:pt x="16098" y="2356"/>
                </a:cubicBezTo>
                <a:cubicBezTo>
                  <a:pt x="16137" y="2487"/>
                  <a:pt x="16150" y="2611"/>
                  <a:pt x="16222" y="2729"/>
                </a:cubicBezTo>
                <a:cubicBezTo>
                  <a:pt x="16239" y="2754"/>
                  <a:pt x="16255" y="2778"/>
                  <a:pt x="16272" y="2803"/>
                </a:cubicBezTo>
              </a:path>
              <a:path w="5359" h="745">
                <a:moveTo>
                  <a:pt x="16718" y="2505"/>
                </a:moveTo>
                <a:cubicBezTo>
                  <a:pt x="16803" y="2494"/>
                  <a:pt x="16875" y="2480"/>
                  <a:pt x="16966" y="2480"/>
                </a:cubicBezTo>
                <a:cubicBezTo>
                  <a:pt x="17028" y="2480"/>
                  <a:pt x="17061" y="2502"/>
                  <a:pt x="17115" y="2530"/>
                </a:cubicBezTo>
              </a:path>
              <a:path w="5359" h="745">
                <a:moveTo>
                  <a:pt x="16842" y="2753"/>
                </a:moveTo>
                <a:cubicBezTo>
                  <a:pt x="16798" y="2753"/>
                  <a:pt x="16784" y="2750"/>
                  <a:pt x="16768" y="2778"/>
                </a:cubicBezTo>
                <a:cubicBezTo>
                  <a:pt x="16926" y="2778"/>
                  <a:pt x="17086" y="2792"/>
                  <a:pt x="17239" y="2753"/>
                </a:cubicBezTo>
              </a:path>
              <a:path w="5359" h="745">
                <a:moveTo>
                  <a:pt x="17711" y="2853"/>
                </a:moveTo>
                <a:cubicBezTo>
                  <a:pt x="17763" y="2853"/>
                  <a:pt x="17760" y="2855"/>
                  <a:pt x="17760" y="2803"/>
                </a:cubicBezTo>
              </a:path>
              <a:path w="5359" h="745">
                <a:moveTo>
                  <a:pt x="18281" y="2381"/>
                </a:moveTo>
                <a:cubicBezTo>
                  <a:pt x="18221" y="2441"/>
                  <a:pt x="18126" y="2515"/>
                  <a:pt x="18107" y="2604"/>
                </a:cubicBezTo>
                <a:cubicBezTo>
                  <a:pt x="18088" y="2694"/>
                  <a:pt x="18110" y="2761"/>
                  <a:pt x="18207" y="2778"/>
                </a:cubicBezTo>
                <a:cubicBezTo>
                  <a:pt x="18288" y="2792"/>
                  <a:pt x="18428" y="2778"/>
                  <a:pt x="18479" y="2704"/>
                </a:cubicBezTo>
                <a:cubicBezTo>
                  <a:pt x="18531" y="2629"/>
                  <a:pt x="18534" y="2551"/>
                  <a:pt x="18479" y="2480"/>
                </a:cubicBezTo>
                <a:cubicBezTo>
                  <a:pt x="18418" y="2402"/>
                  <a:pt x="18321" y="2431"/>
                  <a:pt x="18231" y="2431"/>
                </a:cubicBezTo>
                <a:cubicBezTo>
                  <a:pt x="18215" y="2431"/>
                  <a:pt x="18198" y="2431"/>
                  <a:pt x="18182" y="2431"/>
                </a:cubicBezTo>
              </a:path>
              <a:path w="5359" h="745">
                <a:moveTo>
                  <a:pt x="18901" y="2307"/>
                </a:moveTo>
                <a:cubicBezTo>
                  <a:pt x="18932" y="2452"/>
                  <a:pt x="18897" y="2447"/>
                  <a:pt x="18876" y="2580"/>
                </a:cubicBezTo>
                <a:cubicBezTo>
                  <a:pt x="18864" y="2660"/>
                  <a:pt x="18869" y="2721"/>
                  <a:pt x="18951" y="2729"/>
                </a:cubicBezTo>
                <a:cubicBezTo>
                  <a:pt x="19038" y="2737"/>
                  <a:pt x="19143" y="2697"/>
                  <a:pt x="19199" y="2629"/>
                </a:cubicBezTo>
                <a:cubicBezTo>
                  <a:pt x="19241" y="2579"/>
                  <a:pt x="19236" y="2482"/>
                  <a:pt x="19199" y="2431"/>
                </a:cubicBezTo>
                <a:cubicBezTo>
                  <a:pt x="19144" y="2355"/>
                  <a:pt x="19052" y="2327"/>
                  <a:pt x="19000" y="2282"/>
                </a:cubicBezTo>
                <a:cubicBezTo>
                  <a:pt x="19000" y="2274"/>
                  <a:pt x="19000" y="2265"/>
                  <a:pt x="19000" y="2257"/>
                </a:cubicBezTo>
              </a:path>
              <a:path w="5359" h="745">
                <a:moveTo>
                  <a:pt x="19422" y="2307"/>
                </a:moveTo>
                <a:cubicBezTo>
                  <a:pt x="19477" y="2274"/>
                  <a:pt x="19528" y="2282"/>
                  <a:pt x="19596" y="2282"/>
                </a:cubicBezTo>
                <a:cubicBezTo>
                  <a:pt x="19643" y="2282"/>
                  <a:pt x="19751" y="2308"/>
                  <a:pt x="19745" y="2381"/>
                </a:cubicBezTo>
                <a:cubicBezTo>
                  <a:pt x="19741" y="2433"/>
                  <a:pt x="19655" y="2501"/>
                  <a:pt x="19621" y="2530"/>
                </a:cubicBezTo>
                <a:cubicBezTo>
                  <a:pt x="19591" y="2555"/>
                  <a:pt x="19580" y="2570"/>
                  <a:pt x="19571" y="2604"/>
                </a:cubicBezTo>
                <a:cubicBezTo>
                  <a:pt x="19653" y="2604"/>
                  <a:pt x="19832" y="2567"/>
                  <a:pt x="19893" y="2629"/>
                </a:cubicBezTo>
                <a:cubicBezTo>
                  <a:pt x="19920" y="2656"/>
                  <a:pt x="19868" y="2763"/>
                  <a:pt x="19844" y="2778"/>
                </a:cubicBezTo>
                <a:cubicBezTo>
                  <a:pt x="19796" y="2808"/>
                  <a:pt x="19700" y="2842"/>
                  <a:pt x="19645" y="2853"/>
                </a:cubicBezTo>
              </a:path>
              <a:path w="5359" h="745">
                <a:moveTo>
                  <a:pt x="20340" y="2431"/>
                </a:moveTo>
                <a:cubicBezTo>
                  <a:pt x="20325" y="2385"/>
                  <a:pt x="20260" y="2399"/>
                  <a:pt x="20216" y="2431"/>
                </a:cubicBezTo>
                <a:cubicBezTo>
                  <a:pt x="20162" y="2470"/>
                  <a:pt x="20102" y="2585"/>
                  <a:pt x="20117" y="2654"/>
                </a:cubicBezTo>
                <a:cubicBezTo>
                  <a:pt x="20142" y="2771"/>
                  <a:pt x="20299" y="2767"/>
                  <a:pt x="20389" y="2753"/>
                </a:cubicBezTo>
                <a:cubicBezTo>
                  <a:pt x="20455" y="2742"/>
                  <a:pt x="20568" y="2671"/>
                  <a:pt x="20588" y="2604"/>
                </a:cubicBezTo>
                <a:cubicBezTo>
                  <a:pt x="20616" y="2511"/>
                  <a:pt x="20516" y="2475"/>
                  <a:pt x="20464" y="2431"/>
                </a:cubicBezTo>
                <a:cubicBezTo>
                  <a:pt x="20413" y="2389"/>
                  <a:pt x="20403" y="2369"/>
                  <a:pt x="20340" y="2356"/>
                </a:cubicBezTo>
              </a:path>
              <a:path w="5359" h="745">
                <a:moveTo>
                  <a:pt x="20960" y="2431"/>
                </a:moveTo>
                <a:cubicBezTo>
                  <a:pt x="20891" y="2448"/>
                  <a:pt x="20906" y="2472"/>
                  <a:pt x="20886" y="2530"/>
                </a:cubicBezTo>
                <a:cubicBezTo>
                  <a:pt x="20859" y="2607"/>
                  <a:pt x="20888" y="2674"/>
                  <a:pt x="20960" y="2729"/>
                </a:cubicBezTo>
                <a:cubicBezTo>
                  <a:pt x="21030" y="2781"/>
                  <a:pt x="21143" y="2752"/>
                  <a:pt x="21208" y="2704"/>
                </a:cubicBezTo>
                <a:cubicBezTo>
                  <a:pt x="21274" y="2655"/>
                  <a:pt x="21331" y="2592"/>
                  <a:pt x="21307" y="2505"/>
                </a:cubicBezTo>
                <a:cubicBezTo>
                  <a:pt x="21286" y="2429"/>
                  <a:pt x="21205" y="2395"/>
                  <a:pt x="21134" y="2381"/>
                </a:cubicBezTo>
                <a:cubicBezTo>
                  <a:pt x="21082" y="2381"/>
                  <a:pt x="21064" y="2382"/>
                  <a:pt x="21034" y="24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52360" y="1160640"/>
            <a:ext cx="258840" cy="384120"/>
          </a:xfrm>
          <a:custGeom>
            <a:avLst/>
            <a:gdLst/>
            <a:ahLst/>
            <a:rect l="l" t="t" r="r" b="b"/>
            <a:pathLst>
              <a:path w="720" h="1067">
                <a:moveTo>
                  <a:pt x="3473" y="3721"/>
                </a:moveTo>
                <a:cubicBezTo>
                  <a:pt x="3423" y="3721"/>
                  <a:pt x="3383" y="3727"/>
                  <a:pt x="3349" y="3770"/>
                </a:cubicBezTo>
                <a:cubicBezTo>
                  <a:pt x="3288" y="3848"/>
                  <a:pt x="3210" y="3946"/>
                  <a:pt x="3200" y="4043"/>
                </a:cubicBezTo>
                <a:cubicBezTo>
                  <a:pt x="3200" y="4088"/>
                  <a:pt x="3197" y="4101"/>
                  <a:pt x="3225" y="4118"/>
                </a:cubicBezTo>
                <a:cubicBezTo>
                  <a:pt x="3314" y="4107"/>
                  <a:pt x="3365" y="4067"/>
                  <a:pt x="3423" y="3994"/>
                </a:cubicBezTo>
                <a:cubicBezTo>
                  <a:pt x="3482" y="3919"/>
                  <a:pt x="3473" y="3882"/>
                  <a:pt x="3473" y="3795"/>
                </a:cubicBezTo>
                <a:cubicBezTo>
                  <a:pt x="3473" y="3787"/>
                  <a:pt x="3473" y="3778"/>
                  <a:pt x="3473" y="3770"/>
                </a:cubicBezTo>
                <a:cubicBezTo>
                  <a:pt x="3440" y="3814"/>
                  <a:pt x="3410" y="3884"/>
                  <a:pt x="3423" y="3944"/>
                </a:cubicBezTo>
                <a:cubicBezTo>
                  <a:pt x="3437" y="4009"/>
                  <a:pt x="3475" y="4034"/>
                  <a:pt x="3522" y="4068"/>
                </a:cubicBezTo>
              </a:path>
              <a:path w="720" h="1067">
                <a:moveTo>
                  <a:pt x="3671" y="3249"/>
                </a:moveTo>
                <a:cubicBezTo>
                  <a:pt x="3671" y="3241"/>
                  <a:pt x="3671" y="3233"/>
                  <a:pt x="3671" y="3225"/>
                </a:cubicBezTo>
                <a:cubicBezTo>
                  <a:pt x="3709" y="3287"/>
                  <a:pt x="3714" y="3374"/>
                  <a:pt x="3746" y="3448"/>
                </a:cubicBezTo>
                <a:cubicBezTo>
                  <a:pt x="3805" y="3585"/>
                  <a:pt x="3859" y="3724"/>
                  <a:pt x="3894" y="3870"/>
                </a:cubicBezTo>
                <a:cubicBezTo>
                  <a:pt x="3932" y="4029"/>
                  <a:pt x="3908" y="4136"/>
                  <a:pt x="3870" y="42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80080" y="1258920"/>
            <a:ext cx="633240" cy="349200"/>
          </a:xfrm>
          <a:custGeom>
            <a:avLst/>
            <a:gdLst/>
            <a:ahLst/>
            <a:rect l="l" t="t" r="r" b="b"/>
            <a:pathLst>
              <a:path w="1762" h="969">
                <a:moveTo>
                  <a:pt x="15999" y="3894"/>
                </a:moveTo>
                <a:cubicBezTo>
                  <a:pt x="15999" y="3861"/>
                  <a:pt x="15999" y="3828"/>
                  <a:pt x="15999" y="3795"/>
                </a:cubicBezTo>
                <a:cubicBezTo>
                  <a:pt x="15941" y="3824"/>
                  <a:pt x="15924" y="3901"/>
                  <a:pt x="15900" y="3969"/>
                </a:cubicBezTo>
                <a:cubicBezTo>
                  <a:pt x="15858" y="4090"/>
                  <a:pt x="15843" y="4220"/>
                  <a:pt x="15801" y="4341"/>
                </a:cubicBezTo>
                <a:cubicBezTo>
                  <a:pt x="15784" y="4392"/>
                  <a:pt x="15776" y="4411"/>
                  <a:pt x="15776" y="4465"/>
                </a:cubicBezTo>
                <a:cubicBezTo>
                  <a:pt x="15787" y="4374"/>
                  <a:pt x="15826" y="4284"/>
                  <a:pt x="15850" y="4192"/>
                </a:cubicBezTo>
                <a:cubicBezTo>
                  <a:pt x="15880" y="4076"/>
                  <a:pt x="15924" y="3941"/>
                  <a:pt x="15999" y="3845"/>
                </a:cubicBezTo>
                <a:cubicBezTo>
                  <a:pt x="16037" y="3796"/>
                  <a:pt x="16068" y="3781"/>
                  <a:pt x="16123" y="3770"/>
                </a:cubicBezTo>
                <a:cubicBezTo>
                  <a:pt x="16167" y="3825"/>
                  <a:pt x="16188" y="3868"/>
                  <a:pt x="16173" y="3944"/>
                </a:cubicBezTo>
                <a:cubicBezTo>
                  <a:pt x="16153" y="4040"/>
                  <a:pt x="16061" y="4127"/>
                  <a:pt x="15974" y="4167"/>
                </a:cubicBezTo>
                <a:cubicBezTo>
                  <a:pt x="15918" y="4193"/>
                  <a:pt x="15817" y="4228"/>
                  <a:pt x="15801" y="4142"/>
                </a:cubicBezTo>
                <a:cubicBezTo>
                  <a:pt x="15801" y="4117"/>
                  <a:pt x="15801" y="4093"/>
                  <a:pt x="15801" y="4068"/>
                </a:cubicBezTo>
              </a:path>
              <a:path w="1762" h="969">
                <a:moveTo>
                  <a:pt x="16495" y="3497"/>
                </a:moveTo>
                <a:cubicBezTo>
                  <a:pt x="16478" y="3566"/>
                  <a:pt x="16441" y="3644"/>
                  <a:pt x="16421" y="3721"/>
                </a:cubicBezTo>
                <a:cubicBezTo>
                  <a:pt x="16384" y="3865"/>
                  <a:pt x="16338" y="4019"/>
                  <a:pt x="16321" y="4167"/>
                </a:cubicBezTo>
                <a:cubicBezTo>
                  <a:pt x="16313" y="4231"/>
                  <a:pt x="16321" y="4301"/>
                  <a:pt x="16321" y="4366"/>
                </a:cubicBezTo>
              </a:path>
              <a:path w="1762" h="969">
                <a:moveTo>
                  <a:pt x="16346" y="4093"/>
                </a:moveTo>
                <a:cubicBezTo>
                  <a:pt x="16355" y="4067"/>
                  <a:pt x="16412" y="4048"/>
                  <a:pt x="16446" y="4043"/>
                </a:cubicBezTo>
                <a:cubicBezTo>
                  <a:pt x="16535" y="4029"/>
                  <a:pt x="16586" y="4011"/>
                  <a:pt x="16669" y="3969"/>
                </a:cubicBezTo>
                <a:cubicBezTo>
                  <a:pt x="16685" y="3961"/>
                  <a:pt x="16702" y="3952"/>
                  <a:pt x="16718" y="3944"/>
                </a:cubicBezTo>
              </a:path>
              <a:path w="1762" h="969">
                <a:moveTo>
                  <a:pt x="16818" y="3696"/>
                </a:moveTo>
                <a:cubicBezTo>
                  <a:pt x="16801" y="3688"/>
                  <a:pt x="16785" y="3679"/>
                  <a:pt x="16768" y="3671"/>
                </a:cubicBezTo>
                <a:cubicBezTo>
                  <a:pt x="16729" y="3720"/>
                  <a:pt x="16689" y="3784"/>
                  <a:pt x="16669" y="3845"/>
                </a:cubicBezTo>
                <a:cubicBezTo>
                  <a:pt x="16632" y="3959"/>
                  <a:pt x="16644" y="4074"/>
                  <a:pt x="16644" y="4192"/>
                </a:cubicBezTo>
                <a:cubicBezTo>
                  <a:pt x="16644" y="4266"/>
                  <a:pt x="16644" y="4291"/>
                  <a:pt x="16644" y="4341"/>
                </a:cubicBezTo>
              </a:path>
              <a:path w="1762" h="969">
                <a:moveTo>
                  <a:pt x="17214" y="3919"/>
                </a:moveTo>
                <a:cubicBezTo>
                  <a:pt x="17278" y="3892"/>
                  <a:pt x="17317" y="3894"/>
                  <a:pt x="17388" y="3894"/>
                </a:cubicBezTo>
                <a:cubicBezTo>
                  <a:pt x="17405" y="3894"/>
                  <a:pt x="17421" y="3894"/>
                  <a:pt x="17438" y="3894"/>
                </a:cubicBezTo>
              </a:path>
              <a:path w="1762" h="969">
                <a:moveTo>
                  <a:pt x="17190" y="4192"/>
                </a:moveTo>
                <a:cubicBezTo>
                  <a:pt x="17296" y="4192"/>
                  <a:pt x="17385" y="4182"/>
                  <a:pt x="17487" y="4167"/>
                </a:cubicBezTo>
                <a:cubicBezTo>
                  <a:pt x="17504" y="4167"/>
                  <a:pt x="17520" y="4167"/>
                  <a:pt x="17537" y="41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99160" y="1295280"/>
            <a:ext cx="125640" cy="241560"/>
          </a:xfrm>
          <a:custGeom>
            <a:avLst/>
            <a:gdLst/>
            <a:ahLst/>
            <a:rect l="l" t="t" r="r" b="b"/>
            <a:pathLst>
              <a:path w="348" h="670">
                <a:moveTo>
                  <a:pt x="18331" y="3696"/>
                </a:moveTo>
                <a:cubicBezTo>
                  <a:pt x="18359" y="3677"/>
                  <a:pt x="18396" y="3607"/>
                  <a:pt x="18430" y="3597"/>
                </a:cubicBezTo>
                <a:cubicBezTo>
                  <a:pt x="18508" y="3575"/>
                  <a:pt x="18574" y="3694"/>
                  <a:pt x="18604" y="3746"/>
                </a:cubicBezTo>
                <a:cubicBezTo>
                  <a:pt x="18673" y="3866"/>
                  <a:pt x="18653" y="3984"/>
                  <a:pt x="18653" y="4118"/>
                </a:cubicBezTo>
                <a:cubicBezTo>
                  <a:pt x="18653" y="4191"/>
                  <a:pt x="18610" y="4248"/>
                  <a:pt x="18529" y="4266"/>
                </a:cubicBezTo>
                <a:cubicBezTo>
                  <a:pt x="18475" y="4278"/>
                  <a:pt x="18389" y="4209"/>
                  <a:pt x="18380" y="4167"/>
                </a:cubicBezTo>
                <a:cubicBezTo>
                  <a:pt x="18380" y="4159"/>
                  <a:pt x="18380" y="4150"/>
                  <a:pt x="18380" y="4142"/>
                </a:cubicBezTo>
                <a:cubicBezTo>
                  <a:pt x="18388" y="4119"/>
                  <a:pt x="18441" y="4096"/>
                  <a:pt x="18479" y="4118"/>
                </a:cubicBezTo>
                <a:cubicBezTo>
                  <a:pt x="18549" y="4159"/>
                  <a:pt x="18608" y="4223"/>
                  <a:pt x="18678" y="42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67360" y="1268280"/>
            <a:ext cx="241560" cy="276480"/>
          </a:xfrm>
          <a:custGeom>
            <a:avLst/>
            <a:gdLst/>
            <a:ahLst/>
            <a:rect l="l" t="t" r="r" b="b"/>
            <a:pathLst>
              <a:path w="671" h="770">
                <a:moveTo>
                  <a:pt x="19124" y="4167"/>
                </a:moveTo>
                <a:cubicBezTo>
                  <a:pt x="19100" y="4167"/>
                  <a:pt x="19091" y="4167"/>
                  <a:pt x="19075" y="4167"/>
                </a:cubicBezTo>
              </a:path>
              <a:path w="671" h="770">
                <a:moveTo>
                  <a:pt x="19348" y="3646"/>
                </a:moveTo>
                <a:cubicBezTo>
                  <a:pt x="19409" y="3611"/>
                  <a:pt x="19449" y="3562"/>
                  <a:pt x="19521" y="3547"/>
                </a:cubicBezTo>
                <a:cubicBezTo>
                  <a:pt x="19595" y="3532"/>
                  <a:pt x="19668" y="3522"/>
                  <a:pt x="19745" y="3522"/>
                </a:cubicBezTo>
              </a:path>
              <a:path w="671" h="770">
                <a:moveTo>
                  <a:pt x="19472" y="3646"/>
                </a:moveTo>
                <a:cubicBezTo>
                  <a:pt x="19379" y="3703"/>
                  <a:pt x="19254" y="3752"/>
                  <a:pt x="19199" y="3845"/>
                </a:cubicBezTo>
                <a:cubicBezTo>
                  <a:pt x="19145" y="3936"/>
                  <a:pt x="19222" y="3988"/>
                  <a:pt x="19298" y="4018"/>
                </a:cubicBezTo>
                <a:cubicBezTo>
                  <a:pt x="19391" y="4055"/>
                  <a:pt x="19502" y="4078"/>
                  <a:pt x="19596" y="4093"/>
                </a:cubicBezTo>
                <a:cubicBezTo>
                  <a:pt x="19640" y="4093"/>
                  <a:pt x="19654" y="4090"/>
                  <a:pt x="19670" y="4118"/>
                </a:cubicBezTo>
                <a:cubicBezTo>
                  <a:pt x="19655" y="4178"/>
                  <a:pt x="19601" y="4189"/>
                  <a:pt x="19546" y="4217"/>
                </a:cubicBezTo>
                <a:cubicBezTo>
                  <a:pt x="19501" y="4240"/>
                  <a:pt x="19482" y="4256"/>
                  <a:pt x="19447" y="42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67200" y="1866960"/>
            <a:ext cx="527040" cy="258840"/>
          </a:xfrm>
          <a:custGeom>
            <a:avLst/>
            <a:gdLst/>
            <a:ahLst/>
            <a:rect l="l" t="t" r="r" b="b"/>
            <a:pathLst>
              <a:path w="1464" h="721">
                <a:moveTo>
                  <a:pt x="13767" y="5308"/>
                </a:moveTo>
                <a:cubicBezTo>
                  <a:pt x="13775" y="5325"/>
                  <a:pt x="13783" y="5341"/>
                  <a:pt x="13791" y="5358"/>
                </a:cubicBezTo>
                <a:cubicBezTo>
                  <a:pt x="13791" y="5308"/>
                  <a:pt x="13803" y="5277"/>
                  <a:pt x="13767" y="5259"/>
                </a:cubicBezTo>
                <a:cubicBezTo>
                  <a:pt x="13716" y="5234"/>
                  <a:pt x="13669" y="5307"/>
                  <a:pt x="13643" y="5333"/>
                </a:cubicBezTo>
                <a:cubicBezTo>
                  <a:pt x="13597" y="5380"/>
                  <a:pt x="13516" y="5486"/>
                  <a:pt x="13519" y="5556"/>
                </a:cubicBezTo>
                <a:cubicBezTo>
                  <a:pt x="13524" y="5667"/>
                  <a:pt x="13612" y="5655"/>
                  <a:pt x="13692" y="5655"/>
                </a:cubicBezTo>
                <a:cubicBezTo>
                  <a:pt x="13812" y="5655"/>
                  <a:pt x="13871" y="5615"/>
                  <a:pt x="13965" y="5556"/>
                </a:cubicBezTo>
                <a:cubicBezTo>
                  <a:pt x="14013" y="5526"/>
                  <a:pt x="14051" y="5495"/>
                  <a:pt x="14064" y="5457"/>
                </a:cubicBezTo>
                <a:cubicBezTo>
                  <a:pt x="14020" y="5468"/>
                  <a:pt x="13977" y="5504"/>
                  <a:pt x="13965" y="5556"/>
                </a:cubicBezTo>
                <a:cubicBezTo>
                  <a:pt x="13950" y="5617"/>
                  <a:pt x="13975" y="5665"/>
                  <a:pt x="14039" y="5680"/>
                </a:cubicBezTo>
                <a:cubicBezTo>
                  <a:pt x="14089" y="5692"/>
                  <a:pt x="14164" y="5685"/>
                  <a:pt x="14188" y="5631"/>
                </a:cubicBezTo>
                <a:cubicBezTo>
                  <a:pt x="14208" y="5586"/>
                  <a:pt x="14165" y="5536"/>
                  <a:pt x="14139" y="5507"/>
                </a:cubicBezTo>
                <a:cubicBezTo>
                  <a:pt x="14102" y="5466"/>
                  <a:pt x="14079" y="5501"/>
                  <a:pt x="14064" y="5457"/>
                </a:cubicBezTo>
                <a:cubicBezTo>
                  <a:pt x="14133" y="5457"/>
                  <a:pt x="14174" y="5460"/>
                  <a:pt x="14238" y="5482"/>
                </a:cubicBezTo>
                <a:cubicBezTo>
                  <a:pt x="14291" y="5501"/>
                  <a:pt x="14385" y="5494"/>
                  <a:pt x="14412" y="5556"/>
                </a:cubicBezTo>
                <a:cubicBezTo>
                  <a:pt x="14419" y="5572"/>
                  <a:pt x="14412" y="5613"/>
                  <a:pt x="14412" y="5631"/>
                </a:cubicBezTo>
                <a:cubicBezTo>
                  <a:pt x="14449" y="5592"/>
                  <a:pt x="14491" y="5558"/>
                  <a:pt x="14536" y="5531"/>
                </a:cubicBezTo>
                <a:cubicBezTo>
                  <a:pt x="14572" y="5509"/>
                  <a:pt x="14599" y="5491"/>
                  <a:pt x="14635" y="5482"/>
                </a:cubicBezTo>
                <a:cubicBezTo>
                  <a:pt x="14659" y="5512"/>
                  <a:pt x="14680" y="5543"/>
                  <a:pt x="14684" y="5581"/>
                </a:cubicBezTo>
                <a:cubicBezTo>
                  <a:pt x="14690" y="5638"/>
                  <a:pt x="14697" y="5644"/>
                  <a:pt x="14709" y="5680"/>
                </a:cubicBezTo>
              </a:path>
              <a:path w="1464" h="721">
                <a:moveTo>
                  <a:pt x="14908" y="5507"/>
                </a:moveTo>
                <a:cubicBezTo>
                  <a:pt x="14908" y="5580"/>
                  <a:pt x="14920" y="5637"/>
                  <a:pt x="14932" y="5705"/>
                </a:cubicBezTo>
                <a:cubicBezTo>
                  <a:pt x="14944" y="5776"/>
                  <a:pt x="14930" y="5807"/>
                  <a:pt x="14883" y="5854"/>
                </a:cubicBezTo>
                <a:cubicBezTo>
                  <a:pt x="14836" y="5902"/>
                  <a:pt x="14798" y="5904"/>
                  <a:pt x="14734" y="5904"/>
                </a:cubicBezTo>
                <a:cubicBezTo>
                  <a:pt x="14726" y="5904"/>
                  <a:pt x="14717" y="5904"/>
                  <a:pt x="14709" y="5904"/>
                </a:cubicBezTo>
              </a:path>
              <a:path w="1464" h="721">
                <a:moveTo>
                  <a:pt x="14982" y="5184"/>
                </a:moveTo>
                <a:cubicBezTo>
                  <a:pt x="14982" y="5192"/>
                  <a:pt x="14982" y="5201"/>
                  <a:pt x="14982" y="52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77920" y="1955880"/>
            <a:ext cx="233280" cy="517320"/>
          </a:xfrm>
          <a:custGeom>
            <a:avLst/>
            <a:gdLst/>
            <a:ahLst/>
            <a:rect l="l" t="t" r="r" b="b"/>
            <a:pathLst>
              <a:path w="646" h="1440">
                <a:moveTo>
                  <a:pt x="3349" y="6127"/>
                </a:moveTo>
                <a:cubicBezTo>
                  <a:pt x="3349" y="6067"/>
                  <a:pt x="3356" y="6070"/>
                  <a:pt x="3324" y="6028"/>
                </a:cubicBezTo>
                <a:cubicBezTo>
                  <a:pt x="3324" y="5954"/>
                  <a:pt x="3334" y="6127"/>
                  <a:pt x="3324" y="6201"/>
                </a:cubicBezTo>
                <a:cubicBezTo>
                  <a:pt x="3308" y="6325"/>
                  <a:pt x="3280" y="6449"/>
                  <a:pt x="3274" y="6573"/>
                </a:cubicBezTo>
                <a:cubicBezTo>
                  <a:pt x="3274" y="6590"/>
                  <a:pt x="3274" y="6606"/>
                  <a:pt x="3274" y="6623"/>
                </a:cubicBezTo>
                <a:cubicBezTo>
                  <a:pt x="3274" y="6673"/>
                  <a:pt x="3305" y="6526"/>
                  <a:pt x="3324" y="6499"/>
                </a:cubicBezTo>
                <a:cubicBezTo>
                  <a:pt x="3358" y="6451"/>
                  <a:pt x="3419" y="6353"/>
                  <a:pt x="3473" y="6325"/>
                </a:cubicBezTo>
                <a:cubicBezTo>
                  <a:pt x="3518" y="6302"/>
                  <a:pt x="3569" y="6364"/>
                  <a:pt x="3572" y="6400"/>
                </a:cubicBezTo>
                <a:cubicBezTo>
                  <a:pt x="3576" y="6453"/>
                  <a:pt x="3537" y="6560"/>
                  <a:pt x="3497" y="6598"/>
                </a:cubicBezTo>
                <a:cubicBezTo>
                  <a:pt x="3438" y="6653"/>
                  <a:pt x="3388" y="6651"/>
                  <a:pt x="3324" y="6623"/>
                </a:cubicBezTo>
              </a:path>
              <a:path w="646" h="1440">
                <a:moveTo>
                  <a:pt x="3473" y="5432"/>
                </a:moveTo>
                <a:cubicBezTo>
                  <a:pt x="3601" y="5443"/>
                  <a:pt x="3579" y="5431"/>
                  <a:pt x="3671" y="5531"/>
                </a:cubicBezTo>
                <a:cubicBezTo>
                  <a:pt x="3822" y="5695"/>
                  <a:pt x="3856" y="5835"/>
                  <a:pt x="3894" y="6052"/>
                </a:cubicBezTo>
                <a:cubicBezTo>
                  <a:pt x="3928" y="6244"/>
                  <a:pt x="3918" y="6409"/>
                  <a:pt x="3870" y="6598"/>
                </a:cubicBezTo>
                <a:cubicBezTo>
                  <a:pt x="3844" y="6699"/>
                  <a:pt x="3771" y="6781"/>
                  <a:pt x="3721" y="68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1040" y="2062080"/>
            <a:ext cx="669960" cy="581040"/>
          </a:xfrm>
          <a:custGeom>
            <a:avLst/>
            <a:gdLst/>
            <a:ahLst/>
            <a:rect l="l" t="t" r="r" b="b"/>
            <a:pathLst>
              <a:path w="1861" h="1613">
                <a:moveTo>
                  <a:pt x="4961" y="6623"/>
                </a:moveTo>
                <a:cubicBezTo>
                  <a:pt x="4923" y="6737"/>
                  <a:pt x="4897" y="6851"/>
                  <a:pt x="4887" y="6970"/>
                </a:cubicBezTo>
                <a:cubicBezTo>
                  <a:pt x="4878" y="7086"/>
                  <a:pt x="4870" y="7202"/>
                  <a:pt x="4862" y="7317"/>
                </a:cubicBezTo>
                <a:cubicBezTo>
                  <a:pt x="4862" y="7325"/>
                  <a:pt x="4862" y="7334"/>
                  <a:pt x="4862" y="7342"/>
                </a:cubicBezTo>
                <a:cubicBezTo>
                  <a:pt x="4879" y="7243"/>
                  <a:pt x="4892" y="7145"/>
                  <a:pt x="4911" y="7045"/>
                </a:cubicBezTo>
                <a:cubicBezTo>
                  <a:pt x="4943" y="6879"/>
                  <a:pt x="4991" y="6772"/>
                  <a:pt x="5060" y="6623"/>
                </a:cubicBezTo>
                <a:cubicBezTo>
                  <a:pt x="5094" y="6551"/>
                  <a:pt x="5135" y="6487"/>
                  <a:pt x="5234" y="6524"/>
                </a:cubicBezTo>
                <a:cubicBezTo>
                  <a:pt x="5298" y="6548"/>
                  <a:pt x="5293" y="6671"/>
                  <a:pt x="5283" y="6722"/>
                </a:cubicBezTo>
                <a:cubicBezTo>
                  <a:pt x="5264" y="6814"/>
                  <a:pt x="5226" y="6868"/>
                  <a:pt x="5135" y="6896"/>
                </a:cubicBezTo>
                <a:cubicBezTo>
                  <a:pt x="5100" y="6896"/>
                  <a:pt x="5082" y="6891"/>
                  <a:pt x="5060" y="6871"/>
                </a:cubicBezTo>
              </a:path>
              <a:path w="1861" h="1613">
                <a:moveTo>
                  <a:pt x="5531" y="5779"/>
                </a:moveTo>
                <a:cubicBezTo>
                  <a:pt x="5591" y="5740"/>
                  <a:pt x="5603" y="5711"/>
                  <a:pt x="5631" y="5755"/>
                </a:cubicBezTo>
                <a:cubicBezTo>
                  <a:pt x="5617" y="5878"/>
                  <a:pt x="5597" y="6003"/>
                  <a:pt x="5581" y="6127"/>
                </a:cubicBezTo>
                <a:cubicBezTo>
                  <a:pt x="5558" y="6302"/>
                  <a:pt x="5556" y="6470"/>
                  <a:pt x="5556" y="6648"/>
                </a:cubicBezTo>
                <a:cubicBezTo>
                  <a:pt x="5556" y="6732"/>
                  <a:pt x="5549" y="6752"/>
                  <a:pt x="5581" y="6796"/>
                </a:cubicBezTo>
              </a:path>
              <a:path w="1861" h="1613">
                <a:moveTo>
                  <a:pt x="5531" y="6573"/>
                </a:moveTo>
                <a:cubicBezTo>
                  <a:pt x="5584" y="6573"/>
                  <a:pt x="5637" y="6558"/>
                  <a:pt x="5680" y="6524"/>
                </a:cubicBezTo>
                <a:cubicBezTo>
                  <a:pt x="5772" y="6453"/>
                  <a:pt x="5851" y="6384"/>
                  <a:pt x="5928" y="6300"/>
                </a:cubicBezTo>
                <a:cubicBezTo>
                  <a:pt x="5945" y="6284"/>
                  <a:pt x="5961" y="6267"/>
                  <a:pt x="5978" y="6251"/>
                </a:cubicBezTo>
              </a:path>
              <a:path w="1861" h="1613">
                <a:moveTo>
                  <a:pt x="5953" y="5928"/>
                </a:moveTo>
                <a:cubicBezTo>
                  <a:pt x="5856" y="5915"/>
                  <a:pt x="5857" y="5970"/>
                  <a:pt x="5854" y="6077"/>
                </a:cubicBezTo>
                <a:cubicBezTo>
                  <a:pt x="5849" y="6253"/>
                  <a:pt x="5851" y="6425"/>
                  <a:pt x="5879" y="6598"/>
                </a:cubicBezTo>
                <a:cubicBezTo>
                  <a:pt x="5898" y="6715"/>
                  <a:pt x="5936" y="6829"/>
                  <a:pt x="5953" y="6945"/>
                </a:cubicBezTo>
              </a:path>
              <a:path w="1861" h="1613">
                <a:moveTo>
                  <a:pt x="6400" y="6350"/>
                </a:moveTo>
                <a:cubicBezTo>
                  <a:pt x="6483" y="6350"/>
                  <a:pt x="6565" y="6350"/>
                  <a:pt x="6648" y="6350"/>
                </a:cubicBezTo>
              </a:path>
              <a:path w="1861" h="1613">
                <a:moveTo>
                  <a:pt x="6449" y="6648"/>
                </a:moveTo>
                <a:cubicBezTo>
                  <a:pt x="6449" y="6681"/>
                  <a:pt x="6449" y="6714"/>
                  <a:pt x="6449" y="6747"/>
                </a:cubicBezTo>
                <a:cubicBezTo>
                  <a:pt x="6524" y="6747"/>
                  <a:pt x="6574" y="6745"/>
                  <a:pt x="6648" y="6722"/>
                </a:cubicBezTo>
                <a:cubicBezTo>
                  <a:pt x="6673" y="6714"/>
                  <a:pt x="6697" y="6705"/>
                  <a:pt x="6722" y="66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33760" y="1955880"/>
            <a:ext cx="3108240" cy="750960"/>
          </a:xfrm>
          <a:custGeom>
            <a:avLst/>
            <a:gdLst/>
            <a:ahLst/>
            <a:rect l="l" t="t" r="r" b="b"/>
            <a:pathLst>
              <a:path w="8633" h="2085">
                <a:moveTo>
                  <a:pt x="7441" y="6722"/>
                </a:moveTo>
                <a:cubicBezTo>
                  <a:pt x="7406" y="6734"/>
                  <a:pt x="7375" y="6822"/>
                  <a:pt x="7367" y="6871"/>
                </a:cubicBezTo>
                <a:cubicBezTo>
                  <a:pt x="7351" y="6977"/>
                  <a:pt x="7321" y="7086"/>
                  <a:pt x="7317" y="7193"/>
                </a:cubicBezTo>
                <a:cubicBezTo>
                  <a:pt x="7317" y="7268"/>
                  <a:pt x="7317" y="7292"/>
                  <a:pt x="7317" y="7342"/>
                </a:cubicBezTo>
                <a:cubicBezTo>
                  <a:pt x="7352" y="7237"/>
                  <a:pt x="7351" y="7130"/>
                  <a:pt x="7367" y="7020"/>
                </a:cubicBezTo>
                <a:cubicBezTo>
                  <a:pt x="7387" y="6886"/>
                  <a:pt x="7409" y="6707"/>
                  <a:pt x="7491" y="6598"/>
                </a:cubicBezTo>
                <a:cubicBezTo>
                  <a:pt x="7559" y="6509"/>
                  <a:pt x="7660" y="6419"/>
                  <a:pt x="7764" y="6375"/>
                </a:cubicBezTo>
                <a:cubicBezTo>
                  <a:pt x="7821" y="6356"/>
                  <a:pt x="7828" y="6347"/>
                  <a:pt x="7863" y="6350"/>
                </a:cubicBezTo>
                <a:cubicBezTo>
                  <a:pt x="7912" y="6431"/>
                  <a:pt x="7887" y="6474"/>
                  <a:pt x="7838" y="6548"/>
                </a:cubicBezTo>
                <a:cubicBezTo>
                  <a:pt x="7768" y="6654"/>
                  <a:pt x="7693" y="6731"/>
                  <a:pt x="7565" y="6747"/>
                </a:cubicBezTo>
              </a:path>
              <a:path w="8633" h="2085">
                <a:moveTo>
                  <a:pt x="8260" y="5631"/>
                </a:moveTo>
                <a:cubicBezTo>
                  <a:pt x="8260" y="5703"/>
                  <a:pt x="8246" y="5784"/>
                  <a:pt x="8235" y="5854"/>
                </a:cubicBezTo>
                <a:cubicBezTo>
                  <a:pt x="8202" y="6070"/>
                  <a:pt x="8194" y="6284"/>
                  <a:pt x="8161" y="6499"/>
                </a:cubicBezTo>
                <a:cubicBezTo>
                  <a:pt x="8144" y="6611"/>
                  <a:pt x="8136" y="6708"/>
                  <a:pt x="8136" y="6821"/>
                </a:cubicBezTo>
              </a:path>
              <a:path w="8633" h="2085">
                <a:moveTo>
                  <a:pt x="8483" y="6127"/>
                </a:moveTo>
                <a:cubicBezTo>
                  <a:pt x="8410" y="6156"/>
                  <a:pt x="8336" y="6259"/>
                  <a:pt x="8285" y="6325"/>
                </a:cubicBezTo>
                <a:cubicBezTo>
                  <a:pt x="8239" y="6384"/>
                  <a:pt x="8132" y="6505"/>
                  <a:pt x="8111" y="6573"/>
                </a:cubicBezTo>
                <a:cubicBezTo>
                  <a:pt x="8111" y="6590"/>
                  <a:pt x="8111" y="6606"/>
                  <a:pt x="8111" y="6623"/>
                </a:cubicBezTo>
                <a:cubicBezTo>
                  <a:pt x="8180" y="6640"/>
                  <a:pt x="8211" y="6631"/>
                  <a:pt x="8285" y="6623"/>
                </a:cubicBezTo>
                <a:cubicBezTo>
                  <a:pt x="8362" y="6615"/>
                  <a:pt x="8432" y="6606"/>
                  <a:pt x="8508" y="6598"/>
                </a:cubicBezTo>
              </a:path>
              <a:path w="8633" h="2085">
                <a:moveTo>
                  <a:pt x="8855" y="6499"/>
                </a:moveTo>
                <a:cubicBezTo>
                  <a:pt x="8813" y="6520"/>
                  <a:pt x="8743" y="6600"/>
                  <a:pt x="8706" y="6648"/>
                </a:cubicBezTo>
                <a:cubicBezTo>
                  <a:pt x="8645" y="6726"/>
                  <a:pt x="8601" y="6831"/>
                  <a:pt x="8657" y="6921"/>
                </a:cubicBezTo>
                <a:cubicBezTo>
                  <a:pt x="8665" y="6929"/>
                  <a:pt x="8674" y="6937"/>
                  <a:pt x="8682" y="6945"/>
                </a:cubicBezTo>
                <a:cubicBezTo>
                  <a:pt x="8782" y="6896"/>
                  <a:pt x="8807" y="6872"/>
                  <a:pt x="8855" y="6772"/>
                </a:cubicBezTo>
                <a:cubicBezTo>
                  <a:pt x="8870" y="6740"/>
                  <a:pt x="8912" y="6605"/>
                  <a:pt x="8880" y="6573"/>
                </a:cubicBezTo>
                <a:cubicBezTo>
                  <a:pt x="8855" y="6573"/>
                  <a:pt x="8847" y="6573"/>
                  <a:pt x="8830" y="6573"/>
                </a:cubicBezTo>
                <a:cubicBezTo>
                  <a:pt x="8807" y="6638"/>
                  <a:pt x="8784" y="6708"/>
                  <a:pt x="8830" y="6772"/>
                </a:cubicBezTo>
                <a:cubicBezTo>
                  <a:pt x="8880" y="6821"/>
                  <a:pt x="8897" y="6838"/>
                  <a:pt x="8930" y="6871"/>
                </a:cubicBezTo>
              </a:path>
              <a:path w="8633" h="2085">
                <a:moveTo>
                  <a:pt x="9327" y="6499"/>
                </a:moveTo>
                <a:cubicBezTo>
                  <a:pt x="9391" y="6499"/>
                  <a:pt x="9442" y="6482"/>
                  <a:pt x="9500" y="6474"/>
                </a:cubicBezTo>
                <a:cubicBezTo>
                  <a:pt x="9588" y="6462"/>
                  <a:pt x="9664" y="6452"/>
                  <a:pt x="9748" y="6424"/>
                </a:cubicBezTo>
              </a:path>
              <a:path w="8633" h="2085">
                <a:moveTo>
                  <a:pt x="9649" y="6176"/>
                </a:moveTo>
                <a:cubicBezTo>
                  <a:pt x="9649" y="6341"/>
                  <a:pt x="9649" y="6507"/>
                  <a:pt x="9649" y="6672"/>
                </a:cubicBezTo>
              </a:path>
              <a:path w="8633" h="2085">
                <a:moveTo>
                  <a:pt x="10319" y="6672"/>
                </a:moveTo>
                <a:cubicBezTo>
                  <a:pt x="10277" y="6756"/>
                  <a:pt x="10373" y="6638"/>
                  <a:pt x="10393" y="6623"/>
                </a:cubicBezTo>
                <a:cubicBezTo>
                  <a:pt x="10501" y="6540"/>
                  <a:pt x="10622" y="6425"/>
                  <a:pt x="10716" y="6325"/>
                </a:cubicBezTo>
                <a:cubicBezTo>
                  <a:pt x="10783" y="6254"/>
                  <a:pt x="10872" y="6128"/>
                  <a:pt x="10889" y="6028"/>
                </a:cubicBezTo>
                <a:cubicBezTo>
                  <a:pt x="10902" y="5951"/>
                  <a:pt x="10885" y="5949"/>
                  <a:pt x="10840" y="5904"/>
                </a:cubicBezTo>
                <a:cubicBezTo>
                  <a:pt x="10744" y="5904"/>
                  <a:pt x="10742" y="5899"/>
                  <a:pt x="10691" y="5978"/>
                </a:cubicBezTo>
                <a:cubicBezTo>
                  <a:pt x="10602" y="6116"/>
                  <a:pt x="10599" y="6287"/>
                  <a:pt x="10616" y="6449"/>
                </a:cubicBezTo>
                <a:cubicBezTo>
                  <a:pt x="10632" y="6599"/>
                  <a:pt x="10700" y="6777"/>
                  <a:pt x="10864" y="6821"/>
                </a:cubicBezTo>
                <a:cubicBezTo>
                  <a:pt x="10999" y="6857"/>
                  <a:pt x="11131" y="6768"/>
                  <a:pt x="11212" y="6672"/>
                </a:cubicBezTo>
                <a:cubicBezTo>
                  <a:pt x="11277" y="6595"/>
                  <a:pt x="11294" y="6565"/>
                  <a:pt x="11311" y="6474"/>
                </a:cubicBezTo>
                <a:cubicBezTo>
                  <a:pt x="11271" y="6434"/>
                  <a:pt x="11249" y="6412"/>
                  <a:pt x="11187" y="6424"/>
                </a:cubicBezTo>
                <a:cubicBezTo>
                  <a:pt x="11109" y="6440"/>
                  <a:pt x="11076" y="6556"/>
                  <a:pt x="11088" y="6623"/>
                </a:cubicBezTo>
                <a:cubicBezTo>
                  <a:pt x="11104" y="6710"/>
                  <a:pt x="11206" y="6762"/>
                  <a:pt x="11286" y="6747"/>
                </a:cubicBezTo>
                <a:cubicBezTo>
                  <a:pt x="11368" y="6731"/>
                  <a:pt x="11441" y="6684"/>
                  <a:pt x="11460" y="6598"/>
                </a:cubicBezTo>
                <a:cubicBezTo>
                  <a:pt x="11476" y="6525"/>
                  <a:pt x="11452" y="6440"/>
                  <a:pt x="11385" y="6400"/>
                </a:cubicBezTo>
                <a:cubicBezTo>
                  <a:pt x="11343" y="6375"/>
                  <a:pt x="11239" y="6331"/>
                  <a:pt x="11187" y="6350"/>
                </a:cubicBezTo>
                <a:cubicBezTo>
                  <a:pt x="11187" y="6358"/>
                  <a:pt x="11187" y="6367"/>
                  <a:pt x="11187" y="6375"/>
                </a:cubicBezTo>
              </a:path>
              <a:path w="8633" h="2085">
                <a:moveTo>
                  <a:pt x="11832" y="6350"/>
                </a:moveTo>
                <a:cubicBezTo>
                  <a:pt x="11793" y="6350"/>
                  <a:pt x="11758" y="6339"/>
                  <a:pt x="11733" y="6375"/>
                </a:cubicBezTo>
                <a:cubicBezTo>
                  <a:pt x="11694" y="6431"/>
                  <a:pt x="11683" y="6457"/>
                  <a:pt x="11683" y="6524"/>
                </a:cubicBezTo>
                <a:cubicBezTo>
                  <a:pt x="11701" y="6537"/>
                  <a:pt x="11727" y="6570"/>
                  <a:pt x="11782" y="6548"/>
                </a:cubicBezTo>
                <a:cubicBezTo>
                  <a:pt x="11803" y="6540"/>
                  <a:pt x="11870" y="6448"/>
                  <a:pt x="11881" y="6424"/>
                </a:cubicBezTo>
                <a:cubicBezTo>
                  <a:pt x="11881" y="6416"/>
                  <a:pt x="11881" y="6408"/>
                  <a:pt x="11881" y="6400"/>
                </a:cubicBezTo>
                <a:cubicBezTo>
                  <a:pt x="11881" y="6502"/>
                  <a:pt x="11864" y="6597"/>
                  <a:pt x="11857" y="6697"/>
                </a:cubicBezTo>
                <a:cubicBezTo>
                  <a:pt x="11844" y="6878"/>
                  <a:pt x="11798" y="7046"/>
                  <a:pt x="11733" y="7218"/>
                </a:cubicBezTo>
                <a:cubicBezTo>
                  <a:pt x="11698" y="7310"/>
                  <a:pt x="11613" y="7491"/>
                  <a:pt x="11485" y="7491"/>
                </a:cubicBezTo>
                <a:cubicBezTo>
                  <a:pt x="11402" y="7491"/>
                  <a:pt x="11394" y="7318"/>
                  <a:pt x="11410" y="7268"/>
                </a:cubicBezTo>
                <a:cubicBezTo>
                  <a:pt x="11453" y="7133"/>
                  <a:pt x="11563" y="7041"/>
                  <a:pt x="11658" y="6945"/>
                </a:cubicBezTo>
              </a:path>
              <a:path w="8633" h="2085">
                <a:moveTo>
                  <a:pt x="12725" y="5655"/>
                </a:moveTo>
                <a:cubicBezTo>
                  <a:pt x="12586" y="5768"/>
                  <a:pt x="12546" y="5886"/>
                  <a:pt x="12477" y="6052"/>
                </a:cubicBezTo>
                <a:cubicBezTo>
                  <a:pt x="12386" y="6272"/>
                  <a:pt x="12324" y="6488"/>
                  <a:pt x="12278" y="6722"/>
                </a:cubicBezTo>
                <a:cubicBezTo>
                  <a:pt x="12256" y="6834"/>
                  <a:pt x="12248" y="6891"/>
                  <a:pt x="12278" y="6995"/>
                </a:cubicBezTo>
              </a:path>
              <a:path w="8633" h="2085">
                <a:moveTo>
                  <a:pt x="13320" y="5531"/>
                </a:moveTo>
                <a:cubicBezTo>
                  <a:pt x="13320" y="5611"/>
                  <a:pt x="13291" y="5655"/>
                  <a:pt x="13271" y="5730"/>
                </a:cubicBezTo>
                <a:cubicBezTo>
                  <a:pt x="13240" y="5846"/>
                  <a:pt x="13223" y="5965"/>
                  <a:pt x="13196" y="6077"/>
                </a:cubicBezTo>
                <a:cubicBezTo>
                  <a:pt x="13181" y="6137"/>
                  <a:pt x="13171" y="6186"/>
                  <a:pt x="13171" y="6251"/>
                </a:cubicBezTo>
                <a:cubicBezTo>
                  <a:pt x="13171" y="6259"/>
                  <a:pt x="13171" y="6268"/>
                  <a:pt x="13171" y="6276"/>
                </a:cubicBezTo>
                <a:cubicBezTo>
                  <a:pt x="13182" y="6233"/>
                  <a:pt x="13220" y="6193"/>
                  <a:pt x="13246" y="6152"/>
                </a:cubicBezTo>
                <a:cubicBezTo>
                  <a:pt x="13296" y="6073"/>
                  <a:pt x="13341" y="5984"/>
                  <a:pt x="13419" y="5928"/>
                </a:cubicBezTo>
                <a:cubicBezTo>
                  <a:pt x="13447" y="5908"/>
                  <a:pt x="13532" y="5885"/>
                  <a:pt x="13568" y="5904"/>
                </a:cubicBezTo>
                <a:cubicBezTo>
                  <a:pt x="13640" y="5943"/>
                  <a:pt x="13616" y="6020"/>
                  <a:pt x="13593" y="6077"/>
                </a:cubicBezTo>
                <a:cubicBezTo>
                  <a:pt x="13558" y="6164"/>
                  <a:pt x="13525" y="6185"/>
                  <a:pt x="13444" y="6226"/>
                </a:cubicBezTo>
                <a:cubicBezTo>
                  <a:pt x="13420" y="6238"/>
                  <a:pt x="13323" y="6279"/>
                  <a:pt x="13295" y="6251"/>
                </a:cubicBezTo>
                <a:cubicBezTo>
                  <a:pt x="13295" y="6243"/>
                  <a:pt x="13295" y="6234"/>
                  <a:pt x="13295" y="6226"/>
                </a:cubicBezTo>
              </a:path>
              <a:path w="8633" h="2085">
                <a:moveTo>
                  <a:pt x="14064" y="6077"/>
                </a:moveTo>
                <a:cubicBezTo>
                  <a:pt x="14064" y="6049"/>
                  <a:pt x="14062" y="6038"/>
                  <a:pt x="14039" y="6028"/>
                </a:cubicBezTo>
                <a:cubicBezTo>
                  <a:pt x="13972" y="6041"/>
                  <a:pt x="13910" y="6070"/>
                  <a:pt x="13866" y="6127"/>
                </a:cubicBezTo>
                <a:cubicBezTo>
                  <a:pt x="13838" y="6163"/>
                  <a:pt x="13792" y="6252"/>
                  <a:pt x="13816" y="6300"/>
                </a:cubicBezTo>
                <a:cubicBezTo>
                  <a:pt x="13844" y="6355"/>
                  <a:pt x="13908" y="6317"/>
                  <a:pt x="13940" y="6300"/>
                </a:cubicBezTo>
                <a:cubicBezTo>
                  <a:pt x="14012" y="6262"/>
                  <a:pt x="14017" y="6238"/>
                  <a:pt x="14064" y="6176"/>
                </a:cubicBezTo>
                <a:cubicBezTo>
                  <a:pt x="14087" y="6154"/>
                  <a:pt x="14095" y="6149"/>
                  <a:pt x="14089" y="6127"/>
                </a:cubicBezTo>
                <a:cubicBezTo>
                  <a:pt x="14089" y="6064"/>
                  <a:pt x="14065" y="6204"/>
                  <a:pt x="14064" y="6226"/>
                </a:cubicBezTo>
                <a:cubicBezTo>
                  <a:pt x="14060" y="6297"/>
                  <a:pt x="14115" y="6315"/>
                  <a:pt x="14139" y="6375"/>
                </a:cubicBezTo>
                <a:cubicBezTo>
                  <a:pt x="14139" y="6383"/>
                  <a:pt x="14139" y="6392"/>
                  <a:pt x="14139" y="6400"/>
                </a:cubicBezTo>
              </a:path>
              <a:path w="8633" h="2085">
                <a:moveTo>
                  <a:pt x="14536" y="6102"/>
                </a:moveTo>
                <a:cubicBezTo>
                  <a:pt x="14498" y="6073"/>
                  <a:pt x="14485" y="6077"/>
                  <a:pt x="14436" y="6077"/>
                </a:cubicBezTo>
                <a:cubicBezTo>
                  <a:pt x="14400" y="6077"/>
                  <a:pt x="14340" y="6128"/>
                  <a:pt x="14337" y="6152"/>
                </a:cubicBezTo>
                <a:cubicBezTo>
                  <a:pt x="14333" y="6186"/>
                  <a:pt x="14384" y="6233"/>
                  <a:pt x="14412" y="6251"/>
                </a:cubicBezTo>
                <a:cubicBezTo>
                  <a:pt x="14458" y="6281"/>
                  <a:pt x="14494" y="6299"/>
                  <a:pt x="14511" y="6350"/>
                </a:cubicBezTo>
                <a:cubicBezTo>
                  <a:pt x="14525" y="6392"/>
                  <a:pt x="14468" y="6453"/>
                  <a:pt x="14436" y="6474"/>
                </a:cubicBezTo>
                <a:cubicBezTo>
                  <a:pt x="14394" y="6502"/>
                  <a:pt x="14353" y="6548"/>
                  <a:pt x="14337" y="6499"/>
                </a:cubicBezTo>
              </a:path>
              <a:path w="8633" h="2085">
                <a:moveTo>
                  <a:pt x="14635" y="6251"/>
                </a:moveTo>
                <a:cubicBezTo>
                  <a:pt x="14645" y="6282"/>
                  <a:pt x="14688" y="6289"/>
                  <a:pt x="14734" y="6276"/>
                </a:cubicBezTo>
                <a:cubicBezTo>
                  <a:pt x="14793" y="6259"/>
                  <a:pt x="14863" y="6216"/>
                  <a:pt x="14908" y="6176"/>
                </a:cubicBezTo>
                <a:cubicBezTo>
                  <a:pt x="14938" y="6149"/>
                  <a:pt x="14948" y="6137"/>
                  <a:pt x="14957" y="6102"/>
                </a:cubicBezTo>
                <a:cubicBezTo>
                  <a:pt x="14913" y="6069"/>
                  <a:pt x="14891" y="6077"/>
                  <a:pt x="14833" y="6077"/>
                </a:cubicBezTo>
                <a:cubicBezTo>
                  <a:pt x="14786" y="6077"/>
                  <a:pt x="14739" y="6160"/>
                  <a:pt x="14734" y="6201"/>
                </a:cubicBezTo>
                <a:cubicBezTo>
                  <a:pt x="14726" y="6272"/>
                  <a:pt x="14735" y="6322"/>
                  <a:pt x="14784" y="6375"/>
                </a:cubicBezTo>
                <a:cubicBezTo>
                  <a:pt x="14850" y="6446"/>
                  <a:pt x="14863" y="6449"/>
                  <a:pt x="14957" y="6449"/>
                </a:cubicBezTo>
              </a:path>
              <a:path w="8633" h="2085">
                <a:moveTo>
                  <a:pt x="13047" y="6623"/>
                </a:moveTo>
                <a:cubicBezTo>
                  <a:pt x="13089" y="6623"/>
                  <a:pt x="13081" y="6632"/>
                  <a:pt x="13122" y="6623"/>
                </a:cubicBezTo>
                <a:cubicBezTo>
                  <a:pt x="13300" y="6584"/>
                  <a:pt x="13483" y="6576"/>
                  <a:pt x="13667" y="6573"/>
                </a:cubicBezTo>
                <a:cubicBezTo>
                  <a:pt x="13918" y="6569"/>
                  <a:pt x="14163" y="6586"/>
                  <a:pt x="14412" y="6598"/>
                </a:cubicBezTo>
                <a:cubicBezTo>
                  <a:pt x="14588" y="6606"/>
                  <a:pt x="14757" y="6643"/>
                  <a:pt x="14932" y="6648"/>
                </a:cubicBezTo>
                <a:cubicBezTo>
                  <a:pt x="14976" y="6649"/>
                  <a:pt x="15136" y="6699"/>
                  <a:pt x="15180" y="6672"/>
                </a:cubicBezTo>
                <a:cubicBezTo>
                  <a:pt x="15180" y="6664"/>
                  <a:pt x="15180" y="6656"/>
                  <a:pt x="15180" y="6648"/>
                </a:cubicBezTo>
              </a:path>
              <a:path w="8633" h="2085">
                <a:moveTo>
                  <a:pt x="13618" y="7020"/>
                </a:moveTo>
                <a:cubicBezTo>
                  <a:pt x="13593" y="7052"/>
                  <a:pt x="13566" y="7083"/>
                  <a:pt x="13543" y="7119"/>
                </a:cubicBezTo>
                <a:cubicBezTo>
                  <a:pt x="13503" y="7182"/>
                  <a:pt x="13446" y="7276"/>
                  <a:pt x="13419" y="7342"/>
                </a:cubicBezTo>
                <a:cubicBezTo>
                  <a:pt x="13419" y="7367"/>
                  <a:pt x="13419" y="7375"/>
                  <a:pt x="13419" y="7392"/>
                </a:cubicBezTo>
                <a:cubicBezTo>
                  <a:pt x="13466" y="7345"/>
                  <a:pt x="13485" y="7299"/>
                  <a:pt x="13519" y="7243"/>
                </a:cubicBezTo>
                <a:cubicBezTo>
                  <a:pt x="13573" y="7153"/>
                  <a:pt x="13611" y="7059"/>
                  <a:pt x="13667" y="6970"/>
                </a:cubicBezTo>
                <a:cubicBezTo>
                  <a:pt x="13714" y="6895"/>
                  <a:pt x="13722" y="6886"/>
                  <a:pt x="13791" y="6846"/>
                </a:cubicBezTo>
                <a:cubicBezTo>
                  <a:pt x="13829" y="6894"/>
                  <a:pt x="13858" y="6959"/>
                  <a:pt x="13866" y="7020"/>
                </a:cubicBezTo>
                <a:cubicBezTo>
                  <a:pt x="13878" y="7114"/>
                  <a:pt x="13896" y="7202"/>
                  <a:pt x="13915" y="7293"/>
                </a:cubicBezTo>
                <a:cubicBezTo>
                  <a:pt x="13915" y="7301"/>
                  <a:pt x="13915" y="7309"/>
                  <a:pt x="13915" y="7317"/>
                </a:cubicBezTo>
              </a:path>
              <a:path w="8633" h="2085">
                <a:moveTo>
                  <a:pt x="13519" y="7243"/>
                </a:moveTo>
                <a:cubicBezTo>
                  <a:pt x="13556" y="7186"/>
                  <a:pt x="13612" y="7156"/>
                  <a:pt x="13692" y="7144"/>
                </a:cubicBezTo>
                <a:cubicBezTo>
                  <a:pt x="13787" y="7129"/>
                  <a:pt x="13894" y="7144"/>
                  <a:pt x="13990" y="7144"/>
                </a:cubicBezTo>
              </a:path>
              <a:path w="8633" h="2085">
                <a:moveTo>
                  <a:pt x="14436" y="6970"/>
                </a:moveTo>
                <a:cubicBezTo>
                  <a:pt x="14386" y="6970"/>
                  <a:pt x="14354" y="6988"/>
                  <a:pt x="14312" y="7020"/>
                </a:cubicBezTo>
                <a:cubicBezTo>
                  <a:pt x="14273" y="7050"/>
                  <a:pt x="14201" y="7122"/>
                  <a:pt x="14188" y="7169"/>
                </a:cubicBezTo>
                <a:cubicBezTo>
                  <a:pt x="14170" y="7234"/>
                  <a:pt x="14226" y="7303"/>
                  <a:pt x="14288" y="7317"/>
                </a:cubicBezTo>
                <a:cubicBezTo>
                  <a:pt x="14376" y="7337"/>
                  <a:pt x="14456" y="7297"/>
                  <a:pt x="14536" y="7268"/>
                </a:cubicBezTo>
              </a:path>
              <a:path w="8633" h="2085">
                <a:moveTo>
                  <a:pt x="14808" y="7069"/>
                </a:moveTo>
                <a:cubicBezTo>
                  <a:pt x="14752" y="7094"/>
                  <a:pt x="14727" y="7100"/>
                  <a:pt x="14684" y="7144"/>
                </a:cubicBezTo>
                <a:cubicBezTo>
                  <a:pt x="14647" y="7182"/>
                  <a:pt x="14639" y="7264"/>
                  <a:pt x="14635" y="7317"/>
                </a:cubicBezTo>
                <a:cubicBezTo>
                  <a:pt x="14635" y="7325"/>
                  <a:pt x="14635" y="7334"/>
                  <a:pt x="14635" y="7342"/>
                </a:cubicBezTo>
              </a:path>
              <a:path w="8633" h="2085">
                <a:moveTo>
                  <a:pt x="15230" y="6896"/>
                </a:moveTo>
                <a:cubicBezTo>
                  <a:pt x="15218" y="6942"/>
                  <a:pt x="15196" y="6997"/>
                  <a:pt x="15180" y="7045"/>
                </a:cubicBezTo>
                <a:cubicBezTo>
                  <a:pt x="15153" y="7128"/>
                  <a:pt x="15156" y="7203"/>
                  <a:pt x="15156" y="7293"/>
                </a:cubicBezTo>
                <a:cubicBezTo>
                  <a:pt x="15156" y="7354"/>
                  <a:pt x="15234" y="7495"/>
                  <a:pt x="15180" y="7466"/>
                </a:cubicBezTo>
                <a:cubicBezTo>
                  <a:pt x="15134" y="7441"/>
                  <a:pt x="15143" y="7393"/>
                  <a:pt x="15106" y="7367"/>
                </a:cubicBezTo>
                <a:cubicBezTo>
                  <a:pt x="15062" y="7337"/>
                  <a:pt x="15031" y="7342"/>
                  <a:pt x="14982" y="7342"/>
                </a:cubicBezTo>
                <a:cubicBezTo>
                  <a:pt x="14941" y="7342"/>
                  <a:pt x="14917" y="7376"/>
                  <a:pt x="14932" y="7417"/>
                </a:cubicBezTo>
                <a:cubicBezTo>
                  <a:pt x="14957" y="7485"/>
                  <a:pt x="15014" y="7507"/>
                  <a:pt x="15081" y="7516"/>
                </a:cubicBezTo>
                <a:cubicBezTo>
                  <a:pt x="15149" y="7516"/>
                  <a:pt x="15168" y="7519"/>
                  <a:pt x="15205" y="7491"/>
                </a:cubicBezTo>
              </a:path>
              <a:path w="8633" h="2085">
                <a:moveTo>
                  <a:pt x="15304" y="5432"/>
                </a:moveTo>
                <a:cubicBezTo>
                  <a:pt x="15362" y="5468"/>
                  <a:pt x="15452" y="5526"/>
                  <a:pt x="15503" y="5581"/>
                </a:cubicBezTo>
                <a:cubicBezTo>
                  <a:pt x="15641" y="5729"/>
                  <a:pt x="15771" y="5941"/>
                  <a:pt x="15850" y="6127"/>
                </a:cubicBezTo>
                <a:cubicBezTo>
                  <a:pt x="15929" y="6313"/>
                  <a:pt x="15968" y="6495"/>
                  <a:pt x="15949" y="6697"/>
                </a:cubicBezTo>
                <a:cubicBezTo>
                  <a:pt x="15931" y="6883"/>
                  <a:pt x="15861" y="7001"/>
                  <a:pt x="15801" y="7169"/>
                </a:cubicBezTo>
                <a:cubicBezTo>
                  <a:pt x="15769" y="7258"/>
                  <a:pt x="15740" y="7307"/>
                  <a:pt x="15701" y="73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59000" y="3081240"/>
            <a:ext cx="142920" cy="160560"/>
          </a:xfrm>
          <a:custGeom>
            <a:avLst/>
            <a:gdLst/>
            <a:ahLst/>
            <a:rect l="l" t="t" r="r" b="b"/>
            <a:pathLst>
              <a:path w="397" h="447">
                <a:moveTo>
                  <a:pt x="6276" y="8632"/>
                </a:moveTo>
                <a:cubicBezTo>
                  <a:pt x="6288" y="8614"/>
                  <a:pt x="6379" y="8566"/>
                  <a:pt x="6424" y="8558"/>
                </a:cubicBezTo>
                <a:cubicBezTo>
                  <a:pt x="6507" y="8544"/>
                  <a:pt x="6597" y="8554"/>
                  <a:pt x="6672" y="8582"/>
                </a:cubicBezTo>
              </a:path>
              <a:path w="397" h="447">
                <a:moveTo>
                  <a:pt x="6424" y="8954"/>
                </a:moveTo>
                <a:cubicBezTo>
                  <a:pt x="6435" y="8988"/>
                  <a:pt x="6497" y="9016"/>
                  <a:pt x="6548" y="9004"/>
                </a:cubicBezTo>
                <a:cubicBezTo>
                  <a:pt x="6605" y="8976"/>
                  <a:pt x="6628" y="8965"/>
                  <a:pt x="6672" y="89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08200" y="2840040"/>
            <a:ext cx="2143080" cy="633240"/>
          </a:xfrm>
          <a:custGeom>
            <a:avLst/>
            <a:gdLst/>
            <a:ahLst/>
            <a:rect l="l" t="t" r="r" b="b"/>
            <a:pathLst>
              <a:path w="5954" h="1762">
                <a:moveTo>
                  <a:pt x="7441" y="8781"/>
                </a:moveTo>
                <a:cubicBezTo>
                  <a:pt x="7417" y="8781"/>
                  <a:pt x="7408" y="8781"/>
                  <a:pt x="7392" y="8781"/>
                </a:cubicBezTo>
                <a:cubicBezTo>
                  <a:pt x="7424" y="8757"/>
                  <a:pt x="7474" y="8716"/>
                  <a:pt x="7516" y="8706"/>
                </a:cubicBezTo>
                <a:cubicBezTo>
                  <a:pt x="7575" y="8706"/>
                  <a:pt x="7601" y="8703"/>
                  <a:pt x="7640" y="8682"/>
                </a:cubicBezTo>
              </a:path>
              <a:path w="5954" h="1762">
                <a:moveTo>
                  <a:pt x="7565" y="8012"/>
                </a:moveTo>
                <a:cubicBezTo>
                  <a:pt x="7481" y="8138"/>
                  <a:pt x="7406" y="8272"/>
                  <a:pt x="7342" y="8409"/>
                </a:cubicBezTo>
                <a:cubicBezTo>
                  <a:pt x="7263" y="8578"/>
                  <a:pt x="7247" y="8770"/>
                  <a:pt x="7243" y="8954"/>
                </a:cubicBezTo>
                <a:cubicBezTo>
                  <a:pt x="7240" y="9112"/>
                  <a:pt x="7286" y="9195"/>
                  <a:pt x="7367" y="9327"/>
                </a:cubicBezTo>
              </a:path>
              <a:path w="5954" h="1762">
                <a:moveTo>
                  <a:pt x="8037" y="9079"/>
                </a:moveTo>
                <a:cubicBezTo>
                  <a:pt x="7982" y="9061"/>
                  <a:pt x="8043" y="9027"/>
                  <a:pt x="8062" y="8979"/>
                </a:cubicBezTo>
                <a:cubicBezTo>
                  <a:pt x="8108" y="8864"/>
                  <a:pt x="8132" y="8741"/>
                  <a:pt x="8186" y="8632"/>
                </a:cubicBezTo>
                <a:cubicBezTo>
                  <a:pt x="8229" y="8545"/>
                  <a:pt x="8273" y="8480"/>
                  <a:pt x="8285" y="8384"/>
                </a:cubicBezTo>
                <a:cubicBezTo>
                  <a:pt x="8196" y="8402"/>
                  <a:pt x="8186" y="8458"/>
                  <a:pt x="8136" y="8533"/>
                </a:cubicBezTo>
                <a:cubicBezTo>
                  <a:pt x="8074" y="8627"/>
                  <a:pt x="8020" y="8763"/>
                  <a:pt x="8037" y="8880"/>
                </a:cubicBezTo>
                <a:cubicBezTo>
                  <a:pt x="8051" y="8979"/>
                  <a:pt x="8119" y="9025"/>
                  <a:pt x="8210" y="9029"/>
                </a:cubicBezTo>
                <a:cubicBezTo>
                  <a:pt x="8290" y="9032"/>
                  <a:pt x="8367" y="9000"/>
                  <a:pt x="8434" y="8954"/>
                </a:cubicBezTo>
                <a:cubicBezTo>
                  <a:pt x="8442" y="8946"/>
                  <a:pt x="8450" y="8938"/>
                  <a:pt x="8458" y="8930"/>
                </a:cubicBezTo>
                <a:cubicBezTo>
                  <a:pt x="8458" y="9000"/>
                  <a:pt x="8429" y="9103"/>
                  <a:pt x="8508" y="9128"/>
                </a:cubicBezTo>
                <a:cubicBezTo>
                  <a:pt x="8577" y="9149"/>
                  <a:pt x="8690" y="9077"/>
                  <a:pt x="8731" y="9029"/>
                </a:cubicBezTo>
                <a:cubicBezTo>
                  <a:pt x="8782" y="8970"/>
                  <a:pt x="8797" y="8896"/>
                  <a:pt x="8756" y="8830"/>
                </a:cubicBezTo>
                <a:cubicBezTo>
                  <a:pt x="8734" y="8794"/>
                  <a:pt x="8619" y="8792"/>
                  <a:pt x="8582" y="8806"/>
                </a:cubicBezTo>
                <a:cubicBezTo>
                  <a:pt x="8548" y="8819"/>
                  <a:pt x="8558" y="8853"/>
                  <a:pt x="8558" y="8880"/>
                </a:cubicBezTo>
              </a:path>
              <a:path w="5954" h="1762">
                <a:moveTo>
                  <a:pt x="9103" y="8731"/>
                </a:moveTo>
                <a:cubicBezTo>
                  <a:pt x="9070" y="8731"/>
                  <a:pt x="8999" y="8720"/>
                  <a:pt x="8979" y="8756"/>
                </a:cubicBezTo>
                <a:cubicBezTo>
                  <a:pt x="8953" y="8804"/>
                  <a:pt x="8945" y="8923"/>
                  <a:pt x="8954" y="8979"/>
                </a:cubicBezTo>
                <a:cubicBezTo>
                  <a:pt x="8978" y="9126"/>
                  <a:pt x="9004" y="9251"/>
                  <a:pt x="9004" y="9401"/>
                </a:cubicBezTo>
                <a:cubicBezTo>
                  <a:pt x="9004" y="9478"/>
                  <a:pt x="9003" y="9616"/>
                  <a:pt x="8905" y="9649"/>
                </a:cubicBezTo>
                <a:cubicBezTo>
                  <a:pt x="8809" y="9681"/>
                  <a:pt x="8809" y="9554"/>
                  <a:pt x="8806" y="9500"/>
                </a:cubicBezTo>
                <a:cubicBezTo>
                  <a:pt x="8802" y="9412"/>
                  <a:pt x="8864" y="9332"/>
                  <a:pt x="8930" y="9277"/>
                </a:cubicBezTo>
                <a:cubicBezTo>
                  <a:pt x="9001" y="9229"/>
                  <a:pt x="9022" y="9213"/>
                  <a:pt x="9079" y="9203"/>
                </a:cubicBezTo>
              </a:path>
              <a:path w="5954" h="1762">
                <a:moveTo>
                  <a:pt x="9723" y="8508"/>
                </a:moveTo>
                <a:cubicBezTo>
                  <a:pt x="9752" y="8470"/>
                  <a:pt x="9748" y="8457"/>
                  <a:pt x="9748" y="8409"/>
                </a:cubicBezTo>
                <a:cubicBezTo>
                  <a:pt x="9748" y="8401"/>
                  <a:pt x="9748" y="8392"/>
                  <a:pt x="9748" y="8384"/>
                </a:cubicBezTo>
                <a:cubicBezTo>
                  <a:pt x="9670" y="8477"/>
                  <a:pt x="9618" y="8567"/>
                  <a:pt x="9575" y="8682"/>
                </a:cubicBezTo>
                <a:cubicBezTo>
                  <a:pt x="9534" y="8792"/>
                  <a:pt x="9440" y="9012"/>
                  <a:pt x="9525" y="9128"/>
                </a:cubicBezTo>
                <a:cubicBezTo>
                  <a:pt x="9542" y="9136"/>
                  <a:pt x="9558" y="9145"/>
                  <a:pt x="9575" y="9153"/>
                </a:cubicBezTo>
                <a:cubicBezTo>
                  <a:pt x="9660" y="9131"/>
                  <a:pt x="9703" y="9086"/>
                  <a:pt x="9748" y="9004"/>
                </a:cubicBezTo>
                <a:cubicBezTo>
                  <a:pt x="9784" y="8938"/>
                  <a:pt x="9776" y="8946"/>
                  <a:pt x="9748" y="8880"/>
                </a:cubicBezTo>
                <a:cubicBezTo>
                  <a:pt x="9665" y="8890"/>
                  <a:pt x="9618" y="8905"/>
                  <a:pt x="9575" y="8979"/>
                </a:cubicBezTo>
                <a:cubicBezTo>
                  <a:pt x="9555" y="9020"/>
                  <a:pt x="9546" y="9026"/>
                  <a:pt x="9550" y="9054"/>
                </a:cubicBezTo>
              </a:path>
              <a:path w="5954" h="1762">
                <a:moveTo>
                  <a:pt x="10071" y="9029"/>
                </a:moveTo>
                <a:cubicBezTo>
                  <a:pt x="10063" y="9029"/>
                  <a:pt x="10054" y="9029"/>
                  <a:pt x="10046" y="9029"/>
                </a:cubicBezTo>
              </a:path>
              <a:path w="5954" h="1762">
                <a:moveTo>
                  <a:pt x="10517" y="8384"/>
                </a:moveTo>
                <a:cubicBezTo>
                  <a:pt x="10548" y="8400"/>
                  <a:pt x="10489" y="8454"/>
                  <a:pt x="10468" y="8508"/>
                </a:cubicBezTo>
                <a:cubicBezTo>
                  <a:pt x="10421" y="8629"/>
                  <a:pt x="10398" y="8752"/>
                  <a:pt x="10393" y="8880"/>
                </a:cubicBezTo>
                <a:cubicBezTo>
                  <a:pt x="10391" y="8921"/>
                  <a:pt x="10393" y="8963"/>
                  <a:pt x="10393" y="9004"/>
                </a:cubicBezTo>
              </a:path>
              <a:path w="5954" h="1762">
                <a:moveTo>
                  <a:pt x="10740" y="8409"/>
                </a:moveTo>
                <a:cubicBezTo>
                  <a:pt x="10740" y="8470"/>
                  <a:pt x="10705" y="8474"/>
                  <a:pt x="10691" y="8533"/>
                </a:cubicBezTo>
                <a:cubicBezTo>
                  <a:pt x="10677" y="8592"/>
                  <a:pt x="10685" y="8680"/>
                  <a:pt x="10716" y="8731"/>
                </a:cubicBezTo>
                <a:cubicBezTo>
                  <a:pt x="10742" y="8774"/>
                  <a:pt x="10843" y="8807"/>
                  <a:pt x="10889" y="8781"/>
                </a:cubicBezTo>
                <a:cubicBezTo>
                  <a:pt x="10906" y="8764"/>
                  <a:pt x="10922" y="8748"/>
                  <a:pt x="10939" y="8731"/>
                </a:cubicBezTo>
              </a:path>
              <a:path w="5954" h="1762">
                <a:moveTo>
                  <a:pt x="11112" y="8409"/>
                </a:moveTo>
                <a:cubicBezTo>
                  <a:pt x="11031" y="8474"/>
                  <a:pt x="10972" y="8529"/>
                  <a:pt x="10939" y="8632"/>
                </a:cubicBezTo>
                <a:cubicBezTo>
                  <a:pt x="10903" y="8743"/>
                  <a:pt x="10865" y="8886"/>
                  <a:pt x="10889" y="9004"/>
                </a:cubicBezTo>
                <a:cubicBezTo>
                  <a:pt x="10899" y="9053"/>
                  <a:pt x="10931" y="9087"/>
                  <a:pt x="10964" y="9103"/>
                </a:cubicBezTo>
              </a:path>
              <a:path w="5954" h="1762">
                <a:moveTo>
                  <a:pt x="11286" y="8706"/>
                </a:moveTo>
                <a:cubicBezTo>
                  <a:pt x="11242" y="8762"/>
                  <a:pt x="11216" y="8808"/>
                  <a:pt x="11212" y="8880"/>
                </a:cubicBezTo>
                <a:cubicBezTo>
                  <a:pt x="11207" y="8967"/>
                  <a:pt x="11209" y="9008"/>
                  <a:pt x="11286" y="9054"/>
                </a:cubicBezTo>
                <a:cubicBezTo>
                  <a:pt x="11373" y="9106"/>
                  <a:pt x="11397" y="9067"/>
                  <a:pt x="11460" y="9004"/>
                </a:cubicBezTo>
              </a:path>
              <a:path w="5954" h="1762">
                <a:moveTo>
                  <a:pt x="11311" y="8830"/>
                </a:moveTo>
                <a:cubicBezTo>
                  <a:pt x="11286" y="8830"/>
                  <a:pt x="11262" y="8830"/>
                  <a:pt x="11237" y="8830"/>
                </a:cubicBezTo>
                <a:cubicBezTo>
                  <a:pt x="11318" y="8820"/>
                  <a:pt x="11383" y="8785"/>
                  <a:pt x="11460" y="8756"/>
                </a:cubicBezTo>
                <a:cubicBezTo>
                  <a:pt x="11485" y="8748"/>
                  <a:pt x="11509" y="8739"/>
                  <a:pt x="11534" y="8731"/>
                </a:cubicBezTo>
              </a:path>
              <a:path w="5954" h="1762">
                <a:moveTo>
                  <a:pt x="11361" y="8508"/>
                </a:moveTo>
                <a:cubicBezTo>
                  <a:pt x="11344" y="8508"/>
                  <a:pt x="11328" y="8508"/>
                  <a:pt x="11311" y="8508"/>
                </a:cubicBezTo>
                <a:cubicBezTo>
                  <a:pt x="11384" y="8493"/>
                  <a:pt x="11461" y="8458"/>
                  <a:pt x="11534" y="8434"/>
                </a:cubicBezTo>
                <a:cubicBezTo>
                  <a:pt x="11559" y="8426"/>
                  <a:pt x="11584" y="8417"/>
                  <a:pt x="11609" y="8409"/>
                </a:cubicBezTo>
              </a:path>
              <a:path w="5954" h="1762">
                <a:moveTo>
                  <a:pt x="11881" y="8756"/>
                </a:moveTo>
                <a:cubicBezTo>
                  <a:pt x="11955" y="8756"/>
                  <a:pt x="12011" y="8743"/>
                  <a:pt x="12080" y="8731"/>
                </a:cubicBezTo>
                <a:cubicBezTo>
                  <a:pt x="12121" y="8731"/>
                  <a:pt x="12129" y="8731"/>
                  <a:pt x="12154" y="8731"/>
                </a:cubicBezTo>
              </a:path>
              <a:path w="5954" h="1762">
                <a:moveTo>
                  <a:pt x="12626" y="8458"/>
                </a:moveTo>
                <a:cubicBezTo>
                  <a:pt x="12573" y="8420"/>
                  <a:pt x="12539" y="8431"/>
                  <a:pt x="12477" y="8458"/>
                </a:cubicBezTo>
                <a:cubicBezTo>
                  <a:pt x="12410" y="8487"/>
                  <a:pt x="12332" y="8513"/>
                  <a:pt x="12303" y="8582"/>
                </a:cubicBezTo>
                <a:cubicBezTo>
                  <a:pt x="12269" y="8662"/>
                  <a:pt x="12347" y="8679"/>
                  <a:pt x="12402" y="8706"/>
                </a:cubicBezTo>
                <a:cubicBezTo>
                  <a:pt x="12455" y="8732"/>
                  <a:pt x="12543" y="8721"/>
                  <a:pt x="12576" y="8781"/>
                </a:cubicBezTo>
                <a:cubicBezTo>
                  <a:pt x="12607" y="8838"/>
                  <a:pt x="12532" y="8894"/>
                  <a:pt x="12502" y="8930"/>
                </a:cubicBezTo>
                <a:cubicBezTo>
                  <a:pt x="12494" y="8938"/>
                  <a:pt x="12485" y="8946"/>
                  <a:pt x="12477" y="8954"/>
                </a:cubicBezTo>
              </a:path>
              <a:path w="5954" h="1762">
                <a:moveTo>
                  <a:pt x="12551" y="8434"/>
                </a:moveTo>
                <a:cubicBezTo>
                  <a:pt x="12597" y="8434"/>
                  <a:pt x="12615" y="8451"/>
                  <a:pt x="12650" y="8458"/>
                </a:cubicBezTo>
                <a:cubicBezTo>
                  <a:pt x="12726" y="8474"/>
                  <a:pt x="12820" y="8458"/>
                  <a:pt x="12898" y="8458"/>
                </a:cubicBezTo>
              </a:path>
              <a:path w="5954" h="1762">
                <a:moveTo>
                  <a:pt x="12973" y="7888"/>
                </a:moveTo>
                <a:cubicBezTo>
                  <a:pt x="12985" y="7985"/>
                  <a:pt x="13039" y="8042"/>
                  <a:pt x="13072" y="8136"/>
                </a:cubicBezTo>
                <a:cubicBezTo>
                  <a:pt x="13120" y="8271"/>
                  <a:pt x="13180" y="8413"/>
                  <a:pt x="13196" y="8558"/>
                </a:cubicBezTo>
                <a:cubicBezTo>
                  <a:pt x="13209" y="8682"/>
                  <a:pt x="13136" y="8804"/>
                  <a:pt x="13072" y="8905"/>
                </a:cubicBezTo>
                <a:cubicBezTo>
                  <a:pt x="13035" y="8964"/>
                  <a:pt x="12996" y="9006"/>
                  <a:pt x="12948" y="90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91040" y="3027240"/>
            <a:ext cx="144360" cy="16992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13866" y="8706"/>
                </a:moveTo>
                <a:cubicBezTo>
                  <a:pt x="13931" y="8697"/>
                  <a:pt x="13969" y="8660"/>
                  <a:pt x="14039" y="8657"/>
                </a:cubicBezTo>
                <a:cubicBezTo>
                  <a:pt x="14122" y="8653"/>
                  <a:pt x="14186" y="8647"/>
                  <a:pt x="14263" y="8632"/>
                </a:cubicBezTo>
              </a:path>
              <a:path w="398" h="472">
                <a:moveTo>
                  <a:pt x="14188" y="8409"/>
                </a:moveTo>
                <a:cubicBezTo>
                  <a:pt x="14177" y="8495"/>
                  <a:pt x="14142" y="8566"/>
                  <a:pt x="14139" y="8657"/>
                </a:cubicBezTo>
                <a:cubicBezTo>
                  <a:pt x="14136" y="8736"/>
                  <a:pt x="14131" y="8814"/>
                  <a:pt x="14163" y="88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0880" y="2786040"/>
            <a:ext cx="920520" cy="608040"/>
          </a:xfrm>
          <a:custGeom>
            <a:avLst/>
            <a:gdLst/>
            <a:ahLst/>
            <a:rect l="l" t="t" r="r" b="b"/>
            <a:pathLst>
              <a:path w="2556" h="1688">
                <a:moveTo>
                  <a:pt x="14808" y="9004"/>
                </a:moveTo>
                <a:cubicBezTo>
                  <a:pt x="14835" y="8977"/>
                  <a:pt x="14841" y="8943"/>
                  <a:pt x="14883" y="8905"/>
                </a:cubicBezTo>
                <a:cubicBezTo>
                  <a:pt x="14985" y="8813"/>
                  <a:pt x="15111" y="8732"/>
                  <a:pt x="15205" y="8632"/>
                </a:cubicBezTo>
                <a:cubicBezTo>
                  <a:pt x="15297" y="8535"/>
                  <a:pt x="15350" y="8403"/>
                  <a:pt x="15404" y="8285"/>
                </a:cubicBezTo>
                <a:cubicBezTo>
                  <a:pt x="15443" y="8199"/>
                  <a:pt x="15436" y="8159"/>
                  <a:pt x="15354" y="8111"/>
                </a:cubicBezTo>
                <a:cubicBezTo>
                  <a:pt x="15282" y="8069"/>
                  <a:pt x="15216" y="8108"/>
                  <a:pt x="15180" y="8186"/>
                </a:cubicBezTo>
                <a:cubicBezTo>
                  <a:pt x="15116" y="8325"/>
                  <a:pt x="15111" y="8514"/>
                  <a:pt x="15156" y="8657"/>
                </a:cubicBezTo>
                <a:cubicBezTo>
                  <a:pt x="15202" y="8805"/>
                  <a:pt x="15286" y="8910"/>
                  <a:pt x="15453" y="8905"/>
                </a:cubicBezTo>
                <a:cubicBezTo>
                  <a:pt x="15537" y="8903"/>
                  <a:pt x="15741" y="8819"/>
                  <a:pt x="15776" y="8731"/>
                </a:cubicBezTo>
                <a:cubicBezTo>
                  <a:pt x="15784" y="8710"/>
                  <a:pt x="15776" y="8611"/>
                  <a:pt x="15776" y="8582"/>
                </a:cubicBezTo>
                <a:cubicBezTo>
                  <a:pt x="15722" y="8590"/>
                  <a:pt x="15693" y="8586"/>
                  <a:pt x="15677" y="8657"/>
                </a:cubicBezTo>
                <a:cubicBezTo>
                  <a:pt x="15657" y="8742"/>
                  <a:pt x="15691" y="8842"/>
                  <a:pt x="15776" y="8880"/>
                </a:cubicBezTo>
                <a:cubicBezTo>
                  <a:pt x="15831" y="8905"/>
                  <a:pt x="15957" y="8875"/>
                  <a:pt x="15999" y="8830"/>
                </a:cubicBezTo>
                <a:cubicBezTo>
                  <a:pt x="16041" y="8785"/>
                  <a:pt x="16032" y="8702"/>
                  <a:pt x="15999" y="8657"/>
                </a:cubicBezTo>
                <a:cubicBezTo>
                  <a:pt x="15957" y="8599"/>
                  <a:pt x="15936" y="8587"/>
                  <a:pt x="15875" y="8582"/>
                </a:cubicBezTo>
                <a:cubicBezTo>
                  <a:pt x="15867" y="8582"/>
                  <a:pt x="15858" y="8582"/>
                  <a:pt x="15850" y="8582"/>
                </a:cubicBezTo>
              </a:path>
              <a:path w="2556" h="1688">
                <a:moveTo>
                  <a:pt x="16396" y="8558"/>
                </a:moveTo>
                <a:cubicBezTo>
                  <a:pt x="16465" y="8523"/>
                  <a:pt x="16355" y="8556"/>
                  <a:pt x="16346" y="8558"/>
                </a:cubicBezTo>
                <a:cubicBezTo>
                  <a:pt x="16269" y="8575"/>
                  <a:pt x="16233" y="8640"/>
                  <a:pt x="16247" y="8731"/>
                </a:cubicBezTo>
                <a:cubicBezTo>
                  <a:pt x="16265" y="8845"/>
                  <a:pt x="16338" y="8945"/>
                  <a:pt x="16371" y="9054"/>
                </a:cubicBezTo>
                <a:cubicBezTo>
                  <a:pt x="16411" y="9186"/>
                  <a:pt x="16404" y="9260"/>
                  <a:pt x="16346" y="9376"/>
                </a:cubicBezTo>
                <a:cubicBezTo>
                  <a:pt x="16308" y="9451"/>
                  <a:pt x="16260" y="9435"/>
                  <a:pt x="16197" y="9401"/>
                </a:cubicBezTo>
                <a:cubicBezTo>
                  <a:pt x="16139" y="9369"/>
                  <a:pt x="16128" y="9297"/>
                  <a:pt x="16148" y="9227"/>
                </a:cubicBezTo>
                <a:cubicBezTo>
                  <a:pt x="16169" y="9154"/>
                  <a:pt x="16331" y="9097"/>
                  <a:pt x="16396" y="9054"/>
                </a:cubicBezTo>
                <a:cubicBezTo>
                  <a:pt x="16470" y="9004"/>
                  <a:pt x="16495" y="8987"/>
                  <a:pt x="16545" y="8954"/>
                </a:cubicBezTo>
              </a:path>
              <a:path w="2556" h="1688">
                <a:moveTo>
                  <a:pt x="17363" y="7764"/>
                </a:moveTo>
                <a:cubicBezTo>
                  <a:pt x="17279" y="7713"/>
                  <a:pt x="17230" y="7763"/>
                  <a:pt x="17165" y="7838"/>
                </a:cubicBezTo>
                <a:cubicBezTo>
                  <a:pt x="17032" y="7992"/>
                  <a:pt x="16937" y="8187"/>
                  <a:pt x="16892" y="8384"/>
                </a:cubicBezTo>
                <a:cubicBezTo>
                  <a:pt x="16853" y="8558"/>
                  <a:pt x="16844" y="8749"/>
                  <a:pt x="16942" y="8905"/>
                </a:cubicBezTo>
                <a:cubicBezTo>
                  <a:pt x="16976" y="8960"/>
                  <a:pt x="17038" y="8996"/>
                  <a:pt x="17090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46880" y="2625840"/>
            <a:ext cx="1081080" cy="749160"/>
          </a:xfrm>
          <a:custGeom>
            <a:avLst/>
            <a:gdLst/>
            <a:ahLst/>
            <a:rect l="l" t="t" r="r" b="b"/>
            <a:pathLst>
              <a:path w="3002" h="2084">
                <a:moveTo>
                  <a:pt x="18033" y="8161"/>
                </a:moveTo>
                <a:cubicBezTo>
                  <a:pt x="18013" y="8201"/>
                  <a:pt x="18014" y="8217"/>
                  <a:pt x="17983" y="8210"/>
                </a:cubicBezTo>
                <a:cubicBezTo>
                  <a:pt x="17995" y="8165"/>
                  <a:pt x="18013" y="8147"/>
                  <a:pt x="18058" y="8136"/>
                </a:cubicBezTo>
                <a:cubicBezTo>
                  <a:pt x="18002" y="8150"/>
                  <a:pt x="17985" y="8210"/>
                  <a:pt x="17934" y="8235"/>
                </a:cubicBezTo>
                <a:cubicBezTo>
                  <a:pt x="17926" y="8235"/>
                  <a:pt x="17917" y="8235"/>
                  <a:pt x="17909" y="8235"/>
                </a:cubicBezTo>
              </a:path>
              <a:path w="3002" h="2084">
                <a:moveTo>
                  <a:pt x="18455" y="7739"/>
                </a:moveTo>
                <a:cubicBezTo>
                  <a:pt x="18528" y="7732"/>
                  <a:pt x="18538" y="7723"/>
                  <a:pt x="18604" y="7714"/>
                </a:cubicBezTo>
                <a:cubicBezTo>
                  <a:pt x="18604" y="7774"/>
                  <a:pt x="18617" y="7836"/>
                  <a:pt x="18579" y="7888"/>
                </a:cubicBezTo>
                <a:cubicBezTo>
                  <a:pt x="18543" y="7938"/>
                  <a:pt x="18429" y="7956"/>
                  <a:pt x="18455" y="8012"/>
                </a:cubicBezTo>
                <a:cubicBezTo>
                  <a:pt x="18461" y="8026"/>
                  <a:pt x="18655" y="8012"/>
                  <a:pt x="18678" y="8012"/>
                </a:cubicBezTo>
                <a:cubicBezTo>
                  <a:pt x="18678" y="8063"/>
                  <a:pt x="18665" y="8147"/>
                  <a:pt x="18628" y="8186"/>
                </a:cubicBezTo>
                <a:cubicBezTo>
                  <a:pt x="18571" y="8246"/>
                  <a:pt x="18491" y="8298"/>
                  <a:pt x="18430" y="8359"/>
                </a:cubicBezTo>
                <a:cubicBezTo>
                  <a:pt x="18422" y="8367"/>
                  <a:pt x="18413" y="8376"/>
                  <a:pt x="18405" y="8384"/>
                </a:cubicBezTo>
              </a:path>
              <a:path w="3002" h="2084">
                <a:moveTo>
                  <a:pt x="19100" y="7913"/>
                </a:moveTo>
                <a:cubicBezTo>
                  <a:pt x="19054" y="7867"/>
                  <a:pt x="19042" y="7863"/>
                  <a:pt x="18976" y="7863"/>
                </a:cubicBezTo>
                <a:cubicBezTo>
                  <a:pt x="18951" y="7863"/>
                  <a:pt x="18943" y="7863"/>
                  <a:pt x="18926" y="7863"/>
                </a:cubicBezTo>
                <a:cubicBezTo>
                  <a:pt x="18926" y="7921"/>
                  <a:pt x="18927" y="7957"/>
                  <a:pt x="18951" y="8012"/>
                </a:cubicBezTo>
                <a:cubicBezTo>
                  <a:pt x="18979" y="8075"/>
                  <a:pt x="18995" y="8142"/>
                  <a:pt x="19000" y="8210"/>
                </a:cubicBezTo>
                <a:cubicBezTo>
                  <a:pt x="19003" y="8246"/>
                  <a:pt x="18965" y="8345"/>
                  <a:pt x="18926" y="8359"/>
                </a:cubicBezTo>
                <a:cubicBezTo>
                  <a:pt x="18909" y="8359"/>
                  <a:pt x="18893" y="8359"/>
                  <a:pt x="18876" y="8359"/>
                </a:cubicBezTo>
              </a:path>
              <a:path w="3002" h="2084">
                <a:moveTo>
                  <a:pt x="19025" y="7863"/>
                </a:moveTo>
                <a:cubicBezTo>
                  <a:pt x="19078" y="7863"/>
                  <a:pt x="19099" y="7879"/>
                  <a:pt x="19149" y="7888"/>
                </a:cubicBezTo>
                <a:cubicBezTo>
                  <a:pt x="19242" y="7905"/>
                  <a:pt x="19310" y="7851"/>
                  <a:pt x="19397" y="7838"/>
                </a:cubicBezTo>
                <a:cubicBezTo>
                  <a:pt x="19422" y="7838"/>
                  <a:pt x="19447" y="7838"/>
                  <a:pt x="19472" y="7838"/>
                </a:cubicBezTo>
              </a:path>
              <a:path w="3002" h="2084">
                <a:moveTo>
                  <a:pt x="19893" y="7789"/>
                </a:moveTo>
                <a:cubicBezTo>
                  <a:pt x="19863" y="7826"/>
                  <a:pt x="19821" y="7865"/>
                  <a:pt x="19769" y="7913"/>
                </a:cubicBezTo>
                <a:cubicBezTo>
                  <a:pt x="19589" y="8078"/>
                  <a:pt x="19413" y="8229"/>
                  <a:pt x="19224" y="8384"/>
                </a:cubicBezTo>
                <a:cubicBezTo>
                  <a:pt x="19022" y="8549"/>
                  <a:pt x="18800" y="8683"/>
                  <a:pt x="18604" y="8855"/>
                </a:cubicBezTo>
                <a:cubicBezTo>
                  <a:pt x="18566" y="8888"/>
                  <a:pt x="18506" y="8952"/>
                  <a:pt x="18479" y="8979"/>
                </a:cubicBezTo>
              </a:path>
              <a:path w="3002" h="2084">
                <a:moveTo>
                  <a:pt x="19298" y="9079"/>
                </a:moveTo>
                <a:cubicBezTo>
                  <a:pt x="19298" y="9071"/>
                  <a:pt x="19298" y="9062"/>
                  <a:pt x="19298" y="9054"/>
                </a:cubicBezTo>
                <a:cubicBezTo>
                  <a:pt x="19334" y="9042"/>
                  <a:pt x="19334" y="9041"/>
                  <a:pt x="19298" y="9029"/>
                </a:cubicBezTo>
                <a:cubicBezTo>
                  <a:pt x="19298" y="9054"/>
                  <a:pt x="19298" y="9062"/>
                  <a:pt x="19273" y="9054"/>
                </a:cubicBezTo>
              </a:path>
              <a:path w="3002" h="2084">
                <a:moveTo>
                  <a:pt x="19869" y="8632"/>
                </a:moveTo>
                <a:cubicBezTo>
                  <a:pt x="19896" y="8632"/>
                  <a:pt x="19869" y="8676"/>
                  <a:pt x="19844" y="8731"/>
                </a:cubicBezTo>
                <a:cubicBezTo>
                  <a:pt x="19802" y="8825"/>
                  <a:pt x="19754" y="8904"/>
                  <a:pt x="19745" y="9004"/>
                </a:cubicBezTo>
                <a:cubicBezTo>
                  <a:pt x="19745" y="9046"/>
                  <a:pt x="19745" y="9054"/>
                  <a:pt x="19745" y="9079"/>
                </a:cubicBezTo>
              </a:path>
              <a:path w="3002" h="2084">
                <a:moveTo>
                  <a:pt x="20191" y="8781"/>
                </a:moveTo>
                <a:cubicBezTo>
                  <a:pt x="20191" y="8756"/>
                  <a:pt x="20191" y="8731"/>
                  <a:pt x="20191" y="8706"/>
                </a:cubicBezTo>
                <a:cubicBezTo>
                  <a:pt x="20154" y="8706"/>
                  <a:pt x="20032" y="8682"/>
                  <a:pt x="20017" y="8731"/>
                </a:cubicBezTo>
                <a:cubicBezTo>
                  <a:pt x="20001" y="8785"/>
                  <a:pt x="20026" y="8882"/>
                  <a:pt x="20042" y="8930"/>
                </a:cubicBezTo>
                <a:cubicBezTo>
                  <a:pt x="20065" y="8999"/>
                  <a:pt x="20067" y="9054"/>
                  <a:pt x="20067" y="9128"/>
                </a:cubicBezTo>
                <a:cubicBezTo>
                  <a:pt x="20067" y="9171"/>
                  <a:pt x="20051" y="9169"/>
                  <a:pt x="20017" y="9178"/>
                </a:cubicBezTo>
              </a:path>
              <a:path w="3002" h="2084">
                <a:moveTo>
                  <a:pt x="20216" y="8682"/>
                </a:moveTo>
                <a:cubicBezTo>
                  <a:pt x="20272" y="8661"/>
                  <a:pt x="20306" y="8657"/>
                  <a:pt x="20365" y="8657"/>
                </a:cubicBezTo>
                <a:cubicBezTo>
                  <a:pt x="20435" y="8657"/>
                  <a:pt x="20474" y="8660"/>
                  <a:pt x="20538" y="8632"/>
                </a:cubicBezTo>
              </a:path>
              <a:path w="3002" h="2084">
                <a:moveTo>
                  <a:pt x="20489" y="7342"/>
                </a:moveTo>
                <a:cubicBezTo>
                  <a:pt x="20525" y="7282"/>
                  <a:pt x="20537" y="7278"/>
                  <a:pt x="20613" y="7367"/>
                </a:cubicBezTo>
                <a:cubicBezTo>
                  <a:pt x="20778" y="7561"/>
                  <a:pt x="20845" y="7817"/>
                  <a:pt x="20886" y="8062"/>
                </a:cubicBezTo>
                <a:cubicBezTo>
                  <a:pt x="20947" y="8428"/>
                  <a:pt x="20900" y="8744"/>
                  <a:pt x="20762" y="9079"/>
                </a:cubicBezTo>
                <a:cubicBezTo>
                  <a:pt x="20707" y="9213"/>
                  <a:pt x="20639" y="9276"/>
                  <a:pt x="20538" y="93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09800" y="4224240"/>
            <a:ext cx="79200" cy="384120"/>
          </a:xfrm>
          <a:custGeom>
            <a:avLst/>
            <a:gdLst/>
            <a:ahLst/>
            <a:rect l="l" t="t" r="r" b="b"/>
            <a:pathLst>
              <a:path w="224" h="1067">
                <a:moveTo>
                  <a:pt x="2803" y="11782"/>
                </a:moveTo>
                <a:cubicBezTo>
                  <a:pt x="2811" y="11766"/>
                  <a:pt x="2820" y="11749"/>
                  <a:pt x="2828" y="11733"/>
                </a:cubicBezTo>
                <a:cubicBezTo>
                  <a:pt x="2892" y="11748"/>
                  <a:pt x="2936" y="11870"/>
                  <a:pt x="2952" y="11931"/>
                </a:cubicBezTo>
                <a:cubicBezTo>
                  <a:pt x="3000" y="12109"/>
                  <a:pt x="3043" y="12342"/>
                  <a:pt x="3026" y="12526"/>
                </a:cubicBezTo>
                <a:cubicBezTo>
                  <a:pt x="3019" y="12605"/>
                  <a:pt x="2984" y="12735"/>
                  <a:pt x="2952" y="127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13000" y="3759120"/>
            <a:ext cx="179280" cy="169920"/>
          </a:xfrm>
          <a:custGeom>
            <a:avLst/>
            <a:gdLst/>
            <a:ahLst/>
            <a:rect l="l" t="t" r="r" b="b"/>
            <a:pathLst>
              <a:path w="498" h="472">
                <a:moveTo>
                  <a:pt x="6474" y="10517"/>
                </a:moveTo>
                <a:cubicBezTo>
                  <a:pt x="6446" y="10517"/>
                  <a:pt x="6435" y="10515"/>
                  <a:pt x="6424" y="10492"/>
                </a:cubicBezTo>
                <a:cubicBezTo>
                  <a:pt x="6477" y="10492"/>
                  <a:pt x="6550" y="10482"/>
                  <a:pt x="6598" y="10468"/>
                </a:cubicBezTo>
                <a:cubicBezTo>
                  <a:pt x="6661" y="10450"/>
                  <a:pt x="6704" y="10443"/>
                  <a:pt x="6772" y="10443"/>
                </a:cubicBezTo>
              </a:path>
              <a:path w="498" h="472">
                <a:moveTo>
                  <a:pt x="6623" y="10815"/>
                </a:moveTo>
                <a:cubicBezTo>
                  <a:pt x="6623" y="10865"/>
                  <a:pt x="6610" y="10910"/>
                  <a:pt x="6672" y="10914"/>
                </a:cubicBezTo>
                <a:cubicBezTo>
                  <a:pt x="6776" y="10921"/>
                  <a:pt x="6832" y="10891"/>
                  <a:pt x="6921" y="108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03680" y="3490920"/>
            <a:ext cx="938160" cy="384120"/>
          </a:xfrm>
          <a:custGeom>
            <a:avLst/>
            <a:gdLst/>
            <a:ahLst/>
            <a:rect l="l" t="t" r="r" b="b"/>
            <a:pathLst>
              <a:path w="2605" h="1067">
                <a:moveTo>
                  <a:pt x="7838" y="9872"/>
                </a:moveTo>
                <a:cubicBezTo>
                  <a:pt x="7893" y="9908"/>
                  <a:pt x="7832" y="9979"/>
                  <a:pt x="7813" y="10046"/>
                </a:cubicBezTo>
                <a:cubicBezTo>
                  <a:pt x="7787" y="10136"/>
                  <a:pt x="7768" y="10273"/>
                  <a:pt x="7789" y="10368"/>
                </a:cubicBezTo>
                <a:cubicBezTo>
                  <a:pt x="7808" y="10455"/>
                  <a:pt x="7888" y="10459"/>
                  <a:pt x="7962" y="10443"/>
                </a:cubicBezTo>
                <a:cubicBezTo>
                  <a:pt x="8047" y="10425"/>
                  <a:pt x="8113" y="10386"/>
                  <a:pt x="8186" y="10344"/>
                </a:cubicBezTo>
              </a:path>
              <a:path w="2605" h="1067">
                <a:moveTo>
                  <a:pt x="8384" y="9847"/>
                </a:moveTo>
                <a:cubicBezTo>
                  <a:pt x="8280" y="9972"/>
                  <a:pt x="8283" y="10037"/>
                  <a:pt x="8260" y="10195"/>
                </a:cubicBezTo>
                <a:cubicBezTo>
                  <a:pt x="8237" y="10354"/>
                  <a:pt x="8235" y="10505"/>
                  <a:pt x="8235" y="10666"/>
                </a:cubicBezTo>
                <a:cubicBezTo>
                  <a:pt x="8235" y="10749"/>
                  <a:pt x="8242" y="10746"/>
                  <a:pt x="8310" y="10765"/>
                </a:cubicBezTo>
              </a:path>
              <a:path w="2605" h="1067">
                <a:moveTo>
                  <a:pt x="8706" y="10418"/>
                </a:moveTo>
                <a:cubicBezTo>
                  <a:pt x="8684" y="10441"/>
                  <a:pt x="8676" y="10446"/>
                  <a:pt x="8682" y="10468"/>
                </a:cubicBezTo>
              </a:path>
              <a:path w="2605" h="1067">
                <a:moveTo>
                  <a:pt x="9203" y="9922"/>
                </a:moveTo>
                <a:cubicBezTo>
                  <a:pt x="9250" y="9922"/>
                  <a:pt x="9312" y="9899"/>
                  <a:pt x="9351" y="9872"/>
                </a:cubicBezTo>
                <a:cubicBezTo>
                  <a:pt x="9425" y="9820"/>
                  <a:pt x="9494" y="9767"/>
                  <a:pt x="9575" y="9723"/>
                </a:cubicBezTo>
                <a:cubicBezTo>
                  <a:pt x="9591" y="9715"/>
                  <a:pt x="9608" y="9707"/>
                  <a:pt x="9624" y="9699"/>
                </a:cubicBezTo>
              </a:path>
              <a:path w="2605" h="1067">
                <a:moveTo>
                  <a:pt x="9599" y="9723"/>
                </a:moveTo>
                <a:cubicBezTo>
                  <a:pt x="9476" y="9799"/>
                  <a:pt x="9361" y="9877"/>
                  <a:pt x="9252" y="9971"/>
                </a:cubicBezTo>
                <a:cubicBezTo>
                  <a:pt x="9195" y="10021"/>
                  <a:pt x="9148" y="10081"/>
                  <a:pt x="9203" y="10145"/>
                </a:cubicBezTo>
                <a:cubicBezTo>
                  <a:pt x="9261" y="10213"/>
                  <a:pt x="9332" y="10219"/>
                  <a:pt x="9376" y="10294"/>
                </a:cubicBezTo>
                <a:cubicBezTo>
                  <a:pt x="9429" y="10384"/>
                  <a:pt x="9390" y="10447"/>
                  <a:pt x="9327" y="10517"/>
                </a:cubicBezTo>
                <a:cubicBezTo>
                  <a:pt x="9294" y="10554"/>
                  <a:pt x="9187" y="10665"/>
                  <a:pt x="9128" y="10641"/>
                </a:cubicBezTo>
                <a:cubicBezTo>
                  <a:pt x="9106" y="10619"/>
                  <a:pt x="9097" y="10614"/>
                  <a:pt x="9103" y="10592"/>
                </a:cubicBezTo>
              </a:path>
              <a:path w="2605" h="1067">
                <a:moveTo>
                  <a:pt x="10344" y="9897"/>
                </a:moveTo>
                <a:cubicBezTo>
                  <a:pt x="10317" y="9816"/>
                  <a:pt x="10279" y="9843"/>
                  <a:pt x="10195" y="9872"/>
                </a:cubicBezTo>
                <a:cubicBezTo>
                  <a:pt x="10087" y="9910"/>
                  <a:pt x="9974" y="9987"/>
                  <a:pt x="9897" y="10071"/>
                </a:cubicBezTo>
                <a:cubicBezTo>
                  <a:pt x="9829" y="10145"/>
                  <a:pt x="9828" y="10238"/>
                  <a:pt x="9922" y="10294"/>
                </a:cubicBezTo>
                <a:cubicBezTo>
                  <a:pt x="10031" y="10359"/>
                  <a:pt x="10150" y="10377"/>
                  <a:pt x="10269" y="10418"/>
                </a:cubicBezTo>
                <a:cubicBezTo>
                  <a:pt x="10341" y="10443"/>
                  <a:pt x="10378" y="10469"/>
                  <a:pt x="10393" y="10542"/>
                </a:cubicBezTo>
                <a:cubicBezTo>
                  <a:pt x="10356" y="10572"/>
                  <a:pt x="10274" y="10643"/>
                  <a:pt x="10220" y="10616"/>
                </a:cubicBezTo>
                <a:cubicBezTo>
                  <a:pt x="10122" y="10567"/>
                  <a:pt x="10139" y="10450"/>
                  <a:pt x="10170" y="10368"/>
                </a:cubicBezTo>
                <a:cubicBezTo>
                  <a:pt x="10216" y="10249"/>
                  <a:pt x="10296" y="10149"/>
                  <a:pt x="10368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2320" y="4268880"/>
            <a:ext cx="347760" cy="357120"/>
          </a:xfrm>
          <a:custGeom>
            <a:avLst/>
            <a:gdLst/>
            <a:ahLst/>
            <a:rect l="l" t="t" r="r" b="b"/>
            <a:pathLst>
              <a:path w="968" h="993">
                <a:moveTo>
                  <a:pt x="1811" y="11931"/>
                </a:moveTo>
                <a:cubicBezTo>
                  <a:pt x="1821" y="11891"/>
                  <a:pt x="1839" y="11860"/>
                  <a:pt x="1885" y="11857"/>
                </a:cubicBezTo>
                <a:cubicBezTo>
                  <a:pt x="1939" y="11853"/>
                  <a:pt x="1992" y="11848"/>
                  <a:pt x="2034" y="11881"/>
                </a:cubicBezTo>
                <a:cubicBezTo>
                  <a:pt x="2088" y="11924"/>
                  <a:pt x="2040" y="12034"/>
                  <a:pt x="2009" y="12080"/>
                </a:cubicBezTo>
                <a:cubicBezTo>
                  <a:pt x="1973" y="12135"/>
                  <a:pt x="1910" y="12192"/>
                  <a:pt x="1885" y="12254"/>
                </a:cubicBezTo>
                <a:cubicBezTo>
                  <a:pt x="1885" y="12262"/>
                  <a:pt x="1885" y="12270"/>
                  <a:pt x="1885" y="12278"/>
                </a:cubicBezTo>
                <a:cubicBezTo>
                  <a:pt x="1940" y="12246"/>
                  <a:pt x="1992" y="12254"/>
                  <a:pt x="2059" y="12254"/>
                </a:cubicBezTo>
                <a:cubicBezTo>
                  <a:pt x="2148" y="12254"/>
                  <a:pt x="2147" y="12328"/>
                  <a:pt x="2133" y="12402"/>
                </a:cubicBezTo>
                <a:cubicBezTo>
                  <a:pt x="2111" y="12516"/>
                  <a:pt x="2033" y="12642"/>
                  <a:pt x="1960" y="12725"/>
                </a:cubicBezTo>
                <a:cubicBezTo>
                  <a:pt x="1914" y="12777"/>
                  <a:pt x="1889" y="12810"/>
                  <a:pt x="1836" y="12849"/>
                </a:cubicBezTo>
              </a:path>
              <a:path w="968" h="993">
                <a:moveTo>
                  <a:pt x="2530" y="12402"/>
                </a:moveTo>
                <a:cubicBezTo>
                  <a:pt x="2479" y="12466"/>
                  <a:pt x="2425" y="12531"/>
                  <a:pt x="2381" y="12601"/>
                </a:cubicBezTo>
                <a:cubicBezTo>
                  <a:pt x="2345" y="12659"/>
                  <a:pt x="2351" y="12675"/>
                  <a:pt x="2381" y="12725"/>
                </a:cubicBezTo>
                <a:cubicBezTo>
                  <a:pt x="2467" y="12708"/>
                  <a:pt x="2478" y="12663"/>
                  <a:pt x="2530" y="12601"/>
                </a:cubicBezTo>
                <a:cubicBezTo>
                  <a:pt x="2588" y="12532"/>
                  <a:pt x="2580" y="12560"/>
                  <a:pt x="2580" y="12477"/>
                </a:cubicBezTo>
                <a:cubicBezTo>
                  <a:pt x="2580" y="12520"/>
                  <a:pt x="2587" y="12591"/>
                  <a:pt x="2604" y="12626"/>
                </a:cubicBezTo>
                <a:cubicBezTo>
                  <a:pt x="2646" y="12712"/>
                  <a:pt x="2698" y="12735"/>
                  <a:pt x="2778" y="127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2920" y="4295880"/>
            <a:ext cx="1081080" cy="463320"/>
          </a:xfrm>
          <a:custGeom>
            <a:avLst/>
            <a:gdLst/>
            <a:ahLst/>
            <a:rect l="l" t="t" r="r" b="b"/>
            <a:pathLst>
              <a:path w="3002" h="1291">
                <a:moveTo>
                  <a:pt x="6970" y="12328"/>
                </a:moveTo>
                <a:cubicBezTo>
                  <a:pt x="6991" y="12272"/>
                  <a:pt x="6995" y="12238"/>
                  <a:pt x="6995" y="12179"/>
                </a:cubicBezTo>
                <a:cubicBezTo>
                  <a:pt x="6995" y="12146"/>
                  <a:pt x="6995" y="12096"/>
                  <a:pt x="6995" y="12129"/>
                </a:cubicBezTo>
                <a:cubicBezTo>
                  <a:pt x="6955" y="12248"/>
                  <a:pt x="6970" y="12375"/>
                  <a:pt x="6970" y="12502"/>
                </a:cubicBezTo>
                <a:cubicBezTo>
                  <a:pt x="6970" y="12601"/>
                  <a:pt x="6970" y="12700"/>
                  <a:pt x="6970" y="12799"/>
                </a:cubicBezTo>
              </a:path>
              <a:path w="3002" h="1291">
                <a:moveTo>
                  <a:pt x="6896" y="12650"/>
                </a:moveTo>
                <a:cubicBezTo>
                  <a:pt x="6995" y="12615"/>
                  <a:pt x="7091" y="12579"/>
                  <a:pt x="7193" y="12551"/>
                </a:cubicBezTo>
                <a:cubicBezTo>
                  <a:pt x="7338" y="12511"/>
                  <a:pt x="7378" y="12499"/>
                  <a:pt x="7466" y="12378"/>
                </a:cubicBezTo>
              </a:path>
              <a:path w="3002" h="1291">
                <a:moveTo>
                  <a:pt x="7541" y="12005"/>
                </a:moveTo>
                <a:cubicBezTo>
                  <a:pt x="7516" y="11980"/>
                  <a:pt x="7491" y="11956"/>
                  <a:pt x="7466" y="11931"/>
                </a:cubicBezTo>
                <a:cubicBezTo>
                  <a:pt x="7405" y="12008"/>
                  <a:pt x="7376" y="12104"/>
                  <a:pt x="7367" y="12204"/>
                </a:cubicBezTo>
                <a:cubicBezTo>
                  <a:pt x="7352" y="12362"/>
                  <a:pt x="7366" y="12524"/>
                  <a:pt x="7417" y="12675"/>
                </a:cubicBezTo>
                <a:cubicBezTo>
                  <a:pt x="7425" y="12692"/>
                  <a:pt x="7433" y="12708"/>
                  <a:pt x="7441" y="12725"/>
                </a:cubicBezTo>
              </a:path>
              <a:path w="3002" h="1291">
                <a:moveTo>
                  <a:pt x="8186" y="12105"/>
                </a:moveTo>
                <a:cubicBezTo>
                  <a:pt x="8165" y="12057"/>
                  <a:pt x="8166" y="12011"/>
                  <a:pt x="8111" y="12005"/>
                </a:cubicBezTo>
                <a:cubicBezTo>
                  <a:pt x="8021" y="11995"/>
                  <a:pt x="7963" y="12114"/>
                  <a:pt x="7938" y="12179"/>
                </a:cubicBezTo>
                <a:cubicBezTo>
                  <a:pt x="7880" y="12331"/>
                  <a:pt x="7876" y="12494"/>
                  <a:pt x="7913" y="12650"/>
                </a:cubicBezTo>
                <a:cubicBezTo>
                  <a:pt x="7938" y="12755"/>
                  <a:pt x="7989" y="12787"/>
                  <a:pt x="8086" y="12799"/>
                </a:cubicBezTo>
              </a:path>
              <a:path w="3002" h="1291">
                <a:moveTo>
                  <a:pt x="8508" y="12626"/>
                </a:moveTo>
                <a:cubicBezTo>
                  <a:pt x="8417" y="12659"/>
                  <a:pt x="8351" y="12678"/>
                  <a:pt x="8310" y="12774"/>
                </a:cubicBezTo>
                <a:cubicBezTo>
                  <a:pt x="8281" y="12842"/>
                  <a:pt x="8260" y="12993"/>
                  <a:pt x="8334" y="13047"/>
                </a:cubicBezTo>
                <a:cubicBezTo>
                  <a:pt x="8378" y="13080"/>
                  <a:pt x="8456" y="13090"/>
                  <a:pt x="8508" y="13097"/>
                </a:cubicBezTo>
              </a:path>
              <a:path w="3002" h="1291">
                <a:moveTo>
                  <a:pt x="8607" y="13022"/>
                </a:moveTo>
                <a:cubicBezTo>
                  <a:pt x="8544" y="12975"/>
                  <a:pt x="8487" y="12942"/>
                  <a:pt x="8409" y="12998"/>
                </a:cubicBezTo>
                <a:cubicBezTo>
                  <a:pt x="8319" y="13062"/>
                  <a:pt x="8318" y="13128"/>
                  <a:pt x="8334" y="13221"/>
                </a:cubicBezTo>
              </a:path>
              <a:path w="3002" h="1291">
                <a:moveTo>
                  <a:pt x="9029" y="12898"/>
                </a:moveTo>
                <a:cubicBezTo>
                  <a:pt x="9004" y="12898"/>
                  <a:pt x="8996" y="12898"/>
                  <a:pt x="8979" y="12898"/>
                </a:cubicBezTo>
              </a:path>
              <a:path w="3002" h="1291">
                <a:moveTo>
                  <a:pt x="9277" y="12948"/>
                </a:moveTo>
                <a:cubicBezTo>
                  <a:pt x="9277" y="12973"/>
                  <a:pt x="9277" y="12981"/>
                  <a:pt x="9277" y="12948"/>
                </a:cubicBezTo>
              </a:path>
              <a:path w="3002" h="1291">
                <a:moveTo>
                  <a:pt x="9599" y="12923"/>
                </a:moveTo>
                <a:cubicBezTo>
                  <a:pt x="9616" y="12931"/>
                  <a:pt x="9632" y="12940"/>
                  <a:pt x="9649" y="12948"/>
                </a:cubicBezTo>
              </a:path>
              <a:path w="3002" h="1291">
                <a:moveTo>
                  <a:pt x="9872" y="12923"/>
                </a:moveTo>
                <a:cubicBezTo>
                  <a:pt x="9880" y="12923"/>
                  <a:pt x="9889" y="12923"/>
                  <a:pt x="9897" y="129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48040" y="4321080"/>
            <a:ext cx="536760" cy="189000"/>
          </a:xfrm>
          <a:custGeom>
            <a:avLst/>
            <a:gdLst/>
            <a:ahLst/>
            <a:rect l="l" t="t" r="r" b="b"/>
            <a:pathLst>
              <a:path w="1489" h="522">
                <a:moveTo>
                  <a:pt x="10765" y="12353"/>
                </a:moveTo>
                <a:cubicBezTo>
                  <a:pt x="10725" y="12333"/>
                  <a:pt x="10719" y="12324"/>
                  <a:pt x="10691" y="12328"/>
                </a:cubicBezTo>
                <a:cubicBezTo>
                  <a:pt x="10806" y="12289"/>
                  <a:pt x="10916" y="12316"/>
                  <a:pt x="11038" y="12303"/>
                </a:cubicBezTo>
                <a:cubicBezTo>
                  <a:pt x="11223" y="12284"/>
                  <a:pt x="11401" y="12266"/>
                  <a:pt x="11584" y="12229"/>
                </a:cubicBezTo>
                <a:cubicBezTo>
                  <a:pt x="11658" y="12214"/>
                  <a:pt x="11822" y="12195"/>
                  <a:pt x="11881" y="12129"/>
                </a:cubicBezTo>
                <a:cubicBezTo>
                  <a:pt x="11881" y="12121"/>
                  <a:pt x="11881" y="12113"/>
                  <a:pt x="11881" y="12105"/>
                </a:cubicBezTo>
                <a:cubicBezTo>
                  <a:pt x="11806" y="12086"/>
                  <a:pt x="11736" y="12092"/>
                  <a:pt x="11658" y="12080"/>
                </a:cubicBezTo>
                <a:cubicBezTo>
                  <a:pt x="11570" y="12066"/>
                  <a:pt x="11499" y="12055"/>
                  <a:pt x="11410" y="12055"/>
                </a:cubicBezTo>
                <a:cubicBezTo>
                  <a:pt x="11461" y="12035"/>
                  <a:pt x="11567" y="12007"/>
                  <a:pt x="11658" y="12005"/>
                </a:cubicBezTo>
                <a:cubicBezTo>
                  <a:pt x="11823" y="12001"/>
                  <a:pt x="11989" y="11981"/>
                  <a:pt x="12129" y="12080"/>
                </a:cubicBezTo>
                <a:cubicBezTo>
                  <a:pt x="12247" y="12163"/>
                  <a:pt x="12148" y="12257"/>
                  <a:pt x="12080" y="12328"/>
                </a:cubicBezTo>
                <a:cubicBezTo>
                  <a:pt x="11999" y="12412"/>
                  <a:pt x="11909" y="12471"/>
                  <a:pt x="11807" y="125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97280" y="4232160"/>
            <a:ext cx="544680" cy="393840"/>
          </a:xfrm>
          <a:custGeom>
            <a:avLst/>
            <a:gdLst/>
            <a:ahLst/>
            <a:rect l="l" t="t" r="r" b="b"/>
            <a:pathLst>
              <a:path w="1514" h="1093">
                <a:moveTo>
                  <a:pt x="13171" y="12105"/>
                </a:moveTo>
                <a:cubicBezTo>
                  <a:pt x="13171" y="12097"/>
                  <a:pt x="13171" y="12088"/>
                  <a:pt x="13171" y="12080"/>
                </a:cubicBezTo>
                <a:cubicBezTo>
                  <a:pt x="13133" y="12143"/>
                  <a:pt x="13128" y="12277"/>
                  <a:pt x="13122" y="12353"/>
                </a:cubicBezTo>
                <a:cubicBezTo>
                  <a:pt x="13111" y="12495"/>
                  <a:pt x="13103" y="12666"/>
                  <a:pt x="13146" y="12799"/>
                </a:cubicBezTo>
              </a:path>
              <a:path w="1514" h="1093">
                <a:moveTo>
                  <a:pt x="13072" y="12551"/>
                </a:moveTo>
                <a:cubicBezTo>
                  <a:pt x="13064" y="12551"/>
                  <a:pt x="13055" y="12551"/>
                  <a:pt x="13047" y="12551"/>
                </a:cubicBezTo>
                <a:cubicBezTo>
                  <a:pt x="13123" y="12505"/>
                  <a:pt x="13209" y="12526"/>
                  <a:pt x="13295" y="12502"/>
                </a:cubicBezTo>
                <a:cubicBezTo>
                  <a:pt x="13394" y="12475"/>
                  <a:pt x="13494" y="12433"/>
                  <a:pt x="13593" y="12402"/>
                </a:cubicBezTo>
              </a:path>
              <a:path w="1514" h="1093">
                <a:moveTo>
                  <a:pt x="13841" y="12129"/>
                </a:moveTo>
                <a:cubicBezTo>
                  <a:pt x="13824" y="12104"/>
                  <a:pt x="13808" y="12080"/>
                  <a:pt x="13791" y="12055"/>
                </a:cubicBezTo>
                <a:cubicBezTo>
                  <a:pt x="13658" y="12139"/>
                  <a:pt x="13648" y="12224"/>
                  <a:pt x="13618" y="12378"/>
                </a:cubicBezTo>
                <a:cubicBezTo>
                  <a:pt x="13579" y="12579"/>
                  <a:pt x="13589" y="12679"/>
                  <a:pt x="13692" y="12849"/>
                </a:cubicBezTo>
              </a:path>
              <a:path w="1514" h="1093">
                <a:moveTo>
                  <a:pt x="14188" y="12030"/>
                </a:moveTo>
                <a:cubicBezTo>
                  <a:pt x="14255" y="12030"/>
                  <a:pt x="14301" y="12015"/>
                  <a:pt x="14362" y="12005"/>
                </a:cubicBezTo>
                <a:cubicBezTo>
                  <a:pt x="14414" y="12005"/>
                  <a:pt x="14432" y="12004"/>
                  <a:pt x="14461" y="11981"/>
                </a:cubicBezTo>
              </a:path>
              <a:path w="1514" h="1093">
                <a:moveTo>
                  <a:pt x="14560" y="11757"/>
                </a:moveTo>
                <a:cubicBezTo>
                  <a:pt x="14442" y="11800"/>
                  <a:pt x="14429" y="11812"/>
                  <a:pt x="14387" y="11931"/>
                </a:cubicBezTo>
                <a:cubicBezTo>
                  <a:pt x="14355" y="12023"/>
                  <a:pt x="14362" y="12108"/>
                  <a:pt x="14362" y="122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10160" y="4419720"/>
            <a:ext cx="177840" cy="188640"/>
          </a:xfrm>
          <a:custGeom>
            <a:avLst/>
            <a:gdLst/>
            <a:ahLst/>
            <a:rect l="l" t="t" r="r" b="b"/>
            <a:pathLst>
              <a:path w="498" h="522">
                <a:moveTo>
                  <a:pt x="15304" y="12526"/>
                </a:moveTo>
                <a:cubicBezTo>
                  <a:pt x="15399" y="12518"/>
                  <a:pt x="15479" y="12502"/>
                  <a:pt x="15577" y="12502"/>
                </a:cubicBezTo>
                <a:cubicBezTo>
                  <a:pt x="15659" y="12502"/>
                  <a:pt x="15722" y="12486"/>
                  <a:pt x="15801" y="12477"/>
                </a:cubicBezTo>
              </a:path>
              <a:path w="498" h="522">
                <a:moveTo>
                  <a:pt x="15701" y="12278"/>
                </a:moveTo>
                <a:cubicBezTo>
                  <a:pt x="15589" y="12289"/>
                  <a:pt x="15582" y="12309"/>
                  <a:pt x="15577" y="12427"/>
                </a:cubicBezTo>
                <a:cubicBezTo>
                  <a:pt x="15573" y="12535"/>
                  <a:pt x="15564" y="12648"/>
                  <a:pt x="15602" y="12750"/>
                </a:cubicBezTo>
                <a:cubicBezTo>
                  <a:pt x="15610" y="12766"/>
                  <a:pt x="15619" y="12783"/>
                  <a:pt x="15627" y="127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8120" y="4367160"/>
            <a:ext cx="928800" cy="339840"/>
          </a:xfrm>
          <a:custGeom>
            <a:avLst/>
            <a:gdLst/>
            <a:ahLst/>
            <a:rect l="l" t="t" r="r" b="b"/>
            <a:pathLst>
              <a:path w="2581" h="944">
                <a:moveTo>
                  <a:pt x="17090" y="12129"/>
                </a:moveTo>
                <a:cubicBezTo>
                  <a:pt x="17090" y="12171"/>
                  <a:pt x="17090" y="12179"/>
                  <a:pt x="17090" y="12204"/>
                </a:cubicBezTo>
                <a:cubicBezTo>
                  <a:pt x="17148" y="12185"/>
                  <a:pt x="17086" y="12140"/>
                  <a:pt x="17041" y="12129"/>
                </a:cubicBezTo>
                <a:cubicBezTo>
                  <a:pt x="16958" y="12109"/>
                  <a:pt x="16852" y="12146"/>
                  <a:pt x="16793" y="12204"/>
                </a:cubicBezTo>
                <a:cubicBezTo>
                  <a:pt x="16723" y="12273"/>
                  <a:pt x="16686" y="12432"/>
                  <a:pt x="16718" y="12526"/>
                </a:cubicBezTo>
                <a:cubicBezTo>
                  <a:pt x="16758" y="12646"/>
                  <a:pt x="16900" y="12731"/>
                  <a:pt x="17016" y="12750"/>
                </a:cubicBezTo>
                <a:cubicBezTo>
                  <a:pt x="17041" y="12750"/>
                  <a:pt x="17065" y="12750"/>
                  <a:pt x="17090" y="12750"/>
                </a:cubicBezTo>
              </a:path>
              <a:path w="2581" h="944">
                <a:moveTo>
                  <a:pt x="17512" y="12626"/>
                </a:moveTo>
                <a:cubicBezTo>
                  <a:pt x="17422" y="12643"/>
                  <a:pt x="17389" y="12699"/>
                  <a:pt x="17338" y="12774"/>
                </a:cubicBezTo>
                <a:cubicBezTo>
                  <a:pt x="17296" y="12835"/>
                  <a:pt x="17217" y="12949"/>
                  <a:pt x="17289" y="13022"/>
                </a:cubicBezTo>
                <a:cubicBezTo>
                  <a:pt x="17355" y="13089"/>
                  <a:pt x="17462" y="13079"/>
                  <a:pt x="17537" y="13047"/>
                </a:cubicBezTo>
                <a:cubicBezTo>
                  <a:pt x="17580" y="13025"/>
                  <a:pt x="17592" y="13022"/>
                  <a:pt x="17611" y="12998"/>
                </a:cubicBezTo>
                <a:cubicBezTo>
                  <a:pt x="17593" y="12921"/>
                  <a:pt x="17535" y="12927"/>
                  <a:pt x="17462" y="12923"/>
                </a:cubicBezTo>
                <a:cubicBezTo>
                  <a:pt x="17404" y="12920"/>
                  <a:pt x="17298" y="12935"/>
                  <a:pt x="17289" y="12998"/>
                </a:cubicBezTo>
                <a:cubicBezTo>
                  <a:pt x="17289" y="13014"/>
                  <a:pt x="17289" y="13031"/>
                  <a:pt x="17289" y="13047"/>
                </a:cubicBezTo>
              </a:path>
              <a:path w="2581" h="944">
                <a:moveTo>
                  <a:pt x="18033" y="12750"/>
                </a:moveTo>
                <a:cubicBezTo>
                  <a:pt x="17987" y="12750"/>
                  <a:pt x="17979" y="12768"/>
                  <a:pt x="18008" y="12725"/>
                </a:cubicBezTo>
              </a:path>
              <a:path w="2581" h="944">
                <a:moveTo>
                  <a:pt x="18281" y="12774"/>
                </a:moveTo>
                <a:cubicBezTo>
                  <a:pt x="18303" y="12791"/>
                  <a:pt x="18347" y="12818"/>
                  <a:pt x="18380" y="12799"/>
                </a:cubicBezTo>
                <a:cubicBezTo>
                  <a:pt x="18419" y="12777"/>
                  <a:pt x="18409" y="12774"/>
                  <a:pt x="18455" y="12774"/>
                </a:cubicBezTo>
              </a:path>
              <a:path w="2581" h="944">
                <a:moveTo>
                  <a:pt x="18777" y="12824"/>
                </a:moveTo>
                <a:cubicBezTo>
                  <a:pt x="18777" y="12868"/>
                  <a:pt x="18827" y="12818"/>
                  <a:pt x="18852" y="12799"/>
                </a:cubicBezTo>
              </a:path>
              <a:path w="2581" h="944">
                <a:moveTo>
                  <a:pt x="19124" y="12799"/>
                </a:moveTo>
                <a:cubicBezTo>
                  <a:pt x="19163" y="12809"/>
                  <a:pt x="19179" y="12824"/>
                  <a:pt x="19224" y="12824"/>
                </a:cubicBezTo>
                <a:cubicBezTo>
                  <a:pt x="19255" y="12824"/>
                  <a:pt x="19268" y="12806"/>
                  <a:pt x="19298" y="127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8800" y="4867200"/>
            <a:ext cx="241200" cy="463680"/>
          </a:xfrm>
          <a:custGeom>
            <a:avLst/>
            <a:gdLst/>
            <a:ahLst/>
            <a:rect l="l" t="t" r="r" b="b"/>
            <a:pathLst>
              <a:path w="670" h="1290">
                <a:moveTo>
                  <a:pt x="2729" y="13816"/>
                </a:moveTo>
                <a:cubicBezTo>
                  <a:pt x="2671" y="13874"/>
                  <a:pt x="2673" y="13915"/>
                  <a:pt x="2654" y="13990"/>
                </a:cubicBezTo>
                <a:cubicBezTo>
                  <a:pt x="2629" y="14089"/>
                  <a:pt x="2609" y="14186"/>
                  <a:pt x="2604" y="14288"/>
                </a:cubicBezTo>
                <a:cubicBezTo>
                  <a:pt x="2601" y="14350"/>
                  <a:pt x="2580" y="14397"/>
                  <a:pt x="2580" y="14461"/>
                </a:cubicBezTo>
                <a:cubicBezTo>
                  <a:pt x="2580" y="14469"/>
                  <a:pt x="2580" y="14478"/>
                  <a:pt x="2580" y="14486"/>
                </a:cubicBezTo>
                <a:cubicBezTo>
                  <a:pt x="2591" y="14440"/>
                  <a:pt x="2630" y="14408"/>
                  <a:pt x="2654" y="14362"/>
                </a:cubicBezTo>
                <a:cubicBezTo>
                  <a:pt x="2691" y="14292"/>
                  <a:pt x="2751" y="14218"/>
                  <a:pt x="2828" y="14188"/>
                </a:cubicBezTo>
                <a:cubicBezTo>
                  <a:pt x="2873" y="14171"/>
                  <a:pt x="2918" y="14194"/>
                  <a:pt x="2927" y="14238"/>
                </a:cubicBezTo>
                <a:cubicBezTo>
                  <a:pt x="2940" y="14297"/>
                  <a:pt x="2923" y="14393"/>
                  <a:pt x="2877" y="14436"/>
                </a:cubicBezTo>
                <a:cubicBezTo>
                  <a:pt x="2836" y="14474"/>
                  <a:pt x="2761" y="14542"/>
                  <a:pt x="2704" y="14560"/>
                </a:cubicBezTo>
                <a:cubicBezTo>
                  <a:pt x="2653" y="14577"/>
                  <a:pt x="2622" y="14560"/>
                  <a:pt x="2604" y="14536"/>
                </a:cubicBezTo>
                <a:cubicBezTo>
                  <a:pt x="2596" y="14528"/>
                  <a:pt x="2588" y="14519"/>
                  <a:pt x="2580" y="14511"/>
                </a:cubicBezTo>
              </a:path>
              <a:path w="670" h="1290">
                <a:moveTo>
                  <a:pt x="2977" y="13519"/>
                </a:moveTo>
                <a:cubicBezTo>
                  <a:pt x="3014" y="13519"/>
                  <a:pt x="3080" y="13534"/>
                  <a:pt x="3101" y="13568"/>
                </a:cubicBezTo>
                <a:cubicBezTo>
                  <a:pt x="3182" y="13699"/>
                  <a:pt x="3234" y="13888"/>
                  <a:pt x="3249" y="14039"/>
                </a:cubicBezTo>
                <a:cubicBezTo>
                  <a:pt x="3266" y="14203"/>
                  <a:pt x="3240" y="14353"/>
                  <a:pt x="3200" y="14511"/>
                </a:cubicBezTo>
                <a:cubicBezTo>
                  <a:pt x="3171" y="14625"/>
                  <a:pt x="3133" y="14706"/>
                  <a:pt x="3076" y="148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0120" y="4813200"/>
            <a:ext cx="428760" cy="258840"/>
          </a:xfrm>
          <a:custGeom>
            <a:avLst/>
            <a:gdLst/>
            <a:ahLst/>
            <a:rect l="l" t="t" r="r" b="b"/>
            <a:pathLst>
              <a:path w="1191" h="720">
                <a:moveTo>
                  <a:pt x="7441" y="13841"/>
                </a:moveTo>
                <a:cubicBezTo>
                  <a:pt x="7441" y="13826"/>
                  <a:pt x="7499" y="13825"/>
                  <a:pt x="7491" y="13791"/>
                </a:cubicBezTo>
                <a:cubicBezTo>
                  <a:pt x="7466" y="13791"/>
                  <a:pt x="7458" y="13791"/>
                  <a:pt x="7441" y="13791"/>
                </a:cubicBezTo>
                <a:cubicBezTo>
                  <a:pt x="7474" y="13856"/>
                  <a:pt x="7472" y="13747"/>
                  <a:pt x="7466" y="13742"/>
                </a:cubicBezTo>
                <a:cubicBezTo>
                  <a:pt x="7432" y="13715"/>
                  <a:pt x="7421" y="13776"/>
                  <a:pt x="7417" y="13791"/>
                </a:cubicBezTo>
              </a:path>
              <a:path w="1191" h="720">
                <a:moveTo>
                  <a:pt x="7913" y="13419"/>
                </a:moveTo>
                <a:cubicBezTo>
                  <a:pt x="7933" y="13379"/>
                  <a:pt x="7942" y="13353"/>
                  <a:pt x="7938" y="13395"/>
                </a:cubicBezTo>
                <a:cubicBezTo>
                  <a:pt x="7855" y="13453"/>
                  <a:pt x="7807" y="13545"/>
                  <a:pt x="7764" y="13643"/>
                </a:cubicBezTo>
                <a:cubicBezTo>
                  <a:pt x="7720" y="13745"/>
                  <a:pt x="7689" y="13803"/>
                  <a:pt x="7689" y="13915"/>
                </a:cubicBezTo>
                <a:cubicBezTo>
                  <a:pt x="7689" y="13923"/>
                  <a:pt x="7689" y="13932"/>
                  <a:pt x="7689" y="13940"/>
                </a:cubicBezTo>
              </a:path>
              <a:path w="1191" h="720">
                <a:moveTo>
                  <a:pt x="8186" y="13543"/>
                </a:moveTo>
                <a:cubicBezTo>
                  <a:pt x="8152" y="13543"/>
                  <a:pt x="8083" y="13542"/>
                  <a:pt x="8062" y="13568"/>
                </a:cubicBezTo>
                <a:cubicBezTo>
                  <a:pt x="8028" y="13611"/>
                  <a:pt x="8019" y="13739"/>
                  <a:pt x="8012" y="13791"/>
                </a:cubicBezTo>
                <a:cubicBezTo>
                  <a:pt x="8002" y="13862"/>
                  <a:pt x="8056" y="13899"/>
                  <a:pt x="8062" y="13965"/>
                </a:cubicBezTo>
                <a:cubicBezTo>
                  <a:pt x="8065" y="14002"/>
                  <a:pt x="8071" y="14041"/>
                  <a:pt x="8037" y="14064"/>
                </a:cubicBezTo>
                <a:cubicBezTo>
                  <a:pt x="7996" y="14084"/>
                  <a:pt x="7990" y="14093"/>
                  <a:pt x="7962" y="14089"/>
                </a:cubicBezTo>
              </a:path>
              <a:path w="1191" h="720">
                <a:moveTo>
                  <a:pt x="8111" y="13618"/>
                </a:moveTo>
                <a:cubicBezTo>
                  <a:pt x="8237" y="13618"/>
                  <a:pt x="8362" y="13629"/>
                  <a:pt x="8483" y="13593"/>
                </a:cubicBezTo>
                <a:cubicBezTo>
                  <a:pt x="8550" y="13571"/>
                  <a:pt x="8568" y="13566"/>
                  <a:pt x="8607" y="135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52800" y="4840200"/>
            <a:ext cx="249120" cy="731880"/>
          </a:xfrm>
          <a:custGeom>
            <a:avLst/>
            <a:gdLst/>
            <a:ahLst/>
            <a:rect l="l" t="t" r="r" b="b"/>
            <a:pathLst>
              <a:path w="695" h="2035">
                <a:moveTo>
                  <a:pt x="6325" y="13618"/>
                </a:moveTo>
                <a:cubicBezTo>
                  <a:pt x="6246" y="13708"/>
                  <a:pt x="6256" y="13757"/>
                  <a:pt x="6226" y="13866"/>
                </a:cubicBezTo>
                <a:cubicBezTo>
                  <a:pt x="6209" y="13926"/>
                  <a:pt x="6201" y="13974"/>
                  <a:pt x="6201" y="14039"/>
                </a:cubicBezTo>
              </a:path>
              <a:path w="695" h="2035">
                <a:moveTo>
                  <a:pt x="6028" y="13568"/>
                </a:moveTo>
                <a:cubicBezTo>
                  <a:pt x="6085" y="13568"/>
                  <a:pt x="6145" y="13554"/>
                  <a:pt x="6201" y="13543"/>
                </a:cubicBezTo>
                <a:cubicBezTo>
                  <a:pt x="6319" y="13521"/>
                  <a:pt x="6431" y="13465"/>
                  <a:pt x="6548" y="13444"/>
                </a:cubicBezTo>
                <a:cubicBezTo>
                  <a:pt x="6565" y="13444"/>
                  <a:pt x="6581" y="13444"/>
                  <a:pt x="6598" y="13444"/>
                </a:cubicBezTo>
              </a:path>
              <a:path w="695" h="2035">
                <a:moveTo>
                  <a:pt x="6028" y="13990"/>
                </a:moveTo>
                <a:cubicBezTo>
                  <a:pt x="5991" y="14063"/>
                  <a:pt x="5974" y="14068"/>
                  <a:pt x="5978" y="14114"/>
                </a:cubicBezTo>
                <a:cubicBezTo>
                  <a:pt x="6075" y="14114"/>
                  <a:pt x="6155" y="14111"/>
                  <a:pt x="6251" y="14089"/>
                </a:cubicBezTo>
                <a:cubicBezTo>
                  <a:pt x="6350" y="14064"/>
                  <a:pt x="6383" y="14056"/>
                  <a:pt x="6449" y="14039"/>
                </a:cubicBezTo>
              </a:path>
              <a:path w="695" h="2035">
                <a:moveTo>
                  <a:pt x="6524" y="14387"/>
                </a:moveTo>
                <a:cubicBezTo>
                  <a:pt x="6468" y="14353"/>
                  <a:pt x="6390" y="14347"/>
                  <a:pt x="6325" y="14387"/>
                </a:cubicBezTo>
                <a:cubicBezTo>
                  <a:pt x="6264" y="14425"/>
                  <a:pt x="6186" y="14501"/>
                  <a:pt x="6176" y="14560"/>
                </a:cubicBezTo>
                <a:cubicBezTo>
                  <a:pt x="6160" y="14658"/>
                  <a:pt x="6300" y="14635"/>
                  <a:pt x="6350" y="14635"/>
                </a:cubicBezTo>
                <a:cubicBezTo>
                  <a:pt x="6375" y="14635"/>
                  <a:pt x="6399" y="14635"/>
                  <a:pt x="6424" y="14635"/>
                </a:cubicBezTo>
              </a:path>
              <a:path w="695" h="2035">
                <a:moveTo>
                  <a:pt x="6573" y="14982"/>
                </a:moveTo>
                <a:cubicBezTo>
                  <a:pt x="6516" y="15053"/>
                  <a:pt x="6502" y="15114"/>
                  <a:pt x="6499" y="15205"/>
                </a:cubicBezTo>
                <a:cubicBezTo>
                  <a:pt x="6496" y="15278"/>
                  <a:pt x="6485" y="15365"/>
                  <a:pt x="6524" y="15429"/>
                </a:cubicBezTo>
                <a:cubicBezTo>
                  <a:pt x="6541" y="15456"/>
                  <a:pt x="6587" y="15498"/>
                  <a:pt x="6623" y="15478"/>
                </a:cubicBezTo>
                <a:cubicBezTo>
                  <a:pt x="6631" y="15470"/>
                  <a:pt x="6640" y="15461"/>
                  <a:pt x="6648" y="15453"/>
                </a:cubicBezTo>
              </a:path>
              <a:path w="695" h="2035">
                <a:moveTo>
                  <a:pt x="6499" y="15156"/>
                </a:moveTo>
                <a:cubicBezTo>
                  <a:pt x="6438" y="15136"/>
                  <a:pt x="6423" y="15138"/>
                  <a:pt x="6400" y="15106"/>
                </a:cubicBezTo>
                <a:cubicBezTo>
                  <a:pt x="6466" y="15092"/>
                  <a:pt x="6532" y="15055"/>
                  <a:pt x="6598" y="15032"/>
                </a:cubicBezTo>
                <a:cubicBezTo>
                  <a:pt x="6623" y="15024"/>
                  <a:pt x="6647" y="15015"/>
                  <a:pt x="6672" y="15007"/>
                </a:cubicBezTo>
              </a:path>
              <a:path w="695" h="2035">
                <a:moveTo>
                  <a:pt x="6499" y="14908"/>
                </a:moveTo>
                <a:cubicBezTo>
                  <a:pt x="6457" y="14908"/>
                  <a:pt x="6441" y="14916"/>
                  <a:pt x="6449" y="14883"/>
                </a:cubicBezTo>
                <a:cubicBezTo>
                  <a:pt x="6504" y="14883"/>
                  <a:pt x="6542" y="14861"/>
                  <a:pt x="6598" y="14858"/>
                </a:cubicBezTo>
                <a:cubicBezTo>
                  <a:pt x="6639" y="14858"/>
                  <a:pt x="6647" y="14858"/>
                  <a:pt x="6672" y="148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76680" y="5348160"/>
            <a:ext cx="831600" cy="233640"/>
          </a:xfrm>
          <a:custGeom>
            <a:avLst/>
            <a:gdLst/>
            <a:ahLst/>
            <a:rect l="l" t="t" r="r" b="b"/>
            <a:pathLst>
              <a:path w="2308" h="646">
                <a:moveTo>
                  <a:pt x="7813" y="15429"/>
                </a:moveTo>
                <a:cubicBezTo>
                  <a:pt x="7789" y="15429"/>
                  <a:pt x="7780" y="15429"/>
                  <a:pt x="7764" y="15429"/>
                </a:cubicBezTo>
                <a:cubicBezTo>
                  <a:pt x="7793" y="15400"/>
                  <a:pt x="7804" y="15391"/>
                  <a:pt x="7813" y="15354"/>
                </a:cubicBezTo>
                <a:cubicBezTo>
                  <a:pt x="7798" y="15416"/>
                  <a:pt x="7743" y="15402"/>
                  <a:pt x="7714" y="15453"/>
                </a:cubicBezTo>
                <a:cubicBezTo>
                  <a:pt x="7714" y="15461"/>
                  <a:pt x="7714" y="15470"/>
                  <a:pt x="7714" y="15478"/>
                </a:cubicBezTo>
              </a:path>
              <a:path w="2308" h="646">
                <a:moveTo>
                  <a:pt x="8161" y="15007"/>
                </a:moveTo>
                <a:cubicBezTo>
                  <a:pt x="8161" y="15074"/>
                  <a:pt x="8120" y="15114"/>
                  <a:pt x="8111" y="15180"/>
                </a:cubicBezTo>
                <a:cubicBezTo>
                  <a:pt x="8098" y="15280"/>
                  <a:pt x="8069" y="15378"/>
                  <a:pt x="8062" y="15478"/>
                </a:cubicBezTo>
                <a:cubicBezTo>
                  <a:pt x="8062" y="15486"/>
                  <a:pt x="8062" y="15495"/>
                  <a:pt x="8062" y="15503"/>
                </a:cubicBezTo>
              </a:path>
              <a:path w="2308" h="646">
                <a:moveTo>
                  <a:pt x="8632" y="15056"/>
                </a:moveTo>
                <a:cubicBezTo>
                  <a:pt x="8608" y="15033"/>
                  <a:pt x="8546" y="14969"/>
                  <a:pt x="8508" y="15007"/>
                </a:cubicBezTo>
                <a:cubicBezTo>
                  <a:pt x="8483" y="15032"/>
                  <a:pt x="8460" y="15092"/>
                  <a:pt x="8458" y="15131"/>
                </a:cubicBezTo>
                <a:cubicBezTo>
                  <a:pt x="8454" y="15198"/>
                  <a:pt x="8489" y="15256"/>
                  <a:pt x="8533" y="15304"/>
                </a:cubicBezTo>
                <a:cubicBezTo>
                  <a:pt x="8549" y="15321"/>
                  <a:pt x="8593" y="15379"/>
                  <a:pt x="8582" y="15404"/>
                </a:cubicBezTo>
                <a:cubicBezTo>
                  <a:pt x="8563" y="15448"/>
                  <a:pt x="8550" y="15450"/>
                  <a:pt x="8508" y="15478"/>
                </a:cubicBezTo>
              </a:path>
              <a:path w="2308" h="646">
                <a:moveTo>
                  <a:pt x="8657" y="14932"/>
                </a:moveTo>
                <a:cubicBezTo>
                  <a:pt x="8709" y="14932"/>
                  <a:pt x="8731" y="14932"/>
                  <a:pt x="8781" y="14908"/>
                </a:cubicBezTo>
                <a:cubicBezTo>
                  <a:pt x="8830" y="14883"/>
                  <a:pt x="8847" y="14874"/>
                  <a:pt x="8880" y="14858"/>
                </a:cubicBezTo>
              </a:path>
              <a:path w="2308" h="646">
                <a:moveTo>
                  <a:pt x="9054" y="15354"/>
                </a:moveTo>
                <a:cubicBezTo>
                  <a:pt x="9012" y="15354"/>
                  <a:pt x="8996" y="15362"/>
                  <a:pt x="9004" y="15329"/>
                </a:cubicBezTo>
                <a:cubicBezTo>
                  <a:pt x="9095" y="15329"/>
                  <a:pt x="9186" y="15329"/>
                  <a:pt x="9277" y="15329"/>
                </a:cubicBezTo>
              </a:path>
              <a:path w="2308" h="646">
                <a:moveTo>
                  <a:pt x="9996" y="15056"/>
                </a:moveTo>
                <a:cubicBezTo>
                  <a:pt x="10019" y="15034"/>
                  <a:pt x="10030" y="15026"/>
                  <a:pt x="9996" y="15032"/>
                </a:cubicBezTo>
                <a:cubicBezTo>
                  <a:pt x="9974" y="15121"/>
                  <a:pt x="9903" y="15174"/>
                  <a:pt x="9847" y="15255"/>
                </a:cubicBezTo>
                <a:cubicBezTo>
                  <a:pt x="9801" y="15321"/>
                  <a:pt x="9727" y="15404"/>
                  <a:pt x="9699" y="15478"/>
                </a:cubicBezTo>
                <a:cubicBezTo>
                  <a:pt x="9699" y="15486"/>
                  <a:pt x="9699" y="15495"/>
                  <a:pt x="9699" y="15503"/>
                </a:cubicBezTo>
              </a:path>
              <a:path w="2308" h="646">
                <a:moveTo>
                  <a:pt x="9624" y="15131"/>
                </a:moveTo>
                <a:cubicBezTo>
                  <a:pt x="9624" y="15077"/>
                  <a:pt x="9650" y="15184"/>
                  <a:pt x="9674" y="15205"/>
                </a:cubicBezTo>
                <a:cubicBezTo>
                  <a:pt x="9757" y="15280"/>
                  <a:pt x="9830" y="15345"/>
                  <a:pt x="9922" y="15404"/>
                </a:cubicBezTo>
                <a:cubicBezTo>
                  <a:pt x="9971" y="15429"/>
                  <a:pt x="9988" y="15437"/>
                  <a:pt x="10021" y="154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95920" y="5411880"/>
            <a:ext cx="152280" cy="133200"/>
          </a:xfrm>
          <a:custGeom>
            <a:avLst/>
            <a:gdLst/>
            <a:ahLst/>
            <a:rect l="l" t="t" r="r" b="b"/>
            <a:pathLst>
              <a:path w="423" h="373">
                <a:moveTo>
                  <a:pt x="13568" y="15032"/>
                </a:moveTo>
                <a:cubicBezTo>
                  <a:pt x="13535" y="15040"/>
                  <a:pt x="13486" y="15070"/>
                  <a:pt x="13469" y="15106"/>
                </a:cubicBezTo>
                <a:cubicBezTo>
                  <a:pt x="13434" y="15178"/>
                  <a:pt x="13417" y="15262"/>
                  <a:pt x="13370" y="15329"/>
                </a:cubicBezTo>
                <a:cubicBezTo>
                  <a:pt x="13345" y="15354"/>
                  <a:pt x="13337" y="15362"/>
                  <a:pt x="13320" y="15379"/>
                </a:cubicBezTo>
              </a:path>
              <a:path w="423" h="373">
                <a:moveTo>
                  <a:pt x="13345" y="15081"/>
                </a:moveTo>
                <a:cubicBezTo>
                  <a:pt x="13409" y="15092"/>
                  <a:pt x="13425" y="15116"/>
                  <a:pt x="13469" y="15180"/>
                </a:cubicBezTo>
                <a:cubicBezTo>
                  <a:pt x="13534" y="15275"/>
                  <a:pt x="13599" y="15320"/>
                  <a:pt x="13692" y="15379"/>
                </a:cubicBezTo>
                <a:cubicBezTo>
                  <a:pt x="13709" y="15387"/>
                  <a:pt x="13725" y="15396"/>
                  <a:pt x="13742" y="154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7840" y="5313240"/>
            <a:ext cx="633240" cy="241560"/>
          </a:xfrm>
          <a:custGeom>
            <a:avLst/>
            <a:gdLst/>
            <a:ahLst/>
            <a:rect l="l" t="t" r="r" b="b"/>
            <a:pathLst>
              <a:path w="1762" h="671">
                <a:moveTo>
                  <a:pt x="16743" y="15304"/>
                </a:moveTo>
                <a:cubicBezTo>
                  <a:pt x="16773" y="15304"/>
                  <a:pt x="16810" y="15297"/>
                  <a:pt x="16818" y="15280"/>
                </a:cubicBezTo>
                <a:cubicBezTo>
                  <a:pt x="16818" y="15272"/>
                  <a:pt x="16818" y="15263"/>
                  <a:pt x="16818" y="15255"/>
                </a:cubicBezTo>
                <a:cubicBezTo>
                  <a:pt x="16786" y="15266"/>
                  <a:pt x="16781" y="15277"/>
                  <a:pt x="16743" y="15304"/>
                </a:cubicBezTo>
              </a:path>
              <a:path w="1762" h="671">
                <a:moveTo>
                  <a:pt x="17190" y="14883"/>
                </a:moveTo>
                <a:cubicBezTo>
                  <a:pt x="17190" y="14813"/>
                  <a:pt x="17182" y="14808"/>
                  <a:pt x="17239" y="14784"/>
                </a:cubicBezTo>
                <a:cubicBezTo>
                  <a:pt x="17299" y="14758"/>
                  <a:pt x="17335" y="14731"/>
                  <a:pt x="17363" y="14808"/>
                </a:cubicBezTo>
                <a:cubicBezTo>
                  <a:pt x="17381" y="14858"/>
                  <a:pt x="17297" y="14957"/>
                  <a:pt x="17264" y="14982"/>
                </a:cubicBezTo>
                <a:cubicBezTo>
                  <a:pt x="17216" y="15019"/>
                  <a:pt x="17180" y="15021"/>
                  <a:pt x="17165" y="15081"/>
                </a:cubicBezTo>
                <a:cubicBezTo>
                  <a:pt x="17212" y="15081"/>
                  <a:pt x="17244" y="15103"/>
                  <a:pt x="17289" y="15106"/>
                </a:cubicBezTo>
                <a:cubicBezTo>
                  <a:pt x="17334" y="15109"/>
                  <a:pt x="17385" y="15118"/>
                  <a:pt x="17363" y="15180"/>
                </a:cubicBezTo>
                <a:cubicBezTo>
                  <a:pt x="17336" y="15254"/>
                  <a:pt x="17252" y="15313"/>
                  <a:pt x="17190" y="15354"/>
                </a:cubicBezTo>
                <a:cubicBezTo>
                  <a:pt x="17146" y="15376"/>
                  <a:pt x="17134" y="15379"/>
                  <a:pt x="17115" y="15404"/>
                </a:cubicBezTo>
              </a:path>
              <a:path w="1762" h="671">
                <a:moveTo>
                  <a:pt x="17835" y="14957"/>
                </a:moveTo>
                <a:cubicBezTo>
                  <a:pt x="17801" y="14918"/>
                  <a:pt x="17753" y="14881"/>
                  <a:pt x="17686" y="14908"/>
                </a:cubicBezTo>
                <a:cubicBezTo>
                  <a:pt x="17650" y="14923"/>
                  <a:pt x="17595" y="14997"/>
                  <a:pt x="17587" y="15032"/>
                </a:cubicBezTo>
                <a:cubicBezTo>
                  <a:pt x="17570" y="15105"/>
                  <a:pt x="17621" y="15124"/>
                  <a:pt x="17636" y="15180"/>
                </a:cubicBezTo>
                <a:cubicBezTo>
                  <a:pt x="17645" y="15214"/>
                  <a:pt x="17678" y="15289"/>
                  <a:pt x="17661" y="15329"/>
                </a:cubicBezTo>
                <a:cubicBezTo>
                  <a:pt x="17646" y="15364"/>
                  <a:pt x="17584" y="15418"/>
                  <a:pt x="17562" y="15429"/>
                </a:cubicBezTo>
              </a:path>
              <a:path w="1762" h="671">
                <a:moveTo>
                  <a:pt x="17711" y="14932"/>
                </a:moveTo>
                <a:cubicBezTo>
                  <a:pt x="17758" y="14897"/>
                  <a:pt x="17805" y="14901"/>
                  <a:pt x="17859" y="14883"/>
                </a:cubicBezTo>
                <a:cubicBezTo>
                  <a:pt x="17943" y="14855"/>
                  <a:pt x="18015" y="14858"/>
                  <a:pt x="18107" y="14858"/>
                </a:cubicBezTo>
              </a:path>
              <a:path w="1762" h="671">
                <a:moveTo>
                  <a:pt x="18231" y="15131"/>
                </a:moveTo>
                <a:cubicBezTo>
                  <a:pt x="18305" y="15131"/>
                  <a:pt x="18359" y="15114"/>
                  <a:pt x="18430" y="15106"/>
                </a:cubicBezTo>
                <a:cubicBezTo>
                  <a:pt x="18455" y="15106"/>
                  <a:pt x="18479" y="15106"/>
                  <a:pt x="18504" y="15106"/>
                </a:cubicBezTo>
              </a:path>
              <a:path w="1762" h="671">
                <a:moveTo>
                  <a:pt x="18479" y="14957"/>
                </a:moveTo>
                <a:cubicBezTo>
                  <a:pt x="18412" y="14977"/>
                  <a:pt x="18384" y="15003"/>
                  <a:pt x="18380" y="15081"/>
                </a:cubicBezTo>
                <a:cubicBezTo>
                  <a:pt x="18375" y="15183"/>
                  <a:pt x="18370" y="15285"/>
                  <a:pt x="18405" y="153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96080" y="5402160"/>
            <a:ext cx="187200" cy="179640"/>
          </a:xfrm>
          <a:custGeom>
            <a:avLst/>
            <a:gdLst/>
            <a:ahLst/>
            <a:rect l="l" t="t" r="r" b="b"/>
            <a:pathLst>
              <a:path w="522" h="497">
                <a:moveTo>
                  <a:pt x="19298" y="15081"/>
                </a:moveTo>
                <a:cubicBezTo>
                  <a:pt x="19298" y="15032"/>
                  <a:pt x="19257" y="15054"/>
                  <a:pt x="19248" y="15081"/>
                </a:cubicBezTo>
              </a:path>
              <a:path w="522" h="497">
                <a:moveTo>
                  <a:pt x="19298" y="15081"/>
                </a:moveTo>
                <a:cubicBezTo>
                  <a:pt x="19216" y="15048"/>
                  <a:pt x="19193" y="15126"/>
                  <a:pt x="19124" y="15180"/>
                </a:cubicBezTo>
                <a:cubicBezTo>
                  <a:pt x="19034" y="15251"/>
                  <a:pt x="18969" y="15315"/>
                  <a:pt x="18901" y="15404"/>
                </a:cubicBezTo>
                <a:cubicBezTo>
                  <a:pt x="18893" y="15412"/>
                  <a:pt x="18884" y="15421"/>
                  <a:pt x="18876" y="15429"/>
                </a:cubicBezTo>
              </a:path>
              <a:path w="522" h="497">
                <a:moveTo>
                  <a:pt x="19000" y="15007"/>
                </a:moveTo>
                <a:cubicBezTo>
                  <a:pt x="19016" y="15088"/>
                  <a:pt x="19055" y="15159"/>
                  <a:pt x="19100" y="15230"/>
                </a:cubicBezTo>
                <a:cubicBezTo>
                  <a:pt x="19171" y="15343"/>
                  <a:pt x="19232" y="15409"/>
                  <a:pt x="19348" y="15478"/>
                </a:cubicBezTo>
                <a:cubicBezTo>
                  <a:pt x="19364" y="15486"/>
                  <a:pt x="19381" y="15495"/>
                  <a:pt x="19397" y="155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54840" y="4803840"/>
            <a:ext cx="615960" cy="214200"/>
          </a:xfrm>
          <a:custGeom>
            <a:avLst/>
            <a:gdLst/>
            <a:ahLst/>
            <a:rect l="l" t="t" r="r" b="b"/>
            <a:pathLst>
              <a:path w="1712" h="596">
                <a:moveTo>
                  <a:pt x="16842" y="13791"/>
                </a:moveTo>
                <a:cubicBezTo>
                  <a:pt x="16842" y="13739"/>
                  <a:pt x="16874" y="13742"/>
                  <a:pt x="16842" y="13742"/>
                </a:cubicBezTo>
                <a:cubicBezTo>
                  <a:pt x="16786" y="13742"/>
                  <a:pt x="16877" y="13727"/>
                  <a:pt x="16892" y="13717"/>
                </a:cubicBezTo>
                <a:cubicBezTo>
                  <a:pt x="16900" y="13709"/>
                  <a:pt x="16909" y="13700"/>
                  <a:pt x="16917" y="13692"/>
                </a:cubicBezTo>
                <a:cubicBezTo>
                  <a:pt x="16891" y="13692"/>
                  <a:pt x="16830" y="13699"/>
                  <a:pt x="16818" y="13717"/>
                </a:cubicBezTo>
                <a:cubicBezTo>
                  <a:pt x="16818" y="13725"/>
                  <a:pt x="16818" y="13734"/>
                  <a:pt x="16818" y="13742"/>
                </a:cubicBezTo>
              </a:path>
              <a:path w="1712" h="596">
                <a:moveTo>
                  <a:pt x="17289" y="13370"/>
                </a:moveTo>
                <a:cubicBezTo>
                  <a:pt x="17311" y="13363"/>
                  <a:pt x="17404" y="13326"/>
                  <a:pt x="17438" y="13345"/>
                </a:cubicBezTo>
                <a:cubicBezTo>
                  <a:pt x="17462" y="13359"/>
                  <a:pt x="17476" y="13418"/>
                  <a:pt x="17462" y="13444"/>
                </a:cubicBezTo>
                <a:cubicBezTo>
                  <a:pt x="17434" y="13495"/>
                  <a:pt x="17377" y="13511"/>
                  <a:pt x="17363" y="13568"/>
                </a:cubicBezTo>
                <a:cubicBezTo>
                  <a:pt x="17407" y="13568"/>
                  <a:pt x="17476" y="13576"/>
                  <a:pt x="17512" y="13593"/>
                </a:cubicBezTo>
                <a:cubicBezTo>
                  <a:pt x="17520" y="13601"/>
                  <a:pt x="17529" y="13610"/>
                  <a:pt x="17537" y="13618"/>
                </a:cubicBezTo>
                <a:cubicBezTo>
                  <a:pt x="17523" y="13673"/>
                  <a:pt x="17460" y="13730"/>
                  <a:pt x="17413" y="13767"/>
                </a:cubicBezTo>
                <a:cubicBezTo>
                  <a:pt x="17352" y="13814"/>
                  <a:pt x="17297" y="13840"/>
                  <a:pt x="17239" y="13891"/>
                </a:cubicBezTo>
              </a:path>
              <a:path w="1712" h="596">
                <a:moveTo>
                  <a:pt x="17909" y="13618"/>
                </a:moveTo>
                <a:cubicBezTo>
                  <a:pt x="17896" y="13578"/>
                  <a:pt x="17862" y="13572"/>
                  <a:pt x="17810" y="13568"/>
                </a:cubicBezTo>
                <a:cubicBezTo>
                  <a:pt x="17770" y="13565"/>
                  <a:pt x="17729" y="13576"/>
                  <a:pt x="17711" y="13618"/>
                </a:cubicBezTo>
                <a:cubicBezTo>
                  <a:pt x="17688" y="13672"/>
                  <a:pt x="17726" y="13708"/>
                  <a:pt x="17760" y="13742"/>
                </a:cubicBezTo>
                <a:cubicBezTo>
                  <a:pt x="17809" y="13791"/>
                  <a:pt x="17810" y="13795"/>
                  <a:pt x="17810" y="13866"/>
                </a:cubicBezTo>
                <a:cubicBezTo>
                  <a:pt x="17810" y="13914"/>
                  <a:pt x="17767" y="13916"/>
                  <a:pt x="17735" y="13940"/>
                </a:cubicBezTo>
              </a:path>
              <a:path w="1712" h="596">
                <a:moveTo>
                  <a:pt x="17983" y="13469"/>
                </a:moveTo>
                <a:cubicBezTo>
                  <a:pt x="18103" y="13469"/>
                  <a:pt x="18214" y="13457"/>
                  <a:pt x="18331" y="13444"/>
                </a:cubicBezTo>
                <a:cubicBezTo>
                  <a:pt x="18395" y="13437"/>
                  <a:pt x="18464" y="13444"/>
                  <a:pt x="18529" y="134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85040" y="4741920"/>
            <a:ext cx="108000" cy="268200"/>
          </a:xfrm>
          <a:custGeom>
            <a:avLst/>
            <a:gdLst/>
            <a:ahLst/>
            <a:rect l="l" t="t" r="r" b="b"/>
            <a:pathLst>
              <a:path w="299" h="745">
                <a:moveTo>
                  <a:pt x="20811" y="13246"/>
                </a:moveTo>
                <a:cubicBezTo>
                  <a:pt x="20811" y="13204"/>
                  <a:pt x="20811" y="13196"/>
                  <a:pt x="20811" y="13171"/>
                </a:cubicBezTo>
                <a:cubicBezTo>
                  <a:pt x="20735" y="13171"/>
                  <a:pt x="20696" y="13227"/>
                  <a:pt x="20662" y="13295"/>
                </a:cubicBezTo>
                <a:cubicBezTo>
                  <a:pt x="20600" y="13419"/>
                  <a:pt x="20501" y="13602"/>
                  <a:pt x="20513" y="13742"/>
                </a:cubicBezTo>
                <a:cubicBezTo>
                  <a:pt x="20520" y="13825"/>
                  <a:pt x="20556" y="13938"/>
                  <a:pt x="20662" y="13915"/>
                </a:cubicBezTo>
                <a:cubicBezTo>
                  <a:pt x="20730" y="13900"/>
                  <a:pt x="20781" y="13860"/>
                  <a:pt x="20786" y="13791"/>
                </a:cubicBezTo>
                <a:cubicBezTo>
                  <a:pt x="20790" y="13733"/>
                  <a:pt x="20724" y="13677"/>
                  <a:pt x="20662" y="13692"/>
                </a:cubicBezTo>
                <a:cubicBezTo>
                  <a:pt x="20595" y="13708"/>
                  <a:pt x="20574" y="13784"/>
                  <a:pt x="20563" y="138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08960" y="4776840"/>
            <a:ext cx="169920" cy="216000"/>
          </a:xfrm>
          <a:custGeom>
            <a:avLst/>
            <a:gdLst/>
            <a:ahLst/>
            <a:rect l="l" t="t" r="r" b="b"/>
            <a:pathLst>
              <a:path w="472" h="596">
                <a:moveTo>
                  <a:pt x="21208" y="13866"/>
                </a:moveTo>
                <a:cubicBezTo>
                  <a:pt x="21152" y="13866"/>
                  <a:pt x="21147" y="13881"/>
                  <a:pt x="21134" y="13841"/>
                </a:cubicBezTo>
              </a:path>
              <a:path w="472" h="596">
                <a:moveTo>
                  <a:pt x="21605" y="13320"/>
                </a:moveTo>
                <a:cubicBezTo>
                  <a:pt x="21605" y="13295"/>
                  <a:pt x="21605" y="13287"/>
                  <a:pt x="21605" y="13271"/>
                </a:cubicBezTo>
                <a:cubicBezTo>
                  <a:pt x="21568" y="13368"/>
                  <a:pt x="21575" y="13467"/>
                  <a:pt x="21555" y="13568"/>
                </a:cubicBezTo>
                <a:cubicBezTo>
                  <a:pt x="21539" y="13648"/>
                  <a:pt x="21506" y="13708"/>
                  <a:pt x="21506" y="137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85080" y="4795920"/>
            <a:ext cx="768240" cy="276120"/>
          </a:xfrm>
          <a:custGeom>
            <a:avLst/>
            <a:gdLst/>
            <a:ahLst/>
            <a:rect l="l" t="t" r="r" b="b"/>
            <a:pathLst>
              <a:path w="2134" h="770">
                <a:moveTo>
                  <a:pt x="21977" y="13320"/>
                </a:moveTo>
                <a:cubicBezTo>
                  <a:pt x="21931" y="13366"/>
                  <a:pt x="21907" y="13378"/>
                  <a:pt x="21903" y="13444"/>
                </a:cubicBezTo>
                <a:cubicBezTo>
                  <a:pt x="21900" y="13501"/>
                  <a:pt x="21928" y="13583"/>
                  <a:pt x="21977" y="13618"/>
                </a:cubicBezTo>
                <a:cubicBezTo>
                  <a:pt x="22027" y="13643"/>
                  <a:pt x="22043" y="13651"/>
                  <a:pt x="22076" y="13667"/>
                </a:cubicBezTo>
              </a:path>
              <a:path w="2134" h="770">
                <a:moveTo>
                  <a:pt x="22349" y="13395"/>
                </a:moveTo>
                <a:cubicBezTo>
                  <a:pt x="22233" y="13351"/>
                  <a:pt x="22241" y="13393"/>
                  <a:pt x="22175" y="13494"/>
                </a:cubicBezTo>
                <a:cubicBezTo>
                  <a:pt x="22110" y="13594"/>
                  <a:pt x="22068" y="13745"/>
                  <a:pt x="22051" y="13866"/>
                </a:cubicBezTo>
                <a:cubicBezTo>
                  <a:pt x="22051" y="13932"/>
                  <a:pt x="22051" y="13949"/>
                  <a:pt x="22051" y="13990"/>
                </a:cubicBezTo>
              </a:path>
              <a:path w="2134" h="770">
                <a:moveTo>
                  <a:pt x="22572" y="13667"/>
                </a:moveTo>
                <a:cubicBezTo>
                  <a:pt x="22490" y="13709"/>
                  <a:pt x="22453" y="13719"/>
                  <a:pt x="22448" y="13816"/>
                </a:cubicBezTo>
                <a:cubicBezTo>
                  <a:pt x="22444" y="13895"/>
                  <a:pt x="22463" y="13957"/>
                  <a:pt x="22547" y="13990"/>
                </a:cubicBezTo>
                <a:cubicBezTo>
                  <a:pt x="22597" y="13990"/>
                  <a:pt x="22614" y="13990"/>
                  <a:pt x="22647" y="13990"/>
                </a:cubicBezTo>
              </a:path>
              <a:path w="2134" h="770">
                <a:moveTo>
                  <a:pt x="22547" y="13866"/>
                </a:moveTo>
                <a:cubicBezTo>
                  <a:pt x="22489" y="13866"/>
                  <a:pt x="22481" y="13866"/>
                  <a:pt x="22448" y="13866"/>
                </a:cubicBezTo>
                <a:cubicBezTo>
                  <a:pt x="22511" y="13828"/>
                  <a:pt x="22595" y="13814"/>
                  <a:pt x="22671" y="13791"/>
                </a:cubicBezTo>
                <a:cubicBezTo>
                  <a:pt x="22696" y="13783"/>
                  <a:pt x="22721" y="13775"/>
                  <a:pt x="22746" y="13767"/>
                </a:cubicBezTo>
              </a:path>
              <a:path w="2134" h="770">
                <a:moveTo>
                  <a:pt x="22622" y="13494"/>
                </a:moveTo>
                <a:cubicBezTo>
                  <a:pt x="22614" y="13486"/>
                  <a:pt x="22605" y="13477"/>
                  <a:pt x="22597" y="13469"/>
                </a:cubicBezTo>
                <a:cubicBezTo>
                  <a:pt x="22647" y="13439"/>
                  <a:pt x="22732" y="13407"/>
                  <a:pt x="22796" y="13395"/>
                </a:cubicBezTo>
                <a:cubicBezTo>
                  <a:pt x="22812" y="13395"/>
                  <a:pt x="22829" y="13395"/>
                  <a:pt x="22845" y="13395"/>
                </a:cubicBezTo>
              </a:path>
              <a:path w="2134" h="770">
                <a:moveTo>
                  <a:pt x="23068" y="13717"/>
                </a:moveTo>
                <a:cubicBezTo>
                  <a:pt x="23068" y="13734"/>
                  <a:pt x="23068" y="13750"/>
                  <a:pt x="23068" y="13767"/>
                </a:cubicBezTo>
                <a:cubicBezTo>
                  <a:pt x="23150" y="13767"/>
                  <a:pt x="23212" y="13764"/>
                  <a:pt x="23292" y="13742"/>
                </a:cubicBezTo>
              </a:path>
              <a:path w="2134" h="770">
                <a:moveTo>
                  <a:pt x="23738" y="13692"/>
                </a:moveTo>
                <a:cubicBezTo>
                  <a:pt x="23672" y="13635"/>
                  <a:pt x="23651" y="13618"/>
                  <a:pt x="23564" y="13618"/>
                </a:cubicBezTo>
                <a:cubicBezTo>
                  <a:pt x="23512" y="13618"/>
                  <a:pt x="23493" y="13671"/>
                  <a:pt x="23490" y="13717"/>
                </a:cubicBezTo>
                <a:cubicBezTo>
                  <a:pt x="23485" y="13795"/>
                  <a:pt x="23548" y="13850"/>
                  <a:pt x="23564" y="13915"/>
                </a:cubicBezTo>
                <a:cubicBezTo>
                  <a:pt x="23583" y="13992"/>
                  <a:pt x="23538" y="14060"/>
                  <a:pt x="23465" y="14089"/>
                </a:cubicBezTo>
                <a:cubicBezTo>
                  <a:pt x="23449" y="14089"/>
                  <a:pt x="23432" y="14089"/>
                  <a:pt x="23416" y="14089"/>
                </a:cubicBezTo>
              </a:path>
              <a:path w="2134" h="770">
                <a:moveTo>
                  <a:pt x="23614" y="13717"/>
                </a:moveTo>
                <a:cubicBezTo>
                  <a:pt x="23755" y="13717"/>
                  <a:pt x="23895" y="13717"/>
                  <a:pt x="24036" y="137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9920" y="758880"/>
            <a:ext cx="1017360" cy="357120"/>
          </a:xfrm>
          <a:custGeom>
            <a:avLst/>
            <a:gdLst/>
            <a:ahLst/>
            <a:rect l="l" t="t" r="r" b="b"/>
            <a:pathLst>
              <a:path w="2828" h="994">
                <a:moveTo>
                  <a:pt x="4167" y="2133"/>
                </a:moveTo>
                <a:cubicBezTo>
                  <a:pt x="4120" y="2098"/>
                  <a:pt x="4092" y="2116"/>
                  <a:pt x="4043" y="2158"/>
                </a:cubicBezTo>
                <a:cubicBezTo>
                  <a:pt x="3907" y="2275"/>
                  <a:pt x="3840" y="2468"/>
                  <a:pt x="3770" y="2629"/>
                </a:cubicBezTo>
                <a:cubicBezTo>
                  <a:pt x="3715" y="2754"/>
                  <a:pt x="3696" y="2838"/>
                  <a:pt x="3770" y="2952"/>
                </a:cubicBezTo>
                <a:cubicBezTo>
                  <a:pt x="3896" y="2931"/>
                  <a:pt x="3979" y="2877"/>
                  <a:pt x="4043" y="2753"/>
                </a:cubicBezTo>
                <a:cubicBezTo>
                  <a:pt x="4085" y="2672"/>
                  <a:pt x="4067" y="2678"/>
                  <a:pt x="4018" y="2629"/>
                </a:cubicBezTo>
                <a:cubicBezTo>
                  <a:pt x="3884" y="2685"/>
                  <a:pt x="3809" y="2741"/>
                  <a:pt x="3746" y="2877"/>
                </a:cubicBezTo>
                <a:cubicBezTo>
                  <a:pt x="3724" y="2944"/>
                  <a:pt x="3712" y="2962"/>
                  <a:pt x="3746" y="3001"/>
                </a:cubicBezTo>
              </a:path>
              <a:path w="2828" h="994">
                <a:moveTo>
                  <a:pt x="4440" y="2828"/>
                </a:moveTo>
                <a:cubicBezTo>
                  <a:pt x="4448" y="2828"/>
                  <a:pt x="4457" y="2828"/>
                  <a:pt x="4465" y="2828"/>
                </a:cubicBezTo>
              </a:path>
              <a:path w="2828" h="994">
                <a:moveTo>
                  <a:pt x="5035" y="2133"/>
                </a:moveTo>
                <a:cubicBezTo>
                  <a:pt x="5025" y="2254"/>
                  <a:pt x="4978" y="2320"/>
                  <a:pt x="4936" y="2431"/>
                </a:cubicBezTo>
                <a:cubicBezTo>
                  <a:pt x="4882" y="2572"/>
                  <a:pt x="4831" y="2726"/>
                  <a:pt x="4812" y="2877"/>
                </a:cubicBezTo>
                <a:cubicBezTo>
                  <a:pt x="4812" y="2902"/>
                  <a:pt x="4812" y="2927"/>
                  <a:pt x="4812" y="2952"/>
                </a:cubicBezTo>
              </a:path>
              <a:path w="2828" h="994">
                <a:moveTo>
                  <a:pt x="5606" y="2257"/>
                </a:moveTo>
                <a:cubicBezTo>
                  <a:pt x="5552" y="2268"/>
                  <a:pt x="5477" y="2297"/>
                  <a:pt x="5432" y="2332"/>
                </a:cubicBezTo>
                <a:cubicBezTo>
                  <a:pt x="5389" y="2366"/>
                  <a:pt x="5278" y="2436"/>
                  <a:pt x="5283" y="2505"/>
                </a:cubicBezTo>
                <a:cubicBezTo>
                  <a:pt x="5288" y="2573"/>
                  <a:pt x="5364" y="2589"/>
                  <a:pt x="5407" y="2604"/>
                </a:cubicBezTo>
                <a:cubicBezTo>
                  <a:pt x="5489" y="2633"/>
                  <a:pt x="5503" y="2704"/>
                  <a:pt x="5507" y="2778"/>
                </a:cubicBezTo>
                <a:cubicBezTo>
                  <a:pt x="5510" y="2842"/>
                  <a:pt x="5493" y="2905"/>
                  <a:pt x="5457" y="2952"/>
                </a:cubicBezTo>
              </a:path>
              <a:path w="2828" h="994">
                <a:moveTo>
                  <a:pt x="5507" y="2282"/>
                </a:moveTo>
                <a:cubicBezTo>
                  <a:pt x="5463" y="2337"/>
                  <a:pt x="5425" y="2399"/>
                  <a:pt x="5383" y="2456"/>
                </a:cubicBezTo>
                <a:cubicBezTo>
                  <a:pt x="5331" y="2526"/>
                  <a:pt x="5301" y="2604"/>
                  <a:pt x="5259" y="2679"/>
                </a:cubicBezTo>
                <a:cubicBezTo>
                  <a:pt x="5341" y="2679"/>
                  <a:pt x="5404" y="2663"/>
                  <a:pt x="5482" y="2654"/>
                </a:cubicBezTo>
                <a:cubicBezTo>
                  <a:pt x="5554" y="2646"/>
                  <a:pt x="5633" y="2654"/>
                  <a:pt x="5705" y="2654"/>
                </a:cubicBezTo>
              </a:path>
              <a:path w="2828" h="994">
                <a:moveTo>
                  <a:pt x="5904" y="2257"/>
                </a:moveTo>
                <a:cubicBezTo>
                  <a:pt x="5848" y="2313"/>
                  <a:pt x="5798" y="2334"/>
                  <a:pt x="5755" y="2406"/>
                </a:cubicBezTo>
                <a:cubicBezTo>
                  <a:pt x="5684" y="2523"/>
                  <a:pt x="5603" y="2696"/>
                  <a:pt x="5581" y="2828"/>
                </a:cubicBezTo>
                <a:cubicBezTo>
                  <a:pt x="5576" y="2856"/>
                  <a:pt x="5554" y="3081"/>
                  <a:pt x="5606" y="3101"/>
                </a:cubicBezTo>
                <a:cubicBezTo>
                  <a:pt x="5622" y="3101"/>
                  <a:pt x="5639" y="3101"/>
                  <a:pt x="5655" y="3101"/>
                </a:cubicBezTo>
              </a:path>
              <a:path w="2828" h="994">
                <a:moveTo>
                  <a:pt x="6127" y="2604"/>
                </a:moveTo>
                <a:cubicBezTo>
                  <a:pt x="6098" y="2641"/>
                  <a:pt x="6037" y="2704"/>
                  <a:pt x="6028" y="2753"/>
                </a:cubicBezTo>
                <a:cubicBezTo>
                  <a:pt x="6016" y="2819"/>
                  <a:pt x="6049" y="2937"/>
                  <a:pt x="6127" y="2952"/>
                </a:cubicBezTo>
                <a:cubicBezTo>
                  <a:pt x="6217" y="2969"/>
                  <a:pt x="6293" y="2929"/>
                  <a:pt x="6375" y="2902"/>
                </a:cubicBezTo>
              </a:path>
              <a:path w="2828" h="994">
                <a:moveTo>
                  <a:pt x="6201" y="2704"/>
                </a:moveTo>
                <a:cubicBezTo>
                  <a:pt x="6185" y="2704"/>
                  <a:pt x="6168" y="2704"/>
                  <a:pt x="6152" y="2704"/>
                </a:cubicBezTo>
                <a:cubicBezTo>
                  <a:pt x="6170" y="2630"/>
                  <a:pt x="6262" y="2597"/>
                  <a:pt x="6325" y="2555"/>
                </a:cubicBezTo>
                <a:cubicBezTo>
                  <a:pt x="6390" y="2511"/>
                  <a:pt x="6405" y="2500"/>
                  <a:pt x="6449" y="2480"/>
                </a:cubicBezTo>
              </a:path>
              <a:path w="2828" h="994">
                <a:moveTo>
                  <a:pt x="6276" y="2431"/>
                </a:moveTo>
                <a:cubicBezTo>
                  <a:pt x="6234" y="2431"/>
                  <a:pt x="6218" y="2439"/>
                  <a:pt x="6226" y="2406"/>
                </a:cubicBezTo>
                <a:cubicBezTo>
                  <a:pt x="6293" y="2352"/>
                  <a:pt x="6366" y="2308"/>
                  <a:pt x="6449" y="2282"/>
                </a:cubicBezTo>
                <a:cubicBezTo>
                  <a:pt x="6482" y="2274"/>
                  <a:pt x="6515" y="2265"/>
                  <a:pt x="6548" y="22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9920" y="847800"/>
            <a:ext cx="347760" cy="250920"/>
          </a:xfrm>
          <a:custGeom>
            <a:avLst/>
            <a:gdLst/>
            <a:ahLst/>
            <a:rect l="l" t="t" r="r" b="b"/>
            <a:pathLst>
              <a:path w="969" h="696">
                <a:moveTo>
                  <a:pt x="6970" y="2604"/>
                </a:moveTo>
                <a:cubicBezTo>
                  <a:pt x="7013" y="2573"/>
                  <a:pt x="7067" y="2556"/>
                  <a:pt x="7119" y="2530"/>
                </a:cubicBezTo>
                <a:cubicBezTo>
                  <a:pt x="7136" y="2522"/>
                  <a:pt x="7152" y="2513"/>
                  <a:pt x="7169" y="2505"/>
                </a:cubicBezTo>
              </a:path>
              <a:path w="969" h="696">
                <a:moveTo>
                  <a:pt x="7689" y="2356"/>
                </a:moveTo>
                <a:cubicBezTo>
                  <a:pt x="7581" y="2364"/>
                  <a:pt x="7533" y="2379"/>
                  <a:pt x="7441" y="2431"/>
                </a:cubicBezTo>
                <a:cubicBezTo>
                  <a:pt x="7385" y="2463"/>
                  <a:pt x="7372" y="2509"/>
                  <a:pt x="7392" y="2580"/>
                </a:cubicBezTo>
                <a:cubicBezTo>
                  <a:pt x="7416" y="2665"/>
                  <a:pt x="7486" y="2741"/>
                  <a:pt x="7516" y="2828"/>
                </a:cubicBezTo>
                <a:cubicBezTo>
                  <a:pt x="7541" y="2899"/>
                  <a:pt x="7565" y="2974"/>
                  <a:pt x="7491" y="3026"/>
                </a:cubicBezTo>
                <a:cubicBezTo>
                  <a:pt x="7474" y="3034"/>
                  <a:pt x="7458" y="3043"/>
                  <a:pt x="7441" y="3051"/>
                </a:cubicBezTo>
              </a:path>
              <a:path w="969" h="696">
                <a:moveTo>
                  <a:pt x="7516" y="2406"/>
                </a:moveTo>
                <a:cubicBezTo>
                  <a:pt x="7569" y="2393"/>
                  <a:pt x="7601" y="2381"/>
                  <a:pt x="7665" y="2381"/>
                </a:cubicBezTo>
                <a:cubicBezTo>
                  <a:pt x="7757" y="2381"/>
                  <a:pt x="7843" y="2356"/>
                  <a:pt x="7938" y="23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7240" y="973080"/>
            <a:ext cx="187560" cy="115920"/>
          </a:xfrm>
          <a:custGeom>
            <a:avLst/>
            <a:gdLst/>
            <a:ahLst/>
            <a:rect l="l" t="t" r="r" b="b"/>
            <a:pathLst>
              <a:path w="522" h="323">
                <a:moveTo>
                  <a:pt x="8409" y="2778"/>
                </a:moveTo>
                <a:cubicBezTo>
                  <a:pt x="8483" y="2763"/>
                  <a:pt x="8555" y="2715"/>
                  <a:pt x="8632" y="2704"/>
                </a:cubicBezTo>
                <a:cubicBezTo>
                  <a:pt x="8686" y="2696"/>
                  <a:pt x="8751" y="2704"/>
                  <a:pt x="8806" y="2704"/>
                </a:cubicBezTo>
              </a:path>
              <a:path w="522" h="323">
                <a:moveTo>
                  <a:pt x="8582" y="3001"/>
                </a:moveTo>
                <a:cubicBezTo>
                  <a:pt x="8595" y="3027"/>
                  <a:pt x="8673" y="2996"/>
                  <a:pt x="8731" y="2977"/>
                </a:cubicBezTo>
                <a:cubicBezTo>
                  <a:pt x="8803" y="2953"/>
                  <a:pt x="8855" y="2952"/>
                  <a:pt x="8930" y="29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59120" y="803160"/>
            <a:ext cx="162000" cy="179640"/>
          </a:xfrm>
          <a:custGeom>
            <a:avLst/>
            <a:gdLst/>
            <a:ahLst/>
            <a:rect l="l" t="t" r="r" b="b"/>
            <a:pathLst>
              <a:path w="447" h="498">
                <a:moveTo>
                  <a:pt x="10790" y="2232"/>
                </a:moveTo>
                <a:cubicBezTo>
                  <a:pt x="10742" y="2293"/>
                  <a:pt x="10709" y="2365"/>
                  <a:pt x="10666" y="2431"/>
                </a:cubicBezTo>
                <a:cubicBezTo>
                  <a:pt x="10606" y="2522"/>
                  <a:pt x="10530" y="2593"/>
                  <a:pt x="10468" y="2679"/>
                </a:cubicBezTo>
                <a:cubicBezTo>
                  <a:pt x="10460" y="2696"/>
                  <a:pt x="10451" y="2712"/>
                  <a:pt x="10443" y="2729"/>
                </a:cubicBezTo>
              </a:path>
              <a:path w="447" h="498">
                <a:moveTo>
                  <a:pt x="10517" y="2332"/>
                </a:moveTo>
                <a:cubicBezTo>
                  <a:pt x="10559" y="2332"/>
                  <a:pt x="10611" y="2346"/>
                  <a:pt x="10641" y="2381"/>
                </a:cubicBezTo>
                <a:cubicBezTo>
                  <a:pt x="10697" y="2447"/>
                  <a:pt x="10743" y="2524"/>
                  <a:pt x="10815" y="2580"/>
                </a:cubicBezTo>
                <a:cubicBezTo>
                  <a:pt x="10840" y="2596"/>
                  <a:pt x="10864" y="2613"/>
                  <a:pt x="10889" y="26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71960" y="696960"/>
            <a:ext cx="214200" cy="347760"/>
          </a:xfrm>
          <a:custGeom>
            <a:avLst/>
            <a:gdLst/>
            <a:ahLst/>
            <a:rect l="l" t="t" r="r" b="b"/>
            <a:pathLst>
              <a:path w="596" h="968">
                <a:moveTo>
                  <a:pt x="11633" y="1935"/>
                </a:moveTo>
                <a:cubicBezTo>
                  <a:pt x="11565" y="1949"/>
                  <a:pt x="11506" y="1978"/>
                  <a:pt x="11460" y="2034"/>
                </a:cubicBezTo>
                <a:cubicBezTo>
                  <a:pt x="11371" y="2143"/>
                  <a:pt x="11324" y="2293"/>
                  <a:pt x="11311" y="2431"/>
                </a:cubicBezTo>
                <a:cubicBezTo>
                  <a:pt x="11296" y="2589"/>
                  <a:pt x="11352" y="2699"/>
                  <a:pt x="11435" y="2828"/>
                </a:cubicBezTo>
                <a:cubicBezTo>
                  <a:pt x="11452" y="2853"/>
                  <a:pt x="11468" y="2877"/>
                  <a:pt x="11485" y="2902"/>
                </a:cubicBezTo>
              </a:path>
              <a:path w="596" h="968">
                <a:moveTo>
                  <a:pt x="11906" y="2580"/>
                </a:moveTo>
                <a:cubicBezTo>
                  <a:pt x="11906" y="2588"/>
                  <a:pt x="11906" y="2596"/>
                  <a:pt x="11906" y="2604"/>
                </a:cubicBezTo>
                <a:cubicBezTo>
                  <a:pt x="11869" y="2604"/>
                  <a:pt x="11828" y="2611"/>
                  <a:pt x="11881" y="26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29080" y="758880"/>
            <a:ext cx="563760" cy="233280"/>
          </a:xfrm>
          <a:custGeom>
            <a:avLst/>
            <a:gdLst/>
            <a:ahLst/>
            <a:rect l="l" t="t" r="r" b="b"/>
            <a:pathLst>
              <a:path w="1564" h="646">
                <a:moveTo>
                  <a:pt x="12303" y="2133"/>
                </a:moveTo>
                <a:cubicBezTo>
                  <a:pt x="12353" y="2114"/>
                  <a:pt x="12421" y="2089"/>
                  <a:pt x="12477" y="2108"/>
                </a:cubicBezTo>
                <a:cubicBezTo>
                  <a:pt x="12509" y="2119"/>
                  <a:pt x="12556" y="2166"/>
                  <a:pt x="12526" y="2208"/>
                </a:cubicBezTo>
                <a:cubicBezTo>
                  <a:pt x="12495" y="2251"/>
                  <a:pt x="12399" y="2303"/>
                  <a:pt x="12378" y="2332"/>
                </a:cubicBezTo>
                <a:cubicBezTo>
                  <a:pt x="12378" y="2340"/>
                  <a:pt x="12378" y="2348"/>
                  <a:pt x="12378" y="2356"/>
                </a:cubicBezTo>
                <a:cubicBezTo>
                  <a:pt x="12388" y="2387"/>
                  <a:pt x="12438" y="2407"/>
                  <a:pt x="12477" y="2431"/>
                </a:cubicBezTo>
                <a:cubicBezTo>
                  <a:pt x="12535" y="2466"/>
                  <a:pt x="12583" y="2499"/>
                  <a:pt x="12551" y="2580"/>
                </a:cubicBezTo>
                <a:cubicBezTo>
                  <a:pt x="12530" y="2634"/>
                  <a:pt x="12469" y="2688"/>
                  <a:pt x="12427" y="2729"/>
                </a:cubicBezTo>
                <a:cubicBezTo>
                  <a:pt x="12419" y="2737"/>
                  <a:pt x="12410" y="2745"/>
                  <a:pt x="12402" y="2753"/>
                </a:cubicBezTo>
              </a:path>
              <a:path w="1564" h="646">
                <a:moveTo>
                  <a:pt x="13097" y="2307"/>
                </a:moveTo>
                <a:cubicBezTo>
                  <a:pt x="13033" y="2298"/>
                  <a:pt x="12994" y="2282"/>
                  <a:pt x="12923" y="2282"/>
                </a:cubicBezTo>
                <a:cubicBezTo>
                  <a:pt x="12896" y="2282"/>
                  <a:pt x="12810" y="2297"/>
                  <a:pt x="12799" y="2332"/>
                </a:cubicBezTo>
                <a:cubicBezTo>
                  <a:pt x="12785" y="2376"/>
                  <a:pt x="12848" y="2471"/>
                  <a:pt x="12874" y="2505"/>
                </a:cubicBezTo>
                <a:cubicBezTo>
                  <a:pt x="12928" y="2575"/>
                  <a:pt x="12966" y="2613"/>
                  <a:pt x="12973" y="2704"/>
                </a:cubicBezTo>
                <a:cubicBezTo>
                  <a:pt x="12973" y="2732"/>
                  <a:pt x="12971" y="2743"/>
                  <a:pt x="12948" y="2753"/>
                </a:cubicBezTo>
              </a:path>
              <a:path w="1564" h="646">
                <a:moveTo>
                  <a:pt x="12973" y="2232"/>
                </a:moveTo>
                <a:cubicBezTo>
                  <a:pt x="13114" y="2232"/>
                  <a:pt x="13254" y="2232"/>
                  <a:pt x="13395" y="2232"/>
                </a:cubicBezTo>
              </a:path>
              <a:path w="1564" h="646">
                <a:moveTo>
                  <a:pt x="13469" y="2555"/>
                </a:moveTo>
                <a:cubicBezTo>
                  <a:pt x="13559" y="2555"/>
                  <a:pt x="13630" y="2552"/>
                  <a:pt x="13717" y="2530"/>
                </a:cubicBezTo>
                <a:cubicBezTo>
                  <a:pt x="13799" y="2509"/>
                  <a:pt x="13815" y="2501"/>
                  <a:pt x="13866" y="2505"/>
                </a:cubicBezTo>
              </a:path>
              <a:path w="1564" h="646">
                <a:moveTo>
                  <a:pt x="13568" y="2356"/>
                </a:moveTo>
                <a:cubicBezTo>
                  <a:pt x="13625" y="2370"/>
                  <a:pt x="13618" y="2401"/>
                  <a:pt x="13643" y="2456"/>
                </a:cubicBezTo>
                <a:cubicBezTo>
                  <a:pt x="13680" y="2536"/>
                  <a:pt x="13679" y="2620"/>
                  <a:pt x="13717" y="27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53040" y="723960"/>
            <a:ext cx="374760" cy="330120"/>
          </a:xfrm>
          <a:custGeom>
            <a:avLst/>
            <a:gdLst/>
            <a:ahLst/>
            <a:rect l="l" t="t" r="r" b="b"/>
            <a:pathLst>
              <a:path w="1043" h="919">
                <a:moveTo>
                  <a:pt x="14635" y="2332"/>
                </a:moveTo>
                <a:cubicBezTo>
                  <a:pt x="14593" y="2373"/>
                  <a:pt x="14552" y="2415"/>
                  <a:pt x="14511" y="2456"/>
                </a:cubicBezTo>
                <a:cubicBezTo>
                  <a:pt x="14462" y="2505"/>
                  <a:pt x="14442" y="2542"/>
                  <a:pt x="14412" y="2604"/>
                </a:cubicBezTo>
              </a:path>
              <a:path w="1043" h="919">
                <a:moveTo>
                  <a:pt x="14312" y="2332"/>
                </a:moveTo>
                <a:cubicBezTo>
                  <a:pt x="14352" y="2401"/>
                  <a:pt x="14404" y="2448"/>
                  <a:pt x="14461" y="2505"/>
                </a:cubicBezTo>
                <a:cubicBezTo>
                  <a:pt x="14563" y="2607"/>
                  <a:pt x="14650" y="2659"/>
                  <a:pt x="14784" y="2704"/>
                </a:cubicBezTo>
              </a:path>
              <a:path w="1043" h="919">
                <a:moveTo>
                  <a:pt x="15056" y="2009"/>
                </a:moveTo>
                <a:cubicBezTo>
                  <a:pt x="15129" y="2081"/>
                  <a:pt x="15197" y="2147"/>
                  <a:pt x="15255" y="2232"/>
                </a:cubicBezTo>
                <a:cubicBezTo>
                  <a:pt x="15319" y="2325"/>
                  <a:pt x="15368" y="2464"/>
                  <a:pt x="15354" y="2580"/>
                </a:cubicBezTo>
                <a:cubicBezTo>
                  <a:pt x="15336" y="2725"/>
                  <a:pt x="15225" y="2826"/>
                  <a:pt x="15131" y="29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19680" y="1251000"/>
            <a:ext cx="241200" cy="338040"/>
          </a:xfrm>
          <a:custGeom>
            <a:avLst/>
            <a:gdLst/>
            <a:ahLst/>
            <a:rect l="l" t="t" r="r" b="b"/>
            <a:pathLst>
              <a:path w="671" h="943">
                <a:moveTo>
                  <a:pt x="11212" y="3497"/>
                </a:moveTo>
                <a:cubicBezTo>
                  <a:pt x="11160" y="3472"/>
                  <a:pt x="11073" y="3560"/>
                  <a:pt x="11038" y="3621"/>
                </a:cubicBezTo>
                <a:cubicBezTo>
                  <a:pt x="10952" y="3768"/>
                  <a:pt x="10897" y="3952"/>
                  <a:pt x="10889" y="4118"/>
                </a:cubicBezTo>
                <a:cubicBezTo>
                  <a:pt x="10881" y="4277"/>
                  <a:pt x="10917" y="4328"/>
                  <a:pt x="11038" y="4415"/>
                </a:cubicBezTo>
              </a:path>
              <a:path w="671" h="943">
                <a:moveTo>
                  <a:pt x="11559" y="4167"/>
                </a:moveTo>
                <a:cubicBezTo>
                  <a:pt x="11519" y="4147"/>
                  <a:pt x="11512" y="4138"/>
                  <a:pt x="11485" y="41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76800" y="1312920"/>
            <a:ext cx="519120" cy="223920"/>
          </a:xfrm>
          <a:custGeom>
            <a:avLst/>
            <a:gdLst/>
            <a:ahLst/>
            <a:rect l="l" t="t" r="r" b="b"/>
            <a:pathLst>
              <a:path w="1440" h="621">
                <a:moveTo>
                  <a:pt x="11881" y="3671"/>
                </a:moveTo>
                <a:cubicBezTo>
                  <a:pt x="11931" y="3688"/>
                  <a:pt x="11883" y="3739"/>
                  <a:pt x="11881" y="3795"/>
                </a:cubicBezTo>
                <a:cubicBezTo>
                  <a:pt x="11876" y="3905"/>
                  <a:pt x="11903" y="4036"/>
                  <a:pt x="11931" y="4142"/>
                </a:cubicBezTo>
                <a:cubicBezTo>
                  <a:pt x="11953" y="4209"/>
                  <a:pt x="11958" y="4227"/>
                  <a:pt x="11981" y="4266"/>
                </a:cubicBezTo>
              </a:path>
              <a:path w="1440" h="621">
                <a:moveTo>
                  <a:pt x="12452" y="3795"/>
                </a:moveTo>
                <a:cubicBezTo>
                  <a:pt x="12382" y="3774"/>
                  <a:pt x="12349" y="3770"/>
                  <a:pt x="12278" y="3770"/>
                </a:cubicBezTo>
                <a:cubicBezTo>
                  <a:pt x="12278" y="3842"/>
                  <a:pt x="12303" y="3866"/>
                  <a:pt x="12353" y="3919"/>
                </a:cubicBezTo>
                <a:cubicBezTo>
                  <a:pt x="12412" y="3982"/>
                  <a:pt x="12475" y="4032"/>
                  <a:pt x="12502" y="4118"/>
                </a:cubicBezTo>
                <a:cubicBezTo>
                  <a:pt x="12515" y="4159"/>
                  <a:pt x="12474" y="4190"/>
                  <a:pt x="12452" y="4217"/>
                </a:cubicBezTo>
              </a:path>
              <a:path w="1440" h="621">
                <a:moveTo>
                  <a:pt x="12502" y="3671"/>
                </a:moveTo>
                <a:cubicBezTo>
                  <a:pt x="12581" y="3664"/>
                  <a:pt x="12644" y="3646"/>
                  <a:pt x="12725" y="3646"/>
                </a:cubicBezTo>
                <a:cubicBezTo>
                  <a:pt x="12783" y="3646"/>
                  <a:pt x="12808" y="3646"/>
                  <a:pt x="12849" y="3646"/>
                </a:cubicBezTo>
              </a:path>
              <a:path w="1440" h="621">
                <a:moveTo>
                  <a:pt x="13022" y="3994"/>
                </a:moveTo>
                <a:cubicBezTo>
                  <a:pt x="13101" y="3984"/>
                  <a:pt x="13162" y="3969"/>
                  <a:pt x="13246" y="3969"/>
                </a:cubicBezTo>
                <a:cubicBezTo>
                  <a:pt x="13271" y="3969"/>
                  <a:pt x="13295" y="3969"/>
                  <a:pt x="13320" y="39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38840" y="1268280"/>
            <a:ext cx="320400" cy="366840"/>
          </a:xfrm>
          <a:custGeom>
            <a:avLst/>
            <a:gdLst/>
            <a:ahLst/>
            <a:rect l="l" t="t" r="r" b="b"/>
            <a:pathLst>
              <a:path w="894" h="1018">
                <a:moveTo>
                  <a:pt x="14089" y="3870"/>
                </a:moveTo>
                <a:cubicBezTo>
                  <a:pt x="13993" y="3931"/>
                  <a:pt x="13940" y="3961"/>
                  <a:pt x="13866" y="4043"/>
                </a:cubicBezTo>
                <a:cubicBezTo>
                  <a:pt x="13805" y="4110"/>
                  <a:pt x="13779" y="4134"/>
                  <a:pt x="13742" y="4217"/>
                </a:cubicBezTo>
              </a:path>
              <a:path w="894" h="1018">
                <a:moveTo>
                  <a:pt x="13717" y="3894"/>
                </a:moveTo>
                <a:cubicBezTo>
                  <a:pt x="13745" y="3949"/>
                  <a:pt x="13819" y="4010"/>
                  <a:pt x="13866" y="4068"/>
                </a:cubicBezTo>
                <a:cubicBezTo>
                  <a:pt x="13947" y="4168"/>
                  <a:pt x="14010" y="4215"/>
                  <a:pt x="14114" y="4291"/>
                </a:cubicBezTo>
              </a:path>
              <a:path w="894" h="1018">
                <a:moveTo>
                  <a:pt x="14238" y="3522"/>
                </a:moveTo>
                <a:cubicBezTo>
                  <a:pt x="14344" y="3636"/>
                  <a:pt x="14454" y="3760"/>
                  <a:pt x="14536" y="3894"/>
                </a:cubicBezTo>
                <a:cubicBezTo>
                  <a:pt x="14629" y="4047"/>
                  <a:pt x="14625" y="4182"/>
                  <a:pt x="14560" y="4341"/>
                </a:cubicBezTo>
                <a:cubicBezTo>
                  <a:pt x="14507" y="4449"/>
                  <a:pt x="14483" y="4489"/>
                  <a:pt x="14412" y="45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2040" y="1027080"/>
            <a:ext cx="135000" cy="214200"/>
          </a:xfrm>
          <a:custGeom>
            <a:avLst/>
            <a:gdLst/>
            <a:ahLst/>
            <a:rect l="l" t="t" r="r" b="b"/>
            <a:pathLst>
              <a:path w="374" h="596">
                <a:moveTo>
                  <a:pt x="17611" y="2853"/>
                </a:moveTo>
                <a:cubicBezTo>
                  <a:pt x="17531" y="2973"/>
                  <a:pt x="17459" y="3087"/>
                  <a:pt x="17413" y="3225"/>
                </a:cubicBezTo>
                <a:cubicBezTo>
                  <a:pt x="17387" y="3302"/>
                  <a:pt x="17371" y="3373"/>
                  <a:pt x="17338" y="3448"/>
                </a:cubicBezTo>
              </a:path>
              <a:path w="374" h="596">
                <a:moveTo>
                  <a:pt x="17363" y="2977"/>
                </a:moveTo>
                <a:cubicBezTo>
                  <a:pt x="17363" y="2911"/>
                  <a:pt x="17421" y="3101"/>
                  <a:pt x="17438" y="3125"/>
                </a:cubicBezTo>
                <a:cubicBezTo>
                  <a:pt x="17516" y="3231"/>
                  <a:pt x="17603" y="3302"/>
                  <a:pt x="17711" y="33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91160" y="1081080"/>
            <a:ext cx="152640" cy="88920"/>
          </a:xfrm>
          <a:custGeom>
            <a:avLst/>
            <a:gdLst/>
            <a:ahLst/>
            <a:rect l="l" t="t" r="r" b="b"/>
            <a:pathLst>
              <a:path w="423" h="249">
                <a:moveTo>
                  <a:pt x="18033" y="3051"/>
                </a:moveTo>
                <a:cubicBezTo>
                  <a:pt x="18059" y="3012"/>
                  <a:pt x="18075" y="2981"/>
                  <a:pt x="18132" y="3001"/>
                </a:cubicBezTo>
                <a:cubicBezTo>
                  <a:pt x="18186" y="3020"/>
                  <a:pt x="18228" y="3031"/>
                  <a:pt x="18281" y="3051"/>
                </a:cubicBezTo>
              </a:path>
              <a:path w="423" h="249">
                <a:moveTo>
                  <a:pt x="18231" y="3200"/>
                </a:moveTo>
                <a:cubicBezTo>
                  <a:pt x="18206" y="3216"/>
                  <a:pt x="18182" y="3233"/>
                  <a:pt x="18157" y="3249"/>
                </a:cubicBezTo>
                <a:cubicBezTo>
                  <a:pt x="18268" y="3237"/>
                  <a:pt x="18351" y="3217"/>
                  <a:pt x="18455" y="31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23080" y="938160"/>
            <a:ext cx="123840" cy="276120"/>
          </a:xfrm>
          <a:custGeom>
            <a:avLst/>
            <a:gdLst/>
            <a:ahLst/>
            <a:rect l="l" t="t" r="r" b="b"/>
            <a:pathLst>
              <a:path w="348" h="770">
                <a:moveTo>
                  <a:pt x="19100" y="2629"/>
                </a:moveTo>
                <a:cubicBezTo>
                  <a:pt x="19152" y="2616"/>
                  <a:pt x="19178" y="2595"/>
                  <a:pt x="19224" y="2654"/>
                </a:cubicBezTo>
                <a:cubicBezTo>
                  <a:pt x="19320" y="2777"/>
                  <a:pt x="19300" y="2880"/>
                  <a:pt x="19273" y="3026"/>
                </a:cubicBezTo>
                <a:cubicBezTo>
                  <a:pt x="19251" y="3148"/>
                  <a:pt x="19202" y="3313"/>
                  <a:pt x="19075" y="3373"/>
                </a:cubicBezTo>
                <a:cubicBezTo>
                  <a:pt x="19006" y="3405"/>
                  <a:pt x="18977" y="3344"/>
                  <a:pt x="18951" y="3299"/>
                </a:cubicBezTo>
                <a:cubicBezTo>
                  <a:pt x="18961" y="3259"/>
                  <a:pt x="18995" y="3211"/>
                  <a:pt x="19050" y="3225"/>
                </a:cubicBezTo>
                <a:cubicBezTo>
                  <a:pt x="19130" y="3246"/>
                  <a:pt x="19184" y="3307"/>
                  <a:pt x="19248" y="3349"/>
                </a:cubicBezTo>
                <a:cubicBezTo>
                  <a:pt x="19265" y="3357"/>
                  <a:pt x="19281" y="3365"/>
                  <a:pt x="19298" y="33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16840" y="973080"/>
            <a:ext cx="233280" cy="223920"/>
          </a:xfrm>
          <a:custGeom>
            <a:avLst/>
            <a:gdLst/>
            <a:ahLst/>
            <a:rect l="l" t="t" r="r" b="b"/>
            <a:pathLst>
              <a:path w="646" h="621">
                <a:moveTo>
                  <a:pt x="19819" y="3299"/>
                </a:moveTo>
                <a:cubicBezTo>
                  <a:pt x="19794" y="3299"/>
                  <a:pt x="19786" y="3299"/>
                  <a:pt x="19769" y="3299"/>
                </a:cubicBezTo>
              </a:path>
              <a:path w="646" h="621">
                <a:moveTo>
                  <a:pt x="20191" y="2729"/>
                </a:moveTo>
                <a:cubicBezTo>
                  <a:pt x="20170" y="2666"/>
                  <a:pt x="20112" y="2733"/>
                  <a:pt x="20092" y="2778"/>
                </a:cubicBezTo>
                <a:cubicBezTo>
                  <a:pt x="20040" y="2892"/>
                  <a:pt x="20017" y="3032"/>
                  <a:pt x="20067" y="3150"/>
                </a:cubicBezTo>
                <a:cubicBezTo>
                  <a:pt x="20107" y="3244"/>
                  <a:pt x="20205" y="3345"/>
                  <a:pt x="20315" y="3324"/>
                </a:cubicBezTo>
                <a:cubicBezTo>
                  <a:pt x="20389" y="3310"/>
                  <a:pt x="20444" y="3253"/>
                  <a:pt x="20414" y="3175"/>
                </a:cubicBezTo>
                <a:cubicBezTo>
                  <a:pt x="20389" y="3109"/>
                  <a:pt x="20312" y="3115"/>
                  <a:pt x="20265" y="3150"/>
                </a:cubicBezTo>
                <a:cubicBezTo>
                  <a:pt x="20216" y="3186"/>
                  <a:pt x="20202" y="3221"/>
                  <a:pt x="20191" y="32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91240" y="955800"/>
            <a:ext cx="679680" cy="268200"/>
          </a:xfrm>
          <a:custGeom>
            <a:avLst/>
            <a:gdLst/>
            <a:ahLst/>
            <a:rect l="l" t="t" r="r" b="b"/>
            <a:pathLst>
              <a:path w="1886" h="745">
                <a:moveTo>
                  <a:pt x="20886" y="2902"/>
                </a:moveTo>
                <a:cubicBezTo>
                  <a:pt x="20886" y="2832"/>
                  <a:pt x="20861" y="3024"/>
                  <a:pt x="20861" y="3026"/>
                </a:cubicBezTo>
                <a:cubicBezTo>
                  <a:pt x="20852" y="3121"/>
                  <a:pt x="20841" y="3264"/>
                  <a:pt x="20935" y="3324"/>
                </a:cubicBezTo>
                <a:cubicBezTo>
                  <a:pt x="21008" y="3348"/>
                  <a:pt x="21032" y="3357"/>
                  <a:pt x="21084" y="3349"/>
                </a:cubicBezTo>
              </a:path>
              <a:path w="1886" h="745">
                <a:moveTo>
                  <a:pt x="20886" y="3051"/>
                </a:moveTo>
                <a:cubicBezTo>
                  <a:pt x="20861" y="3051"/>
                  <a:pt x="20836" y="3051"/>
                  <a:pt x="20811" y="3051"/>
                </a:cubicBezTo>
                <a:cubicBezTo>
                  <a:pt x="20905" y="2976"/>
                  <a:pt x="20997" y="3020"/>
                  <a:pt x="21109" y="2977"/>
                </a:cubicBezTo>
                <a:cubicBezTo>
                  <a:pt x="21134" y="2960"/>
                  <a:pt x="21158" y="2944"/>
                  <a:pt x="21183" y="2927"/>
                </a:cubicBezTo>
              </a:path>
              <a:path w="1886" h="745">
                <a:moveTo>
                  <a:pt x="21059" y="2753"/>
                </a:moveTo>
                <a:cubicBezTo>
                  <a:pt x="20982" y="2715"/>
                  <a:pt x="20967" y="2716"/>
                  <a:pt x="20935" y="2679"/>
                </a:cubicBezTo>
                <a:cubicBezTo>
                  <a:pt x="21026" y="2649"/>
                  <a:pt x="21110" y="2654"/>
                  <a:pt x="21208" y="2654"/>
                </a:cubicBezTo>
              </a:path>
              <a:path w="1886" h="745">
                <a:moveTo>
                  <a:pt x="21506" y="3076"/>
                </a:moveTo>
                <a:cubicBezTo>
                  <a:pt x="21581" y="3076"/>
                  <a:pt x="21633" y="3080"/>
                  <a:pt x="21704" y="3051"/>
                </a:cubicBezTo>
                <a:cubicBezTo>
                  <a:pt x="21752" y="3027"/>
                  <a:pt x="21766" y="3019"/>
                  <a:pt x="21803" y="3026"/>
                </a:cubicBezTo>
              </a:path>
              <a:path w="1886" h="745">
                <a:moveTo>
                  <a:pt x="22275" y="2853"/>
                </a:moveTo>
                <a:cubicBezTo>
                  <a:pt x="22275" y="2836"/>
                  <a:pt x="22275" y="2820"/>
                  <a:pt x="22275" y="2803"/>
                </a:cubicBezTo>
                <a:cubicBezTo>
                  <a:pt x="22213" y="2803"/>
                  <a:pt x="22156" y="2794"/>
                  <a:pt x="22101" y="2828"/>
                </a:cubicBezTo>
                <a:cubicBezTo>
                  <a:pt x="22030" y="2872"/>
                  <a:pt x="22007" y="2946"/>
                  <a:pt x="22027" y="3026"/>
                </a:cubicBezTo>
                <a:cubicBezTo>
                  <a:pt x="22047" y="3105"/>
                  <a:pt x="22110" y="3138"/>
                  <a:pt x="22151" y="3200"/>
                </a:cubicBezTo>
                <a:cubicBezTo>
                  <a:pt x="22181" y="3245"/>
                  <a:pt x="22230" y="3298"/>
                  <a:pt x="22175" y="3349"/>
                </a:cubicBezTo>
                <a:cubicBezTo>
                  <a:pt x="22126" y="3373"/>
                  <a:pt x="22109" y="3381"/>
                  <a:pt x="22076" y="3398"/>
                </a:cubicBezTo>
              </a:path>
              <a:path w="1886" h="745">
                <a:moveTo>
                  <a:pt x="22200" y="2753"/>
                </a:moveTo>
                <a:cubicBezTo>
                  <a:pt x="22280" y="2753"/>
                  <a:pt x="22349" y="2768"/>
                  <a:pt x="22423" y="2778"/>
                </a:cubicBezTo>
                <a:cubicBezTo>
                  <a:pt x="22515" y="2790"/>
                  <a:pt x="22612" y="2781"/>
                  <a:pt x="22696" y="27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63840" y="1866960"/>
            <a:ext cx="376200" cy="517320"/>
          </a:xfrm>
          <a:custGeom>
            <a:avLst/>
            <a:gdLst/>
            <a:ahLst/>
            <a:rect l="l" t="t" r="r" b="b"/>
            <a:pathLst>
              <a:path w="1043" h="1440">
                <a:moveTo>
                  <a:pt x="7069" y="5606"/>
                </a:moveTo>
                <a:cubicBezTo>
                  <a:pt x="7086" y="5586"/>
                  <a:pt x="7161" y="5511"/>
                  <a:pt x="7169" y="5482"/>
                </a:cubicBezTo>
                <a:cubicBezTo>
                  <a:pt x="7185" y="5426"/>
                  <a:pt x="7213" y="5392"/>
                  <a:pt x="7218" y="5333"/>
                </a:cubicBezTo>
                <a:cubicBezTo>
                  <a:pt x="7218" y="5308"/>
                  <a:pt x="7218" y="5300"/>
                  <a:pt x="7218" y="5283"/>
                </a:cubicBezTo>
                <a:cubicBezTo>
                  <a:pt x="7098" y="5404"/>
                  <a:pt x="6993" y="5549"/>
                  <a:pt x="6921" y="5705"/>
                </a:cubicBezTo>
                <a:cubicBezTo>
                  <a:pt x="6872" y="5810"/>
                  <a:pt x="6775" y="6066"/>
                  <a:pt x="6896" y="6152"/>
                </a:cubicBezTo>
                <a:cubicBezTo>
                  <a:pt x="7007" y="6231"/>
                  <a:pt x="7156" y="6149"/>
                  <a:pt x="7243" y="6077"/>
                </a:cubicBezTo>
                <a:cubicBezTo>
                  <a:pt x="7332" y="6004"/>
                  <a:pt x="7340" y="5994"/>
                  <a:pt x="7317" y="5904"/>
                </a:cubicBezTo>
                <a:cubicBezTo>
                  <a:pt x="7206" y="5928"/>
                  <a:pt x="7047" y="6010"/>
                  <a:pt x="6970" y="6102"/>
                </a:cubicBezTo>
                <a:cubicBezTo>
                  <a:pt x="6895" y="6191"/>
                  <a:pt x="6893" y="6223"/>
                  <a:pt x="6945" y="6276"/>
                </a:cubicBezTo>
              </a:path>
              <a:path w="1043" h="1440">
                <a:moveTo>
                  <a:pt x="7689" y="6077"/>
                </a:moveTo>
                <a:cubicBezTo>
                  <a:pt x="7635" y="6158"/>
                  <a:pt x="7515" y="6304"/>
                  <a:pt x="7491" y="6400"/>
                </a:cubicBezTo>
                <a:cubicBezTo>
                  <a:pt x="7473" y="6473"/>
                  <a:pt x="7467" y="6605"/>
                  <a:pt x="7565" y="6623"/>
                </a:cubicBezTo>
                <a:cubicBezTo>
                  <a:pt x="7682" y="6644"/>
                  <a:pt x="7785" y="6547"/>
                  <a:pt x="7863" y="6474"/>
                </a:cubicBezTo>
                <a:cubicBezTo>
                  <a:pt x="7888" y="6449"/>
                  <a:pt x="7896" y="6441"/>
                  <a:pt x="7863" y="6424"/>
                </a:cubicBezTo>
                <a:cubicBezTo>
                  <a:pt x="7766" y="6446"/>
                  <a:pt x="7681" y="6498"/>
                  <a:pt x="7590" y="6548"/>
                </a:cubicBezTo>
                <a:cubicBezTo>
                  <a:pt x="7574" y="6556"/>
                  <a:pt x="7557" y="6565"/>
                  <a:pt x="7541" y="6573"/>
                </a:cubicBezTo>
              </a:path>
              <a:path w="1043" h="1440">
                <a:moveTo>
                  <a:pt x="7193" y="5234"/>
                </a:moveTo>
                <a:cubicBezTo>
                  <a:pt x="7270" y="5211"/>
                  <a:pt x="7285" y="5191"/>
                  <a:pt x="7317" y="5234"/>
                </a:cubicBezTo>
                <a:cubicBezTo>
                  <a:pt x="7325" y="5242"/>
                  <a:pt x="7334" y="5251"/>
                  <a:pt x="7342" y="5259"/>
                </a:cubicBezTo>
                <a:cubicBezTo>
                  <a:pt x="7342" y="5227"/>
                  <a:pt x="7334" y="5193"/>
                  <a:pt x="7317" y="5184"/>
                </a:cubicBezTo>
                <a:cubicBezTo>
                  <a:pt x="7268" y="5158"/>
                  <a:pt x="7221" y="5208"/>
                  <a:pt x="7193" y="5234"/>
                </a:cubicBezTo>
                <a:cubicBezTo>
                  <a:pt x="7108" y="5314"/>
                  <a:pt x="7053" y="5445"/>
                  <a:pt x="7020" y="5556"/>
                </a:cubicBezTo>
                <a:cubicBezTo>
                  <a:pt x="6972" y="5719"/>
                  <a:pt x="6979" y="5842"/>
                  <a:pt x="6995" y="6003"/>
                </a:cubicBezTo>
                <a:cubicBezTo>
                  <a:pt x="7001" y="6061"/>
                  <a:pt x="7025" y="6169"/>
                  <a:pt x="7094" y="6176"/>
                </a:cubicBezTo>
                <a:cubicBezTo>
                  <a:pt x="7160" y="6176"/>
                  <a:pt x="7177" y="6176"/>
                  <a:pt x="7218" y="6176"/>
                </a:cubicBezTo>
              </a:path>
              <a:path w="1043" h="1440">
                <a:moveTo>
                  <a:pt x="7367" y="5333"/>
                </a:moveTo>
                <a:cubicBezTo>
                  <a:pt x="7380" y="5386"/>
                  <a:pt x="7404" y="5382"/>
                  <a:pt x="7441" y="5407"/>
                </a:cubicBezTo>
                <a:cubicBezTo>
                  <a:pt x="7478" y="5432"/>
                  <a:pt x="7505" y="5424"/>
                  <a:pt x="7516" y="5457"/>
                </a:cubicBezTo>
                <a:cubicBezTo>
                  <a:pt x="7488" y="5448"/>
                  <a:pt x="7471" y="5423"/>
                  <a:pt x="7466" y="5383"/>
                </a:cubicBezTo>
                <a:cubicBezTo>
                  <a:pt x="7462" y="5347"/>
                  <a:pt x="7483" y="5391"/>
                  <a:pt x="7516" y="5407"/>
                </a:cubicBezTo>
                <a:cubicBezTo>
                  <a:pt x="7524" y="5407"/>
                  <a:pt x="7533" y="5407"/>
                  <a:pt x="7541" y="5407"/>
                </a:cubicBezTo>
                <a:cubicBezTo>
                  <a:pt x="7516" y="5407"/>
                  <a:pt x="7453" y="5400"/>
                  <a:pt x="7441" y="5383"/>
                </a:cubicBezTo>
                <a:cubicBezTo>
                  <a:pt x="7430" y="5366"/>
                  <a:pt x="7380" y="5337"/>
                  <a:pt x="7342" y="5358"/>
                </a:cubicBezTo>
                <a:cubicBezTo>
                  <a:pt x="7302" y="5380"/>
                  <a:pt x="7214" y="5446"/>
                  <a:pt x="7193" y="5482"/>
                </a:cubicBezTo>
                <a:cubicBezTo>
                  <a:pt x="7136" y="5580"/>
                  <a:pt x="7115" y="5701"/>
                  <a:pt x="7094" y="5804"/>
                </a:cubicBezTo>
                <a:cubicBezTo>
                  <a:pt x="7076" y="5894"/>
                  <a:pt x="7041" y="5992"/>
                  <a:pt x="7094" y="6077"/>
                </a:cubicBezTo>
                <a:cubicBezTo>
                  <a:pt x="7148" y="6165"/>
                  <a:pt x="7265" y="6070"/>
                  <a:pt x="7317" y="6052"/>
                </a:cubicBezTo>
                <a:cubicBezTo>
                  <a:pt x="7412" y="6019"/>
                  <a:pt x="7495" y="5958"/>
                  <a:pt x="7590" y="5928"/>
                </a:cubicBezTo>
                <a:cubicBezTo>
                  <a:pt x="7598" y="5928"/>
                  <a:pt x="7607" y="5928"/>
                  <a:pt x="7615" y="59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90880" y="2187720"/>
            <a:ext cx="268200" cy="54000"/>
          </a:xfrm>
          <a:custGeom>
            <a:avLst/>
            <a:gdLst/>
            <a:ahLst/>
            <a:rect l="l" t="t" r="r" b="b"/>
            <a:pathLst>
              <a:path w="745" h="150">
                <a:moveTo>
                  <a:pt x="8384" y="6176"/>
                </a:moveTo>
                <a:cubicBezTo>
                  <a:pt x="8337" y="6217"/>
                  <a:pt x="8327" y="6254"/>
                  <a:pt x="8310" y="6201"/>
                </a:cubicBezTo>
              </a:path>
              <a:path w="745" h="150">
                <a:moveTo>
                  <a:pt x="8533" y="6102"/>
                </a:moveTo>
                <a:cubicBezTo>
                  <a:pt x="8493" y="6161"/>
                  <a:pt x="8463" y="6198"/>
                  <a:pt x="8508" y="6152"/>
                </a:cubicBezTo>
              </a:path>
              <a:path w="745" h="150">
                <a:moveTo>
                  <a:pt x="8806" y="6102"/>
                </a:moveTo>
                <a:cubicBezTo>
                  <a:pt x="8806" y="6168"/>
                  <a:pt x="8798" y="6192"/>
                  <a:pt x="8855" y="6176"/>
                </a:cubicBezTo>
              </a:path>
              <a:path w="745" h="150">
                <a:moveTo>
                  <a:pt x="9054" y="6077"/>
                </a:moveTo>
                <a:cubicBezTo>
                  <a:pt x="9020" y="6127"/>
                  <a:pt x="8999" y="6127"/>
                  <a:pt x="9029" y="61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37000" y="2054160"/>
            <a:ext cx="222120" cy="115920"/>
          </a:xfrm>
          <a:custGeom>
            <a:avLst/>
            <a:gdLst/>
            <a:ahLst/>
            <a:rect l="l" t="t" r="r" b="b"/>
            <a:pathLst>
              <a:path w="621" h="324">
                <a:moveTo>
                  <a:pt x="9823" y="5705"/>
                </a:moveTo>
                <a:cubicBezTo>
                  <a:pt x="9897" y="5705"/>
                  <a:pt x="9972" y="5705"/>
                  <a:pt x="10046" y="5705"/>
                </a:cubicBezTo>
              </a:path>
              <a:path w="621" h="324">
                <a:moveTo>
                  <a:pt x="10170" y="5978"/>
                </a:moveTo>
                <a:cubicBezTo>
                  <a:pt x="10162" y="5995"/>
                  <a:pt x="10153" y="6011"/>
                  <a:pt x="10145" y="6028"/>
                </a:cubicBezTo>
                <a:cubicBezTo>
                  <a:pt x="10214" y="6028"/>
                  <a:pt x="10254" y="6026"/>
                  <a:pt x="10319" y="6003"/>
                </a:cubicBezTo>
                <a:cubicBezTo>
                  <a:pt x="10384" y="5981"/>
                  <a:pt x="10399" y="5973"/>
                  <a:pt x="10443" y="59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87880" y="1938240"/>
            <a:ext cx="795240" cy="285840"/>
          </a:xfrm>
          <a:custGeom>
            <a:avLst/>
            <a:gdLst/>
            <a:ahLst/>
            <a:rect l="l" t="t" r="r" b="b"/>
            <a:pathLst>
              <a:path w="2209" h="794">
                <a:moveTo>
                  <a:pt x="11658" y="5879"/>
                </a:moveTo>
                <a:cubicBezTo>
                  <a:pt x="11638" y="5919"/>
                  <a:pt x="11629" y="5925"/>
                  <a:pt x="11633" y="5953"/>
                </a:cubicBezTo>
                <a:cubicBezTo>
                  <a:pt x="11667" y="5964"/>
                  <a:pt x="11667" y="6001"/>
                  <a:pt x="11683" y="5953"/>
                </a:cubicBezTo>
              </a:path>
              <a:path w="2209" h="794">
                <a:moveTo>
                  <a:pt x="11981" y="5407"/>
                </a:moveTo>
                <a:cubicBezTo>
                  <a:pt x="12019" y="5391"/>
                  <a:pt x="12084" y="5365"/>
                  <a:pt x="12129" y="5383"/>
                </a:cubicBezTo>
                <a:cubicBezTo>
                  <a:pt x="12172" y="5400"/>
                  <a:pt x="12214" y="5463"/>
                  <a:pt x="12204" y="5507"/>
                </a:cubicBezTo>
                <a:cubicBezTo>
                  <a:pt x="12190" y="5566"/>
                  <a:pt x="12122" y="5624"/>
                  <a:pt x="12105" y="5655"/>
                </a:cubicBezTo>
                <a:cubicBezTo>
                  <a:pt x="12105" y="5663"/>
                  <a:pt x="12105" y="5672"/>
                  <a:pt x="12105" y="5680"/>
                </a:cubicBezTo>
                <a:cubicBezTo>
                  <a:pt x="12164" y="5680"/>
                  <a:pt x="12183" y="5679"/>
                  <a:pt x="12229" y="5705"/>
                </a:cubicBezTo>
                <a:cubicBezTo>
                  <a:pt x="12294" y="5743"/>
                  <a:pt x="12294" y="5799"/>
                  <a:pt x="12278" y="5879"/>
                </a:cubicBezTo>
                <a:cubicBezTo>
                  <a:pt x="12256" y="5986"/>
                  <a:pt x="12176" y="6040"/>
                  <a:pt x="12129" y="6127"/>
                </a:cubicBezTo>
                <a:cubicBezTo>
                  <a:pt x="12129" y="6135"/>
                  <a:pt x="12129" y="6144"/>
                  <a:pt x="12129" y="6152"/>
                </a:cubicBezTo>
              </a:path>
              <a:path w="2209" h="794">
                <a:moveTo>
                  <a:pt x="12824" y="5531"/>
                </a:moveTo>
                <a:cubicBezTo>
                  <a:pt x="12738" y="5531"/>
                  <a:pt x="12682" y="5546"/>
                  <a:pt x="12601" y="5581"/>
                </a:cubicBezTo>
                <a:cubicBezTo>
                  <a:pt x="12558" y="5600"/>
                  <a:pt x="12451" y="5666"/>
                  <a:pt x="12477" y="5730"/>
                </a:cubicBezTo>
                <a:cubicBezTo>
                  <a:pt x="12497" y="5781"/>
                  <a:pt x="12583" y="5807"/>
                  <a:pt x="12626" y="5829"/>
                </a:cubicBezTo>
                <a:cubicBezTo>
                  <a:pt x="12688" y="5860"/>
                  <a:pt x="12748" y="5898"/>
                  <a:pt x="12725" y="5978"/>
                </a:cubicBezTo>
                <a:cubicBezTo>
                  <a:pt x="12703" y="6054"/>
                  <a:pt x="12642" y="6112"/>
                  <a:pt x="12601" y="6176"/>
                </a:cubicBezTo>
              </a:path>
              <a:path w="2209" h="794">
                <a:moveTo>
                  <a:pt x="12700" y="5457"/>
                </a:moveTo>
                <a:cubicBezTo>
                  <a:pt x="12713" y="5497"/>
                  <a:pt x="12748" y="5482"/>
                  <a:pt x="12799" y="5482"/>
                </a:cubicBezTo>
                <a:cubicBezTo>
                  <a:pt x="12931" y="5482"/>
                  <a:pt x="13042" y="5459"/>
                  <a:pt x="13171" y="5432"/>
                </a:cubicBezTo>
              </a:path>
              <a:path w="2209" h="794">
                <a:moveTo>
                  <a:pt x="13444" y="5804"/>
                </a:moveTo>
                <a:cubicBezTo>
                  <a:pt x="13457" y="5844"/>
                  <a:pt x="13492" y="5829"/>
                  <a:pt x="13543" y="5829"/>
                </a:cubicBezTo>
                <a:cubicBezTo>
                  <a:pt x="13652" y="5829"/>
                  <a:pt x="13742" y="5798"/>
                  <a:pt x="13841" y="5755"/>
                </a:cubicBezTo>
              </a:path>
              <a:path w="2209" h="794">
                <a:moveTo>
                  <a:pt x="13791" y="5531"/>
                </a:moveTo>
                <a:cubicBezTo>
                  <a:pt x="13791" y="5690"/>
                  <a:pt x="13756" y="5877"/>
                  <a:pt x="13841" y="60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14960" y="1919160"/>
            <a:ext cx="901800" cy="243000"/>
          </a:xfrm>
          <a:custGeom>
            <a:avLst/>
            <a:gdLst/>
            <a:ahLst/>
            <a:rect l="l" t="t" r="r" b="b"/>
            <a:pathLst>
              <a:path w="2506" h="671">
                <a:moveTo>
                  <a:pt x="14511" y="5482"/>
                </a:moveTo>
                <a:cubicBezTo>
                  <a:pt x="14463" y="5482"/>
                  <a:pt x="14553" y="5512"/>
                  <a:pt x="14585" y="5531"/>
                </a:cubicBezTo>
                <a:cubicBezTo>
                  <a:pt x="14642" y="5565"/>
                  <a:pt x="14700" y="5628"/>
                  <a:pt x="14684" y="5705"/>
                </a:cubicBezTo>
                <a:cubicBezTo>
                  <a:pt x="14670" y="5773"/>
                  <a:pt x="14626" y="5870"/>
                  <a:pt x="14585" y="5928"/>
                </a:cubicBezTo>
                <a:cubicBezTo>
                  <a:pt x="14562" y="5951"/>
                  <a:pt x="14554" y="5955"/>
                  <a:pt x="14560" y="5978"/>
                </a:cubicBezTo>
                <a:cubicBezTo>
                  <a:pt x="14630" y="6020"/>
                  <a:pt x="14678" y="6000"/>
                  <a:pt x="14759" y="5978"/>
                </a:cubicBezTo>
              </a:path>
              <a:path w="2506" h="671">
                <a:moveTo>
                  <a:pt x="15106" y="5953"/>
                </a:moveTo>
                <a:cubicBezTo>
                  <a:pt x="15083" y="5976"/>
                  <a:pt x="15075" y="5987"/>
                  <a:pt x="15081" y="5953"/>
                </a:cubicBezTo>
              </a:path>
              <a:path w="2506" h="671">
                <a:moveTo>
                  <a:pt x="15503" y="5358"/>
                </a:moveTo>
                <a:cubicBezTo>
                  <a:pt x="15393" y="5358"/>
                  <a:pt x="15393" y="5349"/>
                  <a:pt x="15354" y="5457"/>
                </a:cubicBezTo>
                <a:cubicBezTo>
                  <a:pt x="15302" y="5599"/>
                  <a:pt x="15283" y="5692"/>
                  <a:pt x="15354" y="5829"/>
                </a:cubicBezTo>
                <a:cubicBezTo>
                  <a:pt x="15424" y="5965"/>
                  <a:pt x="15508" y="6014"/>
                  <a:pt x="15652" y="5978"/>
                </a:cubicBezTo>
                <a:cubicBezTo>
                  <a:pt x="15720" y="5961"/>
                  <a:pt x="15802" y="5888"/>
                  <a:pt x="15776" y="5804"/>
                </a:cubicBezTo>
                <a:cubicBezTo>
                  <a:pt x="15754" y="5732"/>
                  <a:pt x="15647" y="5751"/>
                  <a:pt x="15602" y="5779"/>
                </a:cubicBezTo>
                <a:cubicBezTo>
                  <a:pt x="15526" y="5826"/>
                  <a:pt x="15488" y="5896"/>
                  <a:pt x="15478" y="5978"/>
                </a:cubicBezTo>
              </a:path>
              <a:path w="2506" h="671">
                <a:moveTo>
                  <a:pt x="16247" y="5655"/>
                </a:moveTo>
                <a:cubicBezTo>
                  <a:pt x="16200" y="5689"/>
                  <a:pt x="16095" y="5754"/>
                  <a:pt x="16098" y="5829"/>
                </a:cubicBezTo>
                <a:cubicBezTo>
                  <a:pt x="16102" y="5929"/>
                  <a:pt x="16179" y="5991"/>
                  <a:pt x="16272" y="6003"/>
                </a:cubicBezTo>
                <a:cubicBezTo>
                  <a:pt x="16363" y="6003"/>
                  <a:pt x="16388" y="6003"/>
                  <a:pt x="16446" y="6003"/>
                </a:cubicBezTo>
              </a:path>
              <a:path w="2506" h="671">
                <a:moveTo>
                  <a:pt x="16222" y="5779"/>
                </a:moveTo>
                <a:cubicBezTo>
                  <a:pt x="16214" y="5771"/>
                  <a:pt x="16205" y="5763"/>
                  <a:pt x="16197" y="5755"/>
                </a:cubicBezTo>
                <a:cubicBezTo>
                  <a:pt x="16264" y="5701"/>
                  <a:pt x="16339" y="5682"/>
                  <a:pt x="16421" y="5655"/>
                </a:cubicBezTo>
              </a:path>
              <a:path w="2506" h="671">
                <a:moveTo>
                  <a:pt x="16297" y="5383"/>
                </a:moveTo>
                <a:cubicBezTo>
                  <a:pt x="16265" y="5335"/>
                  <a:pt x="16335" y="5335"/>
                  <a:pt x="16396" y="5333"/>
                </a:cubicBezTo>
                <a:cubicBezTo>
                  <a:pt x="16478" y="5330"/>
                  <a:pt x="16562" y="5333"/>
                  <a:pt x="16644" y="5333"/>
                </a:cubicBezTo>
              </a:path>
              <a:path w="2506" h="671">
                <a:moveTo>
                  <a:pt x="16818" y="5581"/>
                </a:moveTo>
                <a:cubicBezTo>
                  <a:pt x="16818" y="5589"/>
                  <a:pt x="16818" y="5598"/>
                  <a:pt x="16818" y="5606"/>
                </a:cubicBezTo>
                <a:cubicBezTo>
                  <a:pt x="16884" y="5606"/>
                  <a:pt x="16929" y="5605"/>
                  <a:pt x="16991" y="55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59680" y="1919160"/>
            <a:ext cx="500040" cy="206640"/>
          </a:xfrm>
          <a:custGeom>
            <a:avLst/>
            <a:gdLst/>
            <a:ahLst/>
            <a:rect l="l" t="t" r="r" b="b"/>
            <a:pathLst>
              <a:path w="1390" h="572">
                <a:moveTo>
                  <a:pt x="17711" y="5333"/>
                </a:moveTo>
                <a:cubicBezTo>
                  <a:pt x="17618" y="5350"/>
                  <a:pt x="17518" y="5352"/>
                  <a:pt x="17438" y="5407"/>
                </a:cubicBezTo>
                <a:cubicBezTo>
                  <a:pt x="17381" y="5447"/>
                  <a:pt x="17371" y="5497"/>
                  <a:pt x="17413" y="5556"/>
                </a:cubicBezTo>
                <a:cubicBezTo>
                  <a:pt x="17465" y="5629"/>
                  <a:pt x="17545" y="5676"/>
                  <a:pt x="17611" y="5730"/>
                </a:cubicBezTo>
                <a:cubicBezTo>
                  <a:pt x="17691" y="5796"/>
                  <a:pt x="17675" y="5851"/>
                  <a:pt x="17611" y="5904"/>
                </a:cubicBezTo>
              </a:path>
              <a:path w="1390" h="572">
                <a:moveTo>
                  <a:pt x="17636" y="5333"/>
                </a:moveTo>
                <a:cubicBezTo>
                  <a:pt x="17719" y="5333"/>
                  <a:pt x="17780" y="5347"/>
                  <a:pt x="17859" y="5358"/>
                </a:cubicBezTo>
                <a:cubicBezTo>
                  <a:pt x="17915" y="5366"/>
                  <a:pt x="17977" y="5358"/>
                  <a:pt x="18033" y="5358"/>
                </a:cubicBezTo>
              </a:path>
              <a:path w="1390" h="572">
                <a:moveTo>
                  <a:pt x="18355" y="5655"/>
                </a:moveTo>
                <a:cubicBezTo>
                  <a:pt x="18409" y="5616"/>
                  <a:pt x="18458" y="5609"/>
                  <a:pt x="18529" y="5606"/>
                </a:cubicBezTo>
                <a:cubicBezTo>
                  <a:pt x="18579" y="5606"/>
                  <a:pt x="18595" y="5606"/>
                  <a:pt x="18628" y="5606"/>
                </a:cubicBezTo>
              </a:path>
              <a:path w="1390" h="572">
                <a:moveTo>
                  <a:pt x="18455" y="5829"/>
                </a:moveTo>
                <a:cubicBezTo>
                  <a:pt x="18435" y="5870"/>
                  <a:pt x="18426" y="5876"/>
                  <a:pt x="18430" y="5904"/>
                </a:cubicBezTo>
                <a:cubicBezTo>
                  <a:pt x="18503" y="5904"/>
                  <a:pt x="18558" y="5887"/>
                  <a:pt x="18628" y="5879"/>
                </a:cubicBezTo>
                <a:cubicBezTo>
                  <a:pt x="18704" y="5879"/>
                  <a:pt x="18730" y="5879"/>
                  <a:pt x="18777" y="58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1920" y="1901880"/>
            <a:ext cx="758880" cy="241200"/>
          </a:xfrm>
          <a:custGeom>
            <a:avLst/>
            <a:gdLst/>
            <a:ahLst/>
            <a:rect l="l" t="t" r="r" b="b"/>
            <a:pathLst>
              <a:path w="2110" h="671">
                <a:moveTo>
                  <a:pt x="19769" y="5928"/>
                </a:moveTo>
                <a:cubicBezTo>
                  <a:pt x="19736" y="5928"/>
                  <a:pt x="19703" y="5928"/>
                  <a:pt x="19670" y="5928"/>
                </a:cubicBezTo>
                <a:cubicBezTo>
                  <a:pt x="19679" y="5955"/>
                  <a:pt x="19706" y="5967"/>
                  <a:pt x="19745" y="5953"/>
                </a:cubicBezTo>
                <a:cubicBezTo>
                  <a:pt x="19796" y="5935"/>
                  <a:pt x="19795" y="5928"/>
                  <a:pt x="19844" y="5928"/>
                </a:cubicBezTo>
              </a:path>
              <a:path w="2110" h="671">
                <a:moveTo>
                  <a:pt x="20141" y="5383"/>
                </a:moveTo>
                <a:cubicBezTo>
                  <a:pt x="20205" y="5356"/>
                  <a:pt x="20244" y="5358"/>
                  <a:pt x="20315" y="5358"/>
                </a:cubicBezTo>
                <a:cubicBezTo>
                  <a:pt x="20405" y="5358"/>
                  <a:pt x="20414" y="5375"/>
                  <a:pt x="20414" y="5457"/>
                </a:cubicBezTo>
                <a:cubicBezTo>
                  <a:pt x="20414" y="5529"/>
                  <a:pt x="20313" y="5569"/>
                  <a:pt x="20265" y="5606"/>
                </a:cubicBezTo>
                <a:cubicBezTo>
                  <a:pt x="20243" y="5629"/>
                  <a:pt x="20238" y="5637"/>
                  <a:pt x="20216" y="5631"/>
                </a:cubicBezTo>
                <a:cubicBezTo>
                  <a:pt x="20271" y="5631"/>
                  <a:pt x="20370" y="5601"/>
                  <a:pt x="20414" y="5606"/>
                </a:cubicBezTo>
                <a:cubicBezTo>
                  <a:pt x="20465" y="5612"/>
                  <a:pt x="20551" y="5665"/>
                  <a:pt x="20513" y="5730"/>
                </a:cubicBezTo>
                <a:cubicBezTo>
                  <a:pt x="20475" y="5795"/>
                  <a:pt x="20411" y="5868"/>
                  <a:pt x="20365" y="5928"/>
                </a:cubicBezTo>
                <a:cubicBezTo>
                  <a:pt x="20342" y="5951"/>
                  <a:pt x="20338" y="5959"/>
                  <a:pt x="20315" y="5953"/>
                </a:cubicBezTo>
              </a:path>
              <a:path w="2110" h="671">
                <a:moveTo>
                  <a:pt x="20985" y="5457"/>
                </a:moveTo>
                <a:cubicBezTo>
                  <a:pt x="20947" y="5429"/>
                  <a:pt x="20934" y="5432"/>
                  <a:pt x="20886" y="5432"/>
                </a:cubicBezTo>
                <a:cubicBezTo>
                  <a:pt x="20840" y="5432"/>
                  <a:pt x="20817" y="5430"/>
                  <a:pt x="20811" y="5482"/>
                </a:cubicBezTo>
                <a:cubicBezTo>
                  <a:pt x="20804" y="5546"/>
                  <a:pt x="20810" y="5598"/>
                  <a:pt x="20836" y="5655"/>
                </a:cubicBezTo>
                <a:cubicBezTo>
                  <a:pt x="20862" y="5712"/>
                  <a:pt x="20904" y="5767"/>
                  <a:pt x="20910" y="5829"/>
                </a:cubicBezTo>
                <a:cubicBezTo>
                  <a:pt x="20914" y="5875"/>
                  <a:pt x="20909" y="5899"/>
                  <a:pt x="20861" y="5904"/>
                </a:cubicBezTo>
                <a:cubicBezTo>
                  <a:pt x="20853" y="5904"/>
                  <a:pt x="20844" y="5904"/>
                  <a:pt x="20836" y="5904"/>
                </a:cubicBezTo>
              </a:path>
              <a:path w="2110" h="671">
                <a:moveTo>
                  <a:pt x="20985" y="5283"/>
                </a:moveTo>
                <a:cubicBezTo>
                  <a:pt x="21125" y="5283"/>
                  <a:pt x="21266" y="5283"/>
                  <a:pt x="21406" y="5283"/>
                </a:cubicBezTo>
              </a:path>
              <a:path w="2110" h="671">
                <a:moveTo>
                  <a:pt x="21456" y="5507"/>
                </a:moveTo>
                <a:cubicBezTo>
                  <a:pt x="21373" y="5590"/>
                  <a:pt x="21278" y="5672"/>
                  <a:pt x="21282" y="5804"/>
                </a:cubicBezTo>
                <a:cubicBezTo>
                  <a:pt x="21286" y="5930"/>
                  <a:pt x="21430" y="5961"/>
                  <a:pt x="21530" y="5928"/>
                </a:cubicBezTo>
                <a:cubicBezTo>
                  <a:pt x="21611" y="5901"/>
                  <a:pt x="21753" y="5821"/>
                  <a:pt x="21779" y="5730"/>
                </a:cubicBezTo>
                <a:cubicBezTo>
                  <a:pt x="21803" y="5644"/>
                  <a:pt x="21669" y="5592"/>
                  <a:pt x="21605" y="5581"/>
                </a:cubicBezTo>
                <a:cubicBezTo>
                  <a:pt x="21539" y="5581"/>
                  <a:pt x="21522" y="5581"/>
                  <a:pt x="21481" y="55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74000" y="1963800"/>
            <a:ext cx="615960" cy="206280"/>
          </a:xfrm>
          <a:custGeom>
            <a:avLst/>
            <a:gdLst/>
            <a:ahLst/>
            <a:rect l="l" t="t" r="r" b="b"/>
            <a:pathLst>
              <a:path w="1712" h="572">
                <a:moveTo>
                  <a:pt x="22151" y="5531"/>
                </a:moveTo>
                <a:cubicBezTo>
                  <a:pt x="22190" y="5531"/>
                  <a:pt x="22163" y="5519"/>
                  <a:pt x="22200" y="5507"/>
                </a:cubicBezTo>
              </a:path>
              <a:path w="1712" h="572">
                <a:moveTo>
                  <a:pt x="22349" y="5531"/>
                </a:moveTo>
                <a:cubicBezTo>
                  <a:pt x="22289" y="5543"/>
                  <a:pt x="22239" y="5554"/>
                  <a:pt x="22200" y="5606"/>
                </a:cubicBezTo>
                <a:cubicBezTo>
                  <a:pt x="22124" y="5706"/>
                  <a:pt x="22144" y="5809"/>
                  <a:pt x="22200" y="5904"/>
                </a:cubicBezTo>
                <a:cubicBezTo>
                  <a:pt x="22263" y="6009"/>
                  <a:pt x="22385" y="6043"/>
                  <a:pt x="22498" y="5978"/>
                </a:cubicBezTo>
                <a:cubicBezTo>
                  <a:pt x="22571" y="5936"/>
                  <a:pt x="22595" y="5846"/>
                  <a:pt x="22547" y="5779"/>
                </a:cubicBezTo>
                <a:cubicBezTo>
                  <a:pt x="22507" y="5723"/>
                  <a:pt x="22423" y="5645"/>
                  <a:pt x="22374" y="5606"/>
                </a:cubicBezTo>
                <a:cubicBezTo>
                  <a:pt x="22326" y="5568"/>
                  <a:pt x="22311" y="5569"/>
                  <a:pt x="22299" y="5606"/>
                </a:cubicBezTo>
              </a:path>
              <a:path w="1712" h="572">
                <a:moveTo>
                  <a:pt x="22746" y="5531"/>
                </a:moveTo>
                <a:cubicBezTo>
                  <a:pt x="22817" y="5514"/>
                  <a:pt x="22790" y="5512"/>
                  <a:pt x="22870" y="5531"/>
                </a:cubicBezTo>
                <a:cubicBezTo>
                  <a:pt x="22949" y="5550"/>
                  <a:pt x="22964" y="5572"/>
                  <a:pt x="22969" y="5655"/>
                </a:cubicBezTo>
                <a:cubicBezTo>
                  <a:pt x="22974" y="5742"/>
                  <a:pt x="22909" y="5806"/>
                  <a:pt x="22870" y="5879"/>
                </a:cubicBezTo>
                <a:cubicBezTo>
                  <a:pt x="22842" y="5932"/>
                  <a:pt x="22820" y="5969"/>
                  <a:pt x="22820" y="6028"/>
                </a:cubicBezTo>
                <a:cubicBezTo>
                  <a:pt x="22925" y="6028"/>
                  <a:pt x="23016" y="6017"/>
                  <a:pt x="23118" y="6003"/>
                </a:cubicBezTo>
                <a:cubicBezTo>
                  <a:pt x="23135" y="6003"/>
                  <a:pt x="23151" y="6003"/>
                  <a:pt x="23168" y="6003"/>
                </a:cubicBezTo>
              </a:path>
              <a:path w="1712" h="572">
                <a:moveTo>
                  <a:pt x="23664" y="5531"/>
                </a:moveTo>
                <a:cubicBezTo>
                  <a:pt x="23642" y="5480"/>
                  <a:pt x="23650" y="5469"/>
                  <a:pt x="23614" y="5457"/>
                </a:cubicBezTo>
                <a:cubicBezTo>
                  <a:pt x="23532" y="5481"/>
                  <a:pt x="23500" y="5541"/>
                  <a:pt x="23465" y="5631"/>
                </a:cubicBezTo>
                <a:cubicBezTo>
                  <a:pt x="23419" y="5750"/>
                  <a:pt x="23442" y="5842"/>
                  <a:pt x="23540" y="5928"/>
                </a:cubicBezTo>
                <a:cubicBezTo>
                  <a:pt x="23601" y="5981"/>
                  <a:pt x="23732" y="6007"/>
                  <a:pt x="23812" y="5978"/>
                </a:cubicBezTo>
                <a:cubicBezTo>
                  <a:pt x="23842" y="5948"/>
                  <a:pt x="23853" y="5934"/>
                  <a:pt x="23862" y="5904"/>
                </a:cubicBezTo>
                <a:cubicBezTo>
                  <a:pt x="23813" y="5855"/>
                  <a:pt x="23767" y="5806"/>
                  <a:pt x="23688" y="5829"/>
                </a:cubicBezTo>
                <a:cubicBezTo>
                  <a:pt x="23596" y="5876"/>
                  <a:pt x="23569" y="5888"/>
                  <a:pt x="23515" y="59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28920" y="2705040"/>
            <a:ext cx="536400" cy="438120"/>
          </a:xfrm>
          <a:custGeom>
            <a:avLst/>
            <a:gdLst/>
            <a:ahLst/>
            <a:rect l="l" t="t" r="r" b="b"/>
            <a:pathLst>
              <a:path w="1489" h="1216">
                <a:moveTo>
                  <a:pt x="6846" y="7665"/>
                </a:moveTo>
                <a:cubicBezTo>
                  <a:pt x="6846" y="7620"/>
                  <a:pt x="6859" y="7603"/>
                  <a:pt x="6821" y="7590"/>
                </a:cubicBezTo>
                <a:cubicBezTo>
                  <a:pt x="6785" y="7661"/>
                  <a:pt x="6754" y="7802"/>
                  <a:pt x="6747" y="7888"/>
                </a:cubicBezTo>
                <a:cubicBezTo>
                  <a:pt x="6734" y="8041"/>
                  <a:pt x="6753" y="8187"/>
                  <a:pt x="6772" y="8334"/>
                </a:cubicBezTo>
                <a:cubicBezTo>
                  <a:pt x="6772" y="8375"/>
                  <a:pt x="6763" y="8392"/>
                  <a:pt x="6796" y="8384"/>
                </a:cubicBezTo>
              </a:path>
              <a:path w="1489" h="1216">
                <a:moveTo>
                  <a:pt x="6747" y="7987"/>
                </a:moveTo>
                <a:cubicBezTo>
                  <a:pt x="6771" y="8024"/>
                  <a:pt x="6886" y="8022"/>
                  <a:pt x="6945" y="8012"/>
                </a:cubicBezTo>
                <a:cubicBezTo>
                  <a:pt x="7030" y="7984"/>
                  <a:pt x="7064" y="7971"/>
                  <a:pt x="7119" y="7938"/>
                </a:cubicBezTo>
              </a:path>
              <a:path w="1489" h="1216">
                <a:moveTo>
                  <a:pt x="7243" y="7541"/>
                </a:moveTo>
                <a:cubicBezTo>
                  <a:pt x="7210" y="7533"/>
                  <a:pt x="7177" y="7524"/>
                  <a:pt x="7144" y="7516"/>
                </a:cubicBezTo>
                <a:cubicBezTo>
                  <a:pt x="7093" y="7630"/>
                  <a:pt x="7058" y="7735"/>
                  <a:pt x="7069" y="7863"/>
                </a:cubicBezTo>
                <a:cubicBezTo>
                  <a:pt x="7080" y="8003"/>
                  <a:pt x="7115" y="8191"/>
                  <a:pt x="7193" y="8310"/>
                </a:cubicBezTo>
                <a:cubicBezTo>
                  <a:pt x="7210" y="8326"/>
                  <a:pt x="7226" y="8343"/>
                  <a:pt x="7243" y="8359"/>
                </a:cubicBezTo>
              </a:path>
              <a:path w="1489" h="1216">
                <a:moveTo>
                  <a:pt x="7888" y="7615"/>
                </a:moveTo>
                <a:cubicBezTo>
                  <a:pt x="7763" y="7558"/>
                  <a:pt x="7724" y="7587"/>
                  <a:pt x="7615" y="7689"/>
                </a:cubicBezTo>
                <a:cubicBezTo>
                  <a:pt x="7508" y="7789"/>
                  <a:pt x="7429" y="7936"/>
                  <a:pt x="7441" y="8086"/>
                </a:cubicBezTo>
                <a:cubicBezTo>
                  <a:pt x="7449" y="8189"/>
                  <a:pt x="7534" y="8327"/>
                  <a:pt x="7640" y="8359"/>
                </a:cubicBezTo>
                <a:cubicBezTo>
                  <a:pt x="7706" y="8359"/>
                  <a:pt x="7723" y="8359"/>
                  <a:pt x="7764" y="8359"/>
                </a:cubicBezTo>
              </a:path>
              <a:path w="1489" h="1216">
                <a:moveTo>
                  <a:pt x="8111" y="8210"/>
                </a:moveTo>
                <a:cubicBezTo>
                  <a:pt x="8048" y="8297"/>
                  <a:pt x="7979" y="8371"/>
                  <a:pt x="7962" y="8483"/>
                </a:cubicBezTo>
                <a:cubicBezTo>
                  <a:pt x="7951" y="8557"/>
                  <a:pt x="7975" y="8687"/>
                  <a:pt x="8062" y="8706"/>
                </a:cubicBezTo>
                <a:cubicBezTo>
                  <a:pt x="8115" y="8718"/>
                  <a:pt x="8208" y="8718"/>
                  <a:pt x="8235" y="8657"/>
                </a:cubicBezTo>
                <a:cubicBezTo>
                  <a:pt x="8260" y="8601"/>
                  <a:pt x="8163" y="8584"/>
                  <a:pt x="8136" y="8582"/>
                </a:cubicBezTo>
                <a:cubicBezTo>
                  <a:pt x="8105" y="8580"/>
                  <a:pt x="7999" y="8593"/>
                  <a:pt x="7987" y="8632"/>
                </a:cubicBezTo>
                <a:cubicBezTo>
                  <a:pt x="7967" y="8697"/>
                  <a:pt x="8018" y="8706"/>
                  <a:pt x="8062" y="87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33800" y="2973240"/>
            <a:ext cx="233280" cy="36720"/>
          </a:xfrm>
          <a:custGeom>
            <a:avLst/>
            <a:gdLst/>
            <a:ahLst/>
            <a:rect l="l" t="t" r="r" b="b"/>
            <a:pathLst>
              <a:path w="646" h="100">
                <a:moveTo>
                  <a:pt x="8756" y="8285"/>
                </a:moveTo>
                <a:cubicBezTo>
                  <a:pt x="8723" y="8334"/>
                  <a:pt x="8700" y="8334"/>
                  <a:pt x="8731" y="8334"/>
                </a:cubicBezTo>
              </a:path>
              <a:path w="646" h="100">
                <a:moveTo>
                  <a:pt x="8930" y="8334"/>
                </a:moveTo>
                <a:cubicBezTo>
                  <a:pt x="8930" y="8387"/>
                  <a:pt x="8973" y="8342"/>
                  <a:pt x="9004" y="8334"/>
                </a:cubicBezTo>
              </a:path>
              <a:path w="646" h="100">
                <a:moveTo>
                  <a:pt x="9203" y="8260"/>
                </a:moveTo>
                <a:cubicBezTo>
                  <a:pt x="9260" y="8279"/>
                  <a:pt x="9285" y="8270"/>
                  <a:pt x="9277" y="8310"/>
                </a:cubicBezTo>
                <a:cubicBezTo>
                  <a:pt x="9302" y="8310"/>
                  <a:pt x="9326" y="8310"/>
                  <a:pt x="9351" y="83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14840" y="2751120"/>
            <a:ext cx="160200" cy="133200"/>
          </a:xfrm>
          <a:custGeom>
            <a:avLst/>
            <a:gdLst/>
            <a:ahLst/>
            <a:rect l="l" t="t" r="r" b="b"/>
            <a:pathLst>
              <a:path w="447" h="373">
                <a:moveTo>
                  <a:pt x="10344" y="7665"/>
                </a:moveTo>
                <a:cubicBezTo>
                  <a:pt x="10286" y="7665"/>
                  <a:pt x="10394" y="7641"/>
                  <a:pt x="10418" y="7640"/>
                </a:cubicBezTo>
                <a:cubicBezTo>
                  <a:pt x="10492" y="7636"/>
                  <a:pt x="10567" y="7640"/>
                  <a:pt x="10641" y="7640"/>
                </a:cubicBezTo>
              </a:path>
              <a:path w="447" h="373">
                <a:moveTo>
                  <a:pt x="10418" y="7913"/>
                </a:moveTo>
                <a:cubicBezTo>
                  <a:pt x="10380" y="7969"/>
                  <a:pt x="10363" y="7972"/>
                  <a:pt x="10368" y="8012"/>
                </a:cubicBezTo>
                <a:cubicBezTo>
                  <a:pt x="10443" y="8012"/>
                  <a:pt x="10498" y="8010"/>
                  <a:pt x="10567" y="7987"/>
                </a:cubicBezTo>
                <a:cubicBezTo>
                  <a:pt x="10635" y="7964"/>
                  <a:pt x="10700" y="7942"/>
                  <a:pt x="10765" y="79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49800" y="2867040"/>
            <a:ext cx="36360" cy="27000"/>
          </a:xfrm>
          <a:custGeom>
            <a:avLst/>
            <a:gdLst/>
            <a:ahLst/>
            <a:rect l="l" t="t" r="r" b="b"/>
            <a:pathLst>
              <a:path w="100" h="76">
                <a:moveTo>
                  <a:pt x="11832" y="8012"/>
                </a:moveTo>
                <a:cubicBezTo>
                  <a:pt x="11832" y="8037"/>
                  <a:pt x="11832" y="8045"/>
                  <a:pt x="11807" y="8037"/>
                </a:cubicBezTo>
                <a:cubicBezTo>
                  <a:pt x="11831" y="8029"/>
                  <a:pt x="11854" y="8005"/>
                  <a:pt x="11881" y="7987"/>
                </a:cubicBezTo>
                <a:cubicBezTo>
                  <a:pt x="11889" y="7979"/>
                  <a:pt x="11898" y="7970"/>
                  <a:pt x="11906" y="7962"/>
                </a:cubicBezTo>
                <a:cubicBezTo>
                  <a:pt x="11862" y="7988"/>
                  <a:pt x="11819" y="8002"/>
                  <a:pt x="11807" y="80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64000" y="2633760"/>
            <a:ext cx="563760" cy="304560"/>
          </a:xfrm>
          <a:custGeom>
            <a:avLst/>
            <a:gdLst/>
            <a:ahLst/>
            <a:rect l="l" t="t" r="r" b="b"/>
            <a:pathLst>
              <a:path w="1564" h="845">
                <a:moveTo>
                  <a:pt x="12452" y="7317"/>
                </a:moveTo>
                <a:cubicBezTo>
                  <a:pt x="12452" y="7404"/>
                  <a:pt x="12434" y="7480"/>
                  <a:pt x="12427" y="7565"/>
                </a:cubicBezTo>
                <a:cubicBezTo>
                  <a:pt x="12414" y="7715"/>
                  <a:pt x="12402" y="7860"/>
                  <a:pt x="12402" y="8012"/>
                </a:cubicBezTo>
                <a:cubicBezTo>
                  <a:pt x="12402" y="8062"/>
                  <a:pt x="12402" y="8078"/>
                  <a:pt x="12402" y="8111"/>
                </a:cubicBezTo>
              </a:path>
              <a:path w="1564" h="845">
                <a:moveTo>
                  <a:pt x="12973" y="7615"/>
                </a:moveTo>
                <a:cubicBezTo>
                  <a:pt x="12948" y="7572"/>
                  <a:pt x="12928" y="7520"/>
                  <a:pt x="12874" y="7516"/>
                </a:cubicBezTo>
                <a:cubicBezTo>
                  <a:pt x="12814" y="7512"/>
                  <a:pt x="12764" y="7553"/>
                  <a:pt x="12750" y="7615"/>
                </a:cubicBezTo>
                <a:cubicBezTo>
                  <a:pt x="12734" y="7685"/>
                  <a:pt x="12757" y="7782"/>
                  <a:pt x="12799" y="7838"/>
                </a:cubicBezTo>
                <a:cubicBezTo>
                  <a:pt x="12848" y="7905"/>
                  <a:pt x="12949" y="7927"/>
                  <a:pt x="12998" y="7987"/>
                </a:cubicBezTo>
                <a:cubicBezTo>
                  <a:pt x="13037" y="8036"/>
                  <a:pt x="12971" y="8091"/>
                  <a:pt x="12948" y="8111"/>
                </a:cubicBezTo>
                <a:cubicBezTo>
                  <a:pt x="12915" y="8141"/>
                  <a:pt x="12892" y="8152"/>
                  <a:pt x="12849" y="8161"/>
                </a:cubicBezTo>
              </a:path>
              <a:path w="1564" h="845">
                <a:moveTo>
                  <a:pt x="12948" y="7441"/>
                </a:moveTo>
                <a:cubicBezTo>
                  <a:pt x="13072" y="7441"/>
                  <a:pt x="13196" y="7441"/>
                  <a:pt x="13320" y="7441"/>
                </a:cubicBezTo>
              </a:path>
              <a:path w="1564" h="845">
                <a:moveTo>
                  <a:pt x="13618" y="7888"/>
                </a:moveTo>
                <a:cubicBezTo>
                  <a:pt x="13656" y="7875"/>
                  <a:pt x="13638" y="7863"/>
                  <a:pt x="13692" y="7863"/>
                </a:cubicBezTo>
                <a:cubicBezTo>
                  <a:pt x="13782" y="7863"/>
                  <a:pt x="13892" y="7882"/>
                  <a:pt x="13965" y="78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86240" y="2714760"/>
            <a:ext cx="98640" cy="233280"/>
          </a:xfrm>
          <a:custGeom>
            <a:avLst/>
            <a:gdLst/>
            <a:ahLst/>
            <a:rect l="l" t="t" r="r" b="b"/>
            <a:pathLst>
              <a:path w="274" h="646">
                <a:moveTo>
                  <a:pt x="14734" y="7565"/>
                </a:moveTo>
                <a:cubicBezTo>
                  <a:pt x="14837" y="7547"/>
                  <a:pt x="14858" y="7544"/>
                  <a:pt x="14908" y="7640"/>
                </a:cubicBezTo>
                <a:cubicBezTo>
                  <a:pt x="14961" y="7742"/>
                  <a:pt x="14863" y="7830"/>
                  <a:pt x="14808" y="7913"/>
                </a:cubicBezTo>
                <a:cubicBezTo>
                  <a:pt x="14765" y="7977"/>
                  <a:pt x="14692" y="8033"/>
                  <a:pt x="14684" y="8111"/>
                </a:cubicBezTo>
                <a:cubicBezTo>
                  <a:pt x="14679" y="8164"/>
                  <a:pt x="14769" y="8184"/>
                  <a:pt x="14808" y="8186"/>
                </a:cubicBezTo>
                <a:cubicBezTo>
                  <a:pt x="14883" y="8186"/>
                  <a:pt x="14907" y="8186"/>
                  <a:pt x="14957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27800" y="2697120"/>
            <a:ext cx="276120" cy="231840"/>
          </a:xfrm>
          <a:custGeom>
            <a:avLst/>
            <a:gdLst/>
            <a:ahLst/>
            <a:rect l="l" t="t" r="r" b="b"/>
            <a:pathLst>
              <a:path w="770" h="646">
                <a:moveTo>
                  <a:pt x="15379" y="8111"/>
                </a:moveTo>
                <a:cubicBezTo>
                  <a:pt x="15365" y="8152"/>
                  <a:pt x="15345" y="8136"/>
                  <a:pt x="15404" y="8136"/>
                </a:cubicBezTo>
              </a:path>
              <a:path w="770" h="646">
                <a:moveTo>
                  <a:pt x="15949" y="7590"/>
                </a:moveTo>
                <a:cubicBezTo>
                  <a:pt x="15895" y="7561"/>
                  <a:pt x="15822" y="7541"/>
                  <a:pt x="15776" y="7516"/>
                </a:cubicBezTo>
                <a:cubicBezTo>
                  <a:pt x="15717" y="7483"/>
                  <a:pt x="15702" y="7552"/>
                  <a:pt x="15677" y="7615"/>
                </a:cubicBezTo>
                <a:cubicBezTo>
                  <a:pt x="15628" y="7741"/>
                  <a:pt x="15597" y="7856"/>
                  <a:pt x="15627" y="7987"/>
                </a:cubicBezTo>
                <a:cubicBezTo>
                  <a:pt x="15659" y="8128"/>
                  <a:pt x="15749" y="8132"/>
                  <a:pt x="15875" y="8136"/>
                </a:cubicBezTo>
                <a:cubicBezTo>
                  <a:pt x="15972" y="8139"/>
                  <a:pt x="16039" y="8103"/>
                  <a:pt x="16123" y="8062"/>
                </a:cubicBezTo>
                <a:cubicBezTo>
                  <a:pt x="16106" y="7994"/>
                  <a:pt x="16064" y="8012"/>
                  <a:pt x="15999" y="8012"/>
                </a:cubicBezTo>
                <a:cubicBezTo>
                  <a:pt x="15923" y="8012"/>
                  <a:pt x="15893" y="8011"/>
                  <a:pt x="15825" y="80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8120" y="2687760"/>
            <a:ext cx="598680" cy="260280"/>
          </a:xfrm>
          <a:custGeom>
            <a:avLst/>
            <a:gdLst/>
            <a:ahLst/>
            <a:rect l="l" t="t" r="r" b="b"/>
            <a:pathLst>
              <a:path w="1663" h="721">
                <a:moveTo>
                  <a:pt x="16768" y="7689"/>
                </a:moveTo>
                <a:cubicBezTo>
                  <a:pt x="16738" y="7739"/>
                  <a:pt x="16722" y="7800"/>
                  <a:pt x="16718" y="7863"/>
                </a:cubicBezTo>
                <a:cubicBezTo>
                  <a:pt x="16713" y="7957"/>
                  <a:pt x="16776" y="8019"/>
                  <a:pt x="16867" y="8037"/>
                </a:cubicBezTo>
                <a:cubicBezTo>
                  <a:pt x="16933" y="8037"/>
                  <a:pt x="16950" y="8037"/>
                  <a:pt x="16991" y="8037"/>
                </a:cubicBezTo>
              </a:path>
              <a:path w="1663" h="721">
                <a:moveTo>
                  <a:pt x="16818" y="7789"/>
                </a:moveTo>
                <a:cubicBezTo>
                  <a:pt x="16801" y="7781"/>
                  <a:pt x="16785" y="7772"/>
                  <a:pt x="16768" y="7764"/>
                </a:cubicBezTo>
                <a:cubicBezTo>
                  <a:pt x="16845" y="7702"/>
                  <a:pt x="16920" y="7714"/>
                  <a:pt x="17016" y="7689"/>
                </a:cubicBezTo>
                <a:cubicBezTo>
                  <a:pt x="17090" y="7665"/>
                  <a:pt x="17115" y="7657"/>
                  <a:pt x="17165" y="7640"/>
                </a:cubicBezTo>
              </a:path>
              <a:path w="1663" h="721">
                <a:moveTo>
                  <a:pt x="17090" y="7541"/>
                </a:moveTo>
                <a:cubicBezTo>
                  <a:pt x="17029" y="7541"/>
                  <a:pt x="17013" y="7550"/>
                  <a:pt x="16991" y="7516"/>
                </a:cubicBezTo>
                <a:cubicBezTo>
                  <a:pt x="17048" y="7473"/>
                  <a:pt x="17115" y="7469"/>
                  <a:pt x="17190" y="7466"/>
                </a:cubicBezTo>
                <a:cubicBezTo>
                  <a:pt x="17215" y="7466"/>
                  <a:pt x="17239" y="7466"/>
                  <a:pt x="17264" y="7466"/>
                </a:cubicBezTo>
              </a:path>
              <a:path w="1663" h="721">
                <a:moveTo>
                  <a:pt x="17512" y="7938"/>
                </a:moveTo>
                <a:cubicBezTo>
                  <a:pt x="17575" y="7938"/>
                  <a:pt x="17604" y="7940"/>
                  <a:pt x="17661" y="7913"/>
                </a:cubicBezTo>
                <a:cubicBezTo>
                  <a:pt x="17678" y="7905"/>
                  <a:pt x="17694" y="7896"/>
                  <a:pt x="17711" y="7888"/>
                </a:cubicBezTo>
              </a:path>
              <a:path w="1663" h="721">
                <a:moveTo>
                  <a:pt x="18157" y="7789"/>
                </a:moveTo>
                <a:cubicBezTo>
                  <a:pt x="18072" y="7746"/>
                  <a:pt x="18030" y="7739"/>
                  <a:pt x="17934" y="7739"/>
                </a:cubicBezTo>
                <a:cubicBezTo>
                  <a:pt x="17897" y="7739"/>
                  <a:pt x="17793" y="7733"/>
                  <a:pt x="17835" y="7813"/>
                </a:cubicBezTo>
                <a:cubicBezTo>
                  <a:pt x="17873" y="7885"/>
                  <a:pt x="17951" y="7954"/>
                  <a:pt x="18008" y="8012"/>
                </a:cubicBezTo>
                <a:cubicBezTo>
                  <a:pt x="18051" y="8055"/>
                  <a:pt x="18028" y="8122"/>
                  <a:pt x="17983" y="8161"/>
                </a:cubicBezTo>
                <a:cubicBezTo>
                  <a:pt x="17967" y="8169"/>
                  <a:pt x="17950" y="8178"/>
                  <a:pt x="17934" y="8186"/>
                </a:cubicBezTo>
              </a:path>
              <a:path w="1663" h="721">
                <a:moveTo>
                  <a:pt x="18083" y="7665"/>
                </a:moveTo>
                <a:cubicBezTo>
                  <a:pt x="18095" y="7615"/>
                  <a:pt x="18106" y="7615"/>
                  <a:pt x="18157" y="7615"/>
                </a:cubicBezTo>
                <a:cubicBezTo>
                  <a:pt x="18242" y="7615"/>
                  <a:pt x="18298" y="7618"/>
                  <a:pt x="18380" y="76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86720" y="2795760"/>
            <a:ext cx="125280" cy="115560"/>
          </a:xfrm>
          <a:custGeom>
            <a:avLst/>
            <a:gdLst/>
            <a:ahLst/>
            <a:rect l="l" t="t" r="r" b="b"/>
            <a:pathLst>
              <a:path w="348" h="323">
                <a:moveTo>
                  <a:pt x="18852" y="7789"/>
                </a:moveTo>
                <a:cubicBezTo>
                  <a:pt x="18909" y="7789"/>
                  <a:pt x="18948" y="7773"/>
                  <a:pt x="19000" y="7764"/>
                </a:cubicBezTo>
                <a:cubicBezTo>
                  <a:pt x="19017" y="7764"/>
                  <a:pt x="19033" y="7764"/>
                  <a:pt x="19050" y="7764"/>
                </a:cubicBezTo>
              </a:path>
              <a:path w="348" h="323">
                <a:moveTo>
                  <a:pt x="18951" y="7987"/>
                </a:moveTo>
                <a:cubicBezTo>
                  <a:pt x="18911" y="8047"/>
                  <a:pt x="18881" y="8059"/>
                  <a:pt x="18926" y="8086"/>
                </a:cubicBezTo>
                <a:cubicBezTo>
                  <a:pt x="19023" y="8086"/>
                  <a:pt x="19105" y="8085"/>
                  <a:pt x="19199" y="80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34120" y="2901960"/>
            <a:ext cx="36720" cy="9360"/>
          </a:xfrm>
          <a:custGeom>
            <a:avLst/>
            <a:gdLst/>
            <a:ahLst/>
            <a:rect l="l" t="t" r="r" b="b"/>
            <a:pathLst>
              <a:path w="100" h="25">
                <a:moveTo>
                  <a:pt x="19918" y="8062"/>
                </a:moveTo>
                <a:cubicBezTo>
                  <a:pt x="19893" y="8062"/>
                  <a:pt x="19869" y="8062"/>
                  <a:pt x="19844" y="8062"/>
                </a:cubicBezTo>
                <a:cubicBezTo>
                  <a:pt x="19844" y="8086"/>
                  <a:pt x="19844" y="8094"/>
                  <a:pt x="19819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40760" y="2724120"/>
            <a:ext cx="9360" cy="1602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20389" y="7565"/>
                </a:moveTo>
                <a:cubicBezTo>
                  <a:pt x="20416" y="7627"/>
                  <a:pt x="20429" y="7694"/>
                  <a:pt x="20414" y="7764"/>
                </a:cubicBezTo>
                <a:cubicBezTo>
                  <a:pt x="20396" y="7851"/>
                  <a:pt x="20389" y="7922"/>
                  <a:pt x="20389" y="80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83320" y="2705040"/>
            <a:ext cx="374760" cy="223920"/>
          </a:xfrm>
          <a:custGeom>
            <a:avLst/>
            <a:gdLst/>
            <a:ahLst/>
            <a:rect l="l" t="t" r="r" b="b"/>
            <a:pathLst>
              <a:path w="1043" h="621">
                <a:moveTo>
                  <a:pt x="20836" y="7541"/>
                </a:moveTo>
                <a:cubicBezTo>
                  <a:pt x="20828" y="7533"/>
                  <a:pt x="20819" y="7524"/>
                  <a:pt x="20811" y="7516"/>
                </a:cubicBezTo>
                <a:cubicBezTo>
                  <a:pt x="20777" y="7572"/>
                  <a:pt x="20786" y="7619"/>
                  <a:pt x="20786" y="7689"/>
                </a:cubicBezTo>
                <a:cubicBezTo>
                  <a:pt x="20786" y="7747"/>
                  <a:pt x="20874" y="7867"/>
                  <a:pt x="20935" y="7888"/>
                </a:cubicBezTo>
                <a:cubicBezTo>
                  <a:pt x="20977" y="7903"/>
                  <a:pt x="21089" y="7888"/>
                  <a:pt x="21134" y="7888"/>
                </a:cubicBezTo>
              </a:path>
              <a:path w="1043" h="621">
                <a:moveTo>
                  <a:pt x="21258" y="7590"/>
                </a:moveTo>
                <a:cubicBezTo>
                  <a:pt x="21182" y="7590"/>
                  <a:pt x="21152" y="7604"/>
                  <a:pt x="21134" y="7689"/>
                </a:cubicBezTo>
                <a:cubicBezTo>
                  <a:pt x="21111" y="7797"/>
                  <a:pt x="21122" y="7961"/>
                  <a:pt x="21158" y="8062"/>
                </a:cubicBezTo>
              </a:path>
              <a:path w="1043" h="621">
                <a:moveTo>
                  <a:pt x="21779" y="7714"/>
                </a:moveTo>
                <a:cubicBezTo>
                  <a:pt x="21734" y="7625"/>
                  <a:pt x="21711" y="7598"/>
                  <a:pt x="21605" y="7590"/>
                </a:cubicBezTo>
                <a:cubicBezTo>
                  <a:pt x="21524" y="7584"/>
                  <a:pt x="21494" y="7587"/>
                  <a:pt x="21481" y="7665"/>
                </a:cubicBezTo>
                <a:cubicBezTo>
                  <a:pt x="21469" y="7738"/>
                  <a:pt x="21526" y="7761"/>
                  <a:pt x="21580" y="7764"/>
                </a:cubicBezTo>
                <a:cubicBezTo>
                  <a:pt x="21653" y="7768"/>
                  <a:pt x="21689" y="7755"/>
                  <a:pt x="21754" y="7739"/>
                </a:cubicBezTo>
                <a:cubicBezTo>
                  <a:pt x="21762" y="7739"/>
                  <a:pt x="21771" y="7739"/>
                  <a:pt x="21779" y="7739"/>
                </a:cubicBezTo>
                <a:cubicBezTo>
                  <a:pt x="21779" y="7802"/>
                  <a:pt x="21800" y="7848"/>
                  <a:pt x="21803" y="7913"/>
                </a:cubicBezTo>
                <a:cubicBezTo>
                  <a:pt x="21807" y="7994"/>
                  <a:pt x="21818" y="8059"/>
                  <a:pt x="21828" y="81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91640" y="2724120"/>
            <a:ext cx="98280" cy="231840"/>
          </a:xfrm>
          <a:custGeom>
            <a:avLst/>
            <a:gdLst/>
            <a:ahLst/>
            <a:rect l="l" t="t" r="r" b="b"/>
            <a:pathLst>
              <a:path w="274" h="646">
                <a:moveTo>
                  <a:pt x="22324" y="7789"/>
                </a:moveTo>
                <a:cubicBezTo>
                  <a:pt x="22380" y="7686"/>
                  <a:pt x="22378" y="7701"/>
                  <a:pt x="22349" y="7615"/>
                </a:cubicBezTo>
                <a:cubicBezTo>
                  <a:pt x="22333" y="7568"/>
                  <a:pt x="22295" y="7532"/>
                  <a:pt x="22250" y="7590"/>
                </a:cubicBezTo>
                <a:cubicBezTo>
                  <a:pt x="22209" y="7643"/>
                  <a:pt x="22181" y="7684"/>
                  <a:pt x="22225" y="7739"/>
                </a:cubicBezTo>
                <a:cubicBezTo>
                  <a:pt x="22260" y="7782"/>
                  <a:pt x="22323" y="7764"/>
                  <a:pt x="22374" y="7764"/>
                </a:cubicBezTo>
                <a:cubicBezTo>
                  <a:pt x="22399" y="7764"/>
                  <a:pt x="22423" y="7764"/>
                  <a:pt x="22448" y="7764"/>
                </a:cubicBezTo>
                <a:cubicBezTo>
                  <a:pt x="22448" y="7820"/>
                  <a:pt x="22435" y="7885"/>
                  <a:pt x="22423" y="7938"/>
                </a:cubicBezTo>
                <a:cubicBezTo>
                  <a:pt x="22401" y="8035"/>
                  <a:pt x="22388" y="8094"/>
                  <a:pt x="22448" y="8186"/>
                </a:cubicBezTo>
                <a:cubicBezTo>
                  <a:pt x="22456" y="8194"/>
                  <a:pt x="22465" y="8202"/>
                  <a:pt x="22473" y="82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32840" y="2751120"/>
            <a:ext cx="135000" cy="1872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22870" y="7640"/>
                </a:moveTo>
                <a:cubicBezTo>
                  <a:pt x="22994" y="7640"/>
                  <a:pt x="23118" y="7640"/>
                  <a:pt x="23242" y="7640"/>
                </a:cubicBezTo>
                <a:cubicBezTo>
                  <a:pt x="23242" y="7694"/>
                  <a:pt x="23251" y="7742"/>
                  <a:pt x="23217" y="7789"/>
                </a:cubicBezTo>
                <a:cubicBezTo>
                  <a:pt x="23160" y="7869"/>
                  <a:pt x="23136" y="7947"/>
                  <a:pt x="23093" y="8037"/>
                </a:cubicBezTo>
                <a:cubicBezTo>
                  <a:pt x="23063" y="8100"/>
                  <a:pt x="23060" y="8107"/>
                  <a:pt x="23093" y="81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01040" y="2768760"/>
            <a:ext cx="162000" cy="196560"/>
          </a:xfrm>
          <a:custGeom>
            <a:avLst/>
            <a:gdLst/>
            <a:ahLst/>
            <a:rect l="l" t="t" r="r" b="b"/>
            <a:pathLst>
              <a:path w="448" h="547">
                <a:moveTo>
                  <a:pt x="23614" y="7714"/>
                </a:moveTo>
                <a:cubicBezTo>
                  <a:pt x="23614" y="7781"/>
                  <a:pt x="23610" y="7827"/>
                  <a:pt x="23639" y="7888"/>
                </a:cubicBezTo>
                <a:cubicBezTo>
                  <a:pt x="23674" y="7962"/>
                  <a:pt x="23706" y="7982"/>
                  <a:pt x="23788" y="7987"/>
                </a:cubicBezTo>
                <a:cubicBezTo>
                  <a:pt x="23837" y="7987"/>
                  <a:pt x="23854" y="7987"/>
                  <a:pt x="23887" y="7987"/>
                </a:cubicBezTo>
              </a:path>
              <a:path w="448" h="547">
                <a:moveTo>
                  <a:pt x="24061" y="7689"/>
                </a:moveTo>
                <a:cubicBezTo>
                  <a:pt x="23943" y="7697"/>
                  <a:pt x="23864" y="7711"/>
                  <a:pt x="23812" y="7838"/>
                </a:cubicBezTo>
                <a:cubicBezTo>
                  <a:pt x="23762" y="7958"/>
                  <a:pt x="23745" y="8108"/>
                  <a:pt x="23713" y="82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55800" y="3348000"/>
            <a:ext cx="4857480" cy="733320"/>
          </a:xfrm>
          <a:custGeom>
            <a:avLst/>
            <a:gdLst/>
            <a:ahLst/>
            <a:rect l="l" t="t" r="r" b="b"/>
            <a:pathLst>
              <a:path w="13495" h="2035">
                <a:moveTo>
                  <a:pt x="9500" y="10840"/>
                </a:moveTo>
                <a:cubicBezTo>
                  <a:pt x="9577" y="10779"/>
                  <a:pt x="9649" y="10699"/>
                  <a:pt x="9723" y="10641"/>
                </a:cubicBezTo>
                <a:cubicBezTo>
                  <a:pt x="9867" y="10529"/>
                  <a:pt x="10007" y="10441"/>
                  <a:pt x="10120" y="10294"/>
                </a:cubicBezTo>
                <a:cubicBezTo>
                  <a:pt x="10181" y="10215"/>
                  <a:pt x="10232" y="10143"/>
                  <a:pt x="10244" y="10046"/>
                </a:cubicBezTo>
                <a:cubicBezTo>
                  <a:pt x="10175" y="9999"/>
                  <a:pt x="10140" y="9962"/>
                  <a:pt x="10046" y="10021"/>
                </a:cubicBezTo>
                <a:cubicBezTo>
                  <a:pt x="9908" y="10107"/>
                  <a:pt x="9884" y="10298"/>
                  <a:pt x="9872" y="10443"/>
                </a:cubicBezTo>
                <a:cubicBezTo>
                  <a:pt x="9856" y="10638"/>
                  <a:pt x="9943" y="10746"/>
                  <a:pt x="10120" y="10815"/>
                </a:cubicBezTo>
                <a:cubicBezTo>
                  <a:pt x="10221" y="10854"/>
                  <a:pt x="10377" y="10828"/>
                  <a:pt x="10468" y="10765"/>
                </a:cubicBezTo>
                <a:cubicBezTo>
                  <a:pt x="10534" y="10719"/>
                  <a:pt x="10555" y="10674"/>
                  <a:pt x="10517" y="10616"/>
                </a:cubicBezTo>
                <a:cubicBezTo>
                  <a:pt x="10477" y="10555"/>
                  <a:pt x="10465" y="10573"/>
                  <a:pt x="10418" y="10592"/>
                </a:cubicBezTo>
                <a:cubicBezTo>
                  <a:pt x="10426" y="10672"/>
                  <a:pt x="10415" y="10676"/>
                  <a:pt x="10492" y="10716"/>
                </a:cubicBezTo>
                <a:cubicBezTo>
                  <a:pt x="10554" y="10748"/>
                  <a:pt x="10638" y="10748"/>
                  <a:pt x="10691" y="10691"/>
                </a:cubicBezTo>
                <a:cubicBezTo>
                  <a:pt x="10735" y="10644"/>
                  <a:pt x="10726" y="10540"/>
                  <a:pt x="10691" y="10492"/>
                </a:cubicBezTo>
                <a:cubicBezTo>
                  <a:pt x="10634" y="10414"/>
                  <a:pt x="10599" y="10408"/>
                  <a:pt x="10517" y="10393"/>
                </a:cubicBezTo>
              </a:path>
              <a:path w="13495" h="2035">
                <a:moveTo>
                  <a:pt x="11038" y="10468"/>
                </a:moveTo>
                <a:cubicBezTo>
                  <a:pt x="10998" y="10448"/>
                  <a:pt x="10991" y="10439"/>
                  <a:pt x="10964" y="10443"/>
                </a:cubicBezTo>
                <a:cubicBezTo>
                  <a:pt x="10922" y="10499"/>
                  <a:pt x="10939" y="10568"/>
                  <a:pt x="10939" y="10641"/>
                </a:cubicBezTo>
                <a:cubicBezTo>
                  <a:pt x="10939" y="10791"/>
                  <a:pt x="10983" y="10935"/>
                  <a:pt x="10964" y="11088"/>
                </a:cubicBezTo>
                <a:cubicBezTo>
                  <a:pt x="10951" y="11188"/>
                  <a:pt x="10947" y="11229"/>
                  <a:pt x="10889" y="11286"/>
                </a:cubicBezTo>
                <a:cubicBezTo>
                  <a:pt x="10820" y="11272"/>
                  <a:pt x="10780" y="11222"/>
                  <a:pt x="10740" y="11162"/>
                </a:cubicBezTo>
                <a:cubicBezTo>
                  <a:pt x="10682" y="11074"/>
                  <a:pt x="10730" y="11041"/>
                  <a:pt x="10790" y="10988"/>
                </a:cubicBezTo>
                <a:cubicBezTo>
                  <a:pt x="10878" y="10911"/>
                  <a:pt x="11000" y="10877"/>
                  <a:pt x="11112" y="10840"/>
                </a:cubicBezTo>
              </a:path>
              <a:path w="13495" h="2035">
                <a:moveTo>
                  <a:pt x="12105" y="9748"/>
                </a:moveTo>
                <a:cubicBezTo>
                  <a:pt x="12105" y="9673"/>
                  <a:pt x="12097" y="9654"/>
                  <a:pt x="12179" y="9649"/>
                </a:cubicBezTo>
                <a:cubicBezTo>
                  <a:pt x="12260" y="9644"/>
                  <a:pt x="12310" y="9694"/>
                  <a:pt x="12328" y="9773"/>
                </a:cubicBezTo>
                <a:cubicBezTo>
                  <a:pt x="12350" y="9870"/>
                  <a:pt x="12237" y="9938"/>
                  <a:pt x="12179" y="9996"/>
                </a:cubicBezTo>
                <a:cubicBezTo>
                  <a:pt x="12140" y="10035"/>
                  <a:pt x="12099" y="10056"/>
                  <a:pt x="12080" y="10096"/>
                </a:cubicBezTo>
                <a:cubicBezTo>
                  <a:pt x="12154" y="10096"/>
                  <a:pt x="12197" y="10093"/>
                  <a:pt x="12254" y="10145"/>
                </a:cubicBezTo>
                <a:cubicBezTo>
                  <a:pt x="12315" y="10201"/>
                  <a:pt x="12260" y="10243"/>
                  <a:pt x="12229" y="10294"/>
                </a:cubicBezTo>
                <a:cubicBezTo>
                  <a:pt x="12194" y="10352"/>
                  <a:pt x="12146" y="10417"/>
                  <a:pt x="12080" y="10443"/>
                </a:cubicBezTo>
                <a:cubicBezTo>
                  <a:pt x="12072" y="10443"/>
                  <a:pt x="12063" y="10443"/>
                  <a:pt x="12055" y="10443"/>
                </a:cubicBezTo>
              </a:path>
              <a:path w="13495" h="2035">
                <a:moveTo>
                  <a:pt x="11733" y="10269"/>
                </a:moveTo>
                <a:cubicBezTo>
                  <a:pt x="11733" y="10294"/>
                  <a:pt x="11733" y="10302"/>
                  <a:pt x="11708" y="10294"/>
                </a:cubicBezTo>
                <a:cubicBezTo>
                  <a:pt x="11752" y="10294"/>
                  <a:pt x="11768" y="10279"/>
                  <a:pt x="11807" y="10269"/>
                </a:cubicBezTo>
              </a:path>
              <a:path w="13495" h="2035">
                <a:moveTo>
                  <a:pt x="12998" y="9823"/>
                </a:moveTo>
                <a:cubicBezTo>
                  <a:pt x="12903" y="9823"/>
                  <a:pt x="12759" y="9796"/>
                  <a:pt x="12675" y="9847"/>
                </a:cubicBezTo>
                <a:cubicBezTo>
                  <a:pt x="12614" y="9884"/>
                  <a:pt x="12624" y="9915"/>
                  <a:pt x="12650" y="9971"/>
                </a:cubicBezTo>
                <a:cubicBezTo>
                  <a:pt x="12684" y="10045"/>
                  <a:pt x="12736" y="10088"/>
                  <a:pt x="12774" y="10170"/>
                </a:cubicBezTo>
                <a:cubicBezTo>
                  <a:pt x="12806" y="10238"/>
                  <a:pt x="12813" y="10334"/>
                  <a:pt x="12750" y="10393"/>
                </a:cubicBezTo>
                <a:cubicBezTo>
                  <a:pt x="12704" y="10436"/>
                  <a:pt x="12687" y="10437"/>
                  <a:pt x="12650" y="10418"/>
                </a:cubicBezTo>
              </a:path>
              <a:path w="13495" h="2035">
                <a:moveTo>
                  <a:pt x="12874" y="9847"/>
                </a:moveTo>
                <a:cubicBezTo>
                  <a:pt x="13031" y="9847"/>
                  <a:pt x="13188" y="9847"/>
                  <a:pt x="13345" y="9847"/>
                </a:cubicBezTo>
              </a:path>
              <a:path w="13495" h="2035">
                <a:moveTo>
                  <a:pt x="13692" y="10120"/>
                </a:moveTo>
                <a:cubicBezTo>
                  <a:pt x="13617" y="10078"/>
                  <a:pt x="13580" y="10050"/>
                  <a:pt x="13494" y="10096"/>
                </a:cubicBezTo>
                <a:cubicBezTo>
                  <a:pt x="13416" y="10138"/>
                  <a:pt x="13288" y="10210"/>
                  <a:pt x="13295" y="10319"/>
                </a:cubicBezTo>
                <a:cubicBezTo>
                  <a:pt x="13302" y="10437"/>
                  <a:pt x="13540" y="10387"/>
                  <a:pt x="13593" y="10368"/>
                </a:cubicBezTo>
                <a:cubicBezTo>
                  <a:pt x="13667" y="10341"/>
                  <a:pt x="13833" y="10270"/>
                  <a:pt x="13816" y="10170"/>
                </a:cubicBezTo>
                <a:cubicBezTo>
                  <a:pt x="13802" y="10089"/>
                  <a:pt x="13719" y="10016"/>
                  <a:pt x="13643" y="9996"/>
                </a:cubicBezTo>
                <a:cubicBezTo>
                  <a:pt x="13601" y="9996"/>
                  <a:pt x="13593" y="9996"/>
                  <a:pt x="13568" y="9996"/>
                </a:cubicBezTo>
              </a:path>
              <a:path w="13495" h="2035">
                <a:moveTo>
                  <a:pt x="14238" y="9996"/>
                </a:moveTo>
                <a:cubicBezTo>
                  <a:pt x="14200" y="10042"/>
                  <a:pt x="14185" y="10039"/>
                  <a:pt x="14163" y="10071"/>
                </a:cubicBezTo>
                <a:cubicBezTo>
                  <a:pt x="14170" y="10093"/>
                  <a:pt x="14202" y="10116"/>
                  <a:pt x="14238" y="10096"/>
                </a:cubicBezTo>
                <a:cubicBezTo>
                  <a:pt x="14246" y="10088"/>
                  <a:pt x="14255" y="10079"/>
                  <a:pt x="14263" y="10071"/>
                </a:cubicBezTo>
              </a:path>
              <a:path w="13495" h="2035">
                <a:moveTo>
                  <a:pt x="14238" y="9996"/>
                </a:moveTo>
                <a:cubicBezTo>
                  <a:pt x="14230" y="9996"/>
                  <a:pt x="14146" y="9996"/>
                  <a:pt x="14213" y="9996"/>
                </a:cubicBezTo>
                <a:cubicBezTo>
                  <a:pt x="14231" y="9942"/>
                  <a:pt x="14272" y="9989"/>
                  <a:pt x="14263" y="9996"/>
                </a:cubicBezTo>
                <a:cubicBezTo>
                  <a:pt x="14226" y="10024"/>
                  <a:pt x="14233" y="10020"/>
                  <a:pt x="14188" y="10071"/>
                </a:cubicBezTo>
                <a:cubicBezTo>
                  <a:pt x="14114" y="10156"/>
                  <a:pt x="14079" y="10234"/>
                  <a:pt x="14114" y="10344"/>
                </a:cubicBezTo>
                <a:cubicBezTo>
                  <a:pt x="14141" y="10428"/>
                  <a:pt x="14236" y="10434"/>
                  <a:pt x="14312" y="10418"/>
                </a:cubicBezTo>
                <a:cubicBezTo>
                  <a:pt x="14394" y="10401"/>
                  <a:pt x="14466" y="10323"/>
                  <a:pt x="14486" y="10244"/>
                </a:cubicBezTo>
                <a:cubicBezTo>
                  <a:pt x="14502" y="10181"/>
                  <a:pt x="14486" y="10102"/>
                  <a:pt x="14461" y="10046"/>
                </a:cubicBezTo>
                <a:cubicBezTo>
                  <a:pt x="14431" y="9978"/>
                  <a:pt x="14394" y="9953"/>
                  <a:pt x="14337" y="9996"/>
                </a:cubicBezTo>
              </a:path>
              <a:path w="13495" h="2035">
                <a:moveTo>
                  <a:pt x="14982" y="9947"/>
                </a:moveTo>
                <a:cubicBezTo>
                  <a:pt x="15029" y="9912"/>
                  <a:pt x="15069" y="9922"/>
                  <a:pt x="15131" y="9922"/>
                </a:cubicBezTo>
                <a:cubicBezTo>
                  <a:pt x="15167" y="9922"/>
                  <a:pt x="15268" y="9959"/>
                  <a:pt x="15230" y="10021"/>
                </a:cubicBezTo>
                <a:cubicBezTo>
                  <a:pt x="15174" y="10113"/>
                  <a:pt x="14996" y="10187"/>
                  <a:pt x="14982" y="10294"/>
                </a:cubicBezTo>
                <a:cubicBezTo>
                  <a:pt x="14970" y="10384"/>
                  <a:pt x="15037" y="10390"/>
                  <a:pt x="15106" y="10393"/>
                </a:cubicBezTo>
                <a:cubicBezTo>
                  <a:pt x="15180" y="10397"/>
                  <a:pt x="15255" y="10393"/>
                  <a:pt x="15329" y="10393"/>
                </a:cubicBezTo>
              </a:path>
              <a:path w="13495" h="2035">
                <a:moveTo>
                  <a:pt x="16073" y="9971"/>
                </a:moveTo>
                <a:cubicBezTo>
                  <a:pt x="15963" y="9978"/>
                  <a:pt x="15876" y="9979"/>
                  <a:pt x="15801" y="10071"/>
                </a:cubicBezTo>
                <a:cubicBezTo>
                  <a:pt x="15737" y="10149"/>
                  <a:pt x="15661" y="10260"/>
                  <a:pt x="15701" y="10368"/>
                </a:cubicBezTo>
                <a:cubicBezTo>
                  <a:pt x="15739" y="10470"/>
                  <a:pt x="15874" y="10527"/>
                  <a:pt x="15974" y="10542"/>
                </a:cubicBezTo>
                <a:cubicBezTo>
                  <a:pt x="16057" y="10554"/>
                  <a:pt x="16083" y="10508"/>
                  <a:pt x="16148" y="10468"/>
                </a:cubicBezTo>
                <a:cubicBezTo>
                  <a:pt x="16132" y="10389"/>
                  <a:pt x="16085" y="10355"/>
                  <a:pt x="15999" y="10344"/>
                </a:cubicBezTo>
                <a:cubicBezTo>
                  <a:pt x="15869" y="10328"/>
                  <a:pt x="15698" y="10338"/>
                  <a:pt x="15577" y="10393"/>
                </a:cubicBezTo>
                <a:cubicBezTo>
                  <a:pt x="15552" y="10410"/>
                  <a:pt x="15528" y="10426"/>
                  <a:pt x="15503" y="10443"/>
                </a:cubicBezTo>
              </a:path>
              <a:path w="13495" h="2035">
                <a:moveTo>
                  <a:pt x="11807" y="10691"/>
                </a:moveTo>
                <a:cubicBezTo>
                  <a:pt x="12089" y="10691"/>
                  <a:pt x="12369" y="10698"/>
                  <a:pt x="12650" y="10716"/>
                </a:cubicBezTo>
                <a:cubicBezTo>
                  <a:pt x="13090" y="10744"/>
                  <a:pt x="13527" y="10761"/>
                  <a:pt x="13965" y="10815"/>
                </a:cubicBezTo>
                <a:cubicBezTo>
                  <a:pt x="14347" y="10862"/>
                  <a:pt x="14726" y="10935"/>
                  <a:pt x="15106" y="10988"/>
                </a:cubicBezTo>
                <a:cubicBezTo>
                  <a:pt x="15170" y="10997"/>
                  <a:pt x="15586" y="11078"/>
                  <a:pt x="15652" y="10988"/>
                </a:cubicBezTo>
                <a:cubicBezTo>
                  <a:pt x="15704" y="10916"/>
                  <a:pt x="15641" y="10954"/>
                  <a:pt x="15627" y="10889"/>
                </a:cubicBezTo>
              </a:path>
              <a:path w="13495" h="2035">
                <a:moveTo>
                  <a:pt x="11931" y="9351"/>
                </a:moveTo>
                <a:cubicBezTo>
                  <a:pt x="11903" y="9314"/>
                  <a:pt x="11945" y="9247"/>
                  <a:pt x="11857" y="9351"/>
                </a:cubicBezTo>
                <a:cubicBezTo>
                  <a:pt x="11708" y="9527"/>
                  <a:pt x="11618" y="9733"/>
                  <a:pt x="11534" y="9947"/>
                </a:cubicBezTo>
                <a:cubicBezTo>
                  <a:pt x="11418" y="10243"/>
                  <a:pt x="11266" y="10617"/>
                  <a:pt x="11261" y="10939"/>
                </a:cubicBezTo>
                <a:cubicBezTo>
                  <a:pt x="11259" y="11108"/>
                  <a:pt x="11312" y="11170"/>
                  <a:pt x="11410" y="11286"/>
                </a:cubicBezTo>
              </a:path>
              <a:path w="13495" h="2035">
                <a:moveTo>
                  <a:pt x="8806" y="10443"/>
                </a:moveTo>
                <a:cubicBezTo>
                  <a:pt x="8913" y="10497"/>
                  <a:pt x="8979" y="10492"/>
                  <a:pt x="9103" y="10492"/>
                </a:cubicBezTo>
                <a:cubicBezTo>
                  <a:pt x="9210" y="10492"/>
                  <a:pt x="9296" y="10487"/>
                  <a:pt x="9401" y="10468"/>
                </a:cubicBezTo>
              </a:path>
              <a:path w="13495" h="2035">
                <a:moveTo>
                  <a:pt x="9252" y="10244"/>
                </a:moveTo>
                <a:cubicBezTo>
                  <a:pt x="9167" y="10306"/>
                  <a:pt x="9170" y="10371"/>
                  <a:pt x="9128" y="10468"/>
                </a:cubicBezTo>
                <a:cubicBezTo>
                  <a:pt x="9077" y="10586"/>
                  <a:pt x="9040" y="10687"/>
                  <a:pt x="9029" y="10815"/>
                </a:cubicBezTo>
              </a:path>
              <a:path w="13495" h="2035">
                <a:moveTo>
                  <a:pt x="6325" y="10716"/>
                </a:moveTo>
                <a:cubicBezTo>
                  <a:pt x="6325" y="10671"/>
                  <a:pt x="6340" y="10655"/>
                  <a:pt x="6350" y="10616"/>
                </a:cubicBezTo>
                <a:cubicBezTo>
                  <a:pt x="6350" y="10704"/>
                  <a:pt x="6322" y="10778"/>
                  <a:pt x="6300" y="10864"/>
                </a:cubicBezTo>
                <a:cubicBezTo>
                  <a:pt x="6267" y="10995"/>
                  <a:pt x="6270" y="11136"/>
                  <a:pt x="6226" y="11261"/>
                </a:cubicBezTo>
                <a:cubicBezTo>
                  <a:pt x="6221" y="11275"/>
                  <a:pt x="6201" y="11371"/>
                  <a:pt x="6201" y="11311"/>
                </a:cubicBezTo>
                <a:cubicBezTo>
                  <a:pt x="6212" y="11175"/>
                  <a:pt x="6253" y="11044"/>
                  <a:pt x="6300" y="10914"/>
                </a:cubicBezTo>
                <a:cubicBezTo>
                  <a:pt x="6352" y="10770"/>
                  <a:pt x="6403" y="10589"/>
                  <a:pt x="6499" y="10468"/>
                </a:cubicBezTo>
                <a:cubicBezTo>
                  <a:pt x="6563" y="10387"/>
                  <a:pt x="6627" y="10356"/>
                  <a:pt x="6722" y="10344"/>
                </a:cubicBezTo>
                <a:cubicBezTo>
                  <a:pt x="6751" y="10392"/>
                  <a:pt x="6768" y="10508"/>
                  <a:pt x="6747" y="10567"/>
                </a:cubicBezTo>
                <a:cubicBezTo>
                  <a:pt x="6726" y="10628"/>
                  <a:pt x="6615" y="10792"/>
                  <a:pt x="6548" y="10815"/>
                </a:cubicBezTo>
                <a:cubicBezTo>
                  <a:pt x="6446" y="10851"/>
                  <a:pt x="6433" y="10760"/>
                  <a:pt x="6424" y="10691"/>
                </a:cubicBezTo>
              </a:path>
              <a:path w="13495" h="2035">
                <a:moveTo>
                  <a:pt x="7169" y="9748"/>
                </a:moveTo>
                <a:cubicBezTo>
                  <a:pt x="7253" y="9760"/>
                  <a:pt x="7244" y="9791"/>
                  <a:pt x="7268" y="9872"/>
                </a:cubicBezTo>
                <a:cubicBezTo>
                  <a:pt x="7323" y="10062"/>
                  <a:pt x="7260" y="10186"/>
                  <a:pt x="7218" y="10368"/>
                </a:cubicBezTo>
                <a:cubicBezTo>
                  <a:pt x="7183" y="10521"/>
                  <a:pt x="7145" y="10686"/>
                  <a:pt x="7119" y="10840"/>
                </a:cubicBezTo>
              </a:path>
              <a:path w="13495" h="2035">
                <a:moveTo>
                  <a:pt x="7689" y="9947"/>
                </a:moveTo>
                <a:cubicBezTo>
                  <a:pt x="7587" y="9997"/>
                  <a:pt x="7522" y="10063"/>
                  <a:pt x="7441" y="10145"/>
                </a:cubicBezTo>
                <a:cubicBezTo>
                  <a:pt x="7350" y="10236"/>
                  <a:pt x="7271" y="10363"/>
                  <a:pt x="7243" y="10492"/>
                </a:cubicBezTo>
                <a:cubicBezTo>
                  <a:pt x="7233" y="10538"/>
                  <a:pt x="7236" y="10646"/>
                  <a:pt x="7293" y="10666"/>
                </a:cubicBezTo>
                <a:cubicBezTo>
                  <a:pt x="7370" y="10694"/>
                  <a:pt x="7471" y="10653"/>
                  <a:pt x="7541" y="10641"/>
                </a:cubicBezTo>
                <a:cubicBezTo>
                  <a:pt x="7557" y="10641"/>
                  <a:pt x="7574" y="10641"/>
                  <a:pt x="7590" y="10641"/>
                </a:cubicBezTo>
              </a:path>
              <a:path w="13495" h="2035">
                <a:moveTo>
                  <a:pt x="7913" y="10492"/>
                </a:moveTo>
                <a:cubicBezTo>
                  <a:pt x="7839" y="10507"/>
                  <a:pt x="7794" y="10540"/>
                  <a:pt x="7739" y="10592"/>
                </a:cubicBezTo>
                <a:cubicBezTo>
                  <a:pt x="7688" y="10640"/>
                  <a:pt x="7640" y="10669"/>
                  <a:pt x="7640" y="10740"/>
                </a:cubicBezTo>
                <a:cubicBezTo>
                  <a:pt x="7717" y="10740"/>
                  <a:pt x="7780" y="10728"/>
                  <a:pt x="7838" y="10666"/>
                </a:cubicBezTo>
                <a:cubicBezTo>
                  <a:pt x="7882" y="10618"/>
                  <a:pt x="7897" y="10597"/>
                  <a:pt x="7913" y="10542"/>
                </a:cubicBezTo>
                <a:cubicBezTo>
                  <a:pt x="7870" y="10585"/>
                  <a:pt x="7831" y="10649"/>
                  <a:pt x="7863" y="10716"/>
                </a:cubicBezTo>
                <a:cubicBezTo>
                  <a:pt x="7887" y="10765"/>
                  <a:pt x="7996" y="10814"/>
                  <a:pt x="8037" y="10840"/>
                </a:cubicBezTo>
              </a:path>
              <a:path w="13495" h="2035">
                <a:moveTo>
                  <a:pt x="4911" y="10716"/>
                </a:moveTo>
                <a:cubicBezTo>
                  <a:pt x="4962" y="10694"/>
                  <a:pt x="5032" y="10673"/>
                  <a:pt x="5085" y="10666"/>
                </a:cubicBezTo>
                <a:cubicBezTo>
                  <a:pt x="5183" y="10653"/>
                  <a:pt x="5262" y="10667"/>
                  <a:pt x="5358" y="10641"/>
                </a:cubicBezTo>
              </a:path>
              <a:path w="13495" h="2035">
                <a:moveTo>
                  <a:pt x="5135" y="10964"/>
                </a:moveTo>
                <a:cubicBezTo>
                  <a:pt x="5155" y="11064"/>
                  <a:pt x="5189" y="11086"/>
                  <a:pt x="5308" y="11063"/>
                </a:cubicBezTo>
                <a:cubicBezTo>
                  <a:pt x="5333" y="11055"/>
                  <a:pt x="5358" y="11046"/>
                  <a:pt x="5383" y="11038"/>
                </a:cubicBezTo>
              </a:path>
              <a:path w="13495" h="2035">
                <a:moveTo>
                  <a:pt x="2778" y="10641"/>
                </a:moveTo>
                <a:cubicBezTo>
                  <a:pt x="2721" y="10740"/>
                  <a:pt x="2667" y="10848"/>
                  <a:pt x="2654" y="10964"/>
                </a:cubicBezTo>
                <a:cubicBezTo>
                  <a:pt x="2639" y="11095"/>
                  <a:pt x="2654" y="11443"/>
                  <a:pt x="2654" y="11311"/>
                </a:cubicBezTo>
                <a:cubicBezTo>
                  <a:pt x="2654" y="11181"/>
                  <a:pt x="2634" y="11038"/>
                  <a:pt x="2679" y="10914"/>
                </a:cubicBezTo>
                <a:cubicBezTo>
                  <a:pt x="2731" y="10771"/>
                  <a:pt x="2817" y="10644"/>
                  <a:pt x="2952" y="10567"/>
                </a:cubicBezTo>
                <a:cubicBezTo>
                  <a:pt x="3033" y="10521"/>
                  <a:pt x="3088" y="10504"/>
                  <a:pt x="3150" y="10567"/>
                </a:cubicBezTo>
                <a:cubicBezTo>
                  <a:pt x="3129" y="10693"/>
                  <a:pt x="3051" y="10798"/>
                  <a:pt x="2952" y="10889"/>
                </a:cubicBezTo>
                <a:cubicBezTo>
                  <a:pt x="2894" y="10943"/>
                  <a:pt x="2849" y="10955"/>
                  <a:pt x="2778" y="10964"/>
                </a:cubicBezTo>
              </a:path>
              <a:path w="13495" h="2035">
                <a:moveTo>
                  <a:pt x="3398" y="9872"/>
                </a:moveTo>
                <a:cubicBezTo>
                  <a:pt x="3373" y="9974"/>
                  <a:pt x="3311" y="10047"/>
                  <a:pt x="3299" y="10170"/>
                </a:cubicBezTo>
                <a:cubicBezTo>
                  <a:pt x="3285" y="10322"/>
                  <a:pt x="3260" y="10574"/>
                  <a:pt x="3324" y="10716"/>
                </a:cubicBezTo>
                <a:cubicBezTo>
                  <a:pt x="3332" y="10724"/>
                  <a:pt x="3341" y="10732"/>
                  <a:pt x="3349" y="10740"/>
                </a:cubicBezTo>
              </a:path>
              <a:path w="13495" h="2035">
                <a:moveTo>
                  <a:pt x="3349" y="10567"/>
                </a:moveTo>
                <a:cubicBezTo>
                  <a:pt x="3405" y="10553"/>
                  <a:pt x="3472" y="10503"/>
                  <a:pt x="3522" y="10468"/>
                </a:cubicBezTo>
                <a:cubicBezTo>
                  <a:pt x="3621" y="10393"/>
                  <a:pt x="3654" y="10368"/>
                  <a:pt x="3721" y="10319"/>
                </a:cubicBezTo>
              </a:path>
              <a:path w="13495" h="2035">
                <a:moveTo>
                  <a:pt x="3919" y="9996"/>
                </a:moveTo>
                <a:cubicBezTo>
                  <a:pt x="3872" y="9970"/>
                  <a:pt x="3756" y="9890"/>
                  <a:pt x="3721" y="9996"/>
                </a:cubicBezTo>
                <a:cubicBezTo>
                  <a:pt x="3676" y="10132"/>
                  <a:pt x="3729" y="10358"/>
                  <a:pt x="3746" y="10492"/>
                </a:cubicBezTo>
                <a:cubicBezTo>
                  <a:pt x="3768" y="10662"/>
                  <a:pt x="3794" y="10825"/>
                  <a:pt x="3845" y="109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86160" y="3562200"/>
            <a:ext cx="1706760" cy="768600"/>
          </a:xfrm>
          <a:custGeom>
            <a:avLst/>
            <a:gdLst/>
            <a:ahLst/>
            <a:rect l="l" t="t" r="r" b="b"/>
            <a:pathLst>
              <a:path w="4739" h="2134">
                <a:moveTo>
                  <a:pt x="11931" y="11559"/>
                </a:moveTo>
                <a:cubicBezTo>
                  <a:pt x="11923" y="11567"/>
                  <a:pt x="11914" y="11576"/>
                  <a:pt x="11906" y="11584"/>
                </a:cubicBezTo>
                <a:cubicBezTo>
                  <a:pt x="11938" y="11560"/>
                  <a:pt x="12032" y="11563"/>
                  <a:pt x="12005" y="11534"/>
                </a:cubicBezTo>
                <a:cubicBezTo>
                  <a:pt x="11977" y="11534"/>
                  <a:pt x="11967" y="11537"/>
                  <a:pt x="11956" y="11559"/>
                </a:cubicBezTo>
              </a:path>
              <a:path w="4739" h="2134">
                <a:moveTo>
                  <a:pt x="12849" y="11162"/>
                </a:moveTo>
                <a:cubicBezTo>
                  <a:pt x="12893" y="11184"/>
                  <a:pt x="12810" y="11203"/>
                  <a:pt x="12774" y="11237"/>
                </a:cubicBezTo>
                <a:cubicBezTo>
                  <a:pt x="12707" y="11299"/>
                  <a:pt x="12630" y="11386"/>
                  <a:pt x="12576" y="11460"/>
                </a:cubicBezTo>
                <a:cubicBezTo>
                  <a:pt x="12545" y="11503"/>
                  <a:pt x="12551" y="11535"/>
                  <a:pt x="12551" y="11584"/>
                </a:cubicBezTo>
              </a:path>
              <a:path w="4739" h="2134">
                <a:moveTo>
                  <a:pt x="13122" y="11212"/>
                </a:moveTo>
                <a:cubicBezTo>
                  <a:pt x="13099" y="11235"/>
                  <a:pt x="13049" y="11270"/>
                  <a:pt x="13072" y="11311"/>
                </a:cubicBezTo>
                <a:cubicBezTo>
                  <a:pt x="13099" y="11359"/>
                  <a:pt x="13223" y="11403"/>
                  <a:pt x="13271" y="11410"/>
                </a:cubicBezTo>
                <a:cubicBezTo>
                  <a:pt x="13353" y="11410"/>
                  <a:pt x="13386" y="11410"/>
                  <a:pt x="13444" y="11410"/>
                </a:cubicBezTo>
              </a:path>
              <a:path w="4739" h="2134">
                <a:moveTo>
                  <a:pt x="13667" y="11261"/>
                </a:moveTo>
                <a:cubicBezTo>
                  <a:pt x="13494" y="11307"/>
                  <a:pt x="13374" y="11351"/>
                  <a:pt x="13271" y="11509"/>
                </a:cubicBezTo>
                <a:cubicBezTo>
                  <a:pt x="13202" y="11614"/>
                  <a:pt x="13183" y="11694"/>
                  <a:pt x="13221" y="11807"/>
                </a:cubicBezTo>
              </a:path>
              <a:path w="4739" h="2134">
                <a:moveTo>
                  <a:pt x="14064" y="11336"/>
                </a:moveTo>
                <a:cubicBezTo>
                  <a:pt x="13981" y="11286"/>
                  <a:pt x="13950" y="11318"/>
                  <a:pt x="13866" y="11361"/>
                </a:cubicBezTo>
                <a:cubicBezTo>
                  <a:pt x="13794" y="11398"/>
                  <a:pt x="13759" y="11402"/>
                  <a:pt x="13742" y="11485"/>
                </a:cubicBezTo>
                <a:cubicBezTo>
                  <a:pt x="13823" y="11485"/>
                  <a:pt x="13888" y="11490"/>
                  <a:pt x="13965" y="11460"/>
                </a:cubicBezTo>
                <a:cubicBezTo>
                  <a:pt x="13991" y="11450"/>
                  <a:pt x="14090" y="11410"/>
                  <a:pt x="14039" y="11410"/>
                </a:cubicBezTo>
                <a:cubicBezTo>
                  <a:pt x="13987" y="11494"/>
                  <a:pt x="13910" y="11566"/>
                  <a:pt x="13866" y="11658"/>
                </a:cubicBezTo>
                <a:cubicBezTo>
                  <a:pt x="13832" y="11729"/>
                  <a:pt x="13816" y="11803"/>
                  <a:pt x="13816" y="11881"/>
                </a:cubicBezTo>
              </a:path>
              <a:path w="4739" h="2134">
                <a:moveTo>
                  <a:pt x="14560" y="11460"/>
                </a:moveTo>
                <a:cubicBezTo>
                  <a:pt x="14568" y="11452"/>
                  <a:pt x="14577" y="11443"/>
                  <a:pt x="14585" y="11435"/>
                </a:cubicBezTo>
                <a:cubicBezTo>
                  <a:pt x="14546" y="11406"/>
                  <a:pt x="14488" y="11395"/>
                  <a:pt x="14436" y="11410"/>
                </a:cubicBezTo>
                <a:cubicBezTo>
                  <a:pt x="14390" y="11423"/>
                  <a:pt x="14322" y="11454"/>
                  <a:pt x="14312" y="11485"/>
                </a:cubicBezTo>
                <a:cubicBezTo>
                  <a:pt x="14351" y="11513"/>
                  <a:pt x="14409" y="11523"/>
                  <a:pt x="14461" y="11509"/>
                </a:cubicBezTo>
                <a:cubicBezTo>
                  <a:pt x="14506" y="11497"/>
                  <a:pt x="14540" y="11469"/>
                  <a:pt x="14585" y="11460"/>
                </a:cubicBezTo>
                <a:cubicBezTo>
                  <a:pt x="14585" y="11556"/>
                  <a:pt x="14545" y="11571"/>
                  <a:pt x="14511" y="11658"/>
                </a:cubicBezTo>
                <a:cubicBezTo>
                  <a:pt x="14485" y="11726"/>
                  <a:pt x="14415" y="11907"/>
                  <a:pt x="14436" y="11981"/>
                </a:cubicBezTo>
                <a:cubicBezTo>
                  <a:pt x="14444" y="11989"/>
                  <a:pt x="14453" y="11997"/>
                  <a:pt x="14461" y="12005"/>
                </a:cubicBezTo>
              </a:path>
              <a:path w="4739" h="2134">
                <a:moveTo>
                  <a:pt x="15081" y="11534"/>
                </a:moveTo>
                <a:cubicBezTo>
                  <a:pt x="15089" y="11526"/>
                  <a:pt x="15098" y="11517"/>
                  <a:pt x="15106" y="11509"/>
                </a:cubicBezTo>
                <a:cubicBezTo>
                  <a:pt x="15057" y="11533"/>
                  <a:pt x="15023" y="11587"/>
                  <a:pt x="14982" y="11633"/>
                </a:cubicBezTo>
                <a:cubicBezTo>
                  <a:pt x="14924" y="11699"/>
                  <a:pt x="14908" y="11720"/>
                  <a:pt x="14908" y="11807"/>
                </a:cubicBezTo>
                <a:cubicBezTo>
                  <a:pt x="14988" y="11807"/>
                  <a:pt x="15057" y="11794"/>
                  <a:pt x="15131" y="11782"/>
                </a:cubicBezTo>
                <a:cubicBezTo>
                  <a:pt x="15182" y="11782"/>
                  <a:pt x="15201" y="11781"/>
                  <a:pt x="15230" y="11757"/>
                </a:cubicBezTo>
              </a:path>
              <a:path w="4739" h="2134">
                <a:moveTo>
                  <a:pt x="15478" y="11460"/>
                </a:moveTo>
                <a:cubicBezTo>
                  <a:pt x="15419" y="11519"/>
                  <a:pt x="15347" y="11588"/>
                  <a:pt x="15304" y="11658"/>
                </a:cubicBezTo>
                <a:cubicBezTo>
                  <a:pt x="15260" y="11728"/>
                  <a:pt x="15175" y="11852"/>
                  <a:pt x="15156" y="11931"/>
                </a:cubicBezTo>
                <a:cubicBezTo>
                  <a:pt x="15156" y="11948"/>
                  <a:pt x="15156" y="11964"/>
                  <a:pt x="15156" y="11981"/>
                </a:cubicBezTo>
              </a:path>
              <a:path w="4739" h="2134">
                <a:moveTo>
                  <a:pt x="14808" y="11361"/>
                </a:moveTo>
                <a:cubicBezTo>
                  <a:pt x="14798" y="11390"/>
                  <a:pt x="14788" y="11403"/>
                  <a:pt x="14759" y="11435"/>
                </a:cubicBezTo>
                <a:cubicBezTo>
                  <a:pt x="14736" y="11458"/>
                  <a:pt x="14728" y="11462"/>
                  <a:pt x="14734" y="11485"/>
                </a:cubicBezTo>
                <a:cubicBezTo>
                  <a:pt x="14757" y="11454"/>
                  <a:pt x="14780" y="11424"/>
                  <a:pt x="14784" y="11385"/>
                </a:cubicBezTo>
                <a:cubicBezTo>
                  <a:pt x="14784" y="11361"/>
                  <a:pt x="14784" y="11352"/>
                  <a:pt x="14784" y="11336"/>
                </a:cubicBezTo>
                <a:cubicBezTo>
                  <a:pt x="14839" y="11336"/>
                  <a:pt x="14855" y="11347"/>
                  <a:pt x="14908" y="11361"/>
                </a:cubicBezTo>
                <a:cubicBezTo>
                  <a:pt x="14955" y="11373"/>
                  <a:pt x="14964" y="11354"/>
                  <a:pt x="15007" y="11385"/>
                </a:cubicBezTo>
                <a:cubicBezTo>
                  <a:pt x="14994" y="11436"/>
                  <a:pt x="14956" y="11506"/>
                  <a:pt x="14932" y="11559"/>
                </a:cubicBezTo>
                <a:cubicBezTo>
                  <a:pt x="14884" y="11666"/>
                  <a:pt x="14804" y="11790"/>
                  <a:pt x="14784" y="11906"/>
                </a:cubicBezTo>
                <a:cubicBezTo>
                  <a:pt x="14784" y="11972"/>
                  <a:pt x="14784" y="11989"/>
                  <a:pt x="14784" y="12030"/>
                </a:cubicBezTo>
              </a:path>
              <a:path w="4739" h="2134">
                <a:moveTo>
                  <a:pt x="16570" y="9897"/>
                </a:moveTo>
                <a:cubicBezTo>
                  <a:pt x="16576" y="9991"/>
                  <a:pt x="16603" y="10154"/>
                  <a:pt x="16619" y="10269"/>
                </a:cubicBezTo>
                <a:cubicBezTo>
                  <a:pt x="16662" y="10576"/>
                  <a:pt x="16659" y="10869"/>
                  <a:pt x="16545" y="11162"/>
                </a:cubicBezTo>
                <a:cubicBezTo>
                  <a:pt x="16447" y="11414"/>
                  <a:pt x="16214" y="11624"/>
                  <a:pt x="15999" y="11782"/>
                </a:cubicBezTo>
                <a:cubicBezTo>
                  <a:pt x="15874" y="11874"/>
                  <a:pt x="15747" y="11915"/>
                  <a:pt x="15602" y="119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1800" y="4527720"/>
            <a:ext cx="563400" cy="633240"/>
          </a:xfrm>
          <a:custGeom>
            <a:avLst/>
            <a:gdLst/>
            <a:ahLst/>
            <a:rect l="l" t="t" r="r" b="b"/>
            <a:pathLst>
              <a:path w="1564" h="1762">
                <a:moveTo>
                  <a:pt x="2604" y="12923"/>
                </a:moveTo>
                <a:cubicBezTo>
                  <a:pt x="2565" y="12884"/>
                  <a:pt x="2542" y="12873"/>
                  <a:pt x="2604" y="12799"/>
                </a:cubicBezTo>
                <a:cubicBezTo>
                  <a:pt x="2673" y="12715"/>
                  <a:pt x="2785" y="12631"/>
                  <a:pt x="2902" y="12675"/>
                </a:cubicBezTo>
                <a:cubicBezTo>
                  <a:pt x="3012" y="12716"/>
                  <a:pt x="3031" y="12873"/>
                  <a:pt x="3001" y="12973"/>
                </a:cubicBezTo>
                <a:cubicBezTo>
                  <a:pt x="2965" y="13093"/>
                  <a:pt x="2914" y="13204"/>
                  <a:pt x="2828" y="13295"/>
                </a:cubicBezTo>
                <a:cubicBezTo>
                  <a:pt x="2786" y="13337"/>
                  <a:pt x="2778" y="13345"/>
                  <a:pt x="2753" y="13370"/>
                </a:cubicBezTo>
                <a:cubicBezTo>
                  <a:pt x="2818" y="13345"/>
                  <a:pt x="2905" y="13326"/>
                  <a:pt x="2977" y="13345"/>
                </a:cubicBezTo>
                <a:cubicBezTo>
                  <a:pt x="3064" y="13368"/>
                  <a:pt x="3074" y="13496"/>
                  <a:pt x="3051" y="13568"/>
                </a:cubicBezTo>
                <a:cubicBezTo>
                  <a:pt x="3016" y="13678"/>
                  <a:pt x="2892" y="13845"/>
                  <a:pt x="2803" y="13915"/>
                </a:cubicBezTo>
                <a:cubicBezTo>
                  <a:pt x="2720" y="13980"/>
                  <a:pt x="2628" y="14035"/>
                  <a:pt x="2530" y="14064"/>
                </a:cubicBezTo>
                <a:cubicBezTo>
                  <a:pt x="2522" y="14064"/>
                  <a:pt x="2513" y="14064"/>
                  <a:pt x="2505" y="14064"/>
                </a:cubicBezTo>
              </a:path>
              <a:path w="1564" h="1762">
                <a:moveTo>
                  <a:pt x="3373" y="13568"/>
                </a:moveTo>
                <a:cubicBezTo>
                  <a:pt x="3432" y="13479"/>
                  <a:pt x="3305" y="13632"/>
                  <a:pt x="3299" y="13643"/>
                </a:cubicBezTo>
                <a:cubicBezTo>
                  <a:pt x="3261" y="13716"/>
                  <a:pt x="3234" y="13812"/>
                  <a:pt x="3225" y="13891"/>
                </a:cubicBezTo>
                <a:cubicBezTo>
                  <a:pt x="3278" y="13922"/>
                  <a:pt x="3333" y="13937"/>
                  <a:pt x="3373" y="13866"/>
                </a:cubicBezTo>
                <a:cubicBezTo>
                  <a:pt x="3408" y="13804"/>
                  <a:pt x="3443" y="13712"/>
                  <a:pt x="3448" y="13643"/>
                </a:cubicBezTo>
                <a:cubicBezTo>
                  <a:pt x="3454" y="13562"/>
                  <a:pt x="3448" y="13616"/>
                  <a:pt x="3448" y="13667"/>
                </a:cubicBezTo>
                <a:cubicBezTo>
                  <a:pt x="3448" y="13751"/>
                  <a:pt x="3477" y="13838"/>
                  <a:pt x="3547" y="13891"/>
                </a:cubicBezTo>
                <a:cubicBezTo>
                  <a:pt x="3595" y="13914"/>
                  <a:pt x="3610" y="13922"/>
                  <a:pt x="3646" y="13915"/>
                </a:cubicBezTo>
              </a:path>
              <a:path w="1564" h="1762">
                <a:moveTo>
                  <a:pt x="3696" y="12626"/>
                </a:moveTo>
                <a:cubicBezTo>
                  <a:pt x="3716" y="12585"/>
                  <a:pt x="3714" y="12569"/>
                  <a:pt x="3746" y="12576"/>
                </a:cubicBezTo>
                <a:cubicBezTo>
                  <a:pt x="3799" y="12699"/>
                  <a:pt x="3850" y="12820"/>
                  <a:pt x="3894" y="12948"/>
                </a:cubicBezTo>
                <a:cubicBezTo>
                  <a:pt x="3965" y="13153"/>
                  <a:pt x="4050" y="13376"/>
                  <a:pt x="4068" y="13593"/>
                </a:cubicBezTo>
                <a:cubicBezTo>
                  <a:pt x="4083" y="13774"/>
                  <a:pt x="4078" y="13989"/>
                  <a:pt x="4018" y="14163"/>
                </a:cubicBezTo>
                <a:cubicBezTo>
                  <a:pt x="3972" y="14256"/>
                  <a:pt x="3960" y="14284"/>
                  <a:pt x="3919" y="143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1040" y="4697280"/>
            <a:ext cx="911160" cy="401760"/>
          </a:xfrm>
          <a:custGeom>
            <a:avLst/>
            <a:gdLst/>
            <a:ahLst/>
            <a:rect l="l" t="t" r="r" b="b"/>
            <a:pathLst>
              <a:path w="2531" h="1117">
                <a:moveTo>
                  <a:pt x="4862" y="13221"/>
                </a:moveTo>
                <a:cubicBezTo>
                  <a:pt x="4862" y="13316"/>
                  <a:pt x="4881" y="13400"/>
                  <a:pt x="4887" y="13494"/>
                </a:cubicBezTo>
                <a:cubicBezTo>
                  <a:pt x="4897" y="13661"/>
                  <a:pt x="4896" y="13825"/>
                  <a:pt x="4911" y="13990"/>
                </a:cubicBezTo>
                <a:cubicBezTo>
                  <a:pt x="4918" y="14062"/>
                  <a:pt x="4902" y="14083"/>
                  <a:pt x="4936" y="14139"/>
                </a:cubicBezTo>
              </a:path>
              <a:path w="2531" h="1117">
                <a:moveTo>
                  <a:pt x="5135" y="13171"/>
                </a:moveTo>
                <a:cubicBezTo>
                  <a:pt x="5160" y="13163"/>
                  <a:pt x="5184" y="13154"/>
                  <a:pt x="5209" y="13146"/>
                </a:cubicBezTo>
                <a:cubicBezTo>
                  <a:pt x="5209" y="13363"/>
                  <a:pt x="5197" y="13576"/>
                  <a:pt x="5184" y="13791"/>
                </a:cubicBezTo>
                <a:cubicBezTo>
                  <a:pt x="5178" y="13890"/>
                  <a:pt x="5157" y="14050"/>
                  <a:pt x="5209" y="14139"/>
                </a:cubicBezTo>
                <a:cubicBezTo>
                  <a:pt x="5217" y="14147"/>
                  <a:pt x="5226" y="14155"/>
                  <a:pt x="5234" y="14163"/>
                </a:cubicBezTo>
              </a:path>
              <a:path w="2531" h="1117">
                <a:moveTo>
                  <a:pt x="5705" y="13841"/>
                </a:moveTo>
                <a:cubicBezTo>
                  <a:pt x="5705" y="13894"/>
                  <a:pt x="5693" y="13878"/>
                  <a:pt x="5680" y="13915"/>
                </a:cubicBezTo>
              </a:path>
              <a:path w="2531" h="1117">
                <a:moveTo>
                  <a:pt x="6176" y="13122"/>
                </a:moveTo>
                <a:cubicBezTo>
                  <a:pt x="6187" y="13090"/>
                  <a:pt x="6201" y="13014"/>
                  <a:pt x="6201" y="13047"/>
                </a:cubicBezTo>
                <a:cubicBezTo>
                  <a:pt x="6201" y="13125"/>
                  <a:pt x="6183" y="13196"/>
                  <a:pt x="6176" y="13271"/>
                </a:cubicBezTo>
                <a:cubicBezTo>
                  <a:pt x="6169" y="13348"/>
                  <a:pt x="6160" y="13482"/>
                  <a:pt x="6226" y="13543"/>
                </a:cubicBezTo>
                <a:cubicBezTo>
                  <a:pt x="6278" y="13591"/>
                  <a:pt x="6382" y="13609"/>
                  <a:pt x="6449" y="13593"/>
                </a:cubicBezTo>
                <a:cubicBezTo>
                  <a:pt x="6540" y="13571"/>
                  <a:pt x="6600" y="13517"/>
                  <a:pt x="6672" y="13469"/>
                </a:cubicBezTo>
                <a:cubicBezTo>
                  <a:pt x="6722" y="13444"/>
                  <a:pt x="6738" y="13436"/>
                  <a:pt x="6747" y="13395"/>
                </a:cubicBezTo>
              </a:path>
              <a:path w="2531" h="1117">
                <a:moveTo>
                  <a:pt x="6747" y="13072"/>
                </a:moveTo>
                <a:cubicBezTo>
                  <a:pt x="6705" y="13072"/>
                  <a:pt x="6669" y="13078"/>
                  <a:pt x="6648" y="13122"/>
                </a:cubicBezTo>
                <a:cubicBezTo>
                  <a:pt x="6598" y="13227"/>
                  <a:pt x="6572" y="13356"/>
                  <a:pt x="6548" y="13469"/>
                </a:cubicBezTo>
                <a:cubicBezTo>
                  <a:pt x="6518" y="13608"/>
                  <a:pt x="6480" y="13750"/>
                  <a:pt x="6474" y="13891"/>
                </a:cubicBezTo>
                <a:cubicBezTo>
                  <a:pt x="6474" y="13932"/>
                  <a:pt x="6466" y="13948"/>
                  <a:pt x="6499" y="13940"/>
                </a:cubicBezTo>
              </a:path>
              <a:path w="2531" h="1117">
                <a:moveTo>
                  <a:pt x="7045" y="13196"/>
                </a:moveTo>
                <a:cubicBezTo>
                  <a:pt x="7110" y="13196"/>
                  <a:pt x="7155" y="13175"/>
                  <a:pt x="7218" y="13171"/>
                </a:cubicBezTo>
                <a:cubicBezTo>
                  <a:pt x="7282" y="13167"/>
                  <a:pt x="7315" y="13139"/>
                  <a:pt x="7367" y="13122"/>
                </a:cubicBezTo>
                <a:cubicBezTo>
                  <a:pt x="7375" y="13122"/>
                  <a:pt x="7384" y="13122"/>
                  <a:pt x="7392" y="13122"/>
                </a:cubicBezTo>
              </a:path>
              <a:path w="2531" h="1117">
                <a:moveTo>
                  <a:pt x="7317" y="13122"/>
                </a:moveTo>
                <a:cubicBezTo>
                  <a:pt x="7193" y="13157"/>
                  <a:pt x="7149" y="13199"/>
                  <a:pt x="7045" y="13271"/>
                </a:cubicBezTo>
                <a:cubicBezTo>
                  <a:pt x="6962" y="13328"/>
                  <a:pt x="6895" y="13381"/>
                  <a:pt x="6846" y="13469"/>
                </a:cubicBezTo>
                <a:cubicBezTo>
                  <a:pt x="6826" y="13509"/>
                  <a:pt x="6817" y="13516"/>
                  <a:pt x="6821" y="13543"/>
                </a:cubicBezTo>
                <a:cubicBezTo>
                  <a:pt x="6880" y="13587"/>
                  <a:pt x="6924" y="13543"/>
                  <a:pt x="6995" y="13519"/>
                </a:cubicBezTo>
                <a:cubicBezTo>
                  <a:pt x="7078" y="13490"/>
                  <a:pt x="7177" y="13445"/>
                  <a:pt x="7268" y="13469"/>
                </a:cubicBezTo>
                <a:cubicBezTo>
                  <a:pt x="7365" y="13495"/>
                  <a:pt x="7364" y="13585"/>
                  <a:pt x="7367" y="13667"/>
                </a:cubicBezTo>
                <a:cubicBezTo>
                  <a:pt x="7371" y="13769"/>
                  <a:pt x="7340" y="13898"/>
                  <a:pt x="7293" y="13990"/>
                </a:cubicBezTo>
                <a:cubicBezTo>
                  <a:pt x="7254" y="14065"/>
                  <a:pt x="7173" y="14130"/>
                  <a:pt x="7094" y="14139"/>
                </a:cubicBezTo>
                <a:cubicBezTo>
                  <a:pt x="7046" y="14144"/>
                  <a:pt x="6993" y="14139"/>
                  <a:pt x="6945" y="141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86120" y="4643280"/>
            <a:ext cx="696960" cy="598680"/>
          </a:xfrm>
          <a:custGeom>
            <a:avLst/>
            <a:gdLst/>
            <a:ahLst/>
            <a:rect l="l" t="t" r="r" b="b"/>
            <a:pathLst>
              <a:path w="1936" h="1663">
                <a:moveTo>
                  <a:pt x="10592" y="13469"/>
                </a:moveTo>
                <a:cubicBezTo>
                  <a:pt x="10578" y="13466"/>
                  <a:pt x="10537" y="13458"/>
                  <a:pt x="10517" y="13494"/>
                </a:cubicBezTo>
                <a:cubicBezTo>
                  <a:pt x="10517" y="13519"/>
                  <a:pt x="10517" y="13527"/>
                  <a:pt x="10517" y="13543"/>
                </a:cubicBezTo>
                <a:cubicBezTo>
                  <a:pt x="10541" y="13520"/>
                  <a:pt x="10558" y="13526"/>
                  <a:pt x="10567" y="13494"/>
                </a:cubicBezTo>
                <a:cubicBezTo>
                  <a:pt x="10583" y="13437"/>
                  <a:pt x="10553" y="13425"/>
                  <a:pt x="10592" y="13395"/>
                </a:cubicBezTo>
                <a:cubicBezTo>
                  <a:pt x="10624" y="13370"/>
                  <a:pt x="10723" y="13351"/>
                  <a:pt x="10765" y="13345"/>
                </a:cubicBezTo>
                <a:cubicBezTo>
                  <a:pt x="10850" y="13333"/>
                  <a:pt x="10914" y="13344"/>
                  <a:pt x="10964" y="13419"/>
                </a:cubicBezTo>
                <a:cubicBezTo>
                  <a:pt x="11019" y="13503"/>
                  <a:pt x="10985" y="13574"/>
                  <a:pt x="10939" y="13643"/>
                </a:cubicBezTo>
                <a:cubicBezTo>
                  <a:pt x="10879" y="13732"/>
                  <a:pt x="10816" y="13771"/>
                  <a:pt x="10740" y="13841"/>
                </a:cubicBezTo>
                <a:cubicBezTo>
                  <a:pt x="10732" y="13849"/>
                  <a:pt x="10724" y="13858"/>
                  <a:pt x="10716" y="13866"/>
                </a:cubicBezTo>
                <a:cubicBezTo>
                  <a:pt x="10800" y="13855"/>
                  <a:pt x="10874" y="13803"/>
                  <a:pt x="10964" y="13816"/>
                </a:cubicBezTo>
                <a:cubicBezTo>
                  <a:pt x="11048" y="13828"/>
                  <a:pt x="11127" y="13900"/>
                  <a:pt x="11112" y="13990"/>
                </a:cubicBezTo>
                <a:cubicBezTo>
                  <a:pt x="11094" y="14098"/>
                  <a:pt x="10995" y="14220"/>
                  <a:pt x="10914" y="14288"/>
                </a:cubicBezTo>
                <a:cubicBezTo>
                  <a:pt x="10873" y="14323"/>
                  <a:pt x="10718" y="14440"/>
                  <a:pt x="10666" y="14436"/>
                </a:cubicBezTo>
                <a:cubicBezTo>
                  <a:pt x="10643" y="14414"/>
                  <a:pt x="10635" y="14409"/>
                  <a:pt x="10641" y="14387"/>
                </a:cubicBezTo>
              </a:path>
              <a:path w="1936" h="1663">
                <a:moveTo>
                  <a:pt x="11683" y="13271"/>
                </a:moveTo>
                <a:cubicBezTo>
                  <a:pt x="11665" y="13359"/>
                  <a:pt x="11617" y="13449"/>
                  <a:pt x="11609" y="13543"/>
                </a:cubicBezTo>
                <a:cubicBezTo>
                  <a:pt x="11594" y="13724"/>
                  <a:pt x="11564" y="13907"/>
                  <a:pt x="11559" y="14089"/>
                </a:cubicBezTo>
                <a:cubicBezTo>
                  <a:pt x="11557" y="14147"/>
                  <a:pt x="11559" y="14205"/>
                  <a:pt x="11559" y="14263"/>
                </a:cubicBezTo>
                <a:cubicBezTo>
                  <a:pt x="11594" y="14205"/>
                  <a:pt x="11616" y="14152"/>
                  <a:pt x="11658" y="14089"/>
                </a:cubicBezTo>
                <a:cubicBezTo>
                  <a:pt x="11695" y="14032"/>
                  <a:pt x="11759" y="13981"/>
                  <a:pt x="11832" y="13965"/>
                </a:cubicBezTo>
                <a:cubicBezTo>
                  <a:pt x="11886" y="13953"/>
                  <a:pt x="11945" y="13990"/>
                  <a:pt x="11956" y="14039"/>
                </a:cubicBezTo>
                <a:cubicBezTo>
                  <a:pt x="11974" y="14123"/>
                  <a:pt x="11858" y="14215"/>
                  <a:pt x="11807" y="14263"/>
                </a:cubicBezTo>
                <a:cubicBezTo>
                  <a:pt x="11762" y="14306"/>
                  <a:pt x="11706" y="14374"/>
                  <a:pt x="11658" y="14337"/>
                </a:cubicBezTo>
                <a:cubicBezTo>
                  <a:pt x="11650" y="14329"/>
                  <a:pt x="11641" y="14320"/>
                  <a:pt x="11633" y="14312"/>
                </a:cubicBezTo>
              </a:path>
              <a:path w="1936" h="1663">
                <a:moveTo>
                  <a:pt x="12080" y="12898"/>
                </a:moveTo>
                <a:cubicBezTo>
                  <a:pt x="12144" y="12931"/>
                  <a:pt x="12198" y="12957"/>
                  <a:pt x="12254" y="13022"/>
                </a:cubicBezTo>
                <a:cubicBezTo>
                  <a:pt x="12388" y="13178"/>
                  <a:pt x="12437" y="13393"/>
                  <a:pt x="12452" y="13593"/>
                </a:cubicBezTo>
                <a:cubicBezTo>
                  <a:pt x="12469" y="13820"/>
                  <a:pt x="12444" y="14006"/>
                  <a:pt x="12353" y="14213"/>
                </a:cubicBezTo>
                <a:cubicBezTo>
                  <a:pt x="12297" y="14340"/>
                  <a:pt x="12160" y="14459"/>
                  <a:pt x="12030" y="14511"/>
                </a:cubicBezTo>
                <a:cubicBezTo>
                  <a:pt x="11943" y="14546"/>
                  <a:pt x="11872" y="14554"/>
                  <a:pt x="11782" y="145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4840" y="4867200"/>
            <a:ext cx="276120" cy="347760"/>
          </a:xfrm>
          <a:custGeom>
            <a:avLst/>
            <a:gdLst/>
            <a:ahLst/>
            <a:rect l="l" t="t" r="r" b="b"/>
            <a:pathLst>
              <a:path w="770" h="968">
                <a:moveTo>
                  <a:pt x="14039" y="13643"/>
                </a:moveTo>
                <a:cubicBezTo>
                  <a:pt x="14029" y="13579"/>
                  <a:pt x="14016" y="13593"/>
                  <a:pt x="13965" y="13543"/>
                </a:cubicBezTo>
                <a:cubicBezTo>
                  <a:pt x="13902" y="13481"/>
                  <a:pt x="13846" y="13530"/>
                  <a:pt x="13791" y="13568"/>
                </a:cubicBezTo>
                <a:cubicBezTo>
                  <a:pt x="13706" y="13627"/>
                  <a:pt x="13568" y="13690"/>
                  <a:pt x="13568" y="13816"/>
                </a:cubicBezTo>
                <a:cubicBezTo>
                  <a:pt x="13568" y="13915"/>
                  <a:pt x="13667" y="13930"/>
                  <a:pt x="13742" y="13915"/>
                </a:cubicBezTo>
                <a:cubicBezTo>
                  <a:pt x="13817" y="13900"/>
                  <a:pt x="13932" y="13841"/>
                  <a:pt x="13965" y="13767"/>
                </a:cubicBezTo>
                <a:cubicBezTo>
                  <a:pt x="13965" y="13725"/>
                  <a:pt x="13965" y="13717"/>
                  <a:pt x="13965" y="13692"/>
                </a:cubicBezTo>
                <a:cubicBezTo>
                  <a:pt x="13953" y="13801"/>
                  <a:pt x="13903" y="13905"/>
                  <a:pt x="13891" y="14015"/>
                </a:cubicBezTo>
                <a:cubicBezTo>
                  <a:pt x="13878" y="14130"/>
                  <a:pt x="13861" y="14227"/>
                  <a:pt x="13816" y="14337"/>
                </a:cubicBezTo>
                <a:cubicBezTo>
                  <a:pt x="13793" y="14392"/>
                  <a:pt x="13791" y="14427"/>
                  <a:pt x="13791" y="14486"/>
                </a:cubicBezTo>
              </a:path>
              <a:path w="770" h="968">
                <a:moveTo>
                  <a:pt x="14337" y="14312"/>
                </a:moveTo>
                <a:cubicBezTo>
                  <a:pt x="14323" y="14355"/>
                  <a:pt x="14298" y="14343"/>
                  <a:pt x="14312" y="14337"/>
                </a:cubicBezTo>
                <a:cubicBezTo>
                  <a:pt x="14337" y="14337"/>
                  <a:pt x="14345" y="14337"/>
                  <a:pt x="14337" y="143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57880" y="4902120"/>
            <a:ext cx="544320" cy="366840"/>
          </a:xfrm>
          <a:custGeom>
            <a:avLst/>
            <a:gdLst/>
            <a:ahLst/>
            <a:rect l="l" t="t" r="r" b="b"/>
            <a:pathLst>
              <a:path w="1514" h="1018">
                <a:moveTo>
                  <a:pt x="15180" y="13618"/>
                </a:moveTo>
                <a:cubicBezTo>
                  <a:pt x="15132" y="13680"/>
                  <a:pt x="15106" y="13754"/>
                  <a:pt x="15056" y="13816"/>
                </a:cubicBezTo>
                <a:cubicBezTo>
                  <a:pt x="15014" y="13868"/>
                  <a:pt x="14936" y="13932"/>
                  <a:pt x="14908" y="13990"/>
                </a:cubicBezTo>
                <a:cubicBezTo>
                  <a:pt x="14888" y="14031"/>
                  <a:pt x="14892" y="14039"/>
                  <a:pt x="14908" y="14039"/>
                </a:cubicBezTo>
                <a:cubicBezTo>
                  <a:pt x="14953" y="14039"/>
                  <a:pt x="14967" y="14019"/>
                  <a:pt x="15007" y="14015"/>
                </a:cubicBezTo>
                <a:cubicBezTo>
                  <a:pt x="15056" y="14010"/>
                  <a:pt x="15113" y="14024"/>
                  <a:pt x="15156" y="14039"/>
                </a:cubicBezTo>
                <a:cubicBezTo>
                  <a:pt x="15212" y="14059"/>
                  <a:pt x="15282" y="14065"/>
                  <a:pt x="15329" y="14089"/>
                </a:cubicBezTo>
                <a:cubicBezTo>
                  <a:pt x="15337" y="14097"/>
                  <a:pt x="15346" y="14106"/>
                  <a:pt x="15354" y="14114"/>
                </a:cubicBezTo>
              </a:path>
              <a:path w="1514" h="1018">
                <a:moveTo>
                  <a:pt x="15577" y="13717"/>
                </a:moveTo>
                <a:cubicBezTo>
                  <a:pt x="15600" y="13694"/>
                  <a:pt x="15608" y="13690"/>
                  <a:pt x="15602" y="13667"/>
                </a:cubicBezTo>
                <a:cubicBezTo>
                  <a:pt x="15539" y="13683"/>
                  <a:pt x="15536" y="13736"/>
                  <a:pt x="15503" y="13791"/>
                </a:cubicBezTo>
                <a:cubicBezTo>
                  <a:pt x="15433" y="13906"/>
                  <a:pt x="15387" y="14023"/>
                  <a:pt x="15329" y="14139"/>
                </a:cubicBezTo>
                <a:cubicBezTo>
                  <a:pt x="15286" y="14225"/>
                  <a:pt x="15237" y="14291"/>
                  <a:pt x="15230" y="14387"/>
                </a:cubicBezTo>
                <a:cubicBezTo>
                  <a:pt x="15228" y="14411"/>
                  <a:pt x="15230" y="14437"/>
                  <a:pt x="15230" y="14461"/>
                </a:cubicBezTo>
              </a:path>
              <a:path w="1514" h="1018">
                <a:moveTo>
                  <a:pt x="16049" y="13891"/>
                </a:moveTo>
                <a:cubicBezTo>
                  <a:pt x="16006" y="13891"/>
                  <a:pt x="16011" y="13901"/>
                  <a:pt x="15999" y="13866"/>
                </a:cubicBezTo>
                <a:cubicBezTo>
                  <a:pt x="16046" y="13854"/>
                  <a:pt x="16096" y="13823"/>
                  <a:pt x="16148" y="13816"/>
                </a:cubicBezTo>
                <a:cubicBezTo>
                  <a:pt x="16236" y="13804"/>
                  <a:pt x="16324" y="13798"/>
                  <a:pt x="16371" y="13866"/>
                </a:cubicBezTo>
                <a:cubicBezTo>
                  <a:pt x="16423" y="13942"/>
                  <a:pt x="16390" y="14065"/>
                  <a:pt x="16346" y="14139"/>
                </a:cubicBezTo>
                <a:cubicBezTo>
                  <a:pt x="16268" y="14270"/>
                  <a:pt x="16153" y="14341"/>
                  <a:pt x="16024" y="14412"/>
                </a:cubicBezTo>
                <a:cubicBezTo>
                  <a:pt x="15926" y="14465"/>
                  <a:pt x="15812" y="14505"/>
                  <a:pt x="15701" y="14511"/>
                </a:cubicBezTo>
                <a:cubicBezTo>
                  <a:pt x="15657" y="14511"/>
                  <a:pt x="15643" y="14514"/>
                  <a:pt x="15627" y="14486"/>
                </a:cubicBezTo>
                <a:cubicBezTo>
                  <a:pt x="15642" y="14425"/>
                  <a:pt x="15694" y="14393"/>
                  <a:pt x="15751" y="14362"/>
                </a:cubicBezTo>
                <a:cubicBezTo>
                  <a:pt x="15840" y="14313"/>
                  <a:pt x="15879" y="14305"/>
                  <a:pt x="15974" y="14337"/>
                </a:cubicBezTo>
                <a:cubicBezTo>
                  <a:pt x="16076" y="14371"/>
                  <a:pt x="16122" y="14410"/>
                  <a:pt x="16197" y="14486"/>
                </a:cubicBezTo>
                <a:cubicBezTo>
                  <a:pt x="16246" y="14535"/>
                  <a:pt x="16296" y="14565"/>
                  <a:pt x="16346" y="14610"/>
                </a:cubicBezTo>
                <a:cubicBezTo>
                  <a:pt x="16354" y="14618"/>
                  <a:pt x="16363" y="14627"/>
                  <a:pt x="16371" y="146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55800" y="5214960"/>
            <a:ext cx="438120" cy="642960"/>
          </a:xfrm>
          <a:custGeom>
            <a:avLst/>
            <a:gdLst/>
            <a:ahLst/>
            <a:rect l="l" t="t" r="r" b="b"/>
            <a:pathLst>
              <a:path w="1217" h="1787">
                <a:moveTo>
                  <a:pt x="2729" y="15205"/>
                </a:moveTo>
                <a:cubicBezTo>
                  <a:pt x="2729" y="15147"/>
                  <a:pt x="2729" y="15090"/>
                  <a:pt x="2729" y="15032"/>
                </a:cubicBezTo>
                <a:cubicBezTo>
                  <a:pt x="2692" y="15092"/>
                  <a:pt x="2664" y="15204"/>
                  <a:pt x="2654" y="15280"/>
                </a:cubicBezTo>
                <a:cubicBezTo>
                  <a:pt x="2643" y="15361"/>
                  <a:pt x="2638" y="15482"/>
                  <a:pt x="2679" y="15553"/>
                </a:cubicBezTo>
                <a:cubicBezTo>
                  <a:pt x="2711" y="15608"/>
                  <a:pt x="2886" y="15575"/>
                  <a:pt x="2927" y="15553"/>
                </a:cubicBezTo>
                <a:cubicBezTo>
                  <a:pt x="3045" y="15491"/>
                  <a:pt x="3144" y="15384"/>
                  <a:pt x="3249" y="15304"/>
                </a:cubicBezTo>
              </a:path>
              <a:path w="1217" h="1787">
                <a:moveTo>
                  <a:pt x="3299" y="14833"/>
                </a:moveTo>
                <a:cubicBezTo>
                  <a:pt x="3219" y="14924"/>
                  <a:pt x="3203" y="14981"/>
                  <a:pt x="3200" y="15106"/>
                </a:cubicBezTo>
                <a:cubicBezTo>
                  <a:pt x="3195" y="15316"/>
                  <a:pt x="3212" y="15519"/>
                  <a:pt x="3225" y="15726"/>
                </a:cubicBezTo>
                <a:cubicBezTo>
                  <a:pt x="3232" y="15836"/>
                  <a:pt x="3234" y="15898"/>
                  <a:pt x="3274" y="15999"/>
                </a:cubicBezTo>
              </a:path>
              <a:path w="1217" h="1787">
                <a:moveTo>
                  <a:pt x="3473" y="14486"/>
                </a:moveTo>
                <a:cubicBezTo>
                  <a:pt x="3520" y="14551"/>
                  <a:pt x="3583" y="14621"/>
                  <a:pt x="3646" y="14684"/>
                </a:cubicBezTo>
                <a:cubicBezTo>
                  <a:pt x="3787" y="14825"/>
                  <a:pt x="3853" y="15030"/>
                  <a:pt x="3870" y="15230"/>
                </a:cubicBezTo>
                <a:cubicBezTo>
                  <a:pt x="3888" y="15446"/>
                  <a:pt x="3865" y="15647"/>
                  <a:pt x="3795" y="15850"/>
                </a:cubicBezTo>
                <a:cubicBezTo>
                  <a:pt x="3740" y="16009"/>
                  <a:pt x="3653" y="16146"/>
                  <a:pt x="3547" y="162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8120" y="5375160"/>
            <a:ext cx="401760" cy="393840"/>
          </a:xfrm>
          <a:custGeom>
            <a:avLst/>
            <a:gdLst/>
            <a:ahLst/>
            <a:rect l="l" t="t" r="r" b="b"/>
            <a:pathLst>
              <a:path w="1117" h="1093">
                <a:moveTo>
                  <a:pt x="4514" y="15304"/>
                </a:moveTo>
                <a:cubicBezTo>
                  <a:pt x="4489" y="15462"/>
                  <a:pt x="4517" y="15526"/>
                  <a:pt x="4539" y="15677"/>
                </a:cubicBezTo>
                <a:cubicBezTo>
                  <a:pt x="4550" y="15754"/>
                  <a:pt x="4543" y="15851"/>
                  <a:pt x="4564" y="15925"/>
                </a:cubicBezTo>
                <a:cubicBezTo>
                  <a:pt x="4578" y="15976"/>
                  <a:pt x="4589" y="15975"/>
                  <a:pt x="4589" y="16024"/>
                </a:cubicBezTo>
              </a:path>
              <a:path w="1117" h="1093">
                <a:moveTo>
                  <a:pt x="4490" y="15652"/>
                </a:moveTo>
                <a:cubicBezTo>
                  <a:pt x="4440" y="15652"/>
                  <a:pt x="4539" y="15652"/>
                  <a:pt x="4589" y="15652"/>
                </a:cubicBezTo>
                <a:cubicBezTo>
                  <a:pt x="4704" y="15652"/>
                  <a:pt x="4802" y="15645"/>
                  <a:pt x="4911" y="15602"/>
                </a:cubicBezTo>
                <a:cubicBezTo>
                  <a:pt x="4958" y="15583"/>
                  <a:pt x="4997" y="15559"/>
                  <a:pt x="5035" y="15528"/>
                </a:cubicBezTo>
              </a:path>
              <a:path w="1117" h="1093">
                <a:moveTo>
                  <a:pt x="4986" y="15230"/>
                </a:moveTo>
                <a:cubicBezTo>
                  <a:pt x="4947" y="15347"/>
                  <a:pt x="4936" y="15429"/>
                  <a:pt x="4936" y="15553"/>
                </a:cubicBezTo>
                <a:cubicBezTo>
                  <a:pt x="4936" y="15687"/>
                  <a:pt x="4946" y="15845"/>
                  <a:pt x="4986" y="15974"/>
                </a:cubicBezTo>
                <a:cubicBezTo>
                  <a:pt x="4994" y="15991"/>
                  <a:pt x="5003" y="16007"/>
                  <a:pt x="5011" y="16024"/>
                </a:cubicBezTo>
              </a:path>
              <a:path w="1117" h="1093">
                <a:moveTo>
                  <a:pt x="5259" y="15205"/>
                </a:moveTo>
                <a:cubicBezTo>
                  <a:pt x="5291" y="15180"/>
                  <a:pt x="5347" y="15163"/>
                  <a:pt x="5383" y="15156"/>
                </a:cubicBezTo>
                <a:cubicBezTo>
                  <a:pt x="5457" y="15142"/>
                  <a:pt x="5511" y="15116"/>
                  <a:pt x="5581" y="15081"/>
                </a:cubicBezTo>
              </a:path>
              <a:path w="1117" h="1093">
                <a:moveTo>
                  <a:pt x="5507" y="14932"/>
                </a:moveTo>
                <a:cubicBezTo>
                  <a:pt x="5458" y="15078"/>
                  <a:pt x="5457" y="15175"/>
                  <a:pt x="5457" y="15329"/>
                </a:cubicBezTo>
                <a:cubicBezTo>
                  <a:pt x="5457" y="15422"/>
                  <a:pt x="5455" y="15448"/>
                  <a:pt x="5482" y="155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52800" y="5626080"/>
            <a:ext cx="152280" cy="115920"/>
          </a:xfrm>
          <a:custGeom>
            <a:avLst/>
            <a:gdLst/>
            <a:ahLst/>
            <a:rect l="l" t="t" r="r" b="b"/>
            <a:pathLst>
              <a:path w="423" h="323">
                <a:moveTo>
                  <a:pt x="5978" y="15701"/>
                </a:moveTo>
                <a:cubicBezTo>
                  <a:pt x="6007" y="15680"/>
                  <a:pt x="6065" y="15659"/>
                  <a:pt x="6102" y="15652"/>
                </a:cubicBezTo>
                <a:cubicBezTo>
                  <a:pt x="6172" y="15640"/>
                  <a:pt x="6235" y="15637"/>
                  <a:pt x="6300" y="15627"/>
                </a:cubicBezTo>
              </a:path>
              <a:path w="423" h="323">
                <a:moveTo>
                  <a:pt x="6077" y="15925"/>
                </a:moveTo>
                <a:cubicBezTo>
                  <a:pt x="6088" y="15956"/>
                  <a:pt x="6158" y="15967"/>
                  <a:pt x="6201" y="15949"/>
                </a:cubicBezTo>
                <a:cubicBezTo>
                  <a:pt x="6265" y="15921"/>
                  <a:pt x="6341" y="15863"/>
                  <a:pt x="6400" y="158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1200" y="5464080"/>
            <a:ext cx="1419480" cy="457200"/>
          </a:xfrm>
          <a:custGeom>
            <a:avLst/>
            <a:gdLst/>
            <a:ahLst/>
            <a:rect l="l" t="t" r="r" b="b"/>
            <a:pathLst>
              <a:path w="3944" h="1267">
                <a:moveTo>
                  <a:pt x="7392" y="15354"/>
                </a:moveTo>
                <a:cubicBezTo>
                  <a:pt x="7367" y="15354"/>
                  <a:pt x="7359" y="15354"/>
                  <a:pt x="7367" y="15329"/>
                </a:cubicBezTo>
                <a:cubicBezTo>
                  <a:pt x="7384" y="15323"/>
                  <a:pt x="7410" y="15282"/>
                  <a:pt x="7441" y="15304"/>
                </a:cubicBezTo>
                <a:cubicBezTo>
                  <a:pt x="7533" y="15370"/>
                  <a:pt x="7520" y="15457"/>
                  <a:pt x="7541" y="15553"/>
                </a:cubicBezTo>
                <a:cubicBezTo>
                  <a:pt x="7561" y="15646"/>
                  <a:pt x="7589" y="15735"/>
                  <a:pt x="7541" y="15825"/>
                </a:cubicBezTo>
                <a:cubicBezTo>
                  <a:pt x="7496" y="15908"/>
                  <a:pt x="7445" y="15972"/>
                  <a:pt x="7367" y="16024"/>
                </a:cubicBezTo>
                <a:cubicBezTo>
                  <a:pt x="7332" y="16047"/>
                  <a:pt x="7235" y="16070"/>
                  <a:pt x="7193" y="16049"/>
                </a:cubicBezTo>
                <a:cubicBezTo>
                  <a:pt x="7151" y="16028"/>
                  <a:pt x="7165" y="15951"/>
                  <a:pt x="7193" y="15925"/>
                </a:cubicBezTo>
                <a:cubicBezTo>
                  <a:pt x="7238" y="15884"/>
                  <a:pt x="7332" y="15858"/>
                  <a:pt x="7392" y="15875"/>
                </a:cubicBezTo>
                <a:cubicBezTo>
                  <a:pt x="7461" y="15894"/>
                  <a:pt x="7507" y="15941"/>
                  <a:pt x="7541" y="15999"/>
                </a:cubicBezTo>
                <a:cubicBezTo>
                  <a:pt x="7566" y="16042"/>
                  <a:pt x="7565" y="16054"/>
                  <a:pt x="7565" y="16098"/>
                </a:cubicBezTo>
              </a:path>
              <a:path w="3944" h="1267">
                <a:moveTo>
                  <a:pt x="7813" y="15949"/>
                </a:moveTo>
                <a:cubicBezTo>
                  <a:pt x="7813" y="15974"/>
                  <a:pt x="7813" y="15982"/>
                  <a:pt x="7813" y="15999"/>
                </a:cubicBezTo>
              </a:path>
              <a:path w="3944" h="1267">
                <a:moveTo>
                  <a:pt x="8062" y="15354"/>
                </a:moveTo>
                <a:cubicBezTo>
                  <a:pt x="8094" y="15329"/>
                  <a:pt x="8124" y="15304"/>
                  <a:pt x="8161" y="15280"/>
                </a:cubicBezTo>
                <a:cubicBezTo>
                  <a:pt x="8234" y="15233"/>
                  <a:pt x="8325" y="15186"/>
                  <a:pt x="8409" y="15180"/>
                </a:cubicBezTo>
                <a:cubicBezTo>
                  <a:pt x="8468" y="15175"/>
                  <a:pt x="8490" y="15256"/>
                  <a:pt x="8483" y="15304"/>
                </a:cubicBezTo>
                <a:cubicBezTo>
                  <a:pt x="8455" y="15497"/>
                  <a:pt x="8362" y="15683"/>
                  <a:pt x="8334" y="15875"/>
                </a:cubicBezTo>
                <a:cubicBezTo>
                  <a:pt x="8334" y="15941"/>
                  <a:pt x="8334" y="15958"/>
                  <a:pt x="8334" y="15999"/>
                </a:cubicBezTo>
              </a:path>
              <a:path w="3944" h="1267">
                <a:moveTo>
                  <a:pt x="8905" y="15652"/>
                </a:moveTo>
                <a:cubicBezTo>
                  <a:pt x="8892" y="15705"/>
                  <a:pt x="8880" y="15737"/>
                  <a:pt x="8880" y="15801"/>
                </a:cubicBezTo>
                <a:cubicBezTo>
                  <a:pt x="8880" y="15887"/>
                  <a:pt x="8830" y="15943"/>
                  <a:pt x="8880" y="16024"/>
                </a:cubicBezTo>
                <a:cubicBezTo>
                  <a:pt x="8907" y="16067"/>
                  <a:pt x="8954" y="16087"/>
                  <a:pt x="9004" y="16073"/>
                </a:cubicBezTo>
                <a:cubicBezTo>
                  <a:pt x="9065" y="16056"/>
                  <a:pt x="9130" y="16013"/>
                  <a:pt x="9178" y="15974"/>
                </a:cubicBezTo>
              </a:path>
              <a:path w="3944" h="1267">
                <a:moveTo>
                  <a:pt x="8880" y="15875"/>
                </a:moveTo>
                <a:cubicBezTo>
                  <a:pt x="8863" y="15892"/>
                  <a:pt x="8847" y="15908"/>
                  <a:pt x="8830" y="15925"/>
                </a:cubicBezTo>
                <a:cubicBezTo>
                  <a:pt x="8912" y="15904"/>
                  <a:pt x="8988" y="15855"/>
                  <a:pt x="9079" y="15825"/>
                </a:cubicBezTo>
                <a:cubicBezTo>
                  <a:pt x="9176" y="15793"/>
                  <a:pt x="9251" y="15742"/>
                  <a:pt x="9327" y="15677"/>
                </a:cubicBezTo>
              </a:path>
              <a:path w="3944" h="1267">
                <a:moveTo>
                  <a:pt x="8979" y="15478"/>
                </a:moveTo>
                <a:cubicBezTo>
                  <a:pt x="9044" y="15478"/>
                  <a:pt x="9090" y="15462"/>
                  <a:pt x="9153" y="15453"/>
                </a:cubicBezTo>
                <a:cubicBezTo>
                  <a:pt x="9252" y="15439"/>
                  <a:pt x="9313" y="15403"/>
                  <a:pt x="9401" y="15354"/>
                </a:cubicBezTo>
              </a:path>
              <a:path w="3944" h="1267">
                <a:moveTo>
                  <a:pt x="9773" y="15751"/>
                </a:moveTo>
                <a:cubicBezTo>
                  <a:pt x="9730" y="15751"/>
                  <a:pt x="9778" y="15728"/>
                  <a:pt x="9798" y="15726"/>
                </a:cubicBezTo>
                <a:cubicBezTo>
                  <a:pt x="9852" y="15719"/>
                  <a:pt x="9913" y="15696"/>
                  <a:pt x="9971" y="15677"/>
                </a:cubicBezTo>
                <a:cubicBezTo>
                  <a:pt x="10044" y="15653"/>
                  <a:pt x="10120" y="15633"/>
                  <a:pt x="10195" y="15627"/>
                </a:cubicBezTo>
                <a:cubicBezTo>
                  <a:pt x="10231" y="15624"/>
                  <a:pt x="10298" y="15605"/>
                  <a:pt x="10269" y="15627"/>
                </a:cubicBezTo>
                <a:cubicBezTo>
                  <a:pt x="10261" y="15627"/>
                  <a:pt x="10252" y="15627"/>
                  <a:pt x="10244" y="15627"/>
                </a:cubicBezTo>
              </a:path>
              <a:path w="3944" h="1267">
                <a:moveTo>
                  <a:pt x="10815" y="15205"/>
                </a:moveTo>
                <a:cubicBezTo>
                  <a:pt x="10767" y="15221"/>
                  <a:pt x="10783" y="15254"/>
                  <a:pt x="10765" y="15304"/>
                </a:cubicBezTo>
                <a:cubicBezTo>
                  <a:pt x="10733" y="15393"/>
                  <a:pt x="10674" y="15465"/>
                  <a:pt x="10641" y="15553"/>
                </a:cubicBezTo>
                <a:cubicBezTo>
                  <a:pt x="10609" y="15639"/>
                  <a:pt x="10540" y="15719"/>
                  <a:pt x="10517" y="15801"/>
                </a:cubicBezTo>
                <a:cubicBezTo>
                  <a:pt x="10496" y="15875"/>
                  <a:pt x="10509" y="15824"/>
                  <a:pt x="10492" y="15875"/>
                </a:cubicBezTo>
                <a:cubicBezTo>
                  <a:pt x="10521" y="15865"/>
                  <a:pt x="10550" y="15833"/>
                  <a:pt x="10592" y="15825"/>
                </a:cubicBezTo>
                <a:cubicBezTo>
                  <a:pt x="10675" y="15808"/>
                  <a:pt x="10778" y="15825"/>
                  <a:pt x="10864" y="15825"/>
                </a:cubicBezTo>
              </a:path>
              <a:path w="3944" h="1267">
                <a:moveTo>
                  <a:pt x="11112" y="15255"/>
                </a:moveTo>
                <a:cubicBezTo>
                  <a:pt x="11068" y="15345"/>
                  <a:pt x="11035" y="15429"/>
                  <a:pt x="11013" y="15528"/>
                </a:cubicBezTo>
                <a:cubicBezTo>
                  <a:pt x="10972" y="15707"/>
                  <a:pt x="10907" y="15878"/>
                  <a:pt x="10840" y="16049"/>
                </a:cubicBezTo>
                <a:cubicBezTo>
                  <a:pt x="10791" y="16173"/>
                  <a:pt x="10748" y="16289"/>
                  <a:pt x="10740" y="16421"/>
                </a:cubicBezTo>
                <a:cubicBezTo>
                  <a:pt x="10740" y="16429"/>
                  <a:pt x="10740" y="16438"/>
                  <a:pt x="10740" y="164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24200" y="1062000"/>
            <a:ext cx="1625760" cy="81000"/>
          </a:xfrm>
          <a:custGeom>
            <a:avLst/>
            <a:gdLst/>
            <a:ahLst/>
            <a:rect l="l" t="t" r="r" b="b"/>
            <a:pathLst>
              <a:path w="4515" h="224">
                <a:moveTo>
                  <a:pt x="10344" y="3175"/>
                </a:moveTo>
                <a:cubicBezTo>
                  <a:pt x="10455" y="3147"/>
                  <a:pt x="10573" y="3118"/>
                  <a:pt x="10691" y="3101"/>
                </a:cubicBezTo>
                <a:cubicBezTo>
                  <a:pt x="11039" y="3051"/>
                  <a:pt x="11407" y="2998"/>
                  <a:pt x="11757" y="2977"/>
                </a:cubicBezTo>
                <a:cubicBezTo>
                  <a:pt x="12202" y="2950"/>
                  <a:pt x="12651" y="2952"/>
                  <a:pt x="13097" y="2952"/>
                </a:cubicBezTo>
                <a:cubicBezTo>
                  <a:pt x="13643" y="2952"/>
                  <a:pt x="14190" y="2940"/>
                  <a:pt x="14734" y="2977"/>
                </a:cubicBezTo>
                <a:cubicBezTo>
                  <a:pt x="14800" y="2977"/>
                  <a:pt x="14817" y="2977"/>
                  <a:pt x="14858" y="29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1040" y="4205160"/>
            <a:ext cx="7331040" cy="376200"/>
          </a:xfrm>
          <a:custGeom>
            <a:avLst/>
            <a:gdLst/>
            <a:ahLst/>
            <a:rect l="l" t="t" r="r" b="b"/>
            <a:pathLst>
              <a:path w="20366" h="1043">
                <a:moveTo>
                  <a:pt x="1612" y="11757"/>
                </a:moveTo>
                <a:cubicBezTo>
                  <a:pt x="1852" y="11736"/>
                  <a:pt x="2091" y="11694"/>
                  <a:pt x="2332" y="11683"/>
                </a:cubicBezTo>
                <a:cubicBezTo>
                  <a:pt x="2951" y="11654"/>
                  <a:pt x="3599" y="11740"/>
                  <a:pt x="4217" y="11782"/>
                </a:cubicBezTo>
                <a:cubicBezTo>
                  <a:pt x="4432" y="11796"/>
                  <a:pt x="4647" y="11816"/>
                  <a:pt x="4862" y="11832"/>
                </a:cubicBezTo>
                <a:cubicBezTo>
                  <a:pt x="5093" y="11849"/>
                  <a:pt x="5324" y="11846"/>
                  <a:pt x="5556" y="11857"/>
                </a:cubicBezTo>
                <a:cubicBezTo>
                  <a:pt x="5789" y="11868"/>
                  <a:pt x="6019" y="11889"/>
                  <a:pt x="6251" y="11906"/>
                </a:cubicBezTo>
                <a:cubicBezTo>
                  <a:pt x="6475" y="11922"/>
                  <a:pt x="6697" y="11939"/>
                  <a:pt x="6921" y="11956"/>
                </a:cubicBezTo>
                <a:cubicBezTo>
                  <a:pt x="7137" y="11973"/>
                  <a:pt x="7349" y="12008"/>
                  <a:pt x="7565" y="12030"/>
                </a:cubicBezTo>
                <a:cubicBezTo>
                  <a:pt x="7829" y="12057"/>
                  <a:pt x="8096" y="12068"/>
                  <a:pt x="8359" y="12105"/>
                </a:cubicBezTo>
                <a:cubicBezTo>
                  <a:pt x="8750" y="12160"/>
                  <a:pt x="9136" y="12212"/>
                  <a:pt x="9525" y="12278"/>
                </a:cubicBezTo>
                <a:cubicBezTo>
                  <a:pt x="9927" y="12346"/>
                  <a:pt x="10312" y="12396"/>
                  <a:pt x="10716" y="12427"/>
                </a:cubicBezTo>
                <a:cubicBezTo>
                  <a:pt x="10924" y="12443"/>
                  <a:pt x="11129" y="12451"/>
                  <a:pt x="11336" y="12477"/>
                </a:cubicBezTo>
                <a:cubicBezTo>
                  <a:pt x="11586" y="12509"/>
                  <a:pt x="11838" y="12561"/>
                  <a:pt x="12080" y="12601"/>
                </a:cubicBezTo>
                <a:cubicBezTo>
                  <a:pt x="12707" y="12705"/>
                  <a:pt x="13353" y="12751"/>
                  <a:pt x="13990" y="12725"/>
                </a:cubicBezTo>
                <a:cubicBezTo>
                  <a:pt x="14281" y="12713"/>
                  <a:pt x="14568" y="12673"/>
                  <a:pt x="14858" y="12650"/>
                </a:cubicBezTo>
                <a:cubicBezTo>
                  <a:pt x="15139" y="12628"/>
                  <a:pt x="15421" y="12611"/>
                  <a:pt x="15701" y="12576"/>
                </a:cubicBezTo>
                <a:cubicBezTo>
                  <a:pt x="16176" y="12517"/>
                  <a:pt x="16646" y="12420"/>
                  <a:pt x="17115" y="12328"/>
                </a:cubicBezTo>
                <a:cubicBezTo>
                  <a:pt x="17470" y="12258"/>
                  <a:pt x="17821" y="12208"/>
                  <a:pt x="18182" y="12179"/>
                </a:cubicBezTo>
                <a:cubicBezTo>
                  <a:pt x="18396" y="12162"/>
                  <a:pt x="18612" y="12151"/>
                  <a:pt x="18827" y="12154"/>
                </a:cubicBezTo>
                <a:cubicBezTo>
                  <a:pt x="19790" y="12168"/>
                  <a:pt x="20768" y="12082"/>
                  <a:pt x="21729" y="12129"/>
                </a:cubicBezTo>
                <a:cubicBezTo>
                  <a:pt x="21852" y="12154"/>
                  <a:pt x="21893" y="12162"/>
                  <a:pt x="21977" y="121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Common Ion Effec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salt with the anion of a weak acid is added to that aci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verses the dissociation of the ac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ers the percent dissociation of the ac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principle applies to salts with the cation of a weak base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lculations are the same as last chap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02040" y="571680"/>
            <a:ext cx="241200" cy="428400"/>
          </a:xfrm>
          <a:custGeom>
            <a:avLst/>
            <a:gdLst/>
            <a:ahLst/>
            <a:rect l="l" t="t" r="r" b="b"/>
            <a:pathLst>
              <a:path w="670" h="1191">
                <a:moveTo>
                  <a:pt x="11162" y="1860"/>
                </a:moveTo>
                <a:cubicBezTo>
                  <a:pt x="11198" y="1816"/>
                  <a:pt x="11188" y="1783"/>
                  <a:pt x="11212" y="1736"/>
                </a:cubicBezTo>
                <a:cubicBezTo>
                  <a:pt x="11233" y="1695"/>
                  <a:pt x="11249" y="1662"/>
                  <a:pt x="11261" y="1612"/>
                </a:cubicBezTo>
                <a:cubicBezTo>
                  <a:pt x="11261" y="1604"/>
                  <a:pt x="11261" y="1596"/>
                  <a:pt x="11261" y="1588"/>
                </a:cubicBezTo>
                <a:cubicBezTo>
                  <a:pt x="11185" y="1763"/>
                  <a:pt x="11147" y="1947"/>
                  <a:pt x="11112" y="2133"/>
                </a:cubicBezTo>
                <a:cubicBezTo>
                  <a:pt x="11083" y="2285"/>
                  <a:pt x="11063" y="2426"/>
                  <a:pt x="11063" y="2580"/>
                </a:cubicBezTo>
                <a:cubicBezTo>
                  <a:pt x="11063" y="2621"/>
                  <a:pt x="11058" y="2741"/>
                  <a:pt x="11038" y="2778"/>
                </a:cubicBezTo>
                <a:cubicBezTo>
                  <a:pt x="11030" y="2778"/>
                  <a:pt x="11021" y="2778"/>
                  <a:pt x="11013" y="2778"/>
                </a:cubicBezTo>
                <a:cubicBezTo>
                  <a:pt x="10979" y="2721"/>
                  <a:pt x="10968" y="2648"/>
                  <a:pt x="10939" y="2580"/>
                </a:cubicBezTo>
                <a:cubicBezTo>
                  <a:pt x="10898" y="2484"/>
                  <a:pt x="10852" y="2384"/>
                  <a:pt x="10840" y="2282"/>
                </a:cubicBezTo>
                <a:cubicBezTo>
                  <a:pt x="10877" y="2320"/>
                  <a:pt x="10849" y="2330"/>
                  <a:pt x="10864" y="2381"/>
                </a:cubicBezTo>
                <a:cubicBezTo>
                  <a:pt x="10891" y="2472"/>
                  <a:pt x="10924" y="2567"/>
                  <a:pt x="10964" y="2654"/>
                </a:cubicBezTo>
                <a:cubicBezTo>
                  <a:pt x="10987" y="2704"/>
                  <a:pt x="10987" y="2736"/>
                  <a:pt x="11013" y="2778"/>
                </a:cubicBezTo>
                <a:cubicBezTo>
                  <a:pt x="11067" y="2739"/>
                  <a:pt x="11106" y="2687"/>
                  <a:pt x="11162" y="2629"/>
                </a:cubicBezTo>
                <a:cubicBezTo>
                  <a:pt x="11272" y="2515"/>
                  <a:pt x="11384" y="2403"/>
                  <a:pt x="11509" y="23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3960" y="874800"/>
            <a:ext cx="365040" cy="635040"/>
          </a:xfrm>
          <a:custGeom>
            <a:avLst/>
            <a:gdLst/>
            <a:ahLst/>
            <a:rect l="l" t="t" r="r" b="b"/>
            <a:pathLst>
              <a:path w="1018" h="1762">
                <a:moveTo>
                  <a:pt x="2257" y="2927"/>
                </a:moveTo>
                <a:cubicBezTo>
                  <a:pt x="2358" y="2927"/>
                  <a:pt x="2433" y="2916"/>
                  <a:pt x="2530" y="2902"/>
                </a:cubicBezTo>
                <a:cubicBezTo>
                  <a:pt x="2601" y="2892"/>
                  <a:pt x="2657" y="2862"/>
                  <a:pt x="2729" y="2853"/>
                </a:cubicBezTo>
              </a:path>
              <a:path w="1018" h="1762">
                <a:moveTo>
                  <a:pt x="2282" y="3175"/>
                </a:moveTo>
                <a:cubicBezTo>
                  <a:pt x="2210" y="3267"/>
                  <a:pt x="2121" y="3349"/>
                  <a:pt x="2059" y="3448"/>
                </a:cubicBezTo>
                <a:cubicBezTo>
                  <a:pt x="2029" y="3496"/>
                  <a:pt x="2009" y="3518"/>
                  <a:pt x="2009" y="3572"/>
                </a:cubicBezTo>
                <a:cubicBezTo>
                  <a:pt x="2052" y="3561"/>
                  <a:pt x="2120" y="3526"/>
                  <a:pt x="2158" y="3497"/>
                </a:cubicBezTo>
                <a:cubicBezTo>
                  <a:pt x="2244" y="3431"/>
                  <a:pt x="2263" y="3379"/>
                  <a:pt x="2381" y="3373"/>
                </a:cubicBezTo>
                <a:cubicBezTo>
                  <a:pt x="2474" y="3368"/>
                  <a:pt x="2501" y="3411"/>
                  <a:pt x="2505" y="3497"/>
                </a:cubicBezTo>
                <a:cubicBezTo>
                  <a:pt x="2510" y="3615"/>
                  <a:pt x="2455" y="3684"/>
                  <a:pt x="2381" y="3770"/>
                </a:cubicBezTo>
                <a:cubicBezTo>
                  <a:pt x="2329" y="3831"/>
                  <a:pt x="2311" y="3879"/>
                  <a:pt x="2232" y="3894"/>
                </a:cubicBezTo>
              </a:path>
              <a:path w="1018" h="1762">
                <a:moveTo>
                  <a:pt x="2803" y="2431"/>
                </a:moveTo>
                <a:cubicBezTo>
                  <a:pt x="2784" y="2505"/>
                  <a:pt x="2815" y="2600"/>
                  <a:pt x="2853" y="2679"/>
                </a:cubicBezTo>
                <a:cubicBezTo>
                  <a:pt x="2947" y="2872"/>
                  <a:pt x="3010" y="3028"/>
                  <a:pt x="3026" y="3249"/>
                </a:cubicBezTo>
                <a:cubicBezTo>
                  <a:pt x="3040" y="3448"/>
                  <a:pt x="3027" y="3630"/>
                  <a:pt x="2902" y="3795"/>
                </a:cubicBezTo>
                <a:cubicBezTo>
                  <a:pt x="2799" y="3931"/>
                  <a:pt x="2676" y="4071"/>
                  <a:pt x="2555" y="41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11200" y="1044720"/>
            <a:ext cx="1589040" cy="438120"/>
          </a:xfrm>
          <a:custGeom>
            <a:avLst/>
            <a:gdLst/>
            <a:ahLst/>
            <a:rect l="l" t="t" r="r" b="b"/>
            <a:pathLst>
              <a:path w="4416" h="1217">
                <a:moveTo>
                  <a:pt x="3969" y="4018"/>
                </a:moveTo>
                <a:cubicBezTo>
                  <a:pt x="3961" y="4018"/>
                  <a:pt x="3952" y="4018"/>
                  <a:pt x="3944" y="4018"/>
                </a:cubicBezTo>
                <a:cubicBezTo>
                  <a:pt x="3937" y="3998"/>
                  <a:pt x="3919" y="3951"/>
                  <a:pt x="3919" y="3994"/>
                </a:cubicBezTo>
              </a:path>
              <a:path w="4416" h="1217">
                <a:moveTo>
                  <a:pt x="4465" y="3175"/>
                </a:moveTo>
                <a:cubicBezTo>
                  <a:pt x="4528" y="3111"/>
                  <a:pt x="4528" y="3101"/>
                  <a:pt x="4614" y="3101"/>
                </a:cubicBezTo>
                <a:cubicBezTo>
                  <a:pt x="4659" y="3101"/>
                  <a:pt x="4696" y="3183"/>
                  <a:pt x="4688" y="3225"/>
                </a:cubicBezTo>
                <a:cubicBezTo>
                  <a:pt x="4672" y="3312"/>
                  <a:pt x="4602" y="3437"/>
                  <a:pt x="4539" y="3497"/>
                </a:cubicBezTo>
                <a:cubicBezTo>
                  <a:pt x="4500" y="3534"/>
                  <a:pt x="4454" y="3558"/>
                  <a:pt x="4415" y="3597"/>
                </a:cubicBezTo>
                <a:cubicBezTo>
                  <a:pt x="4523" y="3597"/>
                  <a:pt x="4606" y="3577"/>
                  <a:pt x="4688" y="3646"/>
                </a:cubicBezTo>
                <a:cubicBezTo>
                  <a:pt x="4781" y="3724"/>
                  <a:pt x="4729" y="3812"/>
                  <a:pt x="4688" y="3894"/>
                </a:cubicBezTo>
                <a:cubicBezTo>
                  <a:pt x="4650" y="3969"/>
                  <a:pt x="4614" y="4038"/>
                  <a:pt x="4539" y="4068"/>
                </a:cubicBezTo>
              </a:path>
              <a:path w="4416" h="1217">
                <a:moveTo>
                  <a:pt x="5209" y="3274"/>
                </a:moveTo>
                <a:cubicBezTo>
                  <a:pt x="5119" y="3274"/>
                  <a:pt x="5081" y="3264"/>
                  <a:pt x="5011" y="3324"/>
                </a:cubicBezTo>
                <a:cubicBezTo>
                  <a:pt x="4957" y="3370"/>
                  <a:pt x="4990" y="3466"/>
                  <a:pt x="5011" y="3522"/>
                </a:cubicBezTo>
                <a:cubicBezTo>
                  <a:pt x="5048" y="3620"/>
                  <a:pt x="5137" y="3662"/>
                  <a:pt x="5184" y="3746"/>
                </a:cubicBezTo>
                <a:cubicBezTo>
                  <a:pt x="5231" y="3829"/>
                  <a:pt x="5241" y="3885"/>
                  <a:pt x="5209" y="3969"/>
                </a:cubicBezTo>
              </a:path>
              <a:path w="4416" h="1217">
                <a:moveTo>
                  <a:pt x="5135" y="3373"/>
                </a:moveTo>
                <a:cubicBezTo>
                  <a:pt x="5199" y="3339"/>
                  <a:pt x="5264" y="3277"/>
                  <a:pt x="5333" y="3274"/>
                </a:cubicBezTo>
                <a:cubicBezTo>
                  <a:pt x="5400" y="3271"/>
                  <a:pt x="5467" y="3263"/>
                  <a:pt x="5531" y="3249"/>
                </a:cubicBezTo>
                <a:cubicBezTo>
                  <a:pt x="5636" y="3225"/>
                  <a:pt x="5748" y="3191"/>
                  <a:pt x="5854" y="3175"/>
                </a:cubicBezTo>
                <a:cubicBezTo>
                  <a:pt x="5900" y="3168"/>
                  <a:pt x="5956" y="3175"/>
                  <a:pt x="6003" y="3175"/>
                </a:cubicBezTo>
                <a:cubicBezTo>
                  <a:pt x="6003" y="3310"/>
                  <a:pt x="5959" y="3393"/>
                  <a:pt x="5928" y="3522"/>
                </a:cubicBezTo>
                <a:cubicBezTo>
                  <a:pt x="5894" y="3661"/>
                  <a:pt x="5889" y="3810"/>
                  <a:pt x="5928" y="3944"/>
                </a:cubicBezTo>
                <a:cubicBezTo>
                  <a:pt x="6038" y="3971"/>
                  <a:pt x="6083" y="3914"/>
                  <a:pt x="6152" y="3820"/>
                </a:cubicBezTo>
                <a:cubicBezTo>
                  <a:pt x="6222" y="3724"/>
                  <a:pt x="6274" y="3646"/>
                  <a:pt x="6251" y="3522"/>
                </a:cubicBezTo>
                <a:cubicBezTo>
                  <a:pt x="6229" y="3405"/>
                  <a:pt x="6172" y="3339"/>
                  <a:pt x="6077" y="3274"/>
                </a:cubicBezTo>
                <a:cubicBezTo>
                  <a:pt x="6037" y="3254"/>
                  <a:pt x="6031" y="3245"/>
                  <a:pt x="6003" y="3249"/>
                </a:cubicBezTo>
              </a:path>
              <a:path w="4416" h="1217">
                <a:moveTo>
                  <a:pt x="6449" y="3746"/>
                </a:moveTo>
                <a:cubicBezTo>
                  <a:pt x="6542" y="3777"/>
                  <a:pt x="6485" y="3788"/>
                  <a:pt x="6474" y="3870"/>
                </a:cubicBezTo>
                <a:cubicBezTo>
                  <a:pt x="6465" y="3939"/>
                  <a:pt x="6449" y="3998"/>
                  <a:pt x="6449" y="4068"/>
                </a:cubicBezTo>
                <a:cubicBezTo>
                  <a:pt x="6449" y="4076"/>
                  <a:pt x="6449" y="4085"/>
                  <a:pt x="6449" y="4093"/>
                </a:cubicBezTo>
                <a:cubicBezTo>
                  <a:pt x="6540" y="4075"/>
                  <a:pt x="6571" y="4019"/>
                  <a:pt x="6623" y="3944"/>
                </a:cubicBezTo>
                <a:cubicBezTo>
                  <a:pt x="6680" y="3862"/>
                  <a:pt x="6702" y="3793"/>
                  <a:pt x="6772" y="3721"/>
                </a:cubicBezTo>
                <a:cubicBezTo>
                  <a:pt x="6780" y="3713"/>
                  <a:pt x="6788" y="3704"/>
                  <a:pt x="6796" y="3696"/>
                </a:cubicBezTo>
                <a:cubicBezTo>
                  <a:pt x="6808" y="3758"/>
                  <a:pt x="6821" y="3803"/>
                  <a:pt x="6821" y="3870"/>
                </a:cubicBezTo>
                <a:cubicBezTo>
                  <a:pt x="6821" y="3929"/>
                  <a:pt x="6814" y="3926"/>
                  <a:pt x="6846" y="3969"/>
                </a:cubicBezTo>
                <a:cubicBezTo>
                  <a:pt x="6904" y="3954"/>
                  <a:pt x="6926" y="3891"/>
                  <a:pt x="6970" y="3845"/>
                </a:cubicBezTo>
                <a:cubicBezTo>
                  <a:pt x="7029" y="3783"/>
                  <a:pt x="7038" y="3709"/>
                  <a:pt x="7094" y="3646"/>
                </a:cubicBezTo>
                <a:cubicBezTo>
                  <a:pt x="7102" y="3638"/>
                  <a:pt x="7111" y="3629"/>
                  <a:pt x="7119" y="3621"/>
                </a:cubicBezTo>
                <a:cubicBezTo>
                  <a:pt x="7119" y="3715"/>
                  <a:pt x="7106" y="3808"/>
                  <a:pt x="7144" y="3894"/>
                </a:cubicBezTo>
                <a:cubicBezTo>
                  <a:pt x="7168" y="3942"/>
                  <a:pt x="7174" y="3959"/>
                  <a:pt x="7218" y="3944"/>
                </a:cubicBezTo>
              </a:path>
              <a:path w="4416" h="1217">
                <a:moveTo>
                  <a:pt x="7441" y="3746"/>
                </a:moveTo>
                <a:cubicBezTo>
                  <a:pt x="7453" y="3776"/>
                  <a:pt x="7444" y="3801"/>
                  <a:pt x="7441" y="3870"/>
                </a:cubicBezTo>
                <a:cubicBezTo>
                  <a:pt x="7438" y="3940"/>
                  <a:pt x="7468" y="4049"/>
                  <a:pt x="7565" y="4043"/>
                </a:cubicBezTo>
                <a:cubicBezTo>
                  <a:pt x="7639" y="4039"/>
                  <a:pt x="7700" y="3927"/>
                  <a:pt x="7714" y="3870"/>
                </a:cubicBezTo>
                <a:cubicBezTo>
                  <a:pt x="7734" y="3788"/>
                  <a:pt x="7703" y="3670"/>
                  <a:pt x="7665" y="3597"/>
                </a:cubicBezTo>
                <a:cubicBezTo>
                  <a:pt x="7644" y="3557"/>
                  <a:pt x="7598" y="3560"/>
                  <a:pt x="7565" y="3547"/>
                </a:cubicBezTo>
                <a:cubicBezTo>
                  <a:pt x="7575" y="3607"/>
                  <a:pt x="7537" y="3662"/>
                  <a:pt x="7615" y="3696"/>
                </a:cubicBezTo>
                <a:cubicBezTo>
                  <a:pt x="7699" y="3732"/>
                  <a:pt x="7910" y="3686"/>
                  <a:pt x="7987" y="3646"/>
                </a:cubicBezTo>
                <a:cubicBezTo>
                  <a:pt x="8102" y="3585"/>
                  <a:pt x="8233" y="3471"/>
                  <a:pt x="8285" y="3349"/>
                </a:cubicBezTo>
                <a:cubicBezTo>
                  <a:pt x="8329" y="3245"/>
                  <a:pt x="8359" y="3108"/>
                  <a:pt x="8310" y="3001"/>
                </a:cubicBezTo>
                <a:cubicBezTo>
                  <a:pt x="8265" y="2904"/>
                  <a:pt x="8260" y="2905"/>
                  <a:pt x="8186" y="2927"/>
                </a:cubicBezTo>
                <a:cubicBezTo>
                  <a:pt x="8100" y="3097"/>
                  <a:pt x="8068" y="3255"/>
                  <a:pt x="8062" y="3448"/>
                </a:cubicBezTo>
                <a:cubicBezTo>
                  <a:pt x="8055" y="3679"/>
                  <a:pt x="8061" y="3802"/>
                  <a:pt x="8186" y="3994"/>
                </a:cubicBezTo>
                <a:cubicBezTo>
                  <a:pt x="8235" y="4068"/>
                  <a:pt x="8252" y="4093"/>
                  <a:pt x="8310" y="41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67080" y="1054080"/>
            <a:ext cx="973080" cy="652320"/>
          </a:xfrm>
          <a:custGeom>
            <a:avLst/>
            <a:gdLst/>
            <a:ahLst/>
            <a:rect l="l" t="t" r="r" b="b"/>
            <a:pathLst>
              <a:path w="2705" h="1812">
                <a:moveTo>
                  <a:pt x="9624" y="3373"/>
                </a:moveTo>
                <a:cubicBezTo>
                  <a:pt x="9654" y="3335"/>
                  <a:pt x="9651" y="3314"/>
                  <a:pt x="9624" y="3274"/>
                </a:cubicBezTo>
                <a:cubicBezTo>
                  <a:pt x="9583" y="3213"/>
                  <a:pt x="9509" y="3256"/>
                  <a:pt x="9475" y="3299"/>
                </a:cubicBezTo>
                <a:cubicBezTo>
                  <a:pt x="9389" y="3407"/>
                  <a:pt x="9358" y="3513"/>
                  <a:pt x="9351" y="3646"/>
                </a:cubicBezTo>
                <a:cubicBezTo>
                  <a:pt x="9345" y="3766"/>
                  <a:pt x="9332" y="3896"/>
                  <a:pt x="9451" y="3969"/>
                </a:cubicBezTo>
                <a:cubicBezTo>
                  <a:pt x="9516" y="3991"/>
                  <a:pt x="9531" y="3999"/>
                  <a:pt x="9575" y="3994"/>
                </a:cubicBezTo>
              </a:path>
              <a:path w="2705" h="1812">
                <a:moveTo>
                  <a:pt x="9798" y="3944"/>
                </a:moveTo>
                <a:cubicBezTo>
                  <a:pt x="9810" y="3895"/>
                  <a:pt x="9822" y="3894"/>
                  <a:pt x="9872" y="3894"/>
                </a:cubicBezTo>
                <a:cubicBezTo>
                  <a:pt x="9880" y="3894"/>
                  <a:pt x="9889" y="3894"/>
                  <a:pt x="9897" y="3894"/>
                </a:cubicBezTo>
                <a:cubicBezTo>
                  <a:pt x="9897" y="3949"/>
                  <a:pt x="9904" y="3970"/>
                  <a:pt x="9872" y="3994"/>
                </a:cubicBezTo>
                <a:cubicBezTo>
                  <a:pt x="9843" y="4015"/>
                  <a:pt x="9830" y="4045"/>
                  <a:pt x="9823" y="4068"/>
                </a:cubicBezTo>
                <a:cubicBezTo>
                  <a:pt x="9874" y="4068"/>
                  <a:pt x="9876" y="4083"/>
                  <a:pt x="9897" y="4093"/>
                </a:cubicBezTo>
                <a:cubicBezTo>
                  <a:pt x="9937" y="4113"/>
                  <a:pt x="9932" y="4148"/>
                  <a:pt x="9897" y="4192"/>
                </a:cubicBezTo>
                <a:cubicBezTo>
                  <a:pt x="9845" y="4256"/>
                  <a:pt x="9798" y="4305"/>
                  <a:pt x="9723" y="4316"/>
                </a:cubicBezTo>
              </a:path>
              <a:path w="2705" h="1812">
                <a:moveTo>
                  <a:pt x="10443" y="3101"/>
                </a:moveTo>
                <a:cubicBezTo>
                  <a:pt x="10443" y="3034"/>
                  <a:pt x="10419" y="3270"/>
                  <a:pt x="10418" y="3274"/>
                </a:cubicBezTo>
                <a:cubicBezTo>
                  <a:pt x="10391" y="3427"/>
                  <a:pt x="10358" y="3590"/>
                  <a:pt x="10344" y="3746"/>
                </a:cubicBezTo>
                <a:cubicBezTo>
                  <a:pt x="10336" y="3838"/>
                  <a:pt x="10319" y="3927"/>
                  <a:pt x="10319" y="4018"/>
                </a:cubicBezTo>
                <a:cubicBezTo>
                  <a:pt x="10319" y="4026"/>
                  <a:pt x="10319" y="4035"/>
                  <a:pt x="10319" y="4043"/>
                </a:cubicBezTo>
              </a:path>
              <a:path w="2705" h="1812">
                <a:moveTo>
                  <a:pt x="10294" y="3696"/>
                </a:moveTo>
                <a:cubicBezTo>
                  <a:pt x="10347" y="3685"/>
                  <a:pt x="10416" y="3684"/>
                  <a:pt x="10468" y="3671"/>
                </a:cubicBezTo>
                <a:cubicBezTo>
                  <a:pt x="10535" y="3654"/>
                  <a:pt x="10632" y="3607"/>
                  <a:pt x="10691" y="3572"/>
                </a:cubicBezTo>
                <a:cubicBezTo>
                  <a:pt x="10716" y="3555"/>
                  <a:pt x="10740" y="3539"/>
                  <a:pt x="10765" y="3522"/>
                </a:cubicBezTo>
              </a:path>
              <a:path w="2705" h="1812">
                <a:moveTo>
                  <a:pt x="10864" y="3249"/>
                </a:moveTo>
                <a:cubicBezTo>
                  <a:pt x="10768" y="3259"/>
                  <a:pt x="10709" y="3296"/>
                  <a:pt x="10666" y="3398"/>
                </a:cubicBezTo>
                <a:cubicBezTo>
                  <a:pt x="10604" y="3546"/>
                  <a:pt x="10571" y="3684"/>
                  <a:pt x="10567" y="3845"/>
                </a:cubicBezTo>
                <a:cubicBezTo>
                  <a:pt x="10564" y="3951"/>
                  <a:pt x="10551" y="4034"/>
                  <a:pt x="10616" y="4118"/>
                </a:cubicBezTo>
              </a:path>
              <a:path w="2705" h="1812">
                <a:moveTo>
                  <a:pt x="11088" y="3944"/>
                </a:moveTo>
                <a:cubicBezTo>
                  <a:pt x="11059" y="3900"/>
                  <a:pt x="11019" y="3918"/>
                  <a:pt x="10964" y="3944"/>
                </a:cubicBezTo>
                <a:cubicBezTo>
                  <a:pt x="10879" y="3984"/>
                  <a:pt x="10847" y="4028"/>
                  <a:pt x="10840" y="4118"/>
                </a:cubicBezTo>
                <a:cubicBezTo>
                  <a:pt x="10836" y="4171"/>
                  <a:pt x="10897" y="4180"/>
                  <a:pt x="10939" y="4167"/>
                </a:cubicBezTo>
                <a:cubicBezTo>
                  <a:pt x="11003" y="4148"/>
                  <a:pt x="11026" y="4075"/>
                  <a:pt x="11088" y="4068"/>
                </a:cubicBezTo>
                <a:cubicBezTo>
                  <a:pt x="11096" y="4068"/>
                  <a:pt x="11104" y="4068"/>
                  <a:pt x="11112" y="4068"/>
                </a:cubicBezTo>
                <a:cubicBezTo>
                  <a:pt x="11042" y="4160"/>
                  <a:pt x="11004" y="4267"/>
                  <a:pt x="10939" y="4366"/>
                </a:cubicBezTo>
                <a:cubicBezTo>
                  <a:pt x="10866" y="4476"/>
                  <a:pt x="10772" y="4592"/>
                  <a:pt x="10716" y="4713"/>
                </a:cubicBezTo>
                <a:cubicBezTo>
                  <a:pt x="10716" y="4721"/>
                  <a:pt x="10716" y="4730"/>
                  <a:pt x="10716" y="4738"/>
                </a:cubicBezTo>
              </a:path>
              <a:path w="2705" h="1812">
                <a:moveTo>
                  <a:pt x="11460" y="3522"/>
                </a:moveTo>
                <a:cubicBezTo>
                  <a:pt x="11455" y="3523"/>
                  <a:pt x="11413" y="3527"/>
                  <a:pt x="11385" y="3597"/>
                </a:cubicBezTo>
                <a:cubicBezTo>
                  <a:pt x="11341" y="3706"/>
                  <a:pt x="11316" y="3830"/>
                  <a:pt x="11286" y="3944"/>
                </a:cubicBezTo>
                <a:cubicBezTo>
                  <a:pt x="11266" y="4021"/>
                  <a:pt x="11245" y="4090"/>
                  <a:pt x="11237" y="4167"/>
                </a:cubicBezTo>
                <a:cubicBezTo>
                  <a:pt x="11288" y="4108"/>
                  <a:pt x="11310" y="4065"/>
                  <a:pt x="11336" y="3969"/>
                </a:cubicBezTo>
                <a:cubicBezTo>
                  <a:pt x="11371" y="3837"/>
                  <a:pt x="11385" y="3734"/>
                  <a:pt x="11385" y="3597"/>
                </a:cubicBezTo>
                <a:cubicBezTo>
                  <a:pt x="11385" y="3542"/>
                  <a:pt x="11403" y="3502"/>
                  <a:pt x="11410" y="3448"/>
                </a:cubicBezTo>
                <a:cubicBezTo>
                  <a:pt x="11473" y="3495"/>
                  <a:pt x="11495" y="3539"/>
                  <a:pt x="11534" y="3621"/>
                </a:cubicBezTo>
                <a:cubicBezTo>
                  <a:pt x="11584" y="3727"/>
                  <a:pt x="11616" y="3866"/>
                  <a:pt x="11708" y="3944"/>
                </a:cubicBezTo>
                <a:cubicBezTo>
                  <a:pt x="11776" y="4001"/>
                  <a:pt x="11842" y="3973"/>
                  <a:pt x="11881" y="3919"/>
                </a:cubicBezTo>
                <a:cubicBezTo>
                  <a:pt x="11965" y="3801"/>
                  <a:pt x="11978" y="3689"/>
                  <a:pt x="11981" y="3547"/>
                </a:cubicBezTo>
                <a:cubicBezTo>
                  <a:pt x="11983" y="3455"/>
                  <a:pt x="11916" y="2982"/>
                  <a:pt x="12005" y="2927"/>
                </a:cubicBezTo>
                <a:cubicBezTo>
                  <a:pt x="12033" y="2927"/>
                  <a:pt x="12044" y="2929"/>
                  <a:pt x="12055" y="29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87920" y="1177920"/>
            <a:ext cx="2992320" cy="608040"/>
          </a:xfrm>
          <a:custGeom>
            <a:avLst/>
            <a:gdLst/>
            <a:ahLst/>
            <a:rect l="l" t="t" r="r" b="b"/>
            <a:pathLst>
              <a:path w="8311" h="1688">
                <a:moveTo>
                  <a:pt x="13022" y="4018"/>
                </a:moveTo>
                <a:cubicBezTo>
                  <a:pt x="13038" y="4066"/>
                  <a:pt x="13038" y="4029"/>
                  <a:pt x="13072" y="4018"/>
                </a:cubicBezTo>
                <a:cubicBezTo>
                  <a:pt x="13012" y="4038"/>
                  <a:pt x="13065" y="4029"/>
                  <a:pt x="13097" y="4018"/>
                </a:cubicBezTo>
                <a:cubicBezTo>
                  <a:pt x="13155" y="3999"/>
                  <a:pt x="13087" y="3973"/>
                  <a:pt x="13122" y="3944"/>
                </a:cubicBezTo>
                <a:cubicBezTo>
                  <a:pt x="13160" y="3912"/>
                  <a:pt x="13113" y="3986"/>
                  <a:pt x="13097" y="3994"/>
                </a:cubicBezTo>
                <a:cubicBezTo>
                  <a:pt x="13089" y="3994"/>
                  <a:pt x="13080" y="3994"/>
                  <a:pt x="13072" y="3994"/>
                </a:cubicBezTo>
              </a:path>
              <a:path w="8311" h="1688">
                <a:moveTo>
                  <a:pt x="13667" y="3721"/>
                </a:moveTo>
                <a:cubicBezTo>
                  <a:pt x="13708" y="3701"/>
                  <a:pt x="13735" y="3692"/>
                  <a:pt x="13692" y="3696"/>
                </a:cubicBezTo>
                <a:cubicBezTo>
                  <a:pt x="13639" y="3696"/>
                  <a:pt x="13615" y="3720"/>
                  <a:pt x="13593" y="3770"/>
                </a:cubicBezTo>
                <a:cubicBezTo>
                  <a:pt x="13566" y="3829"/>
                  <a:pt x="13507" y="3934"/>
                  <a:pt x="13568" y="3994"/>
                </a:cubicBezTo>
                <a:cubicBezTo>
                  <a:pt x="13628" y="4053"/>
                  <a:pt x="13700" y="4047"/>
                  <a:pt x="13767" y="4018"/>
                </a:cubicBezTo>
                <a:cubicBezTo>
                  <a:pt x="13854" y="3980"/>
                  <a:pt x="13874" y="3953"/>
                  <a:pt x="13915" y="3870"/>
                </a:cubicBezTo>
                <a:cubicBezTo>
                  <a:pt x="13943" y="3813"/>
                  <a:pt x="13968" y="3700"/>
                  <a:pt x="13915" y="3646"/>
                </a:cubicBezTo>
                <a:cubicBezTo>
                  <a:pt x="13860" y="3590"/>
                  <a:pt x="13804" y="3595"/>
                  <a:pt x="13742" y="3621"/>
                </a:cubicBezTo>
              </a:path>
              <a:path w="8311" h="1688">
                <a:moveTo>
                  <a:pt x="14412" y="3572"/>
                </a:moveTo>
                <a:cubicBezTo>
                  <a:pt x="14357" y="3572"/>
                  <a:pt x="14319" y="3549"/>
                  <a:pt x="14263" y="3547"/>
                </a:cubicBezTo>
                <a:cubicBezTo>
                  <a:pt x="14210" y="3545"/>
                  <a:pt x="14123" y="3531"/>
                  <a:pt x="14114" y="3597"/>
                </a:cubicBezTo>
                <a:cubicBezTo>
                  <a:pt x="14099" y="3702"/>
                  <a:pt x="14146" y="3714"/>
                  <a:pt x="14188" y="3795"/>
                </a:cubicBezTo>
                <a:cubicBezTo>
                  <a:pt x="14227" y="3870"/>
                  <a:pt x="14283" y="3932"/>
                  <a:pt x="14288" y="4018"/>
                </a:cubicBezTo>
                <a:cubicBezTo>
                  <a:pt x="14291" y="4079"/>
                  <a:pt x="14251" y="4134"/>
                  <a:pt x="14188" y="4142"/>
                </a:cubicBezTo>
                <a:cubicBezTo>
                  <a:pt x="14147" y="4142"/>
                  <a:pt x="14139" y="4142"/>
                  <a:pt x="14114" y="4142"/>
                </a:cubicBezTo>
              </a:path>
              <a:path w="8311" h="1688">
                <a:moveTo>
                  <a:pt x="14238" y="3621"/>
                </a:moveTo>
                <a:cubicBezTo>
                  <a:pt x="14391" y="3621"/>
                  <a:pt x="14536" y="3613"/>
                  <a:pt x="14684" y="3597"/>
                </a:cubicBezTo>
                <a:cubicBezTo>
                  <a:pt x="14709" y="3597"/>
                  <a:pt x="14734" y="3597"/>
                  <a:pt x="14759" y="3597"/>
                </a:cubicBezTo>
              </a:path>
              <a:path w="8311" h="1688">
                <a:moveTo>
                  <a:pt x="14932" y="3870"/>
                </a:moveTo>
                <a:cubicBezTo>
                  <a:pt x="14932" y="3955"/>
                  <a:pt x="14918" y="4013"/>
                  <a:pt x="14883" y="4093"/>
                </a:cubicBezTo>
                <a:cubicBezTo>
                  <a:pt x="14860" y="4146"/>
                  <a:pt x="14851" y="4193"/>
                  <a:pt x="14833" y="4242"/>
                </a:cubicBezTo>
                <a:cubicBezTo>
                  <a:pt x="14899" y="4170"/>
                  <a:pt x="14952" y="4100"/>
                  <a:pt x="15007" y="4018"/>
                </a:cubicBezTo>
                <a:cubicBezTo>
                  <a:pt x="15063" y="3934"/>
                  <a:pt x="15128" y="3869"/>
                  <a:pt x="15205" y="3820"/>
                </a:cubicBezTo>
                <a:cubicBezTo>
                  <a:pt x="15221" y="3882"/>
                  <a:pt x="15230" y="3942"/>
                  <a:pt x="15230" y="4018"/>
                </a:cubicBezTo>
                <a:cubicBezTo>
                  <a:pt x="15230" y="4059"/>
                  <a:pt x="15230" y="4101"/>
                  <a:pt x="15230" y="4142"/>
                </a:cubicBezTo>
                <a:cubicBezTo>
                  <a:pt x="15272" y="4116"/>
                  <a:pt x="15317" y="4090"/>
                  <a:pt x="15354" y="4043"/>
                </a:cubicBezTo>
                <a:cubicBezTo>
                  <a:pt x="15378" y="4014"/>
                  <a:pt x="15389" y="3953"/>
                  <a:pt x="15404" y="3919"/>
                </a:cubicBezTo>
                <a:cubicBezTo>
                  <a:pt x="15454" y="3932"/>
                  <a:pt x="15457" y="3947"/>
                  <a:pt x="15503" y="3969"/>
                </a:cubicBezTo>
                <a:cubicBezTo>
                  <a:pt x="15565" y="3999"/>
                  <a:pt x="15625" y="3994"/>
                  <a:pt x="15701" y="3994"/>
                </a:cubicBezTo>
                <a:cubicBezTo>
                  <a:pt x="15751" y="3994"/>
                  <a:pt x="15849" y="3972"/>
                  <a:pt x="15875" y="3919"/>
                </a:cubicBezTo>
                <a:cubicBezTo>
                  <a:pt x="15875" y="3894"/>
                  <a:pt x="15875" y="3886"/>
                  <a:pt x="15850" y="3894"/>
                </a:cubicBezTo>
                <a:cubicBezTo>
                  <a:pt x="15804" y="3947"/>
                  <a:pt x="15780" y="3969"/>
                  <a:pt x="15776" y="4043"/>
                </a:cubicBezTo>
                <a:cubicBezTo>
                  <a:pt x="15771" y="4137"/>
                  <a:pt x="15815" y="4162"/>
                  <a:pt x="15900" y="4167"/>
                </a:cubicBezTo>
                <a:cubicBezTo>
                  <a:pt x="15971" y="4171"/>
                  <a:pt x="15998" y="4125"/>
                  <a:pt x="16024" y="4068"/>
                </a:cubicBezTo>
                <a:cubicBezTo>
                  <a:pt x="16055" y="4000"/>
                  <a:pt x="16027" y="3888"/>
                  <a:pt x="15974" y="3845"/>
                </a:cubicBezTo>
                <a:cubicBezTo>
                  <a:pt x="15928" y="3807"/>
                  <a:pt x="15879" y="3802"/>
                  <a:pt x="15825" y="3795"/>
                </a:cubicBezTo>
                <a:cubicBezTo>
                  <a:pt x="15868" y="3845"/>
                  <a:pt x="15911" y="3883"/>
                  <a:pt x="15999" y="3894"/>
                </a:cubicBezTo>
                <a:cubicBezTo>
                  <a:pt x="16149" y="3912"/>
                  <a:pt x="16289" y="3893"/>
                  <a:pt x="16421" y="3820"/>
                </a:cubicBezTo>
                <a:cubicBezTo>
                  <a:pt x="16525" y="3763"/>
                  <a:pt x="16621" y="3696"/>
                  <a:pt x="16644" y="3572"/>
                </a:cubicBezTo>
                <a:cubicBezTo>
                  <a:pt x="16662" y="3475"/>
                  <a:pt x="16648" y="3364"/>
                  <a:pt x="16570" y="3299"/>
                </a:cubicBezTo>
                <a:cubicBezTo>
                  <a:pt x="16553" y="3291"/>
                  <a:pt x="16537" y="3282"/>
                  <a:pt x="16520" y="3274"/>
                </a:cubicBezTo>
                <a:cubicBezTo>
                  <a:pt x="16438" y="3373"/>
                  <a:pt x="16424" y="3412"/>
                  <a:pt x="16396" y="3547"/>
                </a:cubicBezTo>
                <a:cubicBezTo>
                  <a:pt x="16363" y="3703"/>
                  <a:pt x="16343" y="3889"/>
                  <a:pt x="16396" y="4043"/>
                </a:cubicBezTo>
                <a:cubicBezTo>
                  <a:pt x="16445" y="4140"/>
                  <a:pt x="16461" y="4172"/>
                  <a:pt x="16520" y="4217"/>
                </a:cubicBezTo>
              </a:path>
              <a:path w="8311" h="1688">
                <a:moveTo>
                  <a:pt x="17512" y="3597"/>
                </a:moveTo>
                <a:cubicBezTo>
                  <a:pt x="17512" y="3572"/>
                  <a:pt x="17512" y="3547"/>
                  <a:pt x="17512" y="3522"/>
                </a:cubicBezTo>
                <a:cubicBezTo>
                  <a:pt x="17412" y="3522"/>
                  <a:pt x="17399" y="3536"/>
                  <a:pt x="17338" y="3621"/>
                </a:cubicBezTo>
                <a:cubicBezTo>
                  <a:pt x="17259" y="3731"/>
                  <a:pt x="17196" y="3879"/>
                  <a:pt x="17214" y="4018"/>
                </a:cubicBezTo>
                <a:cubicBezTo>
                  <a:pt x="17234" y="4172"/>
                  <a:pt x="17332" y="4188"/>
                  <a:pt x="17462" y="4192"/>
                </a:cubicBezTo>
                <a:cubicBezTo>
                  <a:pt x="17487" y="4192"/>
                  <a:pt x="17512" y="4192"/>
                  <a:pt x="17537" y="4192"/>
                </a:cubicBezTo>
              </a:path>
              <a:path w="8311" h="1688">
                <a:moveTo>
                  <a:pt x="17016" y="3448"/>
                </a:moveTo>
                <a:cubicBezTo>
                  <a:pt x="17016" y="3505"/>
                  <a:pt x="16996" y="3547"/>
                  <a:pt x="16966" y="3597"/>
                </a:cubicBezTo>
                <a:cubicBezTo>
                  <a:pt x="16907" y="3695"/>
                  <a:pt x="16835" y="3814"/>
                  <a:pt x="16793" y="3919"/>
                </a:cubicBezTo>
                <a:cubicBezTo>
                  <a:pt x="16758" y="4009"/>
                  <a:pt x="16697" y="4099"/>
                  <a:pt x="16669" y="4192"/>
                </a:cubicBezTo>
                <a:cubicBezTo>
                  <a:pt x="16669" y="4217"/>
                  <a:pt x="16669" y="4225"/>
                  <a:pt x="16694" y="4217"/>
                </a:cubicBezTo>
              </a:path>
              <a:path w="8311" h="1688">
                <a:moveTo>
                  <a:pt x="16842" y="4018"/>
                </a:moveTo>
                <a:cubicBezTo>
                  <a:pt x="16850" y="3994"/>
                  <a:pt x="16903" y="3976"/>
                  <a:pt x="16942" y="3969"/>
                </a:cubicBezTo>
                <a:cubicBezTo>
                  <a:pt x="17034" y="3953"/>
                  <a:pt x="17123" y="3942"/>
                  <a:pt x="17214" y="3919"/>
                </a:cubicBezTo>
              </a:path>
              <a:path w="8311" h="1688">
                <a:moveTo>
                  <a:pt x="17289" y="3597"/>
                </a:moveTo>
                <a:cubicBezTo>
                  <a:pt x="17230" y="3597"/>
                  <a:pt x="17177" y="3593"/>
                  <a:pt x="17165" y="3671"/>
                </a:cubicBezTo>
                <a:cubicBezTo>
                  <a:pt x="17145" y="3809"/>
                  <a:pt x="17104" y="3953"/>
                  <a:pt x="17090" y="4093"/>
                </a:cubicBezTo>
                <a:cubicBezTo>
                  <a:pt x="17079" y="4203"/>
                  <a:pt x="17053" y="4307"/>
                  <a:pt x="17041" y="4415"/>
                </a:cubicBezTo>
              </a:path>
              <a:path w="8311" h="1688">
                <a:moveTo>
                  <a:pt x="17735" y="4118"/>
                </a:moveTo>
                <a:cubicBezTo>
                  <a:pt x="17741" y="4099"/>
                  <a:pt x="17780" y="4074"/>
                  <a:pt x="17810" y="4068"/>
                </a:cubicBezTo>
                <a:cubicBezTo>
                  <a:pt x="17832" y="4063"/>
                  <a:pt x="17927" y="4073"/>
                  <a:pt x="17934" y="4093"/>
                </a:cubicBezTo>
                <a:cubicBezTo>
                  <a:pt x="17952" y="4143"/>
                  <a:pt x="17865" y="4218"/>
                  <a:pt x="17835" y="4242"/>
                </a:cubicBezTo>
                <a:cubicBezTo>
                  <a:pt x="17791" y="4263"/>
                  <a:pt x="17779" y="4266"/>
                  <a:pt x="17760" y="4291"/>
                </a:cubicBezTo>
                <a:cubicBezTo>
                  <a:pt x="17777" y="4291"/>
                  <a:pt x="17941" y="4292"/>
                  <a:pt x="17909" y="4316"/>
                </a:cubicBezTo>
                <a:cubicBezTo>
                  <a:pt x="17901" y="4316"/>
                  <a:pt x="17892" y="4316"/>
                  <a:pt x="17884" y="4316"/>
                </a:cubicBezTo>
              </a:path>
              <a:path w="8311" h="1688">
                <a:moveTo>
                  <a:pt x="17934" y="4093"/>
                </a:moveTo>
                <a:cubicBezTo>
                  <a:pt x="17921" y="4055"/>
                  <a:pt x="17904" y="4068"/>
                  <a:pt x="17859" y="4068"/>
                </a:cubicBezTo>
                <a:cubicBezTo>
                  <a:pt x="17851" y="4068"/>
                  <a:pt x="17843" y="4068"/>
                  <a:pt x="17835" y="4068"/>
                </a:cubicBezTo>
                <a:cubicBezTo>
                  <a:pt x="17909" y="4068"/>
                  <a:pt x="17984" y="4068"/>
                  <a:pt x="18058" y="4068"/>
                </a:cubicBezTo>
                <a:cubicBezTo>
                  <a:pt x="18058" y="4114"/>
                  <a:pt x="18065" y="4133"/>
                  <a:pt x="18033" y="4167"/>
                </a:cubicBezTo>
                <a:cubicBezTo>
                  <a:pt x="17979" y="4225"/>
                  <a:pt x="17904" y="4277"/>
                  <a:pt x="17835" y="4316"/>
                </a:cubicBezTo>
                <a:cubicBezTo>
                  <a:pt x="17808" y="4331"/>
                  <a:pt x="17682" y="4366"/>
                  <a:pt x="17735" y="4366"/>
                </a:cubicBezTo>
                <a:cubicBezTo>
                  <a:pt x="17798" y="4366"/>
                  <a:pt x="17838" y="4341"/>
                  <a:pt x="17909" y="4341"/>
                </a:cubicBezTo>
                <a:cubicBezTo>
                  <a:pt x="17951" y="4341"/>
                  <a:pt x="17980" y="4376"/>
                  <a:pt x="17983" y="4415"/>
                </a:cubicBezTo>
                <a:cubicBezTo>
                  <a:pt x="17988" y="4487"/>
                  <a:pt x="17915" y="4548"/>
                  <a:pt x="17859" y="4589"/>
                </a:cubicBezTo>
                <a:cubicBezTo>
                  <a:pt x="17816" y="4620"/>
                  <a:pt x="17733" y="4669"/>
                  <a:pt x="17686" y="4688"/>
                </a:cubicBezTo>
                <a:cubicBezTo>
                  <a:pt x="17646" y="4704"/>
                  <a:pt x="17661" y="4659"/>
                  <a:pt x="17661" y="4638"/>
                </a:cubicBezTo>
              </a:path>
              <a:path w="8311" h="1688">
                <a:moveTo>
                  <a:pt x="18604" y="3572"/>
                </a:moveTo>
                <a:cubicBezTo>
                  <a:pt x="18588" y="3635"/>
                  <a:pt x="18531" y="3705"/>
                  <a:pt x="18504" y="3770"/>
                </a:cubicBezTo>
                <a:cubicBezTo>
                  <a:pt x="18450" y="3900"/>
                  <a:pt x="18405" y="4036"/>
                  <a:pt x="18355" y="4167"/>
                </a:cubicBezTo>
                <a:cubicBezTo>
                  <a:pt x="18331" y="4230"/>
                  <a:pt x="18314" y="4277"/>
                  <a:pt x="18306" y="4341"/>
                </a:cubicBezTo>
              </a:path>
              <a:path w="8311" h="1688">
                <a:moveTo>
                  <a:pt x="18430" y="4093"/>
                </a:moveTo>
                <a:cubicBezTo>
                  <a:pt x="18441" y="4059"/>
                  <a:pt x="18507" y="4036"/>
                  <a:pt x="18554" y="4018"/>
                </a:cubicBezTo>
                <a:cubicBezTo>
                  <a:pt x="18669" y="3973"/>
                  <a:pt x="18770" y="3938"/>
                  <a:pt x="18876" y="3870"/>
                </a:cubicBezTo>
                <a:cubicBezTo>
                  <a:pt x="18946" y="3825"/>
                  <a:pt x="19019" y="3749"/>
                  <a:pt x="19050" y="3671"/>
                </a:cubicBezTo>
                <a:cubicBezTo>
                  <a:pt x="19050" y="3663"/>
                  <a:pt x="19050" y="3654"/>
                  <a:pt x="19050" y="3646"/>
                </a:cubicBezTo>
                <a:cubicBezTo>
                  <a:pt x="18961" y="3659"/>
                  <a:pt x="18934" y="3694"/>
                  <a:pt x="18876" y="3770"/>
                </a:cubicBezTo>
                <a:cubicBezTo>
                  <a:pt x="18766" y="3914"/>
                  <a:pt x="18684" y="4069"/>
                  <a:pt x="18628" y="4242"/>
                </a:cubicBezTo>
                <a:cubicBezTo>
                  <a:pt x="18597" y="4337"/>
                  <a:pt x="18598" y="4357"/>
                  <a:pt x="18628" y="4440"/>
                </a:cubicBezTo>
              </a:path>
              <a:path w="8311" h="1688">
                <a:moveTo>
                  <a:pt x="19199" y="4266"/>
                </a:moveTo>
                <a:cubicBezTo>
                  <a:pt x="19149" y="4230"/>
                  <a:pt x="19134" y="4239"/>
                  <a:pt x="19075" y="4266"/>
                </a:cubicBezTo>
                <a:cubicBezTo>
                  <a:pt x="19010" y="4296"/>
                  <a:pt x="18952" y="4346"/>
                  <a:pt x="18926" y="4415"/>
                </a:cubicBezTo>
                <a:cubicBezTo>
                  <a:pt x="18926" y="4440"/>
                  <a:pt x="18926" y="4448"/>
                  <a:pt x="18926" y="4465"/>
                </a:cubicBezTo>
                <a:cubicBezTo>
                  <a:pt x="18998" y="4465"/>
                  <a:pt x="19036" y="4448"/>
                  <a:pt x="19100" y="4415"/>
                </a:cubicBezTo>
                <a:cubicBezTo>
                  <a:pt x="19150" y="4390"/>
                  <a:pt x="19212" y="4368"/>
                  <a:pt x="19224" y="4390"/>
                </a:cubicBezTo>
                <a:cubicBezTo>
                  <a:pt x="19203" y="4474"/>
                  <a:pt x="19148" y="4578"/>
                  <a:pt x="19100" y="4663"/>
                </a:cubicBezTo>
                <a:cubicBezTo>
                  <a:pt x="19048" y="4755"/>
                  <a:pt x="18981" y="4832"/>
                  <a:pt x="18951" y="4936"/>
                </a:cubicBezTo>
                <a:cubicBezTo>
                  <a:pt x="18951" y="4944"/>
                  <a:pt x="18951" y="4953"/>
                  <a:pt x="18951" y="4961"/>
                </a:cubicBezTo>
              </a:path>
              <a:path w="8311" h="1688">
                <a:moveTo>
                  <a:pt x="19794" y="3795"/>
                </a:moveTo>
                <a:cubicBezTo>
                  <a:pt x="19752" y="3880"/>
                  <a:pt x="19699" y="3940"/>
                  <a:pt x="19645" y="4018"/>
                </a:cubicBezTo>
                <a:cubicBezTo>
                  <a:pt x="19592" y="4095"/>
                  <a:pt x="19528" y="4203"/>
                  <a:pt x="19496" y="4291"/>
                </a:cubicBezTo>
                <a:cubicBezTo>
                  <a:pt x="19496" y="4299"/>
                  <a:pt x="19496" y="4308"/>
                  <a:pt x="19496" y="4316"/>
                </a:cubicBezTo>
                <a:cubicBezTo>
                  <a:pt x="19533" y="4279"/>
                  <a:pt x="19539" y="4283"/>
                  <a:pt x="19571" y="4242"/>
                </a:cubicBezTo>
                <a:cubicBezTo>
                  <a:pt x="19652" y="4138"/>
                  <a:pt x="19718" y="4015"/>
                  <a:pt x="19769" y="3894"/>
                </a:cubicBezTo>
                <a:cubicBezTo>
                  <a:pt x="19796" y="3828"/>
                  <a:pt x="19815" y="3761"/>
                  <a:pt x="19844" y="3696"/>
                </a:cubicBezTo>
                <a:cubicBezTo>
                  <a:pt x="19851" y="3795"/>
                  <a:pt x="19868" y="3871"/>
                  <a:pt x="19893" y="3969"/>
                </a:cubicBezTo>
                <a:cubicBezTo>
                  <a:pt x="19928" y="4107"/>
                  <a:pt x="19972" y="4211"/>
                  <a:pt x="20092" y="4291"/>
                </a:cubicBezTo>
                <a:cubicBezTo>
                  <a:pt x="20201" y="4364"/>
                  <a:pt x="20258" y="4279"/>
                  <a:pt x="20340" y="4217"/>
                </a:cubicBezTo>
                <a:cubicBezTo>
                  <a:pt x="20455" y="4130"/>
                  <a:pt x="20460" y="4012"/>
                  <a:pt x="20464" y="3870"/>
                </a:cubicBezTo>
                <a:cubicBezTo>
                  <a:pt x="20467" y="3775"/>
                  <a:pt x="20451" y="3633"/>
                  <a:pt x="20414" y="3547"/>
                </a:cubicBezTo>
                <a:cubicBezTo>
                  <a:pt x="20392" y="3525"/>
                  <a:pt x="20387" y="3516"/>
                  <a:pt x="20365" y="3522"/>
                </a:cubicBezTo>
              </a:path>
              <a:path w="8311" h="1688">
                <a:moveTo>
                  <a:pt x="20786" y="3547"/>
                </a:moveTo>
                <a:cubicBezTo>
                  <a:pt x="20755" y="3499"/>
                  <a:pt x="20826" y="3499"/>
                  <a:pt x="20886" y="3497"/>
                </a:cubicBezTo>
                <a:cubicBezTo>
                  <a:pt x="21034" y="3492"/>
                  <a:pt x="21184" y="3497"/>
                  <a:pt x="21332" y="3497"/>
                </a:cubicBezTo>
              </a:path>
              <a:path w="8311" h="1688">
                <a:moveTo>
                  <a:pt x="21158" y="3324"/>
                </a:moveTo>
                <a:cubicBezTo>
                  <a:pt x="21082" y="3411"/>
                  <a:pt x="21063" y="3483"/>
                  <a:pt x="21034" y="3597"/>
                </a:cubicBezTo>
                <a:cubicBezTo>
                  <a:pt x="21007" y="3705"/>
                  <a:pt x="20980" y="3792"/>
                  <a:pt x="20935" y="38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90760" y="1795320"/>
            <a:ext cx="430200" cy="339840"/>
          </a:xfrm>
          <a:custGeom>
            <a:avLst/>
            <a:gdLst/>
            <a:ahLst/>
            <a:rect l="l" t="t" r="r" b="b"/>
            <a:pathLst>
              <a:path w="1192" h="943">
                <a:moveTo>
                  <a:pt x="4167" y="5432"/>
                </a:moveTo>
                <a:cubicBezTo>
                  <a:pt x="4152" y="5509"/>
                  <a:pt x="4142" y="5572"/>
                  <a:pt x="4142" y="5655"/>
                </a:cubicBezTo>
                <a:cubicBezTo>
                  <a:pt x="4142" y="5753"/>
                  <a:pt x="4149" y="5830"/>
                  <a:pt x="4217" y="5904"/>
                </a:cubicBezTo>
                <a:cubicBezTo>
                  <a:pt x="4270" y="5962"/>
                  <a:pt x="4312" y="5904"/>
                  <a:pt x="4341" y="5854"/>
                </a:cubicBezTo>
                <a:cubicBezTo>
                  <a:pt x="4395" y="5763"/>
                  <a:pt x="4439" y="5633"/>
                  <a:pt x="4465" y="5531"/>
                </a:cubicBezTo>
                <a:cubicBezTo>
                  <a:pt x="4491" y="5428"/>
                  <a:pt x="4506" y="5288"/>
                  <a:pt x="4589" y="5209"/>
                </a:cubicBezTo>
                <a:cubicBezTo>
                  <a:pt x="4605" y="5201"/>
                  <a:pt x="4622" y="5192"/>
                  <a:pt x="4638" y="5184"/>
                </a:cubicBezTo>
              </a:path>
              <a:path w="1192" h="943">
                <a:moveTo>
                  <a:pt x="4911" y="5457"/>
                </a:moveTo>
                <a:cubicBezTo>
                  <a:pt x="4872" y="5513"/>
                  <a:pt x="4824" y="5545"/>
                  <a:pt x="4787" y="5606"/>
                </a:cubicBezTo>
                <a:cubicBezTo>
                  <a:pt x="4752" y="5664"/>
                  <a:pt x="4750" y="5706"/>
                  <a:pt x="4787" y="5755"/>
                </a:cubicBezTo>
                <a:cubicBezTo>
                  <a:pt x="4858" y="5755"/>
                  <a:pt x="4846" y="5736"/>
                  <a:pt x="4887" y="5680"/>
                </a:cubicBezTo>
                <a:cubicBezTo>
                  <a:pt x="4931" y="5620"/>
                  <a:pt x="4915" y="5549"/>
                  <a:pt x="4887" y="5482"/>
                </a:cubicBezTo>
                <a:cubicBezTo>
                  <a:pt x="4862" y="5432"/>
                  <a:pt x="4854" y="5416"/>
                  <a:pt x="4837" y="5383"/>
                </a:cubicBezTo>
              </a:path>
              <a:path w="1192" h="943">
                <a:moveTo>
                  <a:pt x="5333" y="4986"/>
                </a:moveTo>
                <a:cubicBezTo>
                  <a:pt x="5333" y="5069"/>
                  <a:pt x="5292" y="5130"/>
                  <a:pt x="5283" y="5209"/>
                </a:cubicBezTo>
                <a:cubicBezTo>
                  <a:pt x="5265" y="5374"/>
                  <a:pt x="5259" y="5538"/>
                  <a:pt x="5259" y="5705"/>
                </a:cubicBezTo>
                <a:cubicBezTo>
                  <a:pt x="5259" y="5771"/>
                  <a:pt x="5259" y="5838"/>
                  <a:pt x="5259" y="59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1830240"/>
            <a:ext cx="822240" cy="339840"/>
          </a:xfrm>
          <a:custGeom>
            <a:avLst/>
            <a:gdLst/>
            <a:ahLst/>
            <a:rect l="l" t="t" r="r" b="b"/>
            <a:pathLst>
              <a:path w="2283" h="944">
                <a:moveTo>
                  <a:pt x="6052" y="5383"/>
                </a:moveTo>
                <a:cubicBezTo>
                  <a:pt x="5987" y="5383"/>
                  <a:pt x="6138" y="5383"/>
                  <a:pt x="6152" y="5383"/>
                </a:cubicBezTo>
                <a:cubicBezTo>
                  <a:pt x="6218" y="5383"/>
                  <a:pt x="6284" y="5383"/>
                  <a:pt x="6350" y="5383"/>
                </a:cubicBezTo>
              </a:path>
              <a:path w="2283" h="944">
                <a:moveTo>
                  <a:pt x="5928" y="5655"/>
                </a:moveTo>
                <a:cubicBezTo>
                  <a:pt x="5928" y="5680"/>
                  <a:pt x="5928" y="5705"/>
                  <a:pt x="5928" y="5730"/>
                </a:cubicBezTo>
                <a:cubicBezTo>
                  <a:pt x="6036" y="5730"/>
                  <a:pt x="6122" y="5712"/>
                  <a:pt x="6226" y="5680"/>
                </a:cubicBezTo>
                <a:cubicBezTo>
                  <a:pt x="6251" y="5672"/>
                  <a:pt x="6275" y="5663"/>
                  <a:pt x="6300" y="5655"/>
                </a:cubicBezTo>
              </a:path>
              <a:path w="2283" h="944">
                <a:moveTo>
                  <a:pt x="6896" y="5407"/>
                </a:moveTo>
                <a:cubicBezTo>
                  <a:pt x="7000" y="5407"/>
                  <a:pt x="7014" y="5380"/>
                  <a:pt x="7094" y="5308"/>
                </a:cubicBezTo>
                <a:cubicBezTo>
                  <a:pt x="7154" y="5254"/>
                  <a:pt x="7191" y="5192"/>
                  <a:pt x="7243" y="5135"/>
                </a:cubicBezTo>
                <a:cubicBezTo>
                  <a:pt x="7266" y="5112"/>
                  <a:pt x="7274" y="5108"/>
                  <a:pt x="7268" y="5085"/>
                </a:cubicBezTo>
                <a:cubicBezTo>
                  <a:pt x="7252" y="5147"/>
                  <a:pt x="7202" y="5211"/>
                  <a:pt x="7193" y="5283"/>
                </a:cubicBezTo>
                <a:cubicBezTo>
                  <a:pt x="7169" y="5474"/>
                  <a:pt x="7214" y="5666"/>
                  <a:pt x="7169" y="5854"/>
                </a:cubicBezTo>
              </a:path>
              <a:path w="2283" h="944">
                <a:moveTo>
                  <a:pt x="6747" y="6028"/>
                </a:moveTo>
                <a:cubicBezTo>
                  <a:pt x="6776" y="5970"/>
                  <a:pt x="6853" y="5951"/>
                  <a:pt x="6921" y="5928"/>
                </a:cubicBezTo>
                <a:cubicBezTo>
                  <a:pt x="7043" y="5886"/>
                  <a:pt x="7170" y="5865"/>
                  <a:pt x="7293" y="5829"/>
                </a:cubicBezTo>
                <a:cubicBezTo>
                  <a:pt x="7358" y="5807"/>
                  <a:pt x="7373" y="5799"/>
                  <a:pt x="7417" y="5804"/>
                </a:cubicBezTo>
              </a:path>
              <a:path w="2283" h="944">
                <a:moveTo>
                  <a:pt x="7789" y="5209"/>
                </a:moveTo>
                <a:cubicBezTo>
                  <a:pt x="7848" y="5230"/>
                  <a:pt x="7761" y="5287"/>
                  <a:pt x="7739" y="5333"/>
                </a:cubicBezTo>
                <a:cubicBezTo>
                  <a:pt x="7680" y="5455"/>
                  <a:pt x="7631" y="5575"/>
                  <a:pt x="7590" y="5705"/>
                </a:cubicBezTo>
                <a:cubicBezTo>
                  <a:pt x="7566" y="5780"/>
                  <a:pt x="7527" y="5903"/>
                  <a:pt x="7640" y="5928"/>
                </a:cubicBezTo>
                <a:cubicBezTo>
                  <a:pt x="7825" y="5969"/>
                  <a:pt x="8029" y="5892"/>
                  <a:pt x="8210" y="59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70000" y="2374920"/>
            <a:ext cx="1411200" cy="696960"/>
          </a:xfrm>
          <a:custGeom>
            <a:avLst/>
            <a:gdLst/>
            <a:ahLst/>
            <a:rect l="l" t="t" r="r" b="b"/>
            <a:pathLst>
              <a:path w="3921" h="1936">
                <a:moveTo>
                  <a:pt x="4415" y="7268"/>
                </a:moveTo>
                <a:cubicBezTo>
                  <a:pt x="4343" y="7226"/>
                  <a:pt x="4344" y="7206"/>
                  <a:pt x="4266" y="7243"/>
                </a:cubicBezTo>
                <a:cubicBezTo>
                  <a:pt x="4169" y="7289"/>
                  <a:pt x="4110" y="7413"/>
                  <a:pt x="4093" y="7516"/>
                </a:cubicBezTo>
                <a:cubicBezTo>
                  <a:pt x="4077" y="7611"/>
                  <a:pt x="4084" y="7709"/>
                  <a:pt x="4192" y="7739"/>
                </a:cubicBezTo>
                <a:cubicBezTo>
                  <a:pt x="4264" y="7759"/>
                  <a:pt x="4358" y="7671"/>
                  <a:pt x="4390" y="7615"/>
                </a:cubicBezTo>
                <a:cubicBezTo>
                  <a:pt x="4438" y="7530"/>
                  <a:pt x="4440" y="7436"/>
                  <a:pt x="4440" y="7342"/>
                </a:cubicBezTo>
                <a:cubicBezTo>
                  <a:pt x="4440" y="7298"/>
                  <a:pt x="4443" y="7284"/>
                  <a:pt x="4415" y="7268"/>
                </a:cubicBezTo>
              </a:path>
              <a:path w="3921" h="1936">
                <a:moveTo>
                  <a:pt x="4812" y="7045"/>
                </a:moveTo>
                <a:cubicBezTo>
                  <a:pt x="4837" y="7028"/>
                  <a:pt x="4862" y="7012"/>
                  <a:pt x="4887" y="6995"/>
                </a:cubicBezTo>
                <a:cubicBezTo>
                  <a:pt x="4832" y="7078"/>
                  <a:pt x="4832" y="7169"/>
                  <a:pt x="4812" y="7268"/>
                </a:cubicBezTo>
                <a:cubicBezTo>
                  <a:pt x="4785" y="7403"/>
                  <a:pt x="4787" y="7528"/>
                  <a:pt x="4787" y="7665"/>
                </a:cubicBezTo>
                <a:cubicBezTo>
                  <a:pt x="4787" y="7673"/>
                  <a:pt x="4787" y="7681"/>
                  <a:pt x="4787" y="7689"/>
                </a:cubicBezTo>
              </a:path>
              <a:path w="3921" h="1936">
                <a:moveTo>
                  <a:pt x="4738" y="7417"/>
                </a:moveTo>
                <a:cubicBezTo>
                  <a:pt x="4804" y="7430"/>
                  <a:pt x="4842" y="7435"/>
                  <a:pt x="4911" y="7417"/>
                </a:cubicBezTo>
                <a:cubicBezTo>
                  <a:pt x="4991" y="7396"/>
                  <a:pt x="5093" y="7333"/>
                  <a:pt x="5135" y="7268"/>
                </a:cubicBezTo>
                <a:cubicBezTo>
                  <a:pt x="5169" y="7215"/>
                  <a:pt x="5167" y="7188"/>
                  <a:pt x="5135" y="7144"/>
                </a:cubicBezTo>
                <a:cubicBezTo>
                  <a:pt x="5055" y="7160"/>
                  <a:pt x="5021" y="7216"/>
                  <a:pt x="4986" y="7293"/>
                </a:cubicBezTo>
                <a:cubicBezTo>
                  <a:pt x="4929" y="7416"/>
                  <a:pt x="4954" y="7587"/>
                  <a:pt x="4986" y="7714"/>
                </a:cubicBezTo>
                <a:cubicBezTo>
                  <a:pt x="5010" y="7786"/>
                  <a:pt x="5016" y="7809"/>
                  <a:pt x="5060" y="7838"/>
                </a:cubicBezTo>
              </a:path>
              <a:path w="3921" h="1936">
                <a:moveTo>
                  <a:pt x="5531" y="7392"/>
                </a:moveTo>
                <a:cubicBezTo>
                  <a:pt x="5578" y="7427"/>
                  <a:pt x="5618" y="7417"/>
                  <a:pt x="5680" y="7417"/>
                </a:cubicBezTo>
                <a:cubicBezTo>
                  <a:pt x="5730" y="7417"/>
                  <a:pt x="5746" y="7417"/>
                  <a:pt x="5779" y="7417"/>
                </a:cubicBezTo>
              </a:path>
              <a:path w="3921" h="1936">
                <a:moveTo>
                  <a:pt x="5655" y="7714"/>
                </a:moveTo>
                <a:cubicBezTo>
                  <a:pt x="5647" y="7731"/>
                  <a:pt x="5639" y="7747"/>
                  <a:pt x="5631" y="7764"/>
                </a:cubicBezTo>
                <a:cubicBezTo>
                  <a:pt x="5698" y="7750"/>
                  <a:pt x="5762" y="7712"/>
                  <a:pt x="5829" y="7689"/>
                </a:cubicBezTo>
                <a:cubicBezTo>
                  <a:pt x="5908" y="7662"/>
                  <a:pt x="5975" y="7623"/>
                  <a:pt x="6052" y="7590"/>
                </a:cubicBezTo>
              </a:path>
              <a:path w="3921" h="1936">
                <a:moveTo>
                  <a:pt x="6350" y="7069"/>
                </a:moveTo>
                <a:cubicBezTo>
                  <a:pt x="6350" y="7021"/>
                  <a:pt x="6340" y="7011"/>
                  <a:pt x="6375" y="6995"/>
                </a:cubicBezTo>
                <a:cubicBezTo>
                  <a:pt x="6440" y="6965"/>
                  <a:pt x="6504" y="6932"/>
                  <a:pt x="6573" y="6921"/>
                </a:cubicBezTo>
                <a:cubicBezTo>
                  <a:pt x="6620" y="6913"/>
                  <a:pt x="6674" y="6921"/>
                  <a:pt x="6722" y="6921"/>
                </a:cubicBezTo>
                <a:cubicBezTo>
                  <a:pt x="6709" y="7035"/>
                  <a:pt x="6654" y="7131"/>
                  <a:pt x="6623" y="7243"/>
                </a:cubicBezTo>
                <a:cubicBezTo>
                  <a:pt x="6604" y="7309"/>
                  <a:pt x="6548" y="7408"/>
                  <a:pt x="6598" y="7441"/>
                </a:cubicBezTo>
              </a:path>
              <a:path w="3921" h="1936">
                <a:moveTo>
                  <a:pt x="6449" y="7962"/>
                </a:moveTo>
                <a:cubicBezTo>
                  <a:pt x="6449" y="7979"/>
                  <a:pt x="6449" y="7995"/>
                  <a:pt x="6449" y="8012"/>
                </a:cubicBezTo>
                <a:cubicBezTo>
                  <a:pt x="6483" y="7978"/>
                  <a:pt x="6546" y="7945"/>
                  <a:pt x="6573" y="7913"/>
                </a:cubicBezTo>
                <a:cubicBezTo>
                  <a:pt x="6581" y="7896"/>
                  <a:pt x="6590" y="7880"/>
                  <a:pt x="6598" y="7863"/>
                </a:cubicBezTo>
                <a:cubicBezTo>
                  <a:pt x="6552" y="7909"/>
                  <a:pt x="6509" y="7972"/>
                  <a:pt x="6449" y="7987"/>
                </a:cubicBezTo>
              </a:path>
              <a:path w="3921" h="1936">
                <a:moveTo>
                  <a:pt x="5507" y="6995"/>
                </a:moveTo>
                <a:cubicBezTo>
                  <a:pt x="5451" y="7028"/>
                  <a:pt x="5420" y="7032"/>
                  <a:pt x="5407" y="7069"/>
                </a:cubicBezTo>
                <a:cubicBezTo>
                  <a:pt x="5481" y="7069"/>
                  <a:pt x="5537" y="7067"/>
                  <a:pt x="5606" y="7045"/>
                </a:cubicBezTo>
              </a:path>
              <a:path w="3921" h="1936">
                <a:moveTo>
                  <a:pt x="3671" y="8434"/>
                </a:moveTo>
                <a:cubicBezTo>
                  <a:pt x="3712" y="8438"/>
                  <a:pt x="3705" y="8429"/>
                  <a:pt x="3746" y="8434"/>
                </a:cubicBezTo>
                <a:cubicBezTo>
                  <a:pt x="3851" y="8446"/>
                  <a:pt x="3961" y="8445"/>
                  <a:pt x="4068" y="8458"/>
                </a:cubicBezTo>
                <a:cubicBezTo>
                  <a:pt x="4254" y="8480"/>
                  <a:pt x="4426" y="8478"/>
                  <a:pt x="4614" y="8458"/>
                </a:cubicBezTo>
                <a:cubicBezTo>
                  <a:pt x="4932" y="8423"/>
                  <a:pt x="5275" y="8377"/>
                  <a:pt x="5581" y="8285"/>
                </a:cubicBezTo>
                <a:cubicBezTo>
                  <a:pt x="5746" y="8235"/>
                  <a:pt x="5914" y="8194"/>
                  <a:pt x="6077" y="8136"/>
                </a:cubicBezTo>
                <a:cubicBezTo>
                  <a:pt x="6208" y="8089"/>
                  <a:pt x="6351" y="8048"/>
                  <a:pt x="6474" y="7987"/>
                </a:cubicBezTo>
                <a:cubicBezTo>
                  <a:pt x="6576" y="7936"/>
                  <a:pt x="6666" y="7868"/>
                  <a:pt x="6747" y="7789"/>
                </a:cubicBezTo>
                <a:cubicBezTo>
                  <a:pt x="6805" y="7733"/>
                  <a:pt x="6827" y="7679"/>
                  <a:pt x="6871" y="7615"/>
                </a:cubicBezTo>
                <a:cubicBezTo>
                  <a:pt x="6918" y="7547"/>
                  <a:pt x="6974" y="7487"/>
                  <a:pt x="7020" y="7417"/>
                </a:cubicBezTo>
                <a:cubicBezTo>
                  <a:pt x="7073" y="7337"/>
                  <a:pt x="7092" y="7282"/>
                  <a:pt x="7119" y="7193"/>
                </a:cubicBezTo>
                <a:cubicBezTo>
                  <a:pt x="7130" y="7158"/>
                  <a:pt x="7173" y="7046"/>
                  <a:pt x="7169" y="7020"/>
                </a:cubicBezTo>
                <a:cubicBezTo>
                  <a:pt x="7160" y="6951"/>
                  <a:pt x="7128" y="6931"/>
                  <a:pt x="7094" y="6871"/>
                </a:cubicBezTo>
                <a:cubicBezTo>
                  <a:pt x="7052" y="6797"/>
                  <a:pt x="6988" y="6727"/>
                  <a:pt x="6921" y="6672"/>
                </a:cubicBezTo>
                <a:cubicBezTo>
                  <a:pt x="6867" y="6629"/>
                  <a:pt x="6834" y="6611"/>
                  <a:pt x="6772" y="6598"/>
                </a:cubicBezTo>
                <a:cubicBezTo>
                  <a:pt x="6628" y="6568"/>
                  <a:pt x="6439" y="6600"/>
                  <a:pt x="6300" y="6623"/>
                </a:cubicBezTo>
                <a:cubicBezTo>
                  <a:pt x="6217" y="6637"/>
                  <a:pt x="6133" y="6657"/>
                  <a:pt x="6052" y="6672"/>
                </a:cubicBezTo>
                <a:cubicBezTo>
                  <a:pt x="5967" y="6687"/>
                  <a:pt x="5861" y="6716"/>
                  <a:pt x="5779" y="6722"/>
                </a:cubicBezTo>
                <a:cubicBezTo>
                  <a:pt x="5668" y="6731"/>
                  <a:pt x="5590" y="6748"/>
                  <a:pt x="5482" y="6772"/>
                </a:cubicBezTo>
                <a:cubicBezTo>
                  <a:pt x="5376" y="6796"/>
                  <a:pt x="5266" y="6825"/>
                  <a:pt x="5159" y="6846"/>
                </a:cubicBezTo>
                <a:cubicBezTo>
                  <a:pt x="5064" y="6865"/>
                  <a:pt x="4979" y="6897"/>
                  <a:pt x="4887" y="6921"/>
                </a:cubicBezTo>
                <a:cubicBezTo>
                  <a:pt x="4788" y="6946"/>
                  <a:pt x="4690" y="6969"/>
                  <a:pt x="4589" y="6995"/>
                </a:cubicBezTo>
                <a:cubicBezTo>
                  <a:pt x="4519" y="7013"/>
                  <a:pt x="4457" y="7037"/>
                  <a:pt x="4390" y="7069"/>
                </a:cubicBezTo>
                <a:cubicBezTo>
                  <a:pt x="4328" y="7098"/>
                  <a:pt x="4247" y="7117"/>
                  <a:pt x="4192" y="7144"/>
                </a:cubicBezTo>
                <a:cubicBezTo>
                  <a:pt x="4136" y="7171"/>
                  <a:pt x="4076" y="7213"/>
                  <a:pt x="4018" y="7243"/>
                </a:cubicBezTo>
                <a:cubicBezTo>
                  <a:pt x="3947" y="7280"/>
                  <a:pt x="3860" y="7298"/>
                  <a:pt x="3795" y="7342"/>
                </a:cubicBezTo>
                <a:cubicBezTo>
                  <a:pt x="3732" y="7385"/>
                  <a:pt x="3690" y="7423"/>
                  <a:pt x="3621" y="7466"/>
                </a:cubicBezTo>
                <a:cubicBezTo>
                  <a:pt x="3552" y="7510"/>
                  <a:pt x="3484" y="7561"/>
                  <a:pt x="3423" y="7615"/>
                </a:cubicBezTo>
                <a:cubicBezTo>
                  <a:pt x="3351" y="7679"/>
                  <a:pt x="3307" y="7729"/>
                  <a:pt x="3274" y="7813"/>
                </a:cubicBezTo>
                <a:cubicBezTo>
                  <a:pt x="3248" y="7878"/>
                  <a:pt x="3252" y="7918"/>
                  <a:pt x="3249" y="7987"/>
                </a:cubicBezTo>
                <a:cubicBezTo>
                  <a:pt x="3245" y="8082"/>
                  <a:pt x="3266" y="8125"/>
                  <a:pt x="3299" y="8210"/>
                </a:cubicBezTo>
                <a:cubicBezTo>
                  <a:pt x="3331" y="8292"/>
                  <a:pt x="3349" y="8404"/>
                  <a:pt x="3423" y="8458"/>
                </a:cubicBezTo>
                <a:cubicBezTo>
                  <a:pt x="3553" y="8553"/>
                  <a:pt x="3771" y="8533"/>
                  <a:pt x="3919" y="8533"/>
                </a:cubicBezTo>
                <a:cubicBezTo>
                  <a:pt x="4050" y="8533"/>
                  <a:pt x="4163" y="8509"/>
                  <a:pt x="4291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90960" y="2081160"/>
            <a:ext cx="2670120" cy="500040"/>
          </a:xfrm>
          <a:custGeom>
            <a:avLst/>
            <a:gdLst/>
            <a:ahLst/>
            <a:rect l="l" t="t" r="r" b="b"/>
            <a:pathLst>
              <a:path w="7417" h="1391">
                <a:moveTo>
                  <a:pt x="11212" y="5779"/>
                </a:moveTo>
                <a:cubicBezTo>
                  <a:pt x="11171" y="5902"/>
                  <a:pt x="11160" y="6044"/>
                  <a:pt x="11137" y="6176"/>
                </a:cubicBezTo>
                <a:cubicBezTo>
                  <a:pt x="11109" y="6341"/>
                  <a:pt x="11106" y="6508"/>
                  <a:pt x="11088" y="6672"/>
                </a:cubicBezTo>
                <a:cubicBezTo>
                  <a:pt x="11088" y="6722"/>
                  <a:pt x="11088" y="6739"/>
                  <a:pt x="11088" y="6772"/>
                </a:cubicBezTo>
              </a:path>
              <a:path w="7417" h="1391">
                <a:moveTo>
                  <a:pt x="11485" y="6152"/>
                </a:moveTo>
                <a:cubicBezTo>
                  <a:pt x="11566" y="6168"/>
                  <a:pt x="11466" y="6259"/>
                  <a:pt x="11410" y="6325"/>
                </a:cubicBezTo>
                <a:cubicBezTo>
                  <a:pt x="11319" y="6432"/>
                  <a:pt x="11213" y="6529"/>
                  <a:pt x="11137" y="6648"/>
                </a:cubicBezTo>
                <a:cubicBezTo>
                  <a:pt x="11129" y="6664"/>
                  <a:pt x="11120" y="6681"/>
                  <a:pt x="11112" y="6697"/>
                </a:cubicBezTo>
                <a:cubicBezTo>
                  <a:pt x="11157" y="6731"/>
                  <a:pt x="11226" y="6734"/>
                  <a:pt x="11286" y="6722"/>
                </a:cubicBezTo>
                <a:cubicBezTo>
                  <a:pt x="11371" y="6706"/>
                  <a:pt x="11467" y="6639"/>
                  <a:pt x="11559" y="6672"/>
                </a:cubicBezTo>
                <a:cubicBezTo>
                  <a:pt x="11567" y="6680"/>
                  <a:pt x="11576" y="6689"/>
                  <a:pt x="11584" y="6697"/>
                </a:cubicBezTo>
              </a:path>
              <a:path w="7417" h="1391">
                <a:moveTo>
                  <a:pt x="11906" y="6573"/>
                </a:moveTo>
                <a:cubicBezTo>
                  <a:pt x="11906" y="6636"/>
                  <a:pt x="11884" y="6663"/>
                  <a:pt x="11881" y="6722"/>
                </a:cubicBezTo>
                <a:cubicBezTo>
                  <a:pt x="11877" y="6820"/>
                  <a:pt x="11883" y="6927"/>
                  <a:pt x="11857" y="7020"/>
                </a:cubicBezTo>
                <a:cubicBezTo>
                  <a:pt x="11842" y="7075"/>
                  <a:pt x="11832" y="7110"/>
                  <a:pt x="11832" y="7169"/>
                </a:cubicBezTo>
                <a:cubicBezTo>
                  <a:pt x="11846" y="7100"/>
                  <a:pt x="11885" y="7026"/>
                  <a:pt x="11931" y="6970"/>
                </a:cubicBezTo>
                <a:cubicBezTo>
                  <a:pt x="11984" y="6905"/>
                  <a:pt x="12049" y="6830"/>
                  <a:pt x="12129" y="6821"/>
                </a:cubicBezTo>
                <a:cubicBezTo>
                  <a:pt x="12174" y="6821"/>
                  <a:pt x="12187" y="6818"/>
                  <a:pt x="12204" y="6846"/>
                </a:cubicBezTo>
                <a:cubicBezTo>
                  <a:pt x="12194" y="6925"/>
                  <a:pt x="12157" y="7002"/>
                  <a:pt x="12080" y="7045"/>
                </a:cubicBezTo>
                <a:cubicBezTo>
                  <a:pt x="12037" y="7069"/>
                  <a:pt x="11935" y="7147"/>
                  <a:pt x="11881" y="7119"/>
                </a:cubicBezTo>
                <a:cubicBezTo>
                  <a:pt x="11873" y="7111"/>
                  <a:pt x="11865" y="7102"/>
                  <a:pt x="11857" y="7094"/>
                </a:cubicBezTo>
              </a:path>
              <a:path w="7417" h="1391">
                <a:moveTo>
                  <a:pt x="12576" y="6251"/>
                </a:moveTo>
                <a:cubicBezTo>
                  <a:pt x="12632" y="6262"/>
                  <a:pt x="12666" y="6276"/>
                  <a:pt x="12725" y="6276"/>
                </a:cubicBezTo>
                <a:cubicBezTo>
                  <a:pt x="12781" y="6276"/>
                  <a:pt x="12830" y="6265"/>
                  <a:pt x="12874" y="6300"/>
                </a:cubicBezTo>
                <a:cubicBezTo>
                  <a:pt x="12882" y="6308"/>
                  <a:pt x="12890" y="6317"/>
                  <a:pt x="12898" y="6325"/>
                </a:cubicBezTo>
              </a:path>
              <a:path w="7417" h="1391">
                <a:moveTo>
                  <a:pt x="12650" y="6672"/>
                </a:moveTo>
                <a:cubicBezTo>
                  <a:pt x="12642" y="6680"/>
                  <a:pt x="12634" y="6689"/>
                  <a:pt x="12626" y="6697"/>
                </a:cubicBezTo>
                <a:cubicBezTo>
                  <a:pt x="12681" y="6697"/>
                  <a:pt x="12719" y="6674"/>
                  <a:pt x="12774" y="6672"/>
                </a:cubicBezTo>
                <a:cubicBezTo>
                  <a:pt x="12841" y="6669"/>
                  <a:pt x="12884" y="6656"/>
                  <a:pt x="12948" y="6648"/>
                </a:cubicBezTo>
              </a:path>
              <a:path w="7417" h="1391">
                <a:moveTo>
                  <a:pt x="14064" y="5953"/>
                </a:moveTo>
                <a:cubicBezTo>
                  <a:pt x="14091" y="5918"/>
                  <a:pt x="14089" y="5923"/>
                  <a:pt x="14089" y="5879"/>
                </a:cubicBezTo>
                <a:cubicBezTo>
                  <a:pt x="14012" y="5898"/>
                  <a:pt x="13944" y="6036"/>
                  <a:pt x="13915" y="6102"/>
                </a:cubicBezTo>
                <a:cubicBezTo>
                  <a:pt x="13845" y="6262"/>
                  <a:pt x="13771" y="6471"/>
                  <a:pt x="13791" y="6648"/>
                </a:cubicBezTo>
                <a:cubicBezTo>
                  <a:pt x="13804" y="6759"/>
                  <a:pt x="13896" y="6814"/>
                  <a:pt x="13990" y="6821"/>
                </a:cubicBezTo>
                <a:cubicBezTo>
                  <a:pt x="14083" y="6828"/>
                  <a:pt x="14197" y="6779"/>
                  <a:pt x="14139" y="6672"/>
                </a:cubicBezTo>
                <a:cubicBezTo>
                  <a:pt x="14107" y="6612"/>
                  <a:pt x="13995" y="6608"/>
                  <a:pt x="13940" y="6623"/>
                </a:cubicBezTo>
                <a:cubicBezTo>
                  <a:pt x="13889" y="6637"/>
                  <a:pt x="13876" y="6656"/>
                  <a:pt x="13866" y="6697"/>
                </a:cubicBezTo>
              </a:path>
              <a:path w="7417" h="1391">
                <a:moveTo>
                  <a:pt x="14486" y="6697"/>
                </a:moveTo>
                <a:cubicBezTo>
                  <a:pt x="14486" y="6689"/>
                  <a:pt x="14486" y="6680"/>
                  <a:pt x="14486" y="6672"/>
                </a:cubicBezTo>
              </a:path>
              <a:path w="7417" h="1391">
                <a:moveTo>
                  <a:pt x="14808" y="6077"/>
                </a:moveTo>
                <a:cubicBezTo>
                  <a:pt x="14836" y="6060"/>
                  <a:pt x="14918" y="6029"/>
                  <a:pt x="14957" y="6052"/>
                </a:cubicBezTo>
                <a:cubicBezTo>
                  <a:pt x="15031" y="6096"/>
                  <a:pt x="15092" y="6162"/>
                  <a:pt x="15106" y="6251"/>
                </a:cubicBezTo>
                <a:cubicBezTo>
                  <a:pt x="15127" y="6388"/>
                  <a:pt x="15028" y="6516"/>
                  <a:pt x="14957" y="6623"/>
                </a:cubicBezTo>
                <a:cubicBezTo>
                  <a:pt x="14913" y="6689"/>
                  <a:pt x="14813" y="6803"/>
                  <a:pt x="14734" y="6747"/>
                </a:cubicBezTo>
                <a:cubicBezTo>
                  <a:pt x="14688" y="6715"/>
                  <a:pt x="14706" y="6638"/>
                  <a:pt x="14759" y="6623"/>
                </a:cubicBezTo>
                <a:cubicBezTo>
                  <a:pt x="14847" y="6598"/>
                  <a:pt x="14924" y="6662"/>
                  <a:pt x="15007" y="6672"/>
                </a:cubicBezTo>
                <a:cubicBezTo>
                  <a:pt x="15099" y="6672"/>
                  <a:pt x="15125" y="6670"/>
                  <a:pt x="15180" y="6697"/>
                </a:cubicBezTo>
              </a:path>
              <a:path w="7417" h="1391">
                <a:moveTo>
                  <a:pt x="15652" y="6176"/>
                </a:moveTo>
                <a:cubicBezTo>
                  <a:pt x="15688" y="6176"/>
                  <a:pt x="15777" y="6177"/>
                  <a:pt x="15751" y="6152"/>
                </a:cubicBezTo>
                <a:cubicBezTo>
                  <a:pt x="15716" y="6118"/>
                  <a:pt x="15577" y="6209"/>
                  <a:pt x="15553" y="6226"/>
                </a:cubicBezTo>
                <a:cubicBezTo>
                  <a:pt x="15500" y="6264"/>
                  <a:pt x="15441" y="6355"/>
                  <a:pt x="15453" y="6424"/>
                </a:cubicBezTo>
                <a:cubicBezTo>
                  <a:pt x="15468" y="6508"/>
                  <a:pt x="15528" y="6569"/>
                  <a:pt x="15553" y="6648"/>
                </a:cubicBezTo>
                <a:cubicBezTo>
                  <a:pt x="15562" y="6677"/>
                  <a:pt x="15553" y="6717"/>
                  <a:pt x="15553" y="6747"/>
                </a:cubicBezTo>
              </a:path>
              <a:path w="7417" h="1391">
                <a:moveTo>
                  <a:pt x="15701" y="6152"/>
                </a:moveTo>
                <a:cubicBezTo>
                  <a:pt x="15786" y="6144"/>
                  <a:pt x="15834" y="6127"/>
                  <a:pt x="15925" y="6127"/>
                </a:cubicBezTo>
                <a:cubicBezTo>
                  <a:pt x="16017" y="6127"/>
                  <a:pt x="16082" y="6120"/>
                  <a:pt x="16173" y="6102"/>
                </a:cubicBezTo>
              </a:path>
              <a:path w="7417" h="1391">
                <a:moveTo>
                  <a:pt x="16371" y="6524"/>
                </a:moveTo>
                <a:cubicBezTo>
                  <a:pt x="16371" y="6472"/>
                  <a:pt x="16369" y="6474"/>
                  <a:pt x="16421" y="6474"/>
                </a:cubicBezTo>
                <a:cubicBezTo>
                  <a:pt x="16449" y="6474"/>
                  <a:pt x="16460" y="6476"/>
                  <a:pt x="16470" y="6499"/>
                </a:cubicBezTo>
                <a:cubicBezTo>
                  <a:pt x="16470" y="6507"/>
                  <a:pt x="16470" y="6516"/>
                  <a:pt x="16470" y="6524"/>
                </a:cubicBezTo>
                <a:cubicBezTo>
                  <a:pt x="16426" y="6509"/>
                  <a:pt x="16450" y="6486"/>
                  <a:pt x="16421" y="6524"/>
                </a:cubicBezTo>
                <a:cubicBezTo>
                  <a:pt x="16368" y="6592"/>
                  <a:pt x="16371" y="6635"/>
                  <a:pt x="16371" y="6722"/>
                </a:cubicBezTo>
                <a:cubicBezTo>
                  <a:pt x="16371" y="6842"/>
                  <a:pt x="16424" y="6893"/>
                  <a:pt x="16545" y="6921"/>
                </a:cubicBezTo>
                <a:cubicBezTo>
                  <a:pt x="16603" y="6921"/>
                  <a:pt x="16628" y="6921"/>
                  <a:pt x="16669" y="6921"/>
                </a:cubicBezTo>
              </a:path>
              <a:path w="7417" h="1391">
                <a:moveTo>
                  <a:pt x="16297" y="6672"/>
                </a:moveTo>
                <a:cubicBezTo>
                  <a:pt x="16366" y="6617"/>
                  <a:pt x="16456" y="6585"/>
                  <a:pt x="16545" y="6573"/>
                </a:cubicBezTo>
                <a:cubicBezTo>
                  <a:pt x="16608" y="6565"/>
                  <a:pt x="16657" y="6556"/>
                  <a:pt x="16718" y="6548"/>
                </a:cubicBezTo>
              </a:path>
              <a:path w="7417" h="1391">
                <a:moveTo>
                  <a:pt x="16421" y="6400"/>
                </a:moveTo>
                <a:cubicBezTo>
                  <a:pt x="16483" y="6313"/>
                  <a:pt x="16563" y="6305"/>
                  <a:pt x="16669" y="6276"/>
                </a:cubicBezTo>
                <a:cubicBezTo>
                  <a:pt x="16800" y="6241"/>
                  <a:pt x="16912" y="6246"/>
                  <a:pt x="17041" y="6276"/>
                </a:cubicBezTo>
              </a:path>
              <a:path w="7417" h="1391">
                <a:moveTo>
                  <a:pt x="17090" y="6697"/>
                </a:moveTo>
                <a:cubicBezTo>
                  <a:pt x="17157" y="6697"/>
                  <a:pt x="17202" y="6682"/>
                  <a:pt x="17264" y="6672"/>
                </a:cubicBezTo>
                <a:cubicBezTo>
                  <a:pt x="17316" y="6672"/>
                  <a:pt x="17334" y="6671"/>
                  <a:pt x="17363" y="6648"/>
                </a:cubicBezTo>
              </a:path>
              <a:path w="7417" h="1391">
                <a:moveTo>
                  <a:pt x="18058" y="6424"/>
                </a:moveTo>
                <a:cubicBezTo>
                  <a:pt x="18058" y="6408"/>
                  <a:pt x="18058" y="6391"/>
                  <a:pt x="18058" y="6375"/>
                </a:cubicBezTo>
                <a:cubicBezTo>
                  <a:pt x="17971" y="6375"/>
                  <a:pt x="17894" y="6370"/>
                  <a:pt x="17810" y="6400"/>
                </a:cubicBezTo>
                <a:cubicBezTo>
                  <a:pt x="17760" y="6418"/>
                  <a:pt x="17668" y="6483"/>
                  <a:pt x="17686" y="6548"/>
                </a:cubicBezTo>
                <a:cubicBezTo>
                  <a:pt x="17716" y="6659"/>
                  <a:pt x="17808" y="6646"/>
                  <a:pt x="17884" y="6697"/>
                </a:cubicBezTo>
                <a:cubicBezTo>
                  <a:pt x="17936" y="6732"/>
                  <a:pt x="18012" y="6783"/>
                  <a:pt x="18033" y="6846"/>
                </a:cubicBezTo>
                <a:cubicBezTo>
                  <a:pt x="18046" y="6884"/>
                  <a:pt x="17915" y="6951"/>
                  <a:pt x="17884" y="6970"/>
                </a:cubicBezTo>
              </a:path>
              <a:path w="7417" h="1391">
                <a:moveTo>
                  <a:pt x="17934" y="6449"/>
                </a:moveTo>
                <a:cubicBezTo>
                  <a:pt x="18059" y="6408"/>
                  <a:pt x="18177" y="6383"/>
                  <a:pt x="18306" y="6350"/>
                </a:cubicBezTo>
                <a:cubicBezTo>
                  <a:pt x="18405" y="6325"/>
                  <a:pt x="18438" y="6317"/>
                  <a:pt x="18504" y="63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87760" y="3116160"/>
            <a:ext cx="911160" cy="608040"/>
          </a:xfrm>
          <a:custGeom>
            <a:avLst/>
            <a:gdLst/>
            <a:ahLst/>
            <a:rect l="l" t="t" r="r" b="b"/>
            <a:pathLst>
              <a:path w="2531" h="1688">
                <a:moveTo>
                  <a:pt x="7516" y="9525"/>
                </a:moveTo>
                <a:cubicBezTo>
                  <a:pt x="7516" y="9612"/>
                  <a:pt x="7497" y="9688"/>
                  <a:pt x="7491" y="9773"/>
                </a:cubicBezTo>
                <a:cubicBezTo>
                  <a:pt x="7480" y="9915"/>
                  <a:pt x="7466" y="10051"/>
                  <a:pt x="7466" y="10195"/>
                </a:cubicBezTo>
                <a:cubicBezTo>
                  <a:pt x="7466" y="10228"/>
                  <a:pt x="7466" y="10261"/>
                  <a:pt x="7466" y="10294"/>
                </a:cubicBezTo>
                <a:cubicBezTo>
                  <a:pt x="7466" y="10377"/>
                  <a:pt x="7466" y="10228"/>
                  <a:pt x="7466" y="10145"/>
                </a:cubicBezTo>
                <a:cubicBezTo>
                  <a:pt x="7466" y="9997"/>
                  <a:pt x="7449" y="9843"/>
                  <a:pt x="7491" y="9699"/>
                </a:cubicBezTo>
                <a:cubicBezTo>
                  <a:pt x="7530" y="9565"/>
                  <a:pt x="7605" y="9418"/>
                  <a:pt x="7714" y="9327"/>
                </a:cubicBezTo>
                <a:cubicBezTo>
                  <a:pt x="7794" y="9260"/>
                  <a:pt x="7805" y="9271"/>
                  <a:pt x="7888" y="9302"/>
                </a:cubicBezTo>
                <a:cubicBezTo>
                  <a:pt x="7888" y="9406"/>
                  <a:pt x="7881" y="9489"/>
                  <a:pt x="7813" y="9575"/>
                </a:cubicBezTo>
                <a:cubicBezTo>
                  <a:pt x="7762" y="9640"/>
                  <a:pt x="7663" y="9778"/>
                  <a:pt x="7565" y="9773"/>
                </a:cubicBezTo>
                <a:cubicBezTo>
                  <a:pt x="7549" y="9765"/>
                  <a:pt x="7532" y="9756"/>
                  <a:pt x="7516" y="9748"/>
                </a:cubicBezTo>
              </a:path>
              <a:path w="2531" h="1688">
                <a:moveTo>
                  <a:pt x="8458" y="8806"/>
                </a:moveTo>
                <a:cubicBezTo>
                  <a:pt x="8458" y="8744"/>
                  <a:pt x="8467" y="8729"/>
                  <a:pt x="8434" y="8706"/>
                </a:cubicBezTo>
                <a:cubicBezTo>
                  <a:pt x="8323" y="8789"/>
                  <a:pt x="8267" y="8914"/>
                  <a:pt x="8235" y="9054"/>
                </a:cubicBezTo>
                <a:cubicBezTo>
                  <a:pt x="8198" y="9214"/>
                  <a:pt x="8154" y="9508"/>
                  <a:pt x="8260" y="9649"/>
                </a:cubicBezTo>
                <a:cubicBezTo>
                  <a:pt x="8361" y="9784"/>
                  <a:pt x="8513" y="9612"/>
                  <a:pt x="8558" y="9525"/>
                </a:cubicBezTo>
                <a:cubicBezTo>
                  <a:pt x="8637" y="9370"/>
                  <a:pt x="8622" y="9209"/>
                  <a:pt x="8558" y="9054"/>
                </a:cubicBezTo>
                <a:cubicBezTo>
                  <a:pt x="8525" y="8974"/>
                  <a:pt x="8476" y="8824"/>
                  <a:pt x="8384" y="8806"/>
                </a:cubicBezTo>
                <a:cubicBezTo>
                  <a:pt x="8359" y="8806"/>
                  <a:pt x="8351" y="8806"/>
                  <a:pt x="8359" y="8830"/>
                </a:cubicBezTo>
              </a:path>
              <a:path w="2531" h="1688">
                <a:moveTo>
                  <a:pt x="8979" y="8657"/>
                </a:moveTo>
                <a:cubicBezTo>
                  <a:pt x="8966" y="8707"/>
                  <a:pt x="8942" y="8750"/>
                  <a:pt x="8930" y="8806"/>
                </a:cubicBezTo>
                <a:cubicBezTo>
                  <a:pt x="8898" y="8954"/>
                  <a:pt x="8902" y="9078"/>
                  <a:pt x="8930" y="9227"/>
                </a:cubicBezTo>
                <a:cubicBezTo>
                  <a:pt x="8951" y="9338"/>
                  <a:pt x="8954" y="9438"/>
                  <a:pt x="8954" y="9550"/>
                </a:cubicBezTo>
              </a:path>
              <a:path w="2531" h="1688">
                <a:moveTo>
                  <a:pt x="8880" y="9376"/>
                </a:moveTo>
                <a:cubicBezTo>
                  <a:pt x="8924" y="9343"/>
                  <a:pt x="8978" y="9333"/>
                  <a:pt x="9029" y="9302"/>
                </a:cubicBezTo>
                <a:cubicBezTo>
                  <a:pt x="9116" y="9249"/>
                  <a:pt x="9181" y="9200"/>
                  <a:pt x="9252" y="9128"/>
                </a:cubicBezTo>
              </a:path>
              <a:path w="2531" h="1688">
                <a:moveTo>
                  <a:pt x="9277" y="8756"/>
                </a:moveTo>
                <a:cubicBezTo>
                  <a:pt x="9208" y="8721"/>
                  <a:pt x="9185" y="8832"/>
                  <a:pt x="9178" y="8905"/>
                </a:cubicBezTo>
                <a:cubicBezTo>
                  <a:pt x="9155" y="9131"/>
                  <a:pt x="9155" y="9403"/>
                  <a:pt x="9203" y="9624"/>
                </a:cubicBezTo>
                <a:cubicBezTo>
                  <a:pt x="9225" y="9691"/>
                  <a:pt x="9229" y="9709"/>
                  <a:pt x="9252" y="9748"/>
                </a:cubicBezTo>
              </a:path>
              <a:path w="2531" h="1688">
                <a:moveTo>
                  <a:pt x="9649" y="9153"/>
                </a:moveTo>
                <a:cubicBezTo>
                  <a:pt x="9687" y="9124"/>
                  <a:pt x="9700" y="9128"/>
                  <a:pt x="9748" y="9128"/>
                </a:cubicBezTo>
                <a:cubicBezTo>
                  <a:pt x="9795" y="9128"/>
                  <a:pt x="9838" y="9152"/>
                  <a:pt x="9872" y="9178"/>
                </a:cubicBezTo>
              </a:path>
              <a:path w="2531" h="1688">
                <a:moveTo>
                  <a:pt x="9699" y="9426"/>
                </a:moveTo>
                <a:cubicBezTo>
                  <a:pt x="9663" y="9477"/>
                  <a:pt x="9641" y="9508"/>
                  <a:pt x="9599" y="9550"/>
                </a:cubicBezTo>
                <a:cubicBezTo>
                  <a:pt x="9680" y="9550"/>
                  <a:pt x="9744" y="9549"/>
                  <a:pt x="9823" y="9525"/>
                </a:cubicBezTo>
                <a:cubicBezTo>
                  <a:pt x="9885" y="9506"/>
                  <a:pt x="9938" y="9479"/>
                  <a:pt x="9996" y="94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7760" y="2973240"/>
            <a:ext cx="687240" cy="662040"/>
          </a:xfrm>
          <a:custGeom>
            <a:avLst/>
            <a:gdLst/>
            <a:ahLst/>
            <a:rect l="l" t="t" r="r" b="b"/>
            <a:pathLst>
              <a:path w="1911" h="1837">
                <a:moveTo>
                  <a:pt x="10716" y="9277"/>
                </a:moveTo>
                <a:cubicBezTo>
                  <a:pt x="10716" y="9421"/>
                  <a:pt x="10731" y="9557"/>
                  <a:pt x="10740" y="9699"/>
                </a:cubicBezTo>
                <a:cubicBezTo>
                  <a:pt x="10748" y="9824"/>
                  <a:pt x="10757" y="9947"/>
                  <a:pt x="10765" y="10071"/>
                </a:cubicBezTo>
                <a:cubicBezTo>
                  <a:pt x="10765" y="10104"/>
                  <a:pt x="10765" y="10104"/>
                  <a:pt x="10765" y="10046"/>
                </a:cubicBezTo>
                <a:cubicBezTo>
                  <a:pt x="10765" y="9870"/>
                  <a:pt x="10755" y="9698"/>
                  <a:pt x="10790" y="9525"/>
                </a:cubicBezTo>
                <a:cubicBezTo>
                  <a:pt x="10815" y="9403"/>
                  <a:pt x="10878" y="9250"/>
                  <a:pt x="10988" y="9178"/>
                </a:cubicBezTo>
                <a:cubicBezTo>
                  <a:pt x="11050" y="9138"/>
                  <a:pt x="11140" y="9128"/>
                  <a:pt x="11212" y="9128"/>
                </a:cubicBezTo>
                <a:cubicBezTo>
                  <a:pt x="11212" y="9270"/>
                  <a:pt x="11177" y="9292"/>
                  <a:pt x="11088" y="9401"/>
                </a:cubicBezTo>
                <a:cubicBezTo>
                  <a:pt x="11014" y="9492"/>
                  <a:pt x="10973" y="9572"/>
                  <a:pt x="10864" y="9599"/>
                </a:cubicBezTo>
              </a:path>
              <a:path w="1911" h="1837">
                <a:moveTo>
                  <a:pt x="11485" y="8260"/>
                </a:moveTo>
                <a:cubicBezTo>
                  <a:pt x="11485" y="8332"/>
                  <a:pt x="11526" y="8389"/>
                  <a:pt x="11534" y="8458"/>
                </a:cubicBezTo>
                <a:cubicBezTo>
                  <a:pt x="11556" y="8664"/>
                  <a:pt x="11559" y="8871"/>
                  <a:pt x="11559" y="9079"/>
                </a:cubicBezTo>
                <a:cubicBezTo>
                  <a:pt x="11559" y="9186"/>
                  <a:pt x="11559" y="9294"/>
                  <a:pt x="11559" y="9401"/>
                </a:cubicBezTo>
              </a:path>
              <a:path w="1911" h="1837">
                <a:moveTo>
                  <a:pt x="11931" y="8607"/>
                </a:moveTo>
                <a:cubicBezTo>
                  <a:pt x="11848" y="8674"/>
                  <a:pt x="11795" y="8740"/>
                  <a:pt x="11733" y="8830"/>
                </a:cubicBezTo>
                <a:cubicBezTo>
                  <a:pt x="11674" y="8915"/>
                  <a:pt x="11632" y="9011"/>
                  <a:pt x="11584" y="9103"/>
                </a:cubicBezTo>
                <a:cubicBezTo>
                  <a:pt x="11576" y="9120"/>
                  <a:pt x="11567" y="9136"/>
                  <a:pt x="11559" y="9153"/>
                </a:cubicBezTo>
                <a:cubicBezTo>
                  <a:pt x="11613" y="9153"/>
                  <a:pt x="11662" y="9143"/>
                  <a:pt x="11708" y="9178"/>
                </a:cubicBezTo>
                <a:cubicBezTo>
                  <a:pt x="11768" y="9224"/>
                  <a:pt x="11821" y="9281"/>
                  <a:pt x="11881" y="9327"/>
                </a:cubicBezTo>
                <a:cubicBezTo>
                  <a:pt x="11928" y="9363"/>
                  <a:pt x="11947" y="9369"/>
                  <a:pt x="12005" y="9376"/>
                </a:cubicBezTo>
              </a:path>
              <a:path w="1911" h="1837">
                <a:moveTo>
                  <a:pt x="12278" y="9252"/>
                </a:moveTo>
                <a:cubicBezTo>
                  <a:pt x="12278" y="9179"/>
                  <a:pt x="12255" y="9372"/>
                  <a:pt x="12254" y="9376"/>
                </a:cubicBezTo>
                <a:cubicBezTo>
                  <a:pt x="12227" y="9493"/>
                  <a:pt x="12229" y="9602"/>
                  <a:pt x="12229" y="9723"/>
                </a:cubicBezTo>
                <a:cubicBezTo>
                  <a:pt x="12229" y="9789"/>
                  <a:pt x="12229" y="9806"/>
                  <a:pt x="12229" y="9847"/>
                </a:cubicBezTo>
                <a:cubicBezTo>
                  <a:pt x="12229" y="9893"/>
                  <a:pt x="12264" y="9759"/>
                  <a:pt x="12278" y="9723"/>
                </a:cubicBezTo>
                <a:cubicBezTo>
                  <a:pt x="12309" y="9644"/>
                  <a:pt x="12344" y="9560"/>
                  <a:pt x="12427" y="9550"/>
                </a:cubicBezTo>
                <a:cubicBezTo>
                  <a:pt x="12524" y="9539"/>
                  <a:pt x="12555" y="9566"/>
                  <a:pt x="12601" y="9649"/>
                </a:cubicBezTo>
                <a:cubicBezTo>
                  <a:pt x="12637" y="9714"/>
                  <a:pt x="12645" y="9808"/>
                  <a:pt x="12601" y="9872"/>
                </a:cubicBezTo>
                <a:cubicBezTo>
                  <a:pt x="12535" y="9968"/>
                  <a:pt x="12484" y="9971"/>
                  <a:pt x="12378" y="9971"/>
                </a:cubicBezTo>
                <a:cubicBezTo>
                  <a:pt x="12361" y="9971"/>
                  <a:pt x="12345" y="9971"/>
                  <a:pt x="12328" y="99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3089160"/>
            <a:ext cx="125640" cy="223920"/>
          </a:xfrm>
          <a:custGeom>
            <a:avLst/>
            <a:gdLst/>
            <a:ahLst/>
            <a:rect l="l" t="t" r="r" b="b"/>
            <a:pathLst>
              <a:path w="348" h="622">
                <a:moveTo>
                  <a:pt x="13122" y="8880"/>
                </a:moveTo>
                <a:cubicBezTo>
                  <a:pt x="13225" y="8880"/>
                  <a:pt x="13323" y="8887"/>
                  <a:pt x="13419" y="8855"/>
                </a:cubicBezTo>
              </a:path>
              <a:path w="348" h="622">
                <a:moveTo>
                  <a:pt x="13444" y="8582"/>
                </a:moveTo>
                <a:cubicBezTo>
                  <a:pt x="13444" y="8661"/>
                  <a:pt x="13422" y="8727"/>
                  <a:pt x="13419" y="8806"/>
                </a:cubicBezTo>
                <a:cubicBezTo>
                  <a:pt x="13415" y="8917"/>
                  <a:pt x="13412" y="9022"/>
                  <a:pt x="13444" y="9128"/>
                </a:cubicBezTo>
                <a:cubicBezTo>
                  <a:pt x="13452" y="9153"/>
                  <a:pt x="13461" y="9178"/>
                  <a:pt x="13469" y="92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7960" y="2973240"/>
            <a:ext cx="376200" cy="536760"/>
          </a:xfrm>
          <a:custGeom>
            <a:avLst/>
            <a:gdLst/>
            <a:ahLst/>
            <a:rect l="l" t="t" r="r" b="b"/>
            <a:pathLst>
              <a:path w="1042" h="1489">
                <a:moveTo>
                  <a:pt x="14412" y="8954"/>
                </a:moveTo>
                <a:cubicBezTo>
                  <a:pt x="14491" y="8835"/>
                  <a:pt x="14567" y="8695"/>
                  <a:pt x="14610" y="8558"/>
                </a:cubicBezTo>
                <a:cubicBezTo>
                  <a:pt x="14633" y="8485"/>
                  <a:pt x="14670" y="8328"/>
                  <a:pt x="14610" y="8260"/>
                </a:cubicBezTo>
                <a:cubicBezTo>
                  <a:pt x="14602" y="8260"/>
                  <a:pt x="14593" y="8260"/>
                  <a:pt x="14585" y="8260"/>
                </a:cubicBezTo>
                <a:cubicBezTo>
                  <a:pt x="14514" y="8340"/>
                  <a:pt x="14475" y="8395"/>
                  <a:pt x="14461" y="8533"/>
                </a:cubicBezTo>
                <a:cubicBezTo>
                  <a:pt x="14443" y="8715"/>
                  <a:pt x="14444" y="8955"/>
                  <a:pt x="14511" y="9128"/>
                </a:cubicBezTo>
                <a:cubicBezTo>
                  <a:pt x="14561" y="9259"/>
                  <a:pt x="14647" y="9236"/>
                  <a:pt x="14734" y="9178"/>
                </a:cubicBezTo>
                <a:cubicBezTo>
                  <a:pt x="14835" y="9110"/>
                  <a:pt x="14864" y="9025"/>
                  <a:pt x="14932" y="8930"/>
                </a:cubicBezTo>
                <a:cubicBezTo>
                  <a:pt x="14940" y="8922"/>
                  <a:pt x="14949" y="8913"/>
                  <a:pt x="14957" y="8905"/>
                </a:cubicBezTo>
                <a:cubicBezTo>
                  <a:pt x="14920" y="8948"/>
                  <a:pt x="14886" y="8976"/>
                  <a:pt x="14883" y="9054"/>
                </a:cubicBezTo>
                <a:cubicBezTo>
                  <a:pt x="14879" y="9134"/>
                  <a:pt x="14912" y="9195"/>
                  <a:pt x="15007" y="9178"/>
                </a:cubicBezTo>
                <a:cubicBezTo>
                  <a:pt x="15080" y="9165"/>
                  <a:pt x="15160" y="9104"/>
                  <a:pt x="15180" y="9029"/>
                </a:cubicBezTo>
                <a:cubicBezTo>
                  <a:pt x="15197" y="8965"/>
                  <a:pt x="15113" y="8892"/>
                  <a:pt x="15056" y="8880"/>
                </a:cubicBezTo>
                <a:cubicBezTo>
                  <a:pt x="15007" y="8869"/>
                  <a:pt x="14935" y="8880"/>
                  <a:pt x="14883" y="8880"/>
                </a:cubicBezTo>
              </a:path>
              <a:path w="1042" h="1489">
                <a:moveTo>
                  <a:pt x="15429" y="8855"/>
                </a:moveTo>
                <a:cubicBezTo>
                  <a:pt x="15477" y="8781"/>
                  <a:pt x="15386" y="8875"/>
                  <a:pt x="15379" y="8905"/>
                </a:cubicBezTo>
                <a:cubicBezTo>
                  <a:pt x="15349" y="9031"/>
                  <a:pt x="15394" y="9179"/>
                  <a:pt x="15404" y="9302"/>
                </a:cubicBezTo>
                <a:cubicBezTo>
                  <a:pt x="15416" y="9442"/>
                  <a:pt x="15402" y="9532"/>
                  <a:pt x="15329" y="9649"/>
                </a:cubicBezTo>
                <a:cubicBezTo>
                  <a:pt x="15269" y="9744"/>
                  <a:pt x="15197" y="9775"/>
                  <a:pt x="15081" y="9748"/>
                </a:cubicBezTo>
                <a:cubicBezTo>
                  <a:pt x="15017" y="9733"/>
                  <a:pt x="14939" y="9675"/>
                  <a:pt x="14982" y="9599"/>
                </a:cubicBezTo>
                <a:cubicBezTo>
                  <a:pt x="15043" y="9491"/>
                  <a:pt x="15185" y="9439"/>
                  <a:pt x="15280" y="9376"/>
                </a:cubicBezTo>
                <a:cubicBezTo>
                  <a:pt x="15313" y="9351"/>
                  <a:pt x="15346" y="9327"/>
                  <a:pt x="15379" y="93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42000" y="2857680"/>
            <a:ext cx="776160" cy="741240"/>
          </a:xfrm>
          <a:custGeom>
            <a:avLst/>
            <a:gdLst/>
            <a:ahLst/>
            <a:rect l="l" t="t" r="r" b="b"/>
            <a:pathLst>
              <a:path w="2159" h="2059">
                <a:moveTo>
                  <a:pt x="16470" y="8285"/>
                </a:moveTo>
                <a:cubicBezTo>
                  <a:pt x="16470" y="8293"/>
                  <a:pt x="16470" y="8302"/>
                  <a:pt x="16470" y="8310"/>
                </a:cubicBezTo>
                <a:cubicBezTo>
                  <a:pt x="16499" y="8300"/>
                  <a:pt x="16515" y="8276"/>
                  <a:pt x="16520" y="8235"/>
                </a:cubicBezTo>
                <a:cubicBezTo>
                  <a:pt x="16525" y="8189"/>
                  <a:pt x="16517" y="8166"/>
                  <a:pt x="16470" y="8161"/>
                </a:cubicBezTo>
                <a:cubicBezTo>
                  <a:pt x="16389" y="8152"/>
                  <a:pt x="16357" y="8157"/>
                  <a:pt x="16297" y="8210"/>
                </a:cubicBezTo>
                <a:cubicBezTo>
                  <a:pt x="16230" y="8270"/>
                  <a:pt x="16189" y="8393"/>
                  <a:pt x="16222" y="8483"/>
                </a:cubicBezTo>
                <a:cubicBezTo>
                  <a:pt x="16259" y="8584"/>
                  <a:pt x="16333" y="8633"/>
                  <a:pt x="16421" y="8682"/>
                </a:cubicBezTo>
              </a:path>
              <a:path w="2159" h="2059">
                <a:moveTo>
                  <a:pt x="16867" y="8359"/>
                </a:moveTo>
                <a:cubicBezTo>
                  <a:pt x="16880" y="8284"/>
                  <a:pt x="16897" y="8325"/>
                  <a:pt x="16917" y="8285"/>
                </a:cubicBezTo>
                <a:cubicBezTo>
                  <a:pt x="16917" y="8277"/>
                  <a:pt x="16917" y="8268"/>
                  <a:pt x="16917" y="8260"/>
                </a:cubicBezTo>
                <a:cubicBezTo>
                  <a:pt x="16917" y="8339"/>
                  <a:pt x="16899" y="8409"/>
                  <a:pt x="16867" y="8483"/>
                </a:cubicBezTo>
                <a:cubicBezTo>
                  <a:pt x="16861" y="8497"/>
                  <a:pt x="16776" y="8690"/>
                  <a:pt x="16793" y="8706"/>
                </a:cubicBezTo>
                <a:cubicBezTo>
                  <a:pt x="16801" y="8706"/>
                  <a:pt x="16810" y="8706"/>
                  <a:pt x="16818" y="8706"/>
                </a:cubicBezTo>
                <a:cubicBezTo>
                  <a:pt x="16831" y="8652"/>
                  <a:pt x="16858" y="8592"/>
                  <a:pt x="16867" y="8533"/>
                </a:cubicBezTo>
                <a:cubicBezTo>
                  <a:pt x="16880" y="8450"/>
                  <a:pt x="16909" y="8366"/>
                  <a:pt x="16942" y="8285"/>
                </a:cubicBezTo>
                <a:cubicBezTo>
                  <a:pt x="16972" y="8210"/>
                  <a:pt x="16976" y="8145"/>
                  <a:pt x="17066" y="8136"/>
                </a:cubicBezTo>
                <a:cubicBezTo>
                  <a:pt x="17074" y="8136"/>
                  <a:pt x="17082" y="8136"/>
                  <a:pt x="17090" y="8136"/>
                </a:cubicBezTo>
                <a:cubicBezTo>
                  <a:pt x="17104" y="8204"/>
                  <a:pt x="17154" y="8262"/>
                  <a:pt x="17165" y="8334"/>
                </a:cubicBezTo>
                <a:cubicBezTo>
                  <a:pt x="17177" y="8414"/>
                  <a:pt x="17164" y="8532"/>
                  <a:pt x="17190" y="8607"/>
                </a:cubicBezTo>
                <a:cubicBezTo>
                  <a:pt x="17198" y="8615"/>
                  <a:pt x="17206" y="8624"/>
                  <a:pt x="17214" y="8632"/>
                </a:cubicBezTo>
              </a:path>
              <a:path w="2159" h="2059">
                <a:moveTo>
                  <a:pt x="16991" y="8458"/>
                </a:moveTo>
                <a:cubicBezTo>
                  <a:pt x="16949" y="8458"/>
                  <a:pt x="17024" y="8458"/>
                  <a:pt x="17066" y="8458"/>
                </a:cubicBezTo>
                <a:cubicBezTo>
                  <a:pt x="17178" y="8458"/>
                  <a:pt x="17280" y="8448"/>
                  <a:pt x="17388" y="8434"/>
                </a:cubicBezTo>
                <a:cubicBezTo>
                  <a:pt x="17405" y="8434"/>
                  <a:pt x="17421" y="8434"/>
                  <a:pt x="17438" y="8434"/>
                </a:cubicBezTo>
              </a:path>
              <a:path w="2159" h="2059">
                <a:moveTo>
                  <a:pt x="16098" y="9103"/>
                </a:moveTo>
                <a:cubicBezTo>
                  <a:pt x="16087" y="9024"/>
                  <a:pt x="16082" y="9049"/>
                  <a:pt x="16173" y="9029"/>
                </a:cubicBezTo>
                <a:cubicBezTo>
                  <a:pt x="16374" y="8986"/>
                  <a:pt x="16587" y="8979"/>
                  <a:pt x="16793" y="8954"/>
                </a:cubicBezTo>
                <a:cubicBezTo>
                  <a:pt x="17000" y="8928"/>
                  <a:pt x="17207" y="8880"/>
                  <a:pt x="17413" y="8855"/>
                </a:cubicBezTo>
                <a:cubicBezTo>
                  <a:pt x="17479" y="8855"/>
                  <a:pt x="17496" y="8855"/>
                  <a:pt x="17537" y="8855"/>
                </a:cubicBezTo>
              </a:path>
              <a:path w="2159" h="2059">
                <a:moveTo>
                  <a:pt x="16619" y="9426"/>
                </a:moveTo>
                <a:cubicBezTo>
                  <a:pt x="16596" y="9456"/>
                  <a:pt x="16577" y="9511"/>
                  <a:pt x="16570" y="9550"/>
                </a:cubicBezTo>
                <a:cubicBezTo>
                  <a:pt x="16563" y="9589"/>
                  <a:pt x="16570" y="9791"/>
                  <a:pt x="16570" y="9748"/>
                </a:cubicBezTo>
                <a:cubicBezTo>
                  <a:pt x="16599" y="9668"/>
                  <a:pt x="16616" y="9584"/>
                  <a:pt x="16644" y="9500"/>
                </a:cubicBezTo>
                <a:cubicBezTo>
                  <a:pt x="16676" y="9404"/>
                  <a:pt x="16705" y="9331"/>
                  <a:pt x="16793" y="9277"/>
                </a:cubicBezTo>
                <a:cubicBezTo>
                  <a:pt x="16864" y="9233"/>
                  <a:pt x="16890" y="9250"/>
                  <a:pt x="16942" y="9302"/>
                </a:cubicBezTo>
                <a:cubicBezTo>
                  <a:pt x="16927" y="9376"/>
                  <a:pt x="16894" y="9420"/>
                  <a:pt x="16842" y="9475"/>
                </a:cubicBezTo>
                <a:cubicBezTo>
                  <a:pt x="16807" y="9512"/>
                  <a:pt x="16753" y="9544"/>
                  <a:pt x="16743" y="9575"/>
                </a:cubicBezTo>
                <a:cubicBezTo>
                  <a:pt x="16808" y="9575"/>
                  <a:pt x="16854" y="9553"/>
                  <a:pt x="16917" y="9550"/>
                </a:cubicBezTo>
                <a:cubicBezTo>
                  <a:pt x="16983" y="9547"/>
                  <a:pt x="17041" y="9537"/>
                  <a:pt x="17090" y="9575"/>
                </a:cubicBezTo>
                <a:cubicBezTo>
                  <a:pt x="17077" y="9669"/>
                  <a:pt x="17021" y="9715"/>
                  <a:pt x="16942" y="9773"/>
                </a:cubicBezTo>
                <a:cubicBezTo>
                  <a:pt x="16852" y="9839"/>
                  <a:pt x="16779" y="9885"/>
                  <a:pt x="16669" y="9897"/>
                </a:cubicBezTo>
              </a:path>
              <a:path w="2159" h="2059">
                <a:moveTo>
                  <a:pt x="17859" y="8086"/>
                </a:moveTo>
                <a:cubicBezTo>
                  <a:pt x="17859" y="8029"/>
                  <a:pt x="17861" y="8008"/>
                  <a:pt x="17835" y="7962"/>
                </a:cubicBezTo>
                <a:cubicBezTo>
                  <a:pt x="17896" y="8056"/>
                  <a:pt x="17943" y="8177"/>
                  <a:pt x="17983" y="8285"/>
                </a:cubicBezTo>
                <a:cubicBezTo>
                  <a:pt x="18055" y="8481"/>
                  <a:pt x="18099" y="8699"/>
                  <a:pt x="18107" y="8905"/>
                </a:cubicBezTo>
                <a:cubicBezTo>
                  <a:pt x="18114" y="9098"/>
                  <a:pt x="18043" y="9258"/>
                  <a:pt x="17959" y="9426"/>
                </a:cubicBezTo>
                <a:cubicBezTo>
                  <a:pt x="17910" y="9525"/>
                  <a:pt x="17848" y="9609"/>
                  <a:pt x="17785" y="9699"/>
                </a:cubicBezTo>
              </a:path>
              <a:path w="2159" h="2059">
                <a:moveTo>
                  <a:pt x="16148" y="7938"/>
                </a:moveTo>
                <a:cubicBezTo>
                  <a:pt x="16064" y="8147"/>
                  <a:pt x="16002" y="8333"/>
                  <a:pt x="15974" y="8558"/>
                </a:cubicBezTo>
                <a:cubicBezTo>
                  <a:pt x="15932" y="8898"/>
                  <a:pt x="15983" y="9200"/>
                  <a:pt x="16073" y="9525"/>
                </a:cubicBezTo>
                <a:cubicBezTo>
                  <a:pt x="16127" y="9720"/>
                  <a:pt x="16200" y="9862"/>
                  <a:pt x="16346" y="99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4160" y="3911760"/>
            <a:ext cx="1670040" cy="615960"/>
          </a:xfrm>
          <a:custGeom>
            <a:avLst/>
            <a:gdLst/>
            <a:ahLst/>
            <a:rect l="l" t="t" r="r" b="b"/>
            <a:pathLst>
              <a:path w="4640" h="1713">
                <a:moveTo>
                  <a:pt x="5978" y="11435"/>
                </a:moveTo>
                <a:cubicBezTo>
                  <a:pt x="6002" y="11483"/>
                  <a:pt x="5974" y="11585"/>
                  <a:pt x="5953" y="11658"/>
                </a:cubicBezTo>
                <a:cubicBezTo>
                  <a:pt x="5893" y="11866"/>
                  <a:pt x="5854" y="12073"/>
                  <a:pt x="5779" y="12278"/>
                </a:cubicBezTo>
                <a:cubicBezTo>
                  <a:pt x="5741" y="12382"/>
                  <a:pt x="5705" y="12465"/>
                  <a:pt x="5705" y="12576"/>
                </a:cubicBezTo>
              </a:path>
              <a:path w="4640" h="1713">
                <a:moveTo>
                  <a:pt x="6449" y="11633"/>
                </a:moveTo>
                <a:cubicBezTo>
                  <a:pt x="6382" y="11734"/>
                  <a:pt x="6271" y="11841"/>
                  <a:pt x="6226" y="11956"/>
                </a:cubicBezTo>
                <a:cubicBezTo>
                  <a:pt x="6181" y="12072"/>
                  <a:pt x="6135" y="12283"/>
                  <a:pt x="6251" y="12378"/>
                </a:cubicBezTo>
                <a:cubicBezTo>
                  <a:pt x="6352" y="12460"/>
                  <a:pt x="6512" y="12322"/>
                  <a:pt x="6573" y="12254"/>
                </a:cubicBezTo>
                <a:cubicBezTo>
                  <a:pt x="6650" y="12169"/>
                  <a:pt x="6751" y="12050"/>
                  <a:pt x="6672" y="11931"/>
                </a:cubicBezTo>
                <a:cubicBezTo>
                  <a:pt x="6606" y="11832"/>
                  <a:pt x="6509" y="11763"/>
                  <a:pt x="6424" y="11683"/>
                </a:cubicBezTo>
                <a:cubicBezTo>
                  <a:pt x="6416" y="11675"/>
                  <a:pt x="6408" y="11666"/>
                  <a:pt x="6400" y="11658"/>
                </a:cubicBezTo>
              </a:path>
              <a:path w="4640" h="1713">
                <a:moveTo>
                  <a:pt x="7119" y="11559"/>
                </a:moveTo>
                <a:cubicBezTo>
                  <a:pt x="7134" y="11603"/>
                  <a:pt x="7190" y="11584"/>
                  <a:pt x="7243" y="11584"/>
                </a:cubicBezTo>
                <a:cubicBezTo>
                  <a:pt x="7327" y="11584"/>
                  <a:pt x="7387" y="11561"/>
                  <a:pt x="7466" y="11534"/>
                </a:cubicBezTo>
              </a:path>
              <a:path w="4640" h="1713">
                <a:moveTo>
                  <a:pt x="8161" y="11311"/>
                </a:moveTo>
                <a:cubicBezTo>
                  <a:pt x="8087" y="11451"/>
                  <a:pt x="8017" y="11596"/>
                  <a:pt x="7938" y="11733"/>
                </a:cubicBezTo>
                <a:cubicBezTo>
                  <a:pt x="7925" y="11755"/>
                  <a:pt x="7795" y="12016"/>
                  <a:pt x="7863" y="11881"/>
                </a:cubicBezTo>
                <a:cubicBezTo>
                  <a:pt x="7929" y="11751"/>
                  <a:pt x="7978" y="11618"/>
                  <a:pt x="8037" y="11485"/>
                </a:cubicBezTo>
                <a:cubicBezTo>
                  <a:pt x="8081" y="11385"/>
                  <a:pt x="8140" y="11199"/>
                  <a:pt x="8235" y="11137"/>
                </a:cubicBezTo>
                <a:cubicBezTo>
                  <a:pt x="8306" y="11090"/>
                  <a:pt x="8408" y="11069"/>
                  <a:pt x="8483" y="11112"/>
                </a:cubicBezTo>
                <a:cubicBezTo>
                  <a:pt x="8542" y="11145"/>
                  <a:pt x="8507" y="11266"/>
                  <a:pt x="8483" y="11311"/>
                </a:cubicBezTo>
                <a:cubicBezTo>
                  <a:pt x="8443" y="11385"/>
                  <a:pt x="8372" y="11465"/>
                  <a:pt x="8285" y="11485"/>
                </a:cubicBezTo>
                <a:cubicBezTo>
                  <a:pt x="8243" y="11485"/>
                  <a:pt x="8227" y="11493"/>
                  <a:pt x="8235" y="11460"/>
                </a:cubicBezTo>
              </a:path>
              <a:path w="4640" h="1713">
                <a:moveTo>
                  <a:pt x="8905" y="10864"/>
                </a:moveTo>
                <a:cubicBezTo>
                  <a:pt x="8823" y="10955"/>
                  <a:pt x="8752" y="11036"/>
                  <a:pt x="8731" y="11162"/>
                </a:cubicBezTo>
                <a:cubicBezTo>
                  <a:pt x="8716" y="11253"/>
                  <a:pt x="8707" y="11330"/>
                  <a:pt x="8806" y="11336"/>
                </a:cubicBezTo>
                <a:cubicBezTo>
                  <a:pt x="8903" y="11342"/>
                  <a:pt x="8962" y="11263"/>
                  <a:pt x="9004" y="11187"/>
                </a:cubicBezTo>
                <a:cubicBezTo>
                  <a:pt x="9054" y="11096"/>
                  <a:pt x="9021" y="11015"/>
                  <a:pt x="8930" y="10964"/>
                </a:cubicBezTo>
                <a:cubicBezTo>
                  <a:pt x="8868" y="10929"/>
                  <a:pt x="8799" y="10939"/>
                  <a:pt x="8731" y="10939"/>
                </a:cubicBezTo>
              </a:path>
              <a:path w="4640" h="1713">
                <a:moveTo>
                  <a:pt x="9277" y="10988"/>
                </a:moveTo>
                <a:cubicBezTo>
                  <a:pt x="9314" y="11025"/>
                  <a:pt x="9232" y="11099"/>
                  <a:pt x="9203" y="11162"/>
                </a:cubicBezTo>
                <a:cubicBezTo>
                  <a:pt x="9161" y="11254"/>
                  <a:pt x="9110" y="11333"/>
                  <a:pt x="9103" y="11435"/>
                </a:cubicBezTo>
                <a:cubicBezTo>
                  <a:pt x="9103" y="11460"/>
                  <a:pt x="9103" y="11468"/>
                  <a:pt x="9103" y="11485"/>
                </a:cubicBezTo>
              </a:path>
              <a:path w="4640" h="1713">
                <a:moveTo>
                  <a:pt x="9277" y="11137"/>
                </a:moveTo>
                <a:cubicBezTo>
                  <a:pt x="9330" y="11190"/>
                  <a:pt x="9350" y="11187"/>
                  <a:pt x="9426" y="11187"/>
                </a:cubicBezTo>
                <a:cubicBezTo>
                  <a:pt x="9500" y="11187"/>
                  <a:pt x="9557" y="11151"/>
                  <a:pt x="9599" y="11088"/>
                </a:cubicBezTo>
                <a:cubicBezTo>
                  <a:pt x="9631" y="11040"/>
                  <a:pt x="9649" y="10995"/>
                  <a:pt x="9649" y="10939"/>
                </a:cubicBezTo>
                <a:cubicBezTo>
                  <a:pt x="9592" y="11009"/>
                  <a:pt x="9561" y="11104"/>
                  <a:pt x="9525" y="11187"/>
                </a:cubicBezTo>
                <a:cubicBezTo>
                  <a:pt x="9476" y="11302"/>
                  <a:pt x="9436" y="11415"/>
                  <a:pt x="9401" y="11534"/>
                </a:cubicBezTo>
              </a:path>
              <a:path w="4640" h="1713">
                <a:moveTo>
                  <a:pt x="9872" y="11906"/>
                </a:moveTo>
                <a:cubicBezTo>
                  <a:pt x="9942" y="11946"/>
                  <a:pt x="9963" y="11956"/>
                  <a:pt x="10046" y="11956"/>
                </a:cubicBezTo>
                <a:cubicBezTo>
                  <a:pt x="10096" y="11956"/>
                  <a:pt x="10145" y="11956"/>
                  <a:pt x="10195" y="11956"/>
                </a:cubicBezTo>
              </a:path>
              <a:path w="4640" h="1713">
                <a:moveTo>
                  <a:pt x="10120" y="12129"/>
                </a:moveTo>
                <a:cubicBezTo>
                  <a:pt x="10112" y="12146"/>
                  <a:pt x="10104" y="12162"/>
                  <a:pt x="10096" y="12179"/>
                </a:cubicBezTo>
                <a:cubicBezTo>
                  <a:pt x="10171" y="12179"/>
                  <a:pt x="10223" y="12159"/>
                  <a:pt x="10294" y="12129"/>
                </a:cubicBezTo>
                <a:cubicBezTo>
                  <a:pt x="10311" y="12121"/>
                  <a:pt x="10327" y="12113"/>
                  <a:pt x="10344" y="121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73680" y="4143240"/>
            <a:ext cx="1143000" cy="322560"/>
          </a:xfrm>
          <a:custGeom>
            <a:avLst/>
            <a:gdLst/>
            <a:ahLst/>
            <a:rect l="l" t="t" r="r" b="b"/>
            <a:pathLst>
              <a:path w="3176" h="894">
                <a:moveTo>
                  <a:pt x="11609" y="11509"/>
                </a:moveTo>
                <a:cubicBezTo>
                  <a:pt x="11406" y="11669"/>
                  <a:pt x="11218" y="11826"/>
                  <a:pt x="11088" y="12055"/>
                </a:cubicBezTo>
                <a:cubicBezTo>
                  <a:pt x="11045" y="12161"/>
                  <a:pt x="11029" y="12183"/>
                  <a:pt x="11038" y="12254"/>
                </a:cubicBezTo>
                <a:cubicBezTo>
                  <a:pt x="11188" y="12342"/>
                  <a:pt x="11286" y="12271"/>
                  <a:pt x="11435" y="12179"/>
                </a:cubicBezTo>
                <a:cubicBezTo>
                  <a:pt x="11615" y="12068"/>
                  <a:pt x="11765" y="11946"/>
                  <a:pt x="11807" y="11733"/>
                </a:cubicBezTo>
                <a:cubicBezTo>
                  <a:pt x="11833" y="11603"/>
                  <a:pt x="11702" y="11523"/>
                  <a:pt x="11584" y="11559"/>
                </a:cubicBezTo>
                <a:cubicBezTo>
                  <a:pt x="11559" y="11576"/>
                  <a:pt x="11534" y="11592"/>
                  <a:pt x="11509" y="11609"/>
                </a:cubicBezTo>
              </a:path>
              <a:path w="3176" h="894">
                <a:moveTo>
                  <a:pt x="12254" y="11609"/>
                </a:moveTo>
                <a:cubicBezTo>
                  <a:pt x="12268" y="11682"/>
                  <a:pt x="12164" y="11759"/>
                  <a:pt x="12105" y="11832"/>
                </a:cubicBezTo>
                <a:cubicBezTo>
                  <a:pt x="12007" y="11952"/>
                  <a:pt x="11953" y="12059"/>
                  <a:pt x="11906" y="12204"/>
                </a:cubicBezTo>
                <a:cubicBezTo>
                  <a:pt x="11898" y="12229"/>
                  <a:pt x="11889" y="12253"/>
                  <a:pt x="11881" y="12278"/>
                </a:cubicBezTo>
              </a:path>
              <a:path w="3176" h="894">
                <a:moveTo>
                  <a:pt x="11981" y="12030"/>
                </a:moveTo>
                <a:cubicBezTo>
                  <a:pt x="12056" y="12030"/>
                  <a:pt x="12106" y="12027"/>
                  <a:pt x="12179" y="12005"/>
                </a:cubicBezTo>
                <a:cubicBezTo>
                  <a:pt x="12303" y="11968"/>
                  <a:pt x="12417" y="11902"/>
                  <a:pt x="12526" y="11832"/>
                </a:cubicBezTo>
                <a:cubicBezTo>
                  <a:pt x="12592" y="11790"/>
                  <a:pt x="12671" y="11716"/>
                  <a:pt x="12700" y="11658"/>
                </a:cubicBezTo>
                <a:cubicBezTo>
                  <a:pt x="12619" y="11658"/>
                  <a:pt x="12582" y="11725"/>
                  <a:pt x="12526" y="11782"/>
                </a:cubicBezTo>
                <a:cubicBezTo>
                  <a:pt x="12415" y="11893"/>
                  <a:pt x="12348" y="12055"/>
                  <a:pt x="12303" y="12204"/>
                </a:cubicBezTo>
                <a:cubicBezTo>
                  <a:pt x="12277" y="12291"/>
                  <a:pt x="12266" y="12330"/>
                  <a:pt x="12303" y="12402"/>
                </a:cubicBezTo>
              </a:path>
              <a:path w="3176" h="894">
                <a:moveTo>
                  <a:pt x="13047" y="11633"/>
                </a:moveTo>
                <a:cubicBezTo>
                  <a:pt x="13123" y="11605"/>
                  <a:pt x="13213" y="11570"/>
                  <a:pt x="13295" y="11559"/>
                </a:cubicBezTo>
                <a:cubicBezTo>
                  <a:pt x="13379" y="11559"/>
                  <a:pt x="13413" y="11557"/>
                  <a:pt x="13469" y="11534"/>
                </a:cubicBezTo>
              </a:path>
              <a:path w="3176" h="894">
                <a:moveTo>
                  <a:pt x="13841" y="11931"/>
                </a:moveTo>
                <a:cubicBezTo>
                  <a:pt x="13943" y="11940"/>
                  <a:pt x="14035" y="11956"/>
                  <a:pt x="14139" y="11956"/>
                </a:cubicBezTo>
                <a:cubicBezTo>
                  <a:pt x="14164" y="11956"/>
                  <a:pt x="14188" y="11956"/>
                  <a:pt x="14213" y="11956"/>
                </a:cubicBezTo>
              </a:path>
              <a:path w="3176" h="894">
                <a:moveTo>
                  <a:pt x="13816" y="12303"/>
                </a:moveTo>
                <a:cubicBezTo>
                  <a:pt x="13816" y="12328"/>
                  <a:pt x="13816" y="12353"/>
                  <a:pt x="13816" y="12378"/>
                </a:cubicBezTo>
                <a:cubicBezTo>
                  <a:pt x="13952" y="12378"/>
                  <a:pt x="14079" y="12378"/>
                  <a:pt x="14213" y="123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89720" y="4170240"/>
            <a:ext cx="1787400" cy="446040"/>
          </a:xfrm>
          <a:custGeom>
            <a:avLst/>
            <a:gdLst/>
            <a:ahLst/>
            <a:rect l="l" t="t" r="r" b="b"/>
            <a:pathLst>
              <a:path w="4962" h="1241">
                <a:moveTo>
                  <a:pt x="15627" y="11658"/>
                </a:moveTo>
                <a:cubicBezTo>
                  <a:pt x="15627" y="11642"/>
                  <a:pt x="15627" y="11625"/>
                  <a:pt x="15627" y="11609"/>
                </a:cubicBezTo>
                <a:cubicBezTo>
                  <a:pt x="15590" y="11654"/>
                  <a:pt x="15541" y="11724"/>
                  <a:pt x="15528" y="11782"/>
                </a:cubicBezTo>
                <a:cubicBezTo>
                  <a:pt x="15513" y="11849"/>
                  <a:pt x="15539" y="11904"/>
                  <a:pt x="15577" y="11956"/>
                </a:cubicBezTo>
                <a:cubicBezTo>
                  <a:pt x="15616" y="12008"/>
                  <a:pt x="15692" y="12027"/>
                  <a:pt x="15751" y="12030"/>
                </a:cubicBezTo>
                <a:cubicBezTo>
                  <a:pt x="15809" y="12033"/>
                  <a:pt x="15867" y="12030"/>
                  <a:pt x="15925" y="12030"/>
                </a:cubicBezTo>
              </a:path>
              <a:path w="4962" h="1241">
                <a:moveTo>
                  <a:pt x="16197" y="11584"/>
                </a:moveTo>
                <a:cubicBezTo>
                  <a:pt x="16121" y="11628"/>
                  <a:pt x="16070" y="11678"/>
                  <a:pt x="16024" y="11757"/>
                </a:cubicBezTo>
                <a:cubicBezTo>
                  <a:pt x="15940" y="11901"/>
                  <a:pt x="15874" y="12055"/>
                  <a:pt x="15801" y="12204"/>
                </a:cubicBezTo>
                <a:cubicBezTo>
                  <a:pt x="15765" y="12278"/>
                  <a:pt x="15735" y="12352"/>
                  <a:pt x="15701" y="12427"/>
                </a:cubicBezTo>
              </a:path>
              <a:path w="4962" h="1241">
                <a:moveTo>
                  <a:pt x="16297" y="12378"/>
                </a:moveTo>
                <a:cubicBezTo>
                  <a:pt x="16274" y="12400"/>
                  <a:pt x="16269" y="12408"/>
                  <a:pt x="16247" y="12402"/>
                </a:cubicBezTo>
              </a:path>
              <a:path w="4962" h="1241">
                <a:moveTo>
                  <a:pt x="16991" y="11807"/>
                </a:moveTo>
                <a:cubicBezTo>
                  <a:pt x="16969" y="11785"/>
                  <a:pt x="16964" y="11776"/>
                  <a:pt x="16942" y="11782"/>
                </a:cubicBezTo>
                <a:cubicBezTo>
                  <a:pt x="16891" y="11846"/>
                  <a:pt x="16837" y="11910"/>
                  <a:pt x="16793" y="11981"/>
                </a:cubicBezTo>
                <a:cubicBezTo>
                  <a:pt x="16769" y="12020"/>
                  <a:pt x="16711" y="12131"/>
                  <a:pt x="16743" y="12179"/>
                </a:cubicBezTo>
                <a:cubicBezTo>
                  <a:pt x="16797" y="12260"/>
                  <a:pt x="16906" y="12229"/>
                  <a:pt x="16991" y="12229"/>
                </a:cubicBezTo>
                <a:cubicBezTo>
                  <a:pt x="17119" y="12229"/>
                  <a:pt x="17198" y="12202"/>
                  <a:pt x="17314" y="12154"/>
                </a:cubicBezTo>
              </a:path>
              <a:path w="4962" h="1241">
                <a:moveTo>
                  <a:pt x="17611" y="11782"/>
                </a:moveTo>
                <a:cubicBezTo>
                  <a:pt x="17491" y="11846"/>
                  <a:pt x="17356" y="11902"/>
                  <a:pt x="17264" y="12005"/>
                </a:cubicBezTo>
                <a:cubicBezTo>
                  <a:pt x="17169" y="12111"/>
                  <a:pt x="17076" y="12249"/>
                  <a:pt x="17016" y="12378"/>
                </a:cubicBezTo>
                <a:cubicBezTo>
                  <a:pt x="16994" y="12443"/>
                  <a:pt x="16986" y="12458"/>
                  <a:pt x="16991" y="12502"/>
                </a:cubicBezTo>
              </a:path>
              <a:path w="4962" h="1241">
                <a:moveTo>
                  <a:pt x="18132" y="12129"/>
                </a:moveTo>
                <a:cubicBezTo>
                  <a:pt x="18059" y="12171"/>
                  <a:pt x="17908" y="12237"/>
                  <a:pt x="17884" y="12328"/>
                </a:cubicBezTo>
                <a:cubicBezTo>
                  <a:pt x="17853" y="12448"/>
                  <a:pt x="17958" y="12512"/>
                  <a:pt x="18058" y="12526"/>
                </a:cubicBezTo>
                <a:cubicBezTo>
                  <a:pt x="18165" y="12526"/>
                  <a:pt x="18207" y="12526"/>
                  <a:pt x="18281" y="12526"/>
                </a:cubicBezTo>
              </a:path>
              <a:path w="4962" h="1241">
                <a:moveTo>
                  <a:pt x="18157" y="12378"/>
                </a:moveTo>
                <a:cubicBezTo>
                  <a:pt x="18049" y="12378"/>
                  <a:pt x="18000" y="12419"/>
                  <a:pt x="18008" y="12353"/>
                </a:cubicBezTo>
                <a:cubicBezTo>
                  <a:pt x="18113" y="12322"/>
                  <a:pt x="18222" y="12312"/>
                  <a:pt x="18331" y="12278"/>
                </a:cubicBezTo>
              </a:path>
              <a:path w="4962" h="1241">
                <a:moveTo>
                  <a:pt x="18231" y="11956"/>
                </a:moveTo>
                <a:cubicBezTo>
                  <a:pt x="18206" y="11939"/>
                  <a:pt x="18182" y="11923"/>
                  <a:pt x="18157" y="11906"/>
                </a:cubicBezTo>
                <a:cubicBezTo>
                  <a:pt x="18334" y="11906"/>
                  <a:pt x="18503" y="11905"/>
                  <a:pt x="18678" y="11931"/>
                </a:cubicBezTo>
              </a:path>
              <a:path w="4962" h="1241">
                <a:moveTo>
                  <a:pt x="18876" y="12353"/>
                </a:moveTo>
                <a:cubicBezTo>
                  <a:pt x="18941" y="12402"/>
                  <a:pt x="18971" y="12362"/>
                  <a:pt x="19050" y="12353"/>
                </a:cubicBezTo>
                <a:cubicBezTo>
                  <a:pt x="19133" y="12353"/>
                  <a:pt x="19166" y="12353"/>
                  <a:pt x="19224" y="12353"/>
                </a:cubicBezTo>
              </a:path>
              <a:path w="4962" h="1241">
                <a:moveTo>
                  <a:pt x="19869" y="11832"/>
                </a:moveTo>
                <a:cubicBezTo>
                  <a:pt x="19800" y="11859"/>
                  <a:pt x="19731" y="11933"/>
                  <a:pt x="19695" y="12005"/>
                </a:cubicBezTo>
                <a:cubicBezTo>
                  <a:pt x="19653" y="12088"/>
                  <a:pt x="19659" y="12199"/>
                  <a:pt x="19745" y="12254"/>
                </a:cubicBezTo>
                <a:cubicBezTo>
                  <a:pt x="19826" y="12305"/>
                  <a:pt x="19951" y="12278"/>
                  <a:pt x="20042" y="12278"/>
                </a:cubicBezTo>
              </a:path>
              <a:path w="4962" h="1241">
                <a:moveTo>
                  <a:pt x="20489" y="11881"/>
                </a:moveTo>
                <a:cubicBezTo>
                  <a:pt x="20332" y="11960"/>
                  <a:pt x="20234" y="12046"/>
                  <a:pt x="20141" y="12204"/>
                </a:cubicBezTo>
                <a:cubicBezTo>
                  <a:pt x="20042" y="12373"/>
                  <a:pt x="19965" y="12556"/>
                  <a:pt x="19869" y="12725"/>
                </a:cubicBezTo>
                <a:cubicBezTo>
                  <a:pt x="19852" y="12758"/>
                  <a:pt x="19836" y="12791"/>
                  <a:pt x="19819" y="128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8880" y="571680"/>
            <a:ext cx="304920" cy="625320"/>
          </a:xfrm>
          <a:custGeom>
            <a:avLst/>
            <a:gdLst/>
            <a:ahLst/>
            <a:rect l="l" t="t" r="r" b="b"/>
            <a:pathLst>
              <a:path w="845" h="1737">
                <a:moveTo>
                  <a:pt x="2480" y="2158"/>
                </a:moveTo>
                <a:cubicBezTo>
                  <a:pt x="2434" y="2122"/>
                  <a:pt x="2393" y="2133"/>
                  <a:pt x="2332" y="2133"/>
                </a:cubicBezTo>
                <a:cubicBezTo>
                  <a:pt x="2235" y="2133"/>
                  <a:pt x="2177" y="2203"/>
                  <a:pt x="2133" y="2282"/>
                </a:cubicBezTo>
                <a:cubicBezTo>
                  <a:pt x="2091" y="2357"/>
                  <a:pt x="2094" y="2420"/>
                  <a:pt x="2183" y="2431"/>
                </a:cubicBezTo>
                <a:cubicBezTo>
                  <a:pt x="2259" y="2440"/>
                  <a:pt x="2359" y="2386"/>
                  <a:pt x="2406" y="2332"/>
                </a:cubicBezTo>
                <a:cubicBezTo>
                  <a:pt x="2441" y="2292"/>
                  <a:pt x="2456" y="2235"/>
                  <a:pt x="2456" y="2183"/>
                </a:cubicBezTo>
                <a:cubicBezTo>
                  <a:pt x="2416" y="2209"/>
                  <a:pt x="2409" y="2291"/>
                  <a:pt x="2406" y="2356"/>
                </a:cubicBezTo>
                <a:cubicBezTo>
                  <a:pt x="2402" y="2471"/>
                  <a:pt x="2416" y="2570"/>
                  <a:pt x="2431" y="2679"/>
                </a:cubicBezTo>
                <a:cubicBezTo>
                  <a:pt x="2431" y="2724"/>
                  <a:pt x="2427" y="2737"/>
                  <a:pt x="2456" y="2753"/>
                </a:cubicBezTo>
              </a:path>
              <a:path w="845" h="1737">
                <a:moveTo>
                  <a:pt x="2654" y="1612"/>
                </a:moveTo>
                <a:cubicBezTo>
                  <a:pt x="2715" y="1642"/>
                  <a:pt x="2720" y="1677"/>
                  <a:pt x="2753" y="1736"/>
                </a:cubicBezTo>
                <a:cubicBezTo>
                  <a:pt x="2857" y="1927"/>
                  <a:pt x="2934" y="2113"/>
                  <a:pt x="2952" y="2332"/>
                </a:cubicBezTo>
                <a:cubicBezTo>
                  <a:pt x="2973" y="2592"/>
                  <a:pt x="2941" y="2736"/>
                  <a:pt x="2803" y="2952"/>
                </a:cubicBezTo>
                <a:cubicBezTo>
                  <a:pt x="2710" y="3097"/>
                  <a:pt x="2594" y="3197"/>
                  <a:pt x="2480" y="33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01840" y="768240"/>
            <a:ext cx="2751120" cy="812880"/>
          </a:xfrm>
          <a:custGeom>
            <a:avLst/>
            <a:gdLst/>
            <a:ahLst/>
            <a:rect l="l" t="t" r="r" b="b"/>
            <a:pathLst>
              <a:path w="7641" h="2258">
                <a:moveTo>
                  <a:pt x="3994" y="2356"/>
                </a:moveTo>
                <a:cubicBezTo>
                  <a:pt x="3961" y="2356"/>
                  <a:pt x="3927" y="2356"/>
                  <a:pt x="3894" y="2356"/>
                </a:cubicBezTo>
                <a:cubicBezTo>
                  <a:pt x="3908" y="2316"/>
                  <a:pt x="3983" y="2267"/>
                  <a:pt x="4043" y="2257"/>
                </a:cubicBezTo>
                <a:cubicBezTo>
                  <a:pt x="4202" y="2231"/>
                  <a:pt x="4304" y="2269"/>
                  <a:pt x="4390" y="2406"/>
                </a:cubicBezTo>
                <a:cubicBezTo>
                  <a:pt x="4487" y="2561"/>
                  <a:pt x="4422" y="2716"/>
                  <a:pt x="4316" y="2853"/>
                </a:cubicBezTo>
                <a:cubicBezTo>
                  <a:pt x="4231" y="2962"/>
                  <a:pt x="4077" y="3123"/>
                  <a:pt x="3944" y="3175"/>
                </a:cubicBezTo>
                <a:cubicBezTo>
                  <a:pt x="3927" y="3175"/>
                  <a:pt x="3911" y="3175"/>
                  <a:pt x="3894" y="3175"/>
                </a:cubicBezTo>
                <a:cubicBezTo>
                  <a:pt x="3904" y="3096"/>
                  <a:pt x="3941" y="3020"/>
                  <a:pt x="4018" y="2977"/>
                </a:cubicBezTo>
                <a:cubicBezTo>
                  <a:pt x="4091" y="2936"/>
                  <a:pt x="4207" y="2911"/>
                  <a:pt x="4291" y="2927"/>
                </a:cubicBezTo>
                <a:cubicBezTo>
                  <a:pt x="4352" y="2947"/>
                  <a:pt x="4367" y="2945"/>
                  <a:pt x="4390" y="2977"/>
                </a:cubicBezTo>
              </a:path>
              <a:path w="7641" h="2258">
                <a:moveTo>
                  <a:pt x="4862" y="2381"/>
                </a:moveTo>
                <a:cubicBezTo>
                  <a:pt x="4862" y="2549"/>
                  <a:pt x="4851" y="2712"/>
                  <a:pt x="4837" y="2877"/>
                </a:cubicBezTo>
                <a:cubicBezTo>
                  <a:pt x="4837" y="2968"/>
                  <a:pt x="4837" y="2993"/>
                  <a:pt x="4837" y="3051"/>
                </a:cubicBezTo>
              </a:path>
              <a:path w="7641" h="2258">
                <a:moveTo>
                  <a:pt x="5035" y="3125"/>
                </a:moveTo>
                <a:lnTo>
                  <a:pt x="5035" y="3125"/>
                </a:lnTo>
                <a:lnTo>
                  <a:pt x="5035" y="3125"/>
                </a:lnTo>
                <a:lnTo>
                  <a:pt x="5035" y="3125"/>
                </a:lnTo>
                <a:lnTo>
                  <a:pt x="5035" y="3125"/>
                </a:lnTo>
                <a:lnTo>
                  <a:pt x="5035" y="3125"/>
                </a:lnTo>
              </a:path>
              <a:path w="7641" h="2258">
                <a:moveTo>
                  <a:pt x="5383" y="2530"/>
                </a:moveTo>
                <a:cubicBezTo>
                  <a:pt x="5383" y="2612"/>
                  <a:pt x="5383" y="2674"/>
                  <a:pt x="5407" y="2753"/>
                </a:cubicBezTo>
                <a:cubicBezTo>
                  <a:pt x="5434" y="2841"/>
                  <a:pt x="5449" y="2933"/>
                  <a:pt x="5556" y="2952"/>
                </a:cubicBezTo>
                <a:cubicBezTo>
                  <a:pt x="5662" y="2971"/>
                  <a:pt x="5726" y="2939"/>
                  <a:pt x="5804" y="2877"/>
                </a:cubicBezTo>
              </a:path>
              <a:path w="7641" h="2258">
                <a:moveTo>
                  <a:pt x="5879" y="2480"/>
                </a:moveTo>
                <a:cubicBezTo>
                  <a:pt x="5825" y="2465"/>
                  <a:pt x="5766" y="2431"/>
                  <a:pt x="5755" y="2505"/>
                </a:cubicBezTo>
                <a:cubicBezTo>
                  <a:pt x="5729" y="2674"/>
                  <a:pt x="5762" y="2862"/>
                  <a:pt x="5779" y="3026"/>
                </a:cubicBezTo>
                <a:cubicBezTo>
                  <a:pt x="5781" y="3049"/>
                  <a:pt x="5789" y="3207"/>
                  <a:pt x="5854" y="3200"/>
                </a:cubicBezTo>
                <a:cubicBezTo>
                  <a:pt x="5862" y="3192"/>
                  <a:pt x="5871" y="3183"/>
                  <a:pt x="5879" y="3175"/>
                </a:cubicBezTo>
              </a:path>
              <a:path w="7641" h="2258">
                <a:moveTo>
                  <a:pt x="6400" y="2406"/>
                </a:moveTo>
                <a:cubicBezTo>
                  <a:pt x="6372" y="2350"/>
                  <a:pt x="6292" y="2520"/>
                  <a:pt x="6276" y="2555"/>
                </a:cubicBezTo>
                <a:cubicBezTo>
                  <a:pt x="6214" y="2690"/>
                  <a:pt x="6158" y="2902"/>
                  <a:pt x="6201" y="3051"/>
                </a:cubicBezTo>
                <a:cubicBezTo>
                  <a:pt x="6229" y="3146"/>
                  <a:pt x="6378" y="3227"/>
                  <a:pt x="6474" y="3200"/>
                </a:cubicBezTo>
                <a:cubicBezTo>
                  <a:pt x="6558" y="3176"/>
                  <a:pt x="6695" y="3121"/>
                  <a:pt x="6722" y="3026"/>
                </a:cubicBezTo>
                <a:cubicBezTo>
                  <a:pt x="6722" y="3010"/>
                  <a:pt x="6722" y="2993"/>
                  <a:pt x="6722" y="2977"/>
                </a:cubicBezTo>
                <a:cubicBezTo>
                  <a:pt x="6643" y="2929"/>
                  <a:pt x="6579" y="2948"/>
                  <a:pt x="6499" y="3001"/>
                </a:cubicBezTo>
                <a:cubicBezTo>
                  <a:pt x="6379" y="3080"/>
                  <a:pt x="6295" y="3170"/>
                  <a:pt x="6201" y="3274"/>
                </a:cubicBezTo>
              </a:path>
              <a:path w="7641" h="2258">
                <a:moveTo>
                  <a:pt x="7739" y="2133"/>
                </a:moveTo>
                <a:cubicBezTo>
                  <a:pt x="7797" y="2148"/>
                  <a:pt x="7684" y="2231"/>
                  <a:pt x="7615" y="2307"/>
                </a:cubicBezTo>
                <a:cubicBezTo>
                  <a:pt x="7429" y="2512"/>
                  <a:pt x="7292" y="2737"/>
                  <a:pt x="7119" y="2952"/>
                </a:cubicBezTo>
                <a:cubicBezTo>
                  <a:pt x="6925" y="3192"/>
                  <a:pt x="6740" y="3434"/>
                  <a:pt x="6573" y="3696"/>
                </a:cubicBezTo>
                <a:cubicBezTo>
                  <a:pt x="6511" y="3794"/>
                  <a:pt x="6449" y="3869"/>
                  <a:pt x="6400" y="3969"/>
                </a:cubicBezTo>
              </a:path>
              <a:path w="7641" h="2258">
                <a:moveTo>
                  <a:pt x="5135" y="3200"/>
                </a:moveTo>
                <a:cubicBezTo>
                  <a:pt x="5123" y="3247"/>
                  <a:pt x="5079" y="3256"/>
                  <a:pt x="5060" y="3299"/>
                </a:cubicBezTo>
                <a:cubicBezTo>
                  <a:pt x="5060" y="3307"/>
                  <a:pt x="5060" y="3316"/>
                  <a:pt x="5060" y="3324"/>
                </a:cubicBezTo>
                <a:cubicBezTo>
                  <a:pt x="5103" y="3315"/>
                  <a:pt x="5163" y="3296"/>
                  <a:pt x="5184" y="3249"/>
                </a:cubicBezTo>
                <a:cubicBezTo>
                  <a:pt x="5199" y="3217"/>
                  <a:pt x="5175" y="3196"/>
                  <a:pt x="5159" y="3175"/>
                </a:cubicBezTo>
                <a:cubicBezTo>
                  <a:pt x="5094" y="3175"/>
                  <a:pt x="5052" y="3198"/>
                  <a:pt x="5011" y="3249"/>
                </a:cubicBezTo>
                <a:cubicBezTo>
                  <a:pt x="4989" y="3293"/>
                  <a:pt x="4986" y="3305"/>
                  <a:pt x="4961" y="3324"/>
                </a:cubicBezTo>
                <a:cubicBezTo>
                  <a:pt x="5044" y="3324"/>
                  <a:pt x="5084" y="3312"/>
                  <a:pt x="5159" y="3274"/>
                </a:cubicBezTo>
                <a:cubicBezTo>
                  <a:pt x="5211" y="3248"/>
                  <a:pt x="5222" y="3249"/>
                  <a:pt x="5234" y="3200"/>
                </a:cubicBezTo>
                <a:cubicBezTo>
                  <a:pt x="5181" y="3161"/>
                  <a:pt x="5160" y="3181"/>
                  <a:pt x="5110" y="3225"/>
                </a:cubicBezTo>
                <a:cubicBezTo>
                  <a:pt x="5087" y="3247"/>
                  <a:pt x="5079" y="3252"/>
                  <a:pt x="5085" y="3274"/>
                </a:cubicBezTo>
              </a:path>
              <a:path w="7641" h="2258">
                <a:moveTo>
                  <a:pt x="7516" y="3398"/>
                </a:moveTo>
                <a:cubicBezTo>
                  <a:pt x="7557" y="3453"/>
                  <a:pt x="7520" y="3455"/>
                  <a:pt x="7516" y="3522"/>
                </a:cubicBezTo>
                <a:cubicBezTo>
                  <a:pt x="7510" y="3619"/>
                  <a:pt x="7516" y="3713"/>
                  <a:pt x="7541" y="3795"/>
                </a:cubicBezTo>
                <a:cubicBezTo>
                  <a:pt x="7541" y="3803"/>
                  <a:pt x="7541" y="3812"/>
                  <a:pt x="7541" y="3820"/>
                </a:cubicBezTo>
              </a:path>
              <a:path w="7641" h="2258">
                <a:moveTo>
                  <a:pt x="7863" y="3225"/>
                </a:moveTo>
                <a:cubicBezTo>
                  <a:pt x="7902" y="3250"/>
                  <a:pt x="7888" y="3312"/>
                  <a:pt x="7888" y="3373"/>
                </a:cubicBezTo>
                <a:cubicBezTo>
                  <a:pt x="7888" y="3472"/>
                  <a:pt x="7871" y="3588"/>
                  <a:pt x="7913" y="3671"/>
                </a:cubicBezTo>
                <a:cubicBezTo>
                  <a:pt x="7935" y="3715"/>
                  <a:pt x="7938" y="3726"/>
                  <a:pt x="7962" y="3746"/>
                </a:cubicBezTo>
              </a:path>
              <a:path w="7641" h="2258">
                <a:moveTo>
                  <a:pt x="7764" y="3349"/>
                </a:moveTo>
                <a:cubicBezTo>
                  <a:pt x="7756" y="3349"/>
                  <a:pt x="7747" y="3349"/>
                  <a:pt x="7739" y="3349"/>
                </a:cubicBezTo>
                <a:cubicBezTo>
                  <a:pt x="7750" y="3306"/>
                  <a:pt x="7779" y="3282"/>
                  <a:pt x="7813" y="3249"/>
                </a:cubicBezTo>
                <a:cubicBezTo>
                  <a:pt x="7838" y="3224"/>
                  <a:pt x="7879" y="3204"/>
                  <a:pt x="7913" y="3200"/>
                </a:cubicBezTo>
                <a:cubicBezTo>
                  <a:pt x="7921" y="3200"/>
                  <a:pt x="7930" y="3200"/>
                  <a:pt x="7938" y="3200"/>
                </a:cubicBezTo>
                <a:cubicBezTo>
                  <a:pt x="7938" y="3287"/>
                  <a:pt x="7922" y="3364"/>
                  <a:pt x="7913" y="3448"/>
                </a:cubicBezTo>
                <a:cubicBezTo>
                  <a:pt x="7908" y="3497"/>
                  <a:pt x="7885" y="3694"/>
                  <a:pt x="7938" y="3721"/>
                </a:cubicBezTo>
                <a:cubicBezTo>
                  <a:pt x="7990" y="3748"/>
                  <a:pt x="8048" y="3709"/>
                  <a:pt x="8086" y="3696"/>
                </a:cubicBezTo>
                <a:cubicBezTo>
                  <a:pt x="8125" y="3683"/>
                  <a:pt x="8152" y="3672"/>
                  <a:pt x="8186" y="3646"/>
                </a:cubicBezTo>
              </a:path>
              <a:path w="7641" h="2258">
                <a:moveTo>
                  <a:pt x="8210" y="3249"/>
                </a:moveTo>
                <a:cubicBezTo>
                  <a:pt x="8223" y="3200"/>
                  <a:pt x="8235" y="3200"/>
                  <a:pt x="8285" y="3200"/>
                </a:cubicBezTo>
                <a:cubicBezTo>
                  <a:pt x="8346" y="3200"/>
                  <a:pt x="8414" y="3197"/>
                  <a:pt x="8458" y="3249"/>
                </a:cubicBezTo>
                <a:cubicBezTo>
                  <a:pt x="8496" y="3293"/>
                  <a:pt x="8497" y="3397"/>
                  <a:pt x="8483" y="3448"/>
                </a:cubicBezTo>
                <a:cubicBezTo>
                  <a:pt x="8466" y="3512"/>
                  <a:pt x="8416" y="3568"/>
                  <a:pt x="8384" y="3621"/>
                </a:cubicBezTo>
                <a:cubicBezTo>
                  <a:pt x="8364" y="3662"/>
                  <a:pt x="8355" y="3668"/>
                  <a:pt x="8359" y="3696"/>
                </a:cubicBezTo>
                <a:cubicBezTo>
                  <a:pt x="8426" y="3696"/>
                  <a:pt x="8495" y="3687"/>
                  <a:pt x="8558" y="3671"/>
                </a:cubicBezTo>
                <a:cubicBezTo>
                  <a:pt x="8653" y="3647"/>
                  <a:pt x="8705" y="3621"/>
                  <a:pt x="8806" y="3621"/>
                </a:cubicBezTo>
              </a:path>
              <a:path w="7641" h="2258">
                <a:moveTo>
                  <a:pt x="9897" y="2654"/>
                </a:moveTo>
                <a:cubicBezTo>
                  <a:pt x="9841" y="2779"/>
                  <a:pt x="9789" y="2904"/>
                  <a:pt x="9723" y="3026"/>
                </a:cubicBezTo>
                <a:cubicBezTo>
                  <a:pt x="9595" y="3262"/>
                  <a:pt x="9456" y="3478"/>
                  <a:pt x="9302" y="3696"/>
                </a:cubicBezTo>
                <a:cubicBezTo>
                  <a:pt x="9191" y="3853"/>
                  <a:pt x="9057" y="4008"/>
                  <a:pt x="8954" y="4167"/>
                </a:cubicBezTo>
                <a:cubicBezTo>
                  <a:pt x="8910" y="4235"/>
                  <a:pt x="8888" y="4317"/>
                  <a:pt x="8855" y="4390"/>
                </a:cubicBezTo>
              </a:path>
              <a:path w="7641" h="2258">
                <a:moveTo>
                  <a:pt x="9748" y="4018"/>
                </a:moveTo>
                <a:cubicBezTo>
                  <a:pt x="9741" y="4024"/>
                  <a:pt x="9624" y="4104"/>
                  <a:pt x="9674" y="4068"/>
                </a:cubicBezTo>
                <a:cubicBezTo>
                  <a:pt x="9710" y="4042"/>
                  <a:pt x="9742" y="4000"/>
                  <a:pt x="9773" y="3969"/>
                </a:cubicBezTo>
                <a:cubicBezTo>
                  <a:pt x="9738" y="3997"/>
                  <a:pt x="9669" y="4023"/>
                  <a:pt x="9649" y="4068"/>
                </a:cubicBezTo>
                <a:cubicBezTo>
                  <a:pt x="9649" y="4076"/>
                  <a:pt x="9649" y="4085"/>
                  <a:pt x="9649" y="4093"/>
                </a:cubicBezTo>
              </a:path>
              <a:path w="7641" h="2258">
                <a:moveTo>
                  <a:pt x="10294" y="3398"/>
                </a:moveTo>
                <a:cubicBezTo>
                  <a:pt x="10348" y="3398"/>
                  <a:pt x="10367" y="3399"/>
                  <a:pt x="10418" y="3423"/>
                </a:cubicBezTo>
                <a:cubicBezTo>
                  <a:pt x="10504" y="3464"/>
                  <a:pt x="10551" y="3494"/>
                  <a:pt x="10567" y="3597"/>
                </a:cubicBezTo>
                <a:cubicBezTo>
                  <a:pt x="10586" y="3718"/>
                  <a:pt x="10530" y="3842"/>
                  <a:pt x="10443" y="3919"/>
                </a:cubicBezTo>
                <a:cubicBezTo>
                  <a:pt x="10367" y="3986"/>
                  <a:pt x="10281" y="4015"/>
                  <a:pt x="10195" y="3994"/>
                </a:cubicBezTo>
                <a:cubicBezTo>
                  <a:pt x="10161" y="3949"/>
                  <a:pt x="10165" y="3909"/>
                  <a:pt x="10220" y="3870"/>
                </a:cubicBezTo>
                <a:cubicBezTo>
                  <a:pt x="10287" y="3822"/>
                  <a:pt x="10374" y="3841"/>
                  <a:pt x="10443" y="3870"/>
                </a:cubicBezTo>
                <a:cubicBezTo>
                  <a:pt x="10499" y="3893"/>
                  <a:pt x="10541" y="3937"/>
                  <a:pt x="10592" y="3969"/>
                </a:cubicBezTo>
              </a:path>
              <a:path w="7641" h="2258">
                <a:moveTo>
                  <a:pt x="11112" y="3398"/>
                </a:moveTo>
                <a:cubicBezTo>
                  <a:pt x="11138" y="3411"/>
                  <a:pt x="11080" y="3489"/>
                  <a:pt x="11063" y="3547"/>
                </a:cubicBezTo>
                <a:cubicBezTo>
                  <a:pt x="11023" y="3683"/>
                  <a:pt x="10961" y="3831"/>
                  <a:pt x="10939" y="3969"/>
                </a:cubicBezTo>
                <a:cubicBezTo>
                  <a:pt x="10939" y="4027"/>
                  <a:pt x="10939" y="4035"/>
                  <a:pt x="10939" y="4068"/>
                </a:cubicBezTo>
                <a:cubicBezTo>
                  <a:pt x="11036" y="4056"/>
                  <a:pt x="11098" y="4008"/>
                  <a:pt x="11187" y="3969"/>
                </a:cubicBezTo>
                <a:cubicBezTo>
                  <a:pt x="11236" y="3947"/>
                  <a:pt x="11355" y="3877"/>
                  <a:pt x="11410" y="3894"/>
                </a:cubicBezTo>
                <a:cubicBezTo>
                  <a:pt x="11449" y="3906"/>
                  <a:pt x="11500" y="3942"/>
                  <a:pt x="11534" y="39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62640" y="1098720"/>
            <a:ext cx="117360" cy="125280"/>
          </a:xfrm>
          <a:custGeom>
            <a:avLst/>
            <a:gdLst/>
            <a:ahLst/>
            <a:rect l="l" t="t" r="r" b="b"/>
            <a:pathLst>
              <a:path w="324" h="348">
                <a:moveTo>
                  <a:pt x="12700" y="3076"/>
                </a:moveTo>
                <a:cubicBezTo>
                  <a:pt x="12776" y="3076"/>
                  <a:pt x="12827" y="3068"/>
                  <a:pt x="12898" y="3051"/>
                </a:cubicBezTo>
                <a:cubicBezTo>
                  <a:pt x="12931" y="3051"/>
                  <a:pt x="12948" y="3051"/>
                  <a:pt x="12973" y="3051"/>
                </a:cubicBezTo>
              </a:path>
              <a:path w="324" h="348">
                <a:moveTo>
                  <a:pt x="12675" y="3373"/>
                </a:moveTo>
                <a:cubicBezTo>
                  <a:pt x="12735" y="3418"/>
                  <a:pt x="12729" y="3385"/>
                  <a:pt x="12799" y="3373"/>
                </a:cubicBezTo>
                <a:cubicBezTo>
                  <a:pt x="12873" y="3360"/>
                  <a:pt x="12926" y="3375"/>
                  <a:pt x="12998" y="33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46760" y="1027080"/>
            <a:ext cx="1090440" cy="330120"/>
          </a:xfrm>
          <a:custGeom>
            <a:avLst/>
            <a:gdLst/>
            <a:ahLst/>
            <a:rect l="l" t="t" r="r" b="b"/>
            <a:pathLst>
              <a:path w="3027" h="918">
                <a:moveTo>
                  <a:pt x="16073" y="2877"/>
                </a:moveTo>
                <a:cubicBezTo>
                  <a:pt x="16065" y="2974"/>
                  <a:pt x="16046" y="3013"/>
                  <a:pt x="15999" y="3101"/>
                </a:cubicBezTo>
                <a:cubicBezTo>
                  <a:pt x="15933" y="3224"/>
                  <a:pt x="15894" y="3350"/>
                  <a:pt x="15825" y="3473"/>
                </a:cubicBezTo>
                <a:cubicBezTo>
                  <a:pt x="15802" y="3514"/>
                  <a:pt x="15791" y="3557"/>
                  <a:pt x="15776" y="3597"/>
                </a:cubicBezTo>
                <a:cubicBezTo>
                  <a:pt x="15835" y="3544"/>
                  <a:pt x="15913" y="3474"/>
                  <a:pt x="15974" y="3398"/>
                </a:cubicBezTo>
                <a:cubicBezTo>
                  <a:pt x="16077" y="3269"/>
                  <a:pt x="16170" y="3131"/>
                  <a:pt x="16272" y="3001"/>
                </a:cubicBezTo>
                <a:cubicBezTo>
                  <a:pt x="16326" y="2932"/>
                  <a:pt x="16333" y="2913"/>
                  <a:pt x="16396" y="2877"/>
                </a:cubicBezTo>
                <a:cubicBezTo>
                  <a:pt x="16385" y="2966"/>
                  <a:pt x="16334" y="3033"/>
                  <a:pt x="16321" y="3125"/>
                </a:cubicBezTo>
                <a:cubicBezTo>
                  <a:pt x="16309" y="3208"/>
                  <a:pt x="16297" y="3288"/>
                  <a:pt x="16297" y="3373"/>
                </a:cubicBezTo>
                <a:cubicBezTo>
                  <a:pt x="16297" y="3381"/>
                  <a:pt x="16297" y="3390"/>
                  <a:pt x="16297" y="3398"/>
                </a:cubicBezTo>
                <a:cubicBezTo>
                  <a:pt x="16368" y="3389"/>
                  <a:pt x="16390" y="3378"/>
                  <a:pt x="16446" y="3324"/>
                </a:cubicBezTo>
                <a:cubicBezTo>
                  <a:pt x="16550" y="3224"/>
                  <a:pt x="16591" y="3091"/>
                  <a:pt x="16669" y="2977"/>
                </a:cubicBezTo>
                <a:cubicBezTo>
                  <a:pt x="16703" y="2927"/>
                  <a:pt x="16720" y="2904"/>
                  <a:pt x="16743" y="2853"/>
                </a:cubicBezTo>
                <a:cubicBezTo>
                  <a:pt x="16743" y="2972"/>
                  <a:pt x="16728" y="3084"/>
                  <a:pt x="16718" y="3200"/>
                </a:cubicBezTo>
                <a:cubicBezTo>
                  <a:pt x="16704" y="3366"/>
                  <a:pt x="16717" y="3539"/>
                  <a:pt x="16743" y="3696"/>
                </a:cubicBezTo>
                <a:cubicBezTo>
                  <a:pt x="16743" y="3741"/>
                  <a:pt x="16739" y="3754"/>
                  <a:pt x="16768" y="3770"/>
                </a:cubicBezTo>
              </a:path>
              <a:path w="3027" h="918">
                <a:moveTo>
                  <a:pt x="13791" y="3597"/>
                </a:moveTo>
                <a:cubicBezTo>
                  <a:pt x="13791" y="3621"/>
                  <a:pt x="13791" y="3629"/>
                  <a:pt x="13767" y="3621"/>
                </a:cubicBezTo>
                <a:cubicBezTo>
                  <a:pt x="13756" y="3616"/>
                  <a:pt x="13748" y="3583"/>
                  <a:pt x="13767" y="3547"/>
                </a:cubicBezTo>
                <a:cubicBezTo>
                  <a:pt x="13784" y="3516"/>
                  <a:pt x="13802" y="3471"/>
                  <a:pt x="13791" y="3497"/>
                </a:cubicBezTo>
                <a:cubicBezTo>
                  <a:pt x="13785" y="3512"/>
                  <a:pt x="13724" y="3597"/>
                  <a:pt x="13767" y="3572"/>
                </a:cubicBezTo>
                <a:cubicBezTo>
                  <a:pt x="13791" y="3547"/>
                  <a:pt x="13799" y="3538"/>
                  <a:pt x="13816" y="3522"/>
                </a:cubicBezTo>
              </a:path>
              <a:path w="3027" h="918">
                <a:moveTo>
                  <a:pt x="14412" y="2927"/>
                </a:moveTo>
                <a:cubicBezTo>
                  <a:pt x="14382" y="2904"/>
                  <a:pt x="14350" y="2880"/>
                  <a:pt x="14312" y="2877"/>
                </a:cubicBezTo>
                <a:cubicBezTo>
                  <a:pt x="14235" y="2871"/>
                  <a:pt x="14206" y="2925"/>
                  <a:pt x="14163" y="2977"/>
                </a:cubicBezTo>
                <a:cubicBezTo>
                  <a:pt x="14109" y="3043"/>
                  <a:pt x="14093" y="3090"/>
                  <a:pt x="14089" y="3175"/>
                </a:cubicBezTo>
                <a:cubicBezTo>
                  <a:pt x="14086" y="3244"/>
                  <a:pt x="14125" y="3365"/>
                  <a:pt x="14163" y="3423"/>
                </a:cubicBezTo>
                <a:cubicBezTo>
                  <a:pt x="14213" y="3498"/>
                  <a:pt x="14256" y="3526"/>
                  <a:pt x="14263" y="3621"/>
                </a:cubicBezTo>
                <a:cubicBezTo>
                  <a:pt x="14267" y="3678"/>
                  <a:pt x="14246" y="3702"/>
                  <a:pt x="14188" y="3721"/>
                </a:cubicBezTo>
                <a:cubicBezTo>
                  <a:pt x="14139" y="3737"/>
                  <a:pt x="14075" y="3723"/>
                  <a:pt x="14039" y="3696"/>
                </a:cubicBezTo>
                <a:cubicBezTo>
                  <a:pt x="14054" y="3623"/>
                  <a:pt x="14103" y="3569"/>
                  <a:pt x="14163" y="3522"/>
                </a:cubicBezTo>
                <a:cubicBezTo>
                  <a:pt x="14242" y="3461"/>
                  <a:pt x="14335" y="3410"/>
                  <a:pt x="14412" y="3349"/>
                </a:cubicBezTo>
                <a:cubicBezTo>
                  <a:pt x="14465" y="3307"/>
                  <a:pt x="14499" y="3276"/>
                  <a:pt x="14536" y="3225"/>
                </a:cubicBezTo>
              </a:path>
              <a:path w="3027" h="918">
                <a:moveTo>
                  <a:pt x="14734" y="3101"/>
                </a:moveTo>
                <a:cubicBezTo>
                  <a:pt x="14755" y="3085"/>
                  <a:pt x="14809" y="3033"/>
                  <a:pt x="14833" y="3026"/>
                </a:cubicBezTo>
                <a:cubicBezTo>
                  <a:pt x="14865" y="3017"/>
                  <a:pt x="14947" y="2983"/>
                  <a:pt x="14982" y="3001"/>
                </a:cubicBezTo>
                <a:cubicBezTo>
                  <a:pt x="15040" y="3030"/>
                  <a:pt x="15002" y="3161"/>
                  <a:pt x="14982" y="3200"/>
                </a:cubicBezTo>
                <a:cubicBezTo>
                  <a:pt x="14928" y="3307"/>
                  <a:pt x="14859" y="3427"/>
                  <a:pt x="14833" y="3547"/>
                </a:cubicBezTo>
                <a:cubicBezTo>
                  <a:pt x="14823" y="3591"/>
                  <a:pt x="14833" y="3651"/>
                  <a:pt x="14833" y="3696"/>
                </a:cubicBezTo>
              </a:path>
              <a:path w="3027" h="918">
                <a:moveTo>
                  <a:pt x="15478" y="3125"/>
                </a:moveTo>
                <a:cubicBezTo>
                  <a:pt x="15455" y="3069"/>
                  <a:pt x="15439" y="2991"/>
                  <a:pt x="15354" y="3026"/>
                </a:cubicBezTo>
                <a:cubicBezTo>
                  <a:pt x="15315" y="3042"/>
                  <a:pt x="15219" y="3109"/>
                  <a:pt x="15205" y="3150"/>
                </a:cubicBezTo>
                <a:cubicBezTo>
                  <a:pt x="15181" y="3223"/>
                  <a:pt x="15214" y="3260"/>
                  <a:pt x="15255" y="3299"/>
                </a:cubicBezTo>
                <a:cubicBezTo>
                  <a:pt x="15333" y="3373"/>
                  <a:pt x="15405" y="3383"/>
                  <a:pt x="15503" y="3423"/>
                </a:cubicBezTo>
                <a:cubicBezTo>
                  <a:pt x="15553" y="3448"/>
                  <a:pt x="15569" y="3456"/>
                  <a:pt x="15577" y="3497"/>
                </a:cubicBezTo>
                <a:cubicBezTo>
                  <a:pt x="15577" y="3549"/>
                  <a:pt x="15567" y="3585"/>
                  <a:pt x="15503" y="3597"/>
                </a:cubicBezTo>
                <a:cubicBezTo>
                  <a:pt x="15418" y="3613"/>
                  <a:pt x="15324" y="3612"/>
                  <a:pt x="15280" y="3547"/>
                </a:cubicBezTo>
                <a:cubicBezTo>
                  <a:pt x="15219" y="3458"/>
                  <a:pt x="15280" y="3377"/>
                  <a:pt x="15329" y="3299"/>
                </a:cubicBezTo>
                <a:cubicBezTo>
                  <a:pt x="15393" y="3198"/>
                  <a:pt x="15474" y="3137"/>
                  <a:pt x="15577" y="3076"/>
                </a:cubicBezTo>
                <a:cubicBezTo>
                  <a:pt x="15594" y="3068"/>
                  <a:pt x="15610" y="3059"/>
                  <a:pt x="15627" y="30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61080" y="1000080"/>
            <a:ext cx="1046160" cy="519120"/>
          </a:xfrm>
          <a:custGeom>
            <a:avLst/>
            <a:gdLst/>
            <a:ahLst/>
            <a:rect l="l" t="t" r="r" b="b"/>
            <a:pathLst>
              <a:path w="2903" h="1440">
                <a:moveTo>
                  <a:pt x="18703" y="2803"/>
                </a:moveTo>
                <a:cubicBezTo>
                  <a:pt x="18671" y="2706"/>
                  <a:pt x="18630" y="2917"/>
                  <a:pt x="18628" y="2927"/>
                </a:cubicBezTo>
                <a:cubicBezTo>
                  <a:pt x="18588" y="3101"/>
                  <a:pt x="18522" y="3268"/>
                  <a:pt x="18504" y="3448"/>
                </a:cubicBezTo>
                <a:cubicBezTo>
                  <a:pt x="18498" y="3512"/>
                  <a:pt x="18504" y="3582"/>
                  <a:pt x="18504" y="3646"/>
                </a:cubicBezTo>
              </a:path>
              <a:path w="2903" h="1440">
                <a:moveTo>
                  <a:pt x="18554" y="3324"/>
                </a:moveTo>
                <a:cubicBezTo>
                  <a:pt x="18639" y="3324"/>
                  <a:pt x="18691" y="3284"/>
                  <a:pt x="18777" y="3274"/>
                </a:cubicBezTo>
                <a:cubicBezTo>
                  <a:pt x="18895" y="3260"/>
                  <a:pt x="18945" y="3256"/>
                  <a:pt x="19050" y="3200"/>
                </a:cubicBezTo>
              </a:path>
              <a:path w="2903" h="1440">
                <a:moveTo>
                  <a:pt x="19124" y="2902"/>
                </a:moveTo>
                <a:cubicBezTo>
                  <a:pt x="18996" y="3054"/>
                  <a:pt x="18980" y="3148"/>
                  <a:pt x="18976" y="3349"/>
                </a:cubicBezTo>
                <a:cubicBezTo>
                  <a:pt x="18973" y="3497"/>
                  <a:pt x="18986" y="3607"/>
                  <a:pt x="19075" y="3721"/>
                </a:cubicBezTo>
              </a:path>
              <a:path w="2903" h="1440">
                <a:moveTo>
                  <a:pt x="19943" y="3101"/>
                </a:moveTo>
                <a:cubicBezTo>
                  <a:pt x="19964" y="3004"/>
                  <a:pt x="19986" y="2938"/>
                  <a:pt x="19943" y="2853"/>
                </a:cubicBezTo>
                <a:cubicBezTo>
                  <a:pt x="19888" y="2744"/>
                  <a:pt x="19761" y="2836"/>
                  <a:pt x="19695" y="2902"/>
                </a:cubicBezTo>
                <a:cubicBezTo>
                  <a:pt x="19562" y="3035"/>
                  <a:pt x="19484" y="3262"/>
                  <a:pt x="19496" y="3448"/>
                </a:cubicBezTo>
                <a:cubicBezTo>
                  <a:pt x="19507" y="3617"/>
                  <a:pt x="19620" y="3683"/>
                  <a:pt x="19769" y="3721"/>
                </a:cubicBezTo>
                <a:cubicBezTo>
                  <a:pt x="19810" y="3729"/>
                  <a:pt x="19852" y="3738"/>
                  <a:pt x="19893" y="3746"/>
                </a:cubicBezTo>
              </a:path>
              <a:path w="2903" h="1440">
                <a:moveTo>
                  <a:pt x="20191" y="3746"/>
                </a:moveTo>
                <a:cubicBezTo>
                  <a:pt x="20183" y="3746"/>
                  <a:pt x="20174" y="3746"/>
                  <a:pt x="20166" y="3746"/>
                </a:cubicBezTo>
              </a:path>
              <a:path w="2903" h="1440">
                <a:moveTo>
                  <a:pt x="20191" y="3746"/>
                </a:moveTo>
                <a:cubicBezTo>
                  <a:pt x="20246" y="3690"/>
                  <a:pt x="20298" y="3665"/>
                  <a:pt x="20241" y="3671"/>
                </a:cubicBezTo>
                <a:cubicBezTo>
                  <a:pt x="20164" y="3693"/>
                  <a:pt x="20092" y="3763"/>
                  <a:pt x="20042" y="3845"/>
                </a:cubicBezTo>
                <a:cubicBezTo>
                  <a:pt x="19971" y="3962"/>
                  <a:pt x="19919" y="4033"/>
                  <a:pt x="19968" y="4167"/>
                </a:cubicBezTo>
                <a:cubicBezTo>
                  <a:pt x="20001" y="4257"/>
                  <a:pt x="20120" y="4219"/>
                  <a:pt x="20191" y="4192"/>
                </a:cubicBezTo>
                <a:cubicBezTo>
                  <a:pt x="20257" y="4167"/>
                  <a:pt x="20265" y="4131"/>
                  <a:pt x="20265" y="4068"/>
                </a:cubicBezTo>
                <a:cubicBezTo>
                  <a:pt x="20225" y="4068"/>
                  <a:pt x="20119" y="4071"/>
                  <a:pt x="20092" y="4093"/>
                </a:cubicBezTo>
                <a:cubicBezTo>
                  <a:pt x="20046" y="4131"/>
                  <a:pt x="20051" y="4160"/>
                  <a:pt x="20067" y="4192"/>
                </a:cubicBezTo>
              </a:path>
              <a:path w="2903" h="1440">
                <a:moveTo>
                  <a:pt x="20737" y="3994"/>
                </a:moveTo>
                <a:cubicBezTo>
                  <a:pt x="20670" y="3994"/>
                  <a:pt x="20754" y="3994"/>
                  <a:pt x="20762" y="3994"/>
                </a:cubicBezTo>
              </a:path>
              <a:path w="2903" h="1440">
                <a:moveTo>
                  <a:pt x="20960" y="3994"/>
                </a:moveTo>
                <a:cubicBezTo>
                  <a:pt x="21057" y="4034"/>
                  <a:pt x="21008" y="4003"/>
                  <a:pt x="21084" y="3969"/>
                </a:cubicBezTo>
                <a:cubicBezTo>
                  <a:pt x="21100" y="3962"/>
                  <a:pt x="21140" y="3969"/>
                  <a:pt x="21158" y="3969"/>
                </a:cubicBezTo>
              </a:path>
              <a:path w="2903" h="1440">
                <a:moveTo>
                  <a:pt x="21208" y="3994"/>
                </a:moveTo>
                <a:cubicBezTo>
                  <a:pt x="21274" y="3994"/>
                  <a:pt x="21340" y="3994"/>
                  <a:pt x="21406" y="39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30200" y="1633680"/>
            <a:ext cx="1482840" cy="581040"/>
          </a:xfrm>
          <a:custGeom>
            <a:avLst/>
            <a:gdLst/>
            <a:ahLst/>
            <a:rect l="l" t="t" r="r" b="b"/>
            <a:pathLst>
              <a:path w="4118" h="1614">
                <a:moveTo>
                  <a:pt x="3696" y="5407"/>
                </a:moveTo>
                <a:cubicBezTo>
                  <a:pt x="3760" y="5371"/>
                  <a:pt x="3795" y="5339"/>
                  <a:pt x="3870" y="5333"/>
                </a:cubicBezTo>
                <a:cubicBezTo>
                  <a:pt x="3948" y="5327"/>
                  <a:pt x="3963" y="5331"/>
                  <a:pt x="3969" y="5407"/>
                </a:cubicBezTo>
                <a:cubicBezTo>
                  <a:pt x="3974" y="5472"/>
                  <a:pt x="3962" y="5508"/>
                  <a:pt x="3919" y="5556"/>
                </a:cubicBezTo>
                <a:cubicBezTo>
                  <a:pt x="3889" y="5589"/>
                  <a:pt x="3878" y="5613"/>
                  <a:pt x="3870" y="5655"/>
                </a:cubicBezTo>
                <a:cubicBezTo>
                  <a:pt x="3912" y="5666"/>
                  <a:pt x="3959" y="5676"/>
                  <a:pt x="3994" y="5705"/>
                </a:cubicBezTo>
                <a:cubicBezTo>
                  <a:pt x="4045" y="5746"/>
                  <a:pt x="4011" y="5804"/>
                  <a:pt x="3994" y="5854"/>
                </a:cubicBezTo>
                <a:cubicBezTo>
                  <a:pt x="3963" y="5943"/>
                  <a:pt x="3936" y="5986"/>
                  <a:pt x="3870" y="6052"/>
                </a:cubicBezTo>
              </a:path>
              <a:path w="4118" h="1614">
                <a:moveTo>
                  <a:pt x="4316" y="5234"/>
                </a:moveTo>
                <a:cubicBezTo>
                  <a:pt x="4399" y="5210"/>
                  <a:pt x="4378" y="5253"/>
                  <a:pt x="4465" y="5259"/>
                </a:cubicBezTo>
                <a:cubicBezTo>
                  <a:pt x="4530" y="5263"/>
                  <a:pt x="4594" y="5245"/>
                  <a:pt x="4638" y="5308"/>
                </a:cubicBezTo>
                <a:cubicBezTo>
                  <a:pt x="4694" y="5386"/>
                  <a:pt x="4657" y="5498"/>
                  <a:pt x="4638" y="5581"/>
                </a:cubicBezTo>
                <a:cubicBezTo>
                  <a:pt x="4614" y="5690"/>
                  <a:pt x="4562" y="5798"/>
                  <a:pt x="4539" y="5904"/>
                </a:cubicBezTo>
                <a:cubicBezTo>
                  <a:pt x="4539" y="5920"/>
                  <a:pt x="4539" y="5937"/>
                  <a:pt x="4539" y="5953"/>
                </a:cubicBezTo>
              </a:path>
              <a:path w="4118" h="1614">
                <a:moveTo>
                  <a:pt x="4812" y="5730"/>
                </a:moveTo>
                <a:cubicBezTo>
                  <a:pt x="4837" y="5730"/>
                  <a:pt x="4845" y="5730"/>
                  <a:pt x="4837" y="5755"/>
                </a:cubicBezTo>
              </a:path>
              <a:path w="4118" h="1614">
                <a:moveTo>
                  <a:pt x="5259" y="5060"/>
                </a:moveTo>
                <a:cubicBezTo>
                  <a:pt x="5191" y="5161"/>
                  <a:pt x="5087" y="5287"/>
                  <a:pt x="5060" y="5407"/>
                </a:cubicBezTo>
                <a:cubicBezTo>
                  <a:pt x="5041" y="5491"/>
                  <a:pt x="5046" y="5657"/>
                  <a:pt x="5135" y="5705"/>
                </a:cubicBezTo>
                <a:cubicBezTo>
                  <a:pt x="5186" y="5732"/>
                  <a:pt x="5342" y="5691"/>
                  <a:pt x="5383" y="5655"/>
                </a:cubicBezTo>
                <a:cubicBezTo>
                  <a:pt x="5404" y="5612"/>
                  <a:pt x="5408" y="5600"/>
                  <a:pt x="5432" y="5581"/>
                </a:cubicBezTo>
                <a:cubicBezTo>
                  <a:pt x="5375" y="5523"/>
                  <a:pt x="5337" y="5514"/>
                  <a:pt x="5259" y="5556"/>
                </a:cubicBezTo>
                <a:cubicBezTo>
                  <a:pt x="5206" y="5585"/>
                  <a:pt x="5079" y="5677"/>
                  <a:pt x="5085" y="5755"/>
                </a:cubicBezTo>
                <a:cubicBezTo>
                  <a:pt x="5093" y="5763"/>
                  <a:pt x="5102" y="5771"/>
                  <a:pt x="5110" y="5779"/>
                </a:cubicBezTo>
              </a:path>
              <a:path w="4118" h="1614">
                <a:moveTo>
                  <a:pt x="5904" y="5135"/>
                </a:moveTo>
                <a:cubicBezTo>
                  <a:pt x="5787" y="5144"/>
                  <a:pt x="5740" y="5153"/>
                  <a:pt x="5680" y="5259"/>
                </a:cubicBezTo>
                <a:cubicBezTo>
                  <a:pt x="5645" y="5322"/>
                  <a:pt x="5641" y="5394"/>
                  <a:pt x="5680" y="5457"/>
                </a:cubicBezTo>
                <a:cubicBezTo>
                  <a:pt x="5712" y="5509"/>
                  <a:pt x="5778" y="5533"/>
                  <a:pt x="5804" y="5581"/>
                </a:cubicBezTo>
                <a:cubicBezTo>
                  <a:pt x="5819" y="5609"/>
                  <a:pt x="5797" y="5688"/>
                  <a:pt x="5779" y="5705"/>
                </a:cubicBezTo>
                <a:cubicBezTo>
                  <a:pt x="5733" y="5748"/>
                  <a:pt x="5690" y="5755"/>
                  <a:pt x="5631" y="5755"/>
                </a:cubicBezTo>
                <a:cubicBezTo>
                  <a:pt x="5659" y="5684"/>
                  <a:pt x="5733" y="5576"/>
                  <a:pt x="5779" y="5507"/>
                </a:cubicBezTo>
                <a:cubicBezTo>
                  <a:pt x="5865" y="5375"/>
                  <a:pt x="5950" y="5247"/>
                  <a:pt x="6028" y="5110"/>
                </a:cubicBezTo>
              </a:path>
              <a:path w="4118" h="1614">
                <a:moveTo>
                  <a:pt x="6499" y="4539"/>
                </a:moveTo>
                <a:cubicBezTo>
                  <a:pt x="6460" y="4664"/>
                  <a:pt x="6432" y="4782"/>
                  <a:pt x="6400" y="4911"/>
                </a:cubicBezTo>
                <a:cubicBezTo>
                  <a:pt x="6321" y="5227"/>
                  <a:pt x="6212" y="5554"/>
                  <a:pt x="6176" y="5879"/>
                </a:cubicBezTo>
                <a:cubicBezTo>
                  <a:pt x="6170" y="5934"/>
                  <a:pt x="6144" y="6117"/>
                  <a:pt x="6201" y="6152"/>
                </a:cubicBezTo>
                <a:cubicBezTo>
                  <a:pt x="6209" y="6152"/>
                  <a:pt x="6218" y="6152"/>
                  <a:pt x="6226" y="6152"/>
                </a:cubicBezTo>
              </a:path>
              <a:path w="4118" h="1614">
                <a:moveTo>
                  <a:pt x="6747" y="5308"/>
                </a:moveTo>
                <a:cubicBezTo>
                  <a:pt x="6747" y="5390"/>
                  <a:pt x="6740" y="5477"/>
                  <a:pt x="6722" y="5556"/>
                </a:cubicBezTo>
                <a:cubicBezTo>
                  <a:pt x="6704" y="5638"/>
                  <a:pt x="6666" y="5769"/>
                  <a:pt x="6697" y="5854"/>
                </a:cubicBezTo>
                <a:cubicBezTo>
                  <a:pt x="6705" y="5862"/>
                  <a:pt x="6714" y="5871"/>
                  <a:pt x="6722" y="5879"/>
                </a:cubicBezTo>
              </a:path>
              <a:path w="4118" h="1614">
                <a:moveTo>
                  <a:pt x="7243" y="5259"/>
                </a:moveTo>
                <a:cubicBezTo>
                  <a:pt x="7251" y="5251"/>
                  <a:pt x="7260" y="5242"/>
                  <a:pt x="7268" y="5234"/>
                </a:cubicBezTo>
                <a:cubicBezTo>
                  <a:pt x="7199" y="5234"/>
                  <a:pt x="7202" y="5229"/>
                  <a:pt x="7144" y="5283"/>
                </a:cubicBezTo>
                <a:cubicBezTo>
                  <a:pt x="7083" y="5340"/>
                  <a:pt x="7020" y="5400"/>
                  <a:pt x="6995" y="5482"/>
                </a:cubicBezTo>
                <a:cubicBezTo>
                  <a:pt x="6968" y="5569"/>
                  <a:pt x="7015" y="5562"/>
                  <a:pt x="7069" y="5581"/>
                </a:cubicBezTo>
                <a:cubicBezTo>
                  <a:pt x="7103" y="5593"/>
                  <a:pt x="7204" y="5616"/>
                  <a:pt x="7218" y="5655"/>
                </a:cubicBezTo>
                <a:cubicBezTo>
                  <a:pt x="7243" y="5724"/>
                  <a:pt x="7203" y="5844"/>
                  <a:pt x="7169" y="5904"/>
                </a:cubicBezTo>
                <a:cubicBezTo>
                  <a:pt x="7144" y="5928"/>
                  <a:pt x="7135" y="5936"/>
                  <a:pt x="7119" y="5953"/>
                </a:cubicBezTo>
              </a:path>
              <a:path w="4118" h="1614">
                <a:moveTo>
                  <a:pt x="7144" y="5259"/>
                </a:moveTo>
                <a:cubicBezTo>
                  <a:pt x="7219" y="5215"/>
                  <a:pt x="7252" y="5209"/>
                  <a:pt x="7342" y="5209"/>
                </a:cubicBezTo>
                <a:cubicBezTo>
                  <a:pt x="7447" y="5209"/>
                  <a:pt x="7517" y="5155"/>
                  <a:pt x="7615" y="5135"/>
                </a:cubicBezTo>
                <a:cubicBezTo>
                  <a:pt x="7656" y="5135"/>
                  <a:pt x="7664" y="5135"/>
                  <a:pt x="7689" y="5135"/>
                </a:cubicBezTo>
                <a:cubicBezTo>
                  <a:pt x="7643" y="5228"/>
                  <a:pt x="7593" y="5334"/>
                  <a:pt x="7565" y="5432"/>
                </a:cubicBezTo>
                <a:cubicBezTo>
                  <a:pt x="7529" y="5556"/>
                  <a:pt x="7523" y="5707"/>
                  <a:pt x="7565" y="5829"/>
                </a:cubicBezTo>
                <a:cubicBezTo>
                  <a:pt x="7584" y="5884"/>
                  <a:pt x="7671" y="5979"/>
                  <a:pt x="7739" y="5928"/>
                </a:cubicBezTo>
                <a:cubicBezTo>
                  <a:pt x="7761" y="5912"/>
                  <a:pt x="7824" y="5807"/>
                  <a:pt x="7813" y="5779"/>
                </a:cubicBezTo>
                <a:cubicBezTo>
                  <a:pt x="7797" y="5737"/>
                  <a:pt x="7730" y="5713"/>
                  <a:pt x="7689" y="5730"/>
                </a:cubicBezTo>
                <a:cubicBezTo>
                  <a:pt x="7657" y="5743"/>
                  <a:pt x="7636" y="5803"/>
                  <a:pt x="7615" y="58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90880" y="1758960"/>
            <a:ext cx="268200" cy="571320"/>
          </a:xfrm>
          <a:custGeom>
            <a:avLst/>
            <a:gdLst/>
            <a:ahLst/>
            <a:rect l="l" t="t" r="r" b="b"/>
            <a:pathLst>
              <a:path w="745" h="1588">
                <a:moveTo>
                  <a:pt x="8806" y="4936"/>
                </a:moveTo>
                <a:cubicBezTo>
                  <a:pt x="8822" y="4920"/>
                  <a:pt x="8839" y="4903"/>
                  <a:pt x="8855" y="4887"/>
                </a:cubicBezTo>
                <a:cubicBezTo>
                  <a:pt x="8824" y="4981"/>
                  <a:pt x="8796" y="5092"/>
                  <a:pt x="8756" y="5184"/>
                </a:cubicBezTo>
                <a:cubicBezTo>
                  <a:pt x="8650" y="5430"/>
                  <a:pt x="8558" y="5679"/>
                  <a:pt x="8458" y="5928"/>
                </a:cubicBezTo>
                <a:cubicBezTo>
                  <a:pt x="8414" y="6038"/>
                  <a:pt x="8259" y="6292"/>
                  <a:pt x="8310" y="6424"/>
                </a:cubicBezTo>
                <a:cubicBezTo>
                  <a:pt x="8310" y="6459"/>
                  <a:pt x="8319" y="6472"/>
                  <a:pt x="8359" y="6474"/>
                </a:cubicBezTo>
              </a:path>
              <a:path w="745" h="1588">
                <a:moveTo>
                  <a:pt x="8979" y="6003"/>
                </a:moveTo>
                <a:cubicBezTo>
                  <a:pt x="8971" y="6011"/>
                  <a:pt x="8962" y="6020"/>
                  <a:pt x="8954" y="6028"/>
                </a:cubicBezTo>
                <a:cubicBezTo>
                  <a:pt x="8993" y="5989"/>
                  <a:pt x="9041" y="5955"/>
                  <a:pt x="9054" y="5904"/>
                </a:cubicBezTo>
                <a:cubicBezTo>
                  <a:pt x="9017" y="5913"/>
                  <a:pt x="8992" y="5940"/>
                  <a:pt x="8979" y="5978"/>
                </a:cubicBezTo>
                <a:cubicBezTo>
                  <a:pt x="8979" y="5986"/>
                  <a:pt x="8979" y="5995"/>
                  <a:pt x="8979" y="60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1893960"/>
            <a:ext cx="152280" cy="249120"/>
          </a:xfrm>
          <a:custGeom>
            <a:avLst/>
            <a:gdLst/>
            <a:ahLst/>
            <a:rect l="l" t="t" r="r" b="b"/>
            <a:pathLst>
              <a:path w="423" h="695">
                <a:moveTo>
                  <a:pt x="9575" y="5308"/>
                </a:moveTo>
                <a:cubicBezTo>
                  <a:pt x="9641" y="5251"/>
                  <a:pt x="9651" y="5248"/>
                  <a:pt x="9723" y="5308"/>
                </a:cubicBezTo>
                <a:cubicBezTo>
                  <a:pt x="9815" y="5384"/>
                  <a:pt x="9843" y="5468"/>
                  <a:pt x="9847" y="5581"/>
                </a:cubicBezTo>
                <a:cubicBezTo>
                  <a:pt x="9852" y="5719"/>
                  <a:pt x="9844" y="5778"/>
                  <a:pt x="9748" y="5879"/>
                </a:cubicBezTo>
                <a:cubicBezTo>
                  <a:pt x="9700" y="5930"/>
                  <a:pt x="9627" y="5983"/>
                  <a:pt x="9550" y="5953"/>
                </a:cubicBezTo>
                <a:cubicBezTo>
                  <a:pt x="9525" y="5928"/>
                  <a:pt x="9517" y="5920"/>
                  <a:pt x="9500" y="5904"/>
                </a:cubicBezTo>
                <a:cubicBezTo>
                  <a:pt x="9556" y="5859"/>
                  <a:pt x="9626" y="5837"/>
                  <a:pt x="9699" y="5829"/>
                </a:cubicBezTo>
                <a:cubicBezTo>
                  <a:pt x="9771" y="5821"/>
                  <a:pt x="9849" y="5829"/>
                  <a:pt x="9922" y="58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30760" y="1874880"/>
            <a:ext cx="125280" cy="268200"/>
          </a:xfrm>
          <a:custGeom>
            <a:avLst/>
            <a:gdLst/>
            <a:ahLst/>
            <a:rect l="l" t="t" r="r" b="b"/>
            <a:pathLst>
              <a:path w="348" h="745">
                <a:moveTo>
                  <a:pt x="10691" y="5259"/>
                </a:moveTo>
                <a:cubicBezTo>
                  <a:pt x="10691" y="5234"/>
                  <a:pt x="10691" y="5226"/>
                  <a:pt x="10691" y="5209"/>
                </a:cubicBezTo>
                <a:cubicBezTo>
                  <a:pt x="10735" y="5224"/>
                  <a:pt x="10716" y="5280"/>
                  <a:pt x="10716" y="5333"/>
                </a:cubicBezTo>
                <a:cubicBezTo>
                  <a:pt x="10716" y="5475"/>
                  <a:pt x="10691" y="5640"/>
                  <a:pt x="10666" y="5779"/>
                </a:cubicBezTo>
                <a:cubicBezTo>
                  <a:pt x="10654" y="5844"/>
                  <a:pt x="10641" y="5885"/>
                  <a:pt x="10641" y="5953"/>
                </a:cubicBezTo>
                <a:cubicBezTo>
                  <a:pt x="10718" y="5953"/>
                  <a:pt x="10726" y="5912"/>
                  <a:pt x="10790" y="5879"/>
                </a:cubicBezTo>
                <a:cubicBezTo>
                  <a:pt x="10860" y="5843"/>
                  <a:pt x="10916" y="5812"/>
                  <a:pt x="10988" y="57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53000" y="1731960"/>
            <a:ext cx="1562040" cy="376200"/>
          </a:xfrm>
          <a:custGeom>
            <a:avLst/>
            <a:gdLst/>
            <a:ahLst/>
            <a:rect l="l" t="t" r="r" b="b"/>
            <a:pathLst>
              <a:path w="4342" h="1043">
                <a:moveTo>
                  <a:pt x="12923" y="5333"/>
                </a:moveTo>
                <a:cubicBezTo>
                  <a:pt x="12953" y="5355"/>
                  <a:pt x="12984" y="5380"/>
                  <a:pt x="13022" y="5383"/>
                </a:cubicBezTo>
                <a:cubicBezTo>
                  <a:pt x="13079" y="5387"/>
                  <a:pt x="13138" y="5383"/>
                  <a:pt x="13196" y="5383"/>
                </a:cubicBezTo>
              </a:path>
              <a:path w="4342" h="1043">
                <a:moveTo>
                  <a:pt x="13072" y="5581"/>
                </a:moveTo>
                <a:cubicBezTo>
                  <a:pt x="13052" y="5621"/>
                  <a:pt x="13043" y="5628"/>
                  <a:pt x="13047" y="5655"/>
                </a:cubicBezTo>
                <a:cubicBezTo>
                  <a:pt x="13121" y="5641"/>
                  <a:pt x="13198" y="5606"/>
                  <a:pt x="13271" y="5581"/>
                </a:cubicBezTo>
                <a:cubicBezTo>
                  <a:pt x="13296" y="5573"/>
                  <a:pt x="13320" y="5564"/>
                  <a:pt x="13345" y="5556"/>
                </a:cubicBezTo>
              </a:path>
              <a:path w="4342" h="1043">
                <a:moveTo>
                  <a:pt x="16197" y="5110"/>
                </a:moveTo>
                <a:cubicBezTo>
                  <a:pt x="16187" y="5190"/>
                  <a:pt x="16150" y="5255"/>
                  <a:pt x="16123" y="5333"/>
                </a:cubicBezTo>
                <a:cubicBezTo>
                  <a:pt x="16094" y="5416"/>
                  <a:pt x="16059" y="5496"/>
                  <a:pt x="16049" y="5581"/>
                </a:cubicBezTo>
                <a:cubicBezTo>
                  <a:pt x="16071" y="5512"/>
                  <a:pt x="16082" y="5492"/>
                  <a:pt x="16123" y="5432"/>
                </a:cubicBezTo>
                <a:cubicBezTo>
                  <a:pt x="16217" y="5294"/>
                  <a:pt x="16314" y="5161"/>
                  <a:pt x="16446" y="5060"/>
                </a:cubicBezTo>
                <a:cubicBezTo>
                  <a:pt x="16511" y="5017"/>
                  <a:pt x="16526" y="5006"/>
                  <a:pt x="16570" y="4986"/>
                </a:cubicBezTo>
                <a:cubicBezTo>
                  <a:pt x="16641" y="5095"/>
                  <a:pt x="16619" y="5182"/>
                  <a:pt x="16594" y="5308"/>
                </a:cubicBezTo>
                <a:cubicBezTo>
                  <a:pt x="16575" y="5404"/>
                  <a:pt x="16519" y="5496"/>
                  <a:pt x="16570" y="5581"/>
                </a:cubicBezTo>
                <a:cubicBezTo>
                  <a:pt x="16667" y="5511"/>
                  <a:pt x="16735" y="5436"/>
                  <a:pt x="16818" y="5333"/>
                </a:cubicBezTo>
                <a:cubicBezTo>
                  <a:pt x="16917" y="5211"/>
                  <a:pt x="17018" y="5061"/>
                  <a:pt x="17140" y="4961"/>
                </a:cubicBezTo>
                <a:cubicBezTo>
                  <a:pt x="17180" y="4941"/>
                  <a:pt x="17187" y="4932"/>
                  <a:pt x="17214" y="4936"/>
                </a:cubicBezTo>
                <a:cubicBezTo>
                  <a:pt x="17214" y="5051"/>
                  <a:pt x="17176" y="5147"/>
                  <a:pt x="17165" y="5259"/>
                </a:cubicBezTo>
                <a:cubicBezTo>
                  <a:pt x="17150" y="5416"/>
                  <a:pt x="17147" y="5487"/>
                  <a:pt x="17264" y="5581"/>
                </a:cubicBezTo>
              </a:path>
              <a:path w="4342" h="1043">
                <a:moveTo>
                  <a:pt x="13891" y="5655"/>
                </a:moveTo>
                <a:cubicBezTo>
                  <a:pt x="13825" y="5655"/>
                  <a:pt x="13851" y="5667"/>
                  <a:pt x="13891" y="5631"/>
                </a:cubicBezTo>
                <a:cubicBezTo>
                  <a:pt x="13899" y="5623"/>
                  <a:pt x="13907" y="5614"/>
                  <a:pt x="13915" y="5606"/>
                </a:cubicBezTo>
                <a:cubicBezTo>
                  <a:pt x="13902" y="5646"/>
                  <a:pt x="13904" y="5616"/>
                  <a:pt x="13891" y="5655"/>
                </a:cubicBezTo>
                <a:cubicBezTo>
                  <a:pt x="13899" y="5647"/>
                  <a:pt x="13975" y="5553"/>
                  <a:pt x="13965" y="5556"/>
                </a:cubicBezTo>
                <a:cubicBezTo>
                  <a:pt x="13957" y="5564"/>
                  <a:pt x="13948" y="5573"/>
                  <a:pt x="13940" y="5581"/>
                </a:cubicBezTo>
              </a:path>
              <a:path w="4342" h="1043">
                <a:moveTo>
                  <a:pt x="13816" y="4887"/>
                </a:moveTo>
                <a:cubicBezTo>
                  <a:pt x="13838" y="4858"/>
                  <a:pt x="13899" y="4828"/>
                  <a:pt x="13866" y="4812"/>
                </a:cubicBezTo>
                <a:cubicBezTo>
                  <a:pt x="13842" y="4800"/>
                  <a:pt x="13801" y="4959"/>
                  <a:pt x="13791" y="4986"/>
                </a:cubicBezTo>
                <a:cubicBezTo>
                  <a:pt x="13731" y="5141"/>
                  <a:pt x="13709" y="5297"/>
                  <a:pt x="13667" y="5457"/>
                </a:cubicBezTo>
                <a:cubicBezTo>
                  <a:pt x="13649" y="5527"/>
                  <a:pt x="13643" y="5583"/>
                  <a:pt x="13643" y="5655"/>
                </a:cubicBezTo>
              </a:path>
              <a:path w="4342" h="1043">
                <a:moveTo>
                  <a:pt x="14486" y="4936"/>
                </a:moveTo>
                <a:cubicBezTo>
                  <a:pt x="14545" y="4936"/>
                  <a:pt x="14572" y="4958"/>
                  <a:pt x="14610" y="5011"/>
                </a:cubicBezTo>
                <a:cubicBezTo>
                  <a:pt x="14666" y="5090"/>
                  <a:pt x="14676" y="5215"/>
                  <a:pt x="14660" y="5308"/>
                </a:cubicBezTo>
                <a:cubicBezTo>
                  <a:pt x="14643" y="5407"/>
                  <a:pt x="14593" y="5497"/>
                  <a:pt x="14511" y="5556"/>
                </a:cubicBezTo>
                <a:cubicBezTo>
                  <a:pt x="14458" y="5594"/>
                  <a:pt x="14384" y="5594"/>
                  <a:pt x="14337" y="5556"/>
                </a:cubicBezTo>
                <a:cubicBezTo>
                  <a:pt x="14290" y="5519"/>
                  <a:pt x="14318" y="5463"/>
                  <a:pt x="14362" y="5432"/>
                </a:cubicBezTo>
                <a:cubicBezTo>
                  <a:pt x="14425" y="5387"/>
                  <a:pt x="14496" y="5404"/>
                  <a:pt x="14560" y="5432"/>
                </a:cubicBezTo>
                <a:cubicBezTo>
                  <a:pt x="14622" y="5460"/>
                  <a:pt x="14677" y="5497"/>
                  <a:pt x="14734" y="5531"/>
                </a:cubicBezTo>
                <a:cubicBezTo>
                  <a:pt x="14751" y="5539"/>
                  <a:pt x="14767" y="5548"/>
                  <a:pt x="14784" y="5556"/>
                </a:cubicBezTo>
              </a:path>
              <a:path w="4342" h="1043">
                <a:moveTo>
                  <a:pt x="15081" y="4887"/>
                </a:moveTo>
                <a:cubicBezTo>
                  <a:pt x="15056" y="4903"/>
                  <a:pt x="15015" y="5008"/>
                  <a:pt x="15007" y="5060"/>
                </a:cubicBezTo>
                <a:cubicBezTo>
                  <a:pt x="14979" y="5241"/>
                  <a:pt x="15007" y="5447"/>
                  <a:pt x="15007" y="5631"/>
                </a:cubicBezTo>
              </a:path>
              <a:path w="4342" h="1043">
                <a:moveTo>
                  <a:pt x="15701" y="4986"/>
                </a:moveTo>
                <a:cubicBezTo>
                  <a:pt x="15603" y="4943"/>
                  <a:pt x="15591" y="4971"/>
                  <a:pt x="15503" y="5011"/>
                </a:cubicBezTo>
                <a:cubicBezTo>
                  <a:pt x="15402" y="5057"/>
                  <a:pt x="15340" y="5096"/>
                  <a:pt x="15304" y="5209"/>
                </a:cubicBezTo>
                <a:cubicBezTo>
                  <a:pt x="15304" y="5242"/>
                  <a:pt x="15304" y="5258"/>
                  <a:pt x="15304" y="5283"/>
                </a:cubicBezTo>
                <a:cubicBezTo>
                  <a:pt x="15394" y="5283"/>
                  <a:pt x="15435" y="5270"/>
                  <a:pt x="15503" y="5209"/>
                </a:cubicBezTo>
                <a:cubicBezTo>
                  <a:pt x="15558" y="5160"/>
                  <a:pt x="15619" y="5111"/>
                  <a:pt x="15627" y="5035"/>
                </a:cubicBezTo>
                <a:cubicBezTo>
                  <a:pt x="15627" y="5027"/>
                  <a:pt x="15627" y="5019"/>
                  <a:pt x="15627" y="5011"/>
                </a:cubicBezTo>
                <a:cubicBezTo>
                  <a:pt x="15610" y="5093"/>
                  <a:pt x="15572" y="5174"/>
                  <a:pt x="15553" y="5259"/>
                </a:cubicBezTo>
                <a:cubicBezTo>
                  <a:pt x="15517" y="5419"/>
                  <a:pt x="15528" y="5572"/>
                  <a:pt x="15503" y="5730"/>
                </a:cubicBezTo>
                <a:cubicBezTo>
                  <a:pt x="15481" y="5795"/>
                  <a:pt x="15473" y="5810"/>
                  <a:pt x="15478" y="58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70800" y="1785960"/>
            <a:ext cx="822240" cy="411120"/>
          </a:xfrm>
          <a:custGeom>
            <a:avLst/>
            <a:gdLst/>
            <a:ahLst/>
            <a:rect l="l" t="t" r="r" b="b"/>
            <a:pathLst>
              <a:path w="2283" h="1142">
                <a:moveTo>
                  <a:pt x="18876" y="5060"/>
                </a:moveTo>
                <a:cubicBezTo>
                  <a:pt x="18876" y="5011"/>
                  <a:pt x="18891" y="4975"/>
                  <a:pt x="18852" y="4961"/>
                </a:cubicBezTo>
                <a:cubicBezTo>
                  <a:pt x="18777" y="4982"/>
                  <a:pt x="18697" y="5077"/>
                  <a:pt x="18653" y="5159"/>
                </a:cubicBezTo>
                <a:cubicBezTo>
                  <a:pt x="18580" y="5296"/>
                  <a:pt x="18509" y="5497"/>
                  <a:pt x="18529" y="5655"/>
                </a:cubicBezTo>
                <a:cubicBezTo>
                  <a:pt x="18544" y="5777"/>
                  <a:pt x="18656" y="5771"/>
                  <a:pt x="18752" y="5779"/>
                </a:cubicBezTo>
              </a:path>
              <a:path w="2283" h="1142">
                <a:moveTo>
                  <a:pt x="19224" y="5482"/>
                </a:moveTo>
                <a:cubicBezTo>
                  <a:pt x="19154" y="5538"/>
                  <a:pt x="19112" y="5563"/>
                  <a:pt x="19050" y="5631"/>
                </a:cubicBezTo>
                <a:cubicBezTo>
                  <a:pt x="18969" y="5721"/>
                  <a:pt x="18951" y="5759"/>
                  <a:pt x="18951" y="5879"/>
                </a:cubicBezTo>
                <a:cubicBezTo>
                  <a:pt x="18951" y="5967"/>
                  <a:pt x="19032" y="5980"/>
                  <a:pt x="19100" y="5953"/>
                </a:cubicBezTo>
                <a:cubicBezTo>
                  <a:pt x="19165" y="5927"/>
                  <a:pt x="19223" y="5870"/>
                  <a:pt x="19248" y="5804"/>
                </a:cubicBezTo>
                <a:cubicBezTo>
                  <a:pt x="19248" y="5779"/>
                  <a:pt x="19248" y="5771"/>
                  <a:pt x="19248" y="5755"/>
                </a:cubicBezTo>
                <a:cubicBezTo>
                  <a:pt x="19178" y="5755"/>
                  <a:pt x="19117" y="5758"/>
                  <a:pt x="19075" y="5829"/>
                </a:cubicBezTo>
                <a:cubicBezTo>
                  <a:pt x="19040" y="5889"/>
                  <a:pt x="19000" y="6008"/>
                  <a:pt x="19025" y="6077"/>
                </a:cubicBezTo>
                <a:cubicBezTo>
                  <a:pt x="19033" y="6085"/>
                  <a:pt x="19042" y="6094"/>
                  <a:pt x="19050" y="6102"/>
                </a:cubicBezTo>
              </a:path>
              <a:path w="2283" h="1142">
                <a:moveTo>
                  <a:pt x="19819" y="5680"/>
                </a:moveTo>
                <a:cubicBezTo>
                  <a:pt x="19762" y="5717"/>
                  <a:pt x="19596" y="5732"/>
                  <a:pt x="19645" y="5779"/>
                </a:cubicBezTo>
                <a:cubicBezTo>
                  <a:pt x="19653" y="5779"/>
                  <a:pt x="19662" y="5779"/>
                  <a:pt x="19670" y="5779"/>
                </a:cubicBezTo>
              </a:path>
              <a:path w="2283" h="1142">
                <a:moveTo>
                  <a:pt x="19918" y="5779"/>
                </a:moveTo>
                <a:cubicBezTo>
                  <a:pt x="19872" y="5810"/>
                  <a:pt x="19889" y="5788"/>
                  <a:pt x="19943" y="5779"/>
                </a:cubicBezTo>
              </a:path>
              <a:path w="2283" h="1142">
                <a:moveTo>
                  <a:pt x="20265" y="5705"/>
                </a:moveTo>
                <a:cubicBezTo>
                  <a:pt x="20265" y="5747"/>
                  <a:pt x="20257" y="5763"/>
                  <a:pt x="20290" y="5755"/>
                </a:cubicBezTo>
              </a:path>
              <a:path w="2283" h="1142">
                <a:moveTo>
                  <a:pt x="20638" y="5730"/>
                </a:moveTo>
                <a:cubicBezTo>
                  <a:pt x="20669" y="5777"/>
                  <a:pt x="20693" y="5801"/>
                  <a:pt x="20762" y="5779"/>
                </a:cubicBezTo>
                <a:cubicBezTo>
                  <a:pt x="20778" y="5771"/>
                  <a:pt x="20795" y="5763"/>
                  <a:pt x="20811" y="57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1240" y="2473200"/>
            <a:ext cx="1893960" cy="689040"/>
          </a:xfrm>
          <a:custGeom>
            <a:avLst/>
            <a:gdLst/>
            <a:ahLst/>
            <a:rect l="l" t="t" r="r" b="b"/>
            <a:pathLst>
              <a:path w="5259" h="1911">
                <a:moveTo>
                  <a:pt x="2877" y="7541"/>
                </a:moveTo>
                <a:cubicBezTo>
                  <a:pt x="2855" y="7518"/>
                  <a:pt x="2850" y="7510"/>
                  <a:pt x="2828" y="7516"/>
                </a:cubicBezTo>
                <a:cubicBezTo>
                  <a:pt x="2828" y="7668"/>
                  <a:pt x="2838" y="7813"/>
                  <a:pt x="2853" y="7962"/>
                </a:cubicBezTo>
                <a:cubicBezTo>
                  <a:pt x="2862" y="8054"/>
                  <a:pt x="2895" y="8156"/>
                  <a:pt x="3001" y="8186"/>
                </a:cubicBezTo>
                <a:cubicBezTo>
                  <a:pt x="3067" y="8204"/>
                  <a:pt x="3138" y="8176"/>
                  <a:pt x="3200" y="8161"/>
                </a:cubicBezTo>
              </a:path>
              <a:path w="5259" h="1911">
                <a:moveTo>
                  <a:pt x="2753" y="7119"/>
                </a:moveTo>
                <a:cubicBezTo>
                  <a:pt x="2718" y="7092"/>
                  <a:pt x="2723" y="7094"/>
                  <a:pt x="2679" y="7094"/>
                </a:cubicBezTo>
              </a:path>
              <a:path w="5259" h="1911">
                <a:moveTo>
                  <a:pt x="2282" y="7938"/>
                </a:moveTo>
                <a:cubicBezTo>
                  <a:pt x="2275" y="7915"/>
                  <a:pt x="2249" y="7772"/>
                  <a:pt x="2183" y="7838"/>
                </a:cubicBezTo>
                <a:cubicBezTo>
                  <a:pt x="2122" y="7899"/>
                  <a:pt x="2075" y="8000"/>
                  <a:pt x="2059" y="8086"/>
                </a:cubicBezTo>
                <a:cubicBezTo>
                  <a:pt x="2049" y="8140"/>
                  <a:pt x="2059" y="8170"/>
                  <a:pt x="2084" y="8210"/>
                </a:cubicBezTo>
                <a:cubicBezTo>
                  <a:pt x="2147" y="8198"/>
                  <a:pt x="2186" y="8177"/>
                  <a:pt x="2208" y="8111"/>
                </a:cubicBezTo>
                <a:cubicBezTo>
                  <a:pt x="2208" y="8103"/>
                  <a:pt x="2208" y="8094"/>
                  <a:pt x="2208" y="8086"/>
                </a:cubicBezTo>
                <a:cubicBezTo>
                  <a:pt x="2226" y="8117"/>
                  <a:pt x="2242" y="8215"/>
                  <a:pt x="2282" y="8235"/>
                </a:cubicBezTo>
                <a:cubicBezTo>
                  <a:pt x="2299" y="8235"/>
                  <a:pt x="2315" y="8235"/>
                  <a:pt x="2332" y="8235"/>
                </a:cubicBezTo>
              </a:path>
              <a:path w="5259" h="1911">
                <a:moveTo>
                  <a:pt x="2059" y="7193"/>
                </a:moveTo>
                <a:cubicBezTo>
                  <a:pt x="2135" y="7215"/>
                  <a:pt x="2127" y="7237"/>
                  <a:pt x="2183" y="7317"/>
                </a:cubicBezTo>
                <a:cubicBezTo>
                  <a:pt x="2318" y="7508"/>
                  <a:pt x="2366" y="7755"/>
                  <a:pt x="2381" y="7987"/>
                </a:cubicBezTo>
                <a:cubicBezTo>
                  <a:pt x="2394" y="8189"/>
                  <a:pt x="2404" y="8437"/>
                  <a:pt x="2332" y="8632"/>
                </a:cubicBezTo>
                <a:cubicBezTo>
                  <a:pt x="2290" y="8715"/>
                  <a:pt x="2282" y="8731"/>
                  <a:pt x="2257" y="8781"/>
                </a:cubicBezTo>
              </a:path>
              <a:path w="5259" h="1911">
                <a:moveTo>
                  <a:pt x="3497" y="7541"/>
                </a:moveTo>
                <a:cubicBezTo>
                  <a:pt x="3526" y="7570"/>
                  <a:pt x="3478" y="7669"/>
                  <a:pt x="3473" y="7739"/>
                </a:cubicBezTo>
                <a:cubicBezTo>
                  <a:pt x="3464" y="7853"/>
                  <a:pt x="3449" y="8037"/>
                  <a:pt x="3497" y="8136"/>
                </a:cubicBezTo>
                <a:cubicBezTo>
                  <a:pt x="3566" y="8050"/>
                  <a:pt x="3551" y="7991"/>
                  <a:pt x="3572" y="7888"/>
                </a:cubicBezTo>
                <a:cubicBezTo>
                  <a:pt x="3592" y="7790"/>
                  <a:pt x="3643" y="7707"/>
                  <a:pt x="3671" y="7615"/>
                </a:cubicBezTo>
                <a:cubicBezTo>
                  <a:pt x="3671" y="7607"/>
                  <a:pt x="3671" y="7598"/>
                  <a:pt x="3671" y="7590"/>
                </a:cubicBezTo>
                <a:cubicBezTo>
                  <a:pt x="3724" y="7669"/>
                  <a:pt x="3720" y="7747"/>
                  <a:pt x="3746" y="7838"/>
                </a:cubicBezTo>
                <a:cubicBezTo>
                  <a:pt x="3771" y="7925"/>
                  <a:pt x="3777" y="7939"/>
                  <a:pt x="3845" y="7987"/>
                </a:cubicBezTo>
              </a:path>
              <a:path w="5259" h="1911">
                <a:moveTo>
                  <a:pt x="4118" y="7615"/>
                </a:moveTo>
                <a:cubicBezTo>
                  <a:pt x="4118" y="7710"/>
                  <a:pt x="4108" y="7798"/>
                  <a:pt x="4142" y="7888"/>
                </a:cubicBezTo>
                <a:cubicBezTo>
                  <a:pt x="4166" y="7951"/>
                  <a:pt x="4187" y="7956"/>
                  <a:pt x="4242" y="7987"/>
                </a:cubicBezTo>
              </a:path>
              <a:path w="5259" h="1911">
                <a:moveTo>
                  <a:pt x="4415" y="7045"/>
                </a:moveTo>
                <a:cubicBezTo>
                  <a:pt x="4415" y="6922"/>
                  <a:pt x="4458" y="7217"/>
                  <a:pt x="4465" y="7243"/>
                </a:cubicBezTo>
                <a:cubicBezTo>
                  <a:pt x="4518" y="7450"/>
                  <a:pt x="4560" y="7657"/>
                  <a:pt x="4614" y="7863"/>
                </a:cubicBezTo>
                <a:cubicBezTo>
                  <a:pt x="4636" y="7955"/>
                  <a:pt x="4642" y="7980"/>
                  <a:pt x="4663" y="8037"/>
                </a:cubicBezTo>
              </a:path>
              <a:path w="5259" h="1911">
                <a:moveTo>
                  <a:pt x="4440" y="7640"/>
                </a:moveTo>
                <a:cubicBezTo>
                  <a:pt x="4467" y="7599"/>
                  <a:pt x="4550" y="7615"/>
                  <a:pt x="4614" y="7615"/>
                </a:cubicBezTo>
                <a:cubicBezTo>
                  <a:pt x="4736" y="7615"/>
                  <a:pt x="4820" y="7586"/>
                  <a:pt x="4936" y="7565"/>
                </a:cubicBezTo>
                <a:cubicBezTo>
                  <a:pt x="5022" y="7549"/>
                  <a:pt x="5032" y="7588"/>
                  <a:pt x="5035" y="7665"/>
                </a:cubicBezTo>
                <a:cubicBezTo>
                  <a:pt x="5040" y="7791"/>
                  <a:pt x="4986" y="7907"/>
                  <a:pt x="4986" y="8037"/>
                </a:cubicBezTo>
              </a:path>
              <a:path w="5259" h="1911">
                <a:moveTo>
                  <a:pt x="5283" y="7293"/>
                </a:moveTo>
                <a:cubicBezTo>
                  <a:pt x="5222" y="7276"/>
                  <a:pt x="5195" y="7268"/>
                  <a:pt x="5135" y="7268"/>
                </a:cubicBezTo>
              </a:path>
              <a:path w="5259" h="1911">
                <a:moveTo>
                  <a:pt x="5581" y="7590"/>
                </a:moveTo>
                <a:cubicBezTo>
                  <a:pt x="5503" y="7568"/>
                  <a:pt x="5470" y="7601"/>
                  <a:pt x="5432" y="7689"/>
                </a:cubicBezTo>
                <a:cubicBezTo>
                  <a:pt x="5393" y="7778"/>
                  <a:pt x="5361" y="7869"/>
                  <a:pt x="5407" y="7962"/>
                </a:cubicBezTo>
                <a:cubicBezTo>
                  <a:pt x="5453" y="8054"/>
                  <a:pt x="5519" y="8002"/>
                  <a:pt x="5556" y="7962"/>
                </a:cubicBezTo>
                <a:cubicBezTo>
                  <a:pt x="5606" y="7913"/>
                  <a:pt x="5623" y="7897"/>
                  <a:pt x="5655" y="7863"/>
                </a:cubicBezTo>
              </a:path>
              <a:path w="5259" h="1911">
                <a:moveTo>
                  <a:pt x="5705" y="7714"/>
                </a:moveTo>
                <a:cubicBezTo>
                  <a:pt x="5705" y="7772"/>
                  <a:pt x="5692" y="7733"/>
                  <a:pt x="5705" y="7789"/>
                </a:cubicBezTo>
                <a:cubicBezTo>
                  <a:pt x="5723" y="7864"/>
                  <a:pt x="5810" y="7925"/>
                  <a:pt x="5879" y="7938"/>
                </a:cubicBezTo>
                <a:cubicBezTo>
                  <a:pt x="6007" y="7963"/>
                  <a:pt x="6108" y="7824"/>
                  <a:pt x="6176" y="7739"/>
                </a:cubicBezTo>
                <a:cubicBezTo>
                  <a:pt x="6280" y="7608"/>
                  <a:pt x="6354" y="7435"/>
                  <a:pt x="6375" y="7268"/>
                </a:cubicBezTo>
                <a:cubicBezTo>
                  <a:pt x="6388" y="7165"/>
                  <a:pt x="6366" y="7057"/>
                  <a:pt x="6350" y="6970"/>
                </a:cubicBezTo>
                <a:cubicBezTo>
                  <a:pt x="6233" y="7029"/>
                  <a:pt x="6216" y="7077"/>
                  <a:pt x="6201" y="7218"/>
                </a:cubicBezTo>
                <a:cubicBezTo>
                  <a:pt x="6185" y="7371"/>
                  <a:pt x="6201" y="7516"/>
                  <a:pt x="6300" y="7640"/>
                </a:cubicBezTo>
                <a:cubicBezTo>
                  <a:pt x="6391" y="7754"/>
                  <a:pt x="6529" y="7772"/>
                  <a:pt x="6648" y="7689"/>
                </a:cubicBezTo>
                <a:cubicBezTo>
                  <a:pt x="6765" y="7607"/>
                  <a:pt x="6849" y="7353"/>
                  <a:pt x="6871" y="7218"/>
                </a:cubicBezTo>
                <a:cubicBezTo>
                  <a:pt x="6887" y="7119"/>
                  <a:pt x="6871" y="6997"/>
                  <a:pt x="6871" y="6896"/>
                </a:cubicBezTo>
                <a:cubicBezTo>
                  <a:pt x="6784" y="6874"/>
                  <a:pt x="6772" y="6868"/>
                  <a:pt x="6722" y="6995"/>
                </a:cubicBezTo>
                <a:cubicBezTo>
                  <a:pt x="6657" y="7158"/>
                  <a:pt x="6668" y="7323"/>
                  <a:pt x="6697" y="7491"/>
                </a:cubicBezTo>
                <a:cubicBezTo>
                  <a:pt x="6712" y="7575"/>
                  <a:pt x="6761" y="7830"/>
                  <a:pt x="6896" y="7813"/>
                </a:cubicBezTo>
                <a:cubicBezTo>
                  <a:pt x="6969" y="7804"/>
                  <a:pt x="7073" y="7722"/>
                  <a:pt x="7094" y="7640"/>
                </a:cubicBezTo>
                <a:cubicBezTo>
                  <a:pt x="7104" y="7602"/>
                  <a:pt x="7088" y="7556"/>
                  <a:pt x="7094" y="7516"/>
                </a:cubicBezTo>
                <a:cubicBezTo>
                  <a:pt x="7052" y="7583"/>
                  <a:pt x="7009" y="7626"/>
                  <a:pt x="7020" y="7714"/>
                </a:cubicBezTo>
                <a:cubicBezTo>
                  <a:pt x="7028" y="7773"/>
                  <a:pt x="7048" y="7788"/>
                  <a:pt x="7069" y="7838"/>
                </a:cubicBezTo>
                <a:cubicBezTo>
                  <a:pt x="7123" y="7804"/>
                  <a:pt x="7170" y="7753"/>
                  <a:pt x="7218" y="7714"/>
                </a:cubicBezTo>
                <a:cubicBezTo>
                  <a:pt x="7248" y="7690"/>
                  <a:pt x="7288" y="7679"/>
                  <a:pt x="7317" y="7665"/>
                </a:cubicBezTo>
                <a:cubicBezTo>
                  <a:pt x="7317" y="7808"/>
                  <a:pt x="7302" y="7945"/>
                  <a:pt x="7293" y="8086"/>
                </a:cubicBezTo>
                <a:cubicBezTo>
                  <a:pt x="7282" y="8247"/>
                  <a:pt x="7237" y="8400"/>
                  <a:pt x="7193" y="8558"/>
                </a:cubicBezTo>
                <a:cubicBezTo>
                  <a:pt x="7185" y="8583"/>
                  <a:pt x="7177" y="8607"/>
                  <a:pt x="7169" y="86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62160" y="2571840"/>
            <a:ext cx="1573200" cy="473040"/>
          </a:xfrm>
          <a:custGeom>
            <a:avLst/>
            <a:gdLst/>
            <a:ahLst/>
            <a:rect l="l" t="t" r="r" b="b"/>
            <a:pathLst>
              <a:path w="4367" h="1315">
                <a:moveTo>
                  <a:pt x="8582" y="7689"/>
                </a:moveTo>
                <a:cubicBezTo>
                  <a:pt x="8553" y="7888"/>
                  <a:pt x="8513" y="8084"/>
                  <a:pt x="8508" y="8285"/>
                </a:cubicBezTo>
                <a:cubicBezTo>
                  <a:pt x="8508" y="8376"/>
                  <a:pt x="8508" y="8400"/>
                  <a:pt x="8508" y="8458"/>
                </a:cubicBezTo>
                <a:cubicBezTo>
                  <a:pt x="8508" y="8339"/>
                  <a:pt x="8524" y="8227"/>
                  <a:pt x="8533" y="8111"/>
                </a:cubicBezTo>
                <a:cubicBezTo>
                  <a:pt x="8545" y="7953"/>
                  <a:pt x="8575" y="7884"/>
                  <a:pt x="8706" y="7789"/>
                </a:cubicBezTo>
                <a:cubicBezTo>
                  <a:pt x="8770" y="7743"/>
                  <a:pt x="8904" y="7689"/>
                  <a:pt x="8954" y="7789"/>
                </a:cubicBezTo>
                <a:cubicBezTo>
                  <a:pt x="8990" y="7860"/>
                  <a:pt x="8930" y="7968"/>
                  <a:pt x="8880" y="8012"/>
                </a:cubicBezTo>
                <a:cubicBezTo>
                  <a:pt x="8813" y="8070"/>
                  <a:pt x="8755" y="8105"/>
                  <a:pt x="8682" y="8062"/>
                </a:cubicBezTo>
              </a:path>
              <a:path w="4367" h="1315">
                <a:moveTo>
                  <a:pt x="9277" y="7169"/>
                </a:moveTo>
                <a:cubicBezTo>
                  <a:pt x="9354" y="7149"/>
                  <a:pt x="9372" y="7125"/>
                  <a:pt x="9401" y="7169"/>
                </a:cubicBezTo>
                <a:cubicBezTo>
                  <a:pt x="9388" y="7300"/>
                  <a:pt x="9366" y="7434"/>
                  <a:pt x="9351" y="7565"/>
                </a:cubicBezTo>
                <a:cubicBezTo>
                  <a:pt x="9335" y="7706"/>
                  <a:pt x="9305" y="7873"/>
                  <a:pt x="9351" y="8012"/>
                </a:cubicBezTo>
                <a:cubicBezTo>
                  <a:pt x="9359" y="8020"/>
                  <a:pt x="9368" y="8029"/>
                  <a:pt x="9376" y="8037"/>
                </a:cubicBezTo>
              </a:path>
              <a:path w="4367" h="1315">
                <a:moveTo>
                  <a:pt x="9277" y="7739"/>
                </a:moveTo>
                <a:cubicBezTo>
                  <a:pt x="9205" y="7739"/>
                  <a:pt x="9420" y="7741"/>
                  <a:pt x="9426" y="7739"/>
                </a:cubicBezTo>
                <a:cubicBezTo>
                  <a:pt x="9529" y="7699"/>
                  <a:pt x="9677" y="7597"/>
                  <a:pt x="9748" y="7516"/>
                </a:cubicBezTo>
                <a:cubicBezTo>
                  <a:pt x="9814" y="7441"/>
                  <a:pt x="9856" y="7333"/>
                  <a:pt x="9823" y="7243"/>
                </a:cubicBezTo>
                <a:cubicBezTo>
                  <a:pt x="9799" y="7195"/>
                  <a:pt x="9793" y="7178"/>
                  <a:pt x="9748" y="7193"/>
                </a:cubicBezTo>
                <a:cubicBezTo>
                  <a:pt x="9672" y="7289"/>
                  <a:pt x="9636" y="7392"/>
                  <a:pt x="9624" y="7516"/>
                </a:cubicBezTo>
                <a:cubicBezTo>
                  <a:pt x="9605" y="7713"/>
                  <a:pt x="9628" y="7887"/>
                  <a:pt x="9723" y="8062"/>
                </a:cubicBezTo>
                <a:cubicBezTo>
                  <a:pt x="9766" y="8125"/>
                  <a:pt x="9769" y="8150"/>
                  <a:pt x="9823" y="8136"/>
                </a:cubicBezTo>
              </a:path>
              <a:path w="4367" h="1315">
                <a:moveTo>
                  <a:pt x="10220" y="7565"/>
                </a:moveTo>
                <a:cubicBezTo>
                  <a:pt x="10268" y="7551"/>
                  <a:pt x="10340" y="7524"/>
                  <a:pt x="10393" y="7541"/>
                </a:cubicBezTo>
                <a:cubicBezTo>
                  <a:pt x="10437" y="7562"/>
                  <a:pt x="10449" y="7565"/>
                  <a:pt x="10468" y="7590"/>
                </a:cubicBezTo>
              </a:path>
              <a:path w="4367" h="1315">
                <a:moveTo>
                  <a:pt x="10344" y="7764"/>
                </a:moveTo>
                <a:cubicBezTo>
                  <a:pt x="10303" y="7805"/>
                  <a:pt x="10281" y="7815"/>
                  <a:pt x="10269" y="7863"/>
                </a:cubicBezTo>
                <a:cubicBezTo>
                  <a:pt x="10344" y="7863"/>
                  <a:pt x="10395" y="7861"/>
                  <a:pt x="10468" y="7838"/>
                </a:cubicBezTo>
                <a:cubicBezTo>
                  <a:pt x="10545" y="7812"/>
                  <a:pt x="10573" y="7802"/>
                  <a:pt x="10616" y="7764"/>
                </a:cubicBezTo>
              </a:path>
              <a:path w="4367" h="1315">
                <a:moveTo>
                  <a:pt x="11088" y="7367"/>
                </a:moveTo>
                <a:cubicBezTo>
                  <a:pt x="11054" y="7299"/>
                  <a:pt x="11021" y="7461"/>
                  <a:pt x="11013" y="7491"/>
                </a:cubicBezTo>
                <a:cubicBezTo>
                  <a:pt x="10987" y="7588"/>
                  <a:pt x="10972" y="7675"/>
                  <a:pt x="11038" y="7764"/>
                </a:cubicBezTo>
                <a:cubicBezTo>
                  <a:pt x="11102" y="7850"/>
                  <a:pt x="11169" y="7847"/>
                  <a:pt x="11261" y="7813"/>
                </a:cubicBezTo>
                <a:cubicBezTo>
                  <a:pt x="11321" y="7784"/>
                  <a:pt x="11347" y="7770"/>
                  <a:pt x="11385" y="7739"/>
                </a:cubicBezTo>
              </a:path>
              <a:path w="4367" h="1315">
                <a:moveTo>
                  <a:pt x="11559" y="7417"/>
                </a:moveTo>
                <a:cubicBezTo>
                  <a:pt x="11476" y="7468"/>
                  <a:pt x="11412" y="7516"/>
                  <a:pt x="11385" y="7615"/>
                </a:cubicBezTo>
                <a:cubicBezTo>
                  <a:pt x="11354" y="7729"/>
                  <a:pt x="11340" y="7894"/>
                  <a:pt x="11361" y="8012"/>
                </a:cubicBezTo>
                <a:cubicBezTo>
                  <a:pt x="11369" y="8037"/>
                  <a:pt x="11377" y="8061"/>
                  <a:pt x="11385" y="8086"/>
                </a:cubicBezTo>
              </a:path>
              <a:path w="4367" h="1315">
                <a:moveTo>
                  <a:pt x="11658" y="7938"/>
                </a:moveTo>
                <a:cubicBezTo>
                  <a:pt x="11594" y="7948"/>
                  <a:pt x="11593" y="7969"/>
                  <a:pt x="11633" y="7913"/>
                </a:cubicBezTo>
              </a:path>
              <a:path w="4367" h="1315">
                <a:moveTo>
                  <a:pt x="12080" y="7367"/>
                </a:moveTo>
                <a:cubicBezTo>
                  <a:pt x="12118" y="7328"/>
                  <a:pt x="12120" y="7311"/>
                  <a:pt x="12154" y="7317"/>
                </a:cubicBezTo>
                <a:cubicBezTo>
                  <a:pt x="12165" y="7362"/>
                  <a:pt x="12179" y="7387"/>
                  <a:pt x="12179" y="7441"/>
                </a:cubicBezTo>
                <a:cubicBezTo>
                  <a:pt x="12179" y="7539"/>
                  <a:pt x="12130" y="7552"/>
                  <a:pt x="12080" y="7615"/>
                </a:cubicBezTo>
                <a:cubicBezTo>
                  <a:pt x="12051" y="7652"/>
                  <a:pt x="12039" y="7680"/>
                  <a:pt x="12005" y="7714"/>
                </a:cubicBezTo>
                <a:cubicBezTo>
                  <a:pt x="12068" y="7714"/>
                  <a:pt x="12130" y="7700"/>
                  <a:pt x="12179" y="7739"/>
                </a:cubicBezTo>
                <a:cubicBezTo>
                  <a:pt x="12235" y="7784"/>
                  <a:pt x="12181" y="7887"/>
                  <a:pt x="12154" y="7938"/>
                </a:cubicBezTo>
                <a:cubicBezTo>
                  <a:pt x="12122" y="7997"/>
                  <a:pt x="12055" y="8086"/>
                  <a:pt x="12005" y="8111"/>
                </a:cubicBezTo>
              </a:path>
              <a:path w="4367" h="1315">
                <a:moveTo>
                  <a:pt x="12502" y="7417"/>
                </a:moveTo>
                <a:cubicBezTo>
                  <a:pt x="12568" y="7339"/>
                  <a:pt x="12533" y="7367"/>
                  <a:pt x="12601" y="7342"/>
                </a:cubicBezTo>
                <a:cubicBezTo>
                  <a:pt x="12665" y="7319"/>
                  <a:pt x="12706" y="7317"/>
                  <a:pt x="12774" y="7317"/>
                </a:cubicBezTo>
                <a:cubicBezTo>
                  <a:pt x="12845" y="7317"/>
                  <a:pt x="12888" y="7363"/>
                  <a:pt x="12874" y="7441"/>
                </a:cubicBezTo>
                <a:cubicBezTo>
                  <a:pt x="12850" y="7578"/>
                  <a:pt x="12771" y="7685"/>
                  <a:pt x="12725" y="7813"/>
                </a:cubicBezTo>
                <a:cubicBezTo>
                  <a:pt x="12691" y="7907"/>
                  <a:pt x="12631" y="8012"/>
                  <a:pt x="12626" y="8111"/>
                </a:cubicBezTo>
                <a:cubicBezTo>
                  <a:pt x="12626" y="8128"/>
                  <a:pt x="12626" y="8144"/>
                  <a:pt x="12626" y="81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46760" y="2401920"/>
            <a:ext cx="2546280" cy="982800"/>
          </a:xfrm>
          <a:custGeom>
            <a:avLst/>
            <a:gdLst/>
            <a:ahLst/>
            <a:rect l="l" t="t" r="r" b="b"/>
            <a:pathLst>
              <a:path w="7070" h="2730">
                <a:moveTo>
                  <a:pt x="13742" y="7838"/>
                </a:moveTo>
                <a:cubicBezTo>
                  <a:pt x="13841" y="7838"/>
                  <a:pt x="13940" y="7838"/>
                  <a:pt x="14039" y="7838"/>
                </a:cubicBezTo>
              </a:path>
              <a:path w="7070" h="2730">
                <a:moveTo>
                  <a:pt x="13767" y="8136"/>
                </a:moveTo>
                <a:cubicBezTo>
                  <a:pt x="13779" y="8174"/>
                  <a:pt x="13842" y="8172"/>
                  <a:pt x="13891" y="8161"/>
                </a:cubicBezTo>
                <a:cubicBezTo>
                  <a:pt x="13957" y="8146"/>
                  <a:pt x="14026" y="8109"/>
                  <a:pt x="14089" y="8086"/>
                </a:cubicBezTo>
              </a:path>
              <a:path w="7070" h="2730">
                <a:moveTo>
                  <a:pt x="14684" y="7764"/>
                </a:moveTo>
                <a:cubicBezTo>
                  <a:pt x="14657" y="7874"/>
                  <a:pt x="14623" y="7998"/>
                  <a:pt x="14610" y="8111"/>
                </a:cubicBezTo>
                <a:cubicBezTo>
                  <a:pt x="14599" y="8211"/>
                  <a:pt x="14587" y="8369"/>
                  <a:pt x="14635" y="8458"/>
                </a:cubicBezTo>
                <a:cubicBezTo>
                  <a:pt x="14643" y="8466"/>
                  <a:pt x="14652" y="8475"/>
                  <a:pt x="14660" y="8483"/>
                </a:cubicBezTo>
                <a:cubicBezTo>
                  <a:pt x="14660" y="8396"/>
                  <a:pt x="14638" y="8322"/>
                  <a:pt x="14635" y="8235"/>
                </a:cubicBezTo>
                <a:cubicBezTo>
                  <a:pt x="14631" y="8101"/>
                  <a:pt x="14637" y="8030"/>
                  <a:pt x="14684" y="7913"/>
                </a:cubicBezTo>
                <a:cubicBezTo>
                  <a:pt x="14725" y="7813"/>
                  <a:pt x="14805" y="7757"/>
                  <a:pt x="14908" y="7714"/>
                </a:cubicBezTo>
                <a:cubicBezTo>
                  <a:pt x="14989" y="7680"/>
                  <a:pt x="15006" y="7686"/>
                  <a:pt x="15081" y="7714"/>
                </a:cubicBezTo>
                <a:cubicBezTo>
                  <a:pt x="15066" y="7833"/>
                  <a:pt x="15002" y="7893"/>
                  <a:pt x="14932" y="7987"/>
                </a:cubicBezTo>
                <a:cubicBezTo>
                  <a:pt x="14913" y="8012"/>
                  <a:pt x="14772" y="8202"/>
                  <a:pt x="14734" y="8111"/>
                </a:cubicBezTo>
                <a:cubicBezTo>
                  <a:pt x="14734" y="8095"/>
                  <a:pt x="14734" y="8078"/>
                  <a:pt x="14734" y="8062"/>
                </a:cubicBezTo>
              </a:path>
              <a:path w="7070" h="2730">
                <a:moveTo>
                  <a:pt x="15354" y="7020"/>
                </a:moveTo>
                <a:cubicBezTo>
                  <a:pt x="15354" y="7131"/>
                  <a:pt x="15371" y="7232"/>
                  <a:pt x="15379" y="7342"/>
                </a:cubicBezTo>
                <a:cubicBezTo>
                  <a:pt x="15396" y="7588"/>
                  <a:pt x="15379" y="7840"/>
                  <a:pt x="15379" y="8086"/>
                </a:cubicBezTo>
              </a:path>
              <a:path w="7070" h="2730">
                <a:moveTo>
                  <a:pt x="15726" y="7640"/>
                </a:moveTo>
                <a:cubicBezTo>
                  <a:pt x="15676" y="7653"/>
                  <a:pt x="15599" y="7680"/>
                  <a:pt x="15553" y="7714"/>
                </a:cubicBezTo>
                <a:cubicBezTo>
                  <a:pt x="15503" y="7751"/>
                  <a:pt x="15419" y="7848"/>
                  <a:pt x="15404" y="7913"/>
                </a:cubicBezTo>
                <a:cubicBezTo>
                  <a:pt x="15387" y="7986"/>
                  <a:pt x="15448" y="8009"/>
                  <a:pt x="15503" y="8012"/>
                </a:cubicBezTo>
                <a:cubicBezTo>
                  <a:pt x="15552" y="8015"/>
                  <a:pt x="15603" y="8012"/>
                  <a:pt x="15652" y="8012"/>
                </a:cubicBezTo>
              </a:path>
              <a:path w="7070" h="2730">
                <a:moveTo>
                  <a:pt x="16024" y="7888"/>
                </a:moveTo>
                <a:cubicBezTo>
                  <a:pt x="15973" y="7928"/>
                  <a:pt x="15891" y="7965"/>
                  <a:pt x="15850" y="8012"/>
                </a:cubicBezTo>
                <a:cubicBezTo>
                  <a:pt x="15809" y="8060"/>
                  <a:pt x="15808" y="8093"/>
                  <a:pt x="15825" y="8136"/>
                </a:cubicBezTo>
                <a:cubicBezTo>
                  <a:pt x="15929" y="8123"/>
                  <a:pt x="15942" y="8072"/>
                  <a:pt x="16024" y="8012"/>
                </a:cubicBezTo>
                <a:cubicBezTo>
                  <a:pt x="16062" y="7984"/>
                  <a:pt x="16089" y="7971"/>
                  <a:pt x="16123" y="7938"/>
                </a:cubicBezTo>
                <a:cubicBezTo>
                  <a:pt x="16123" y="8019"/>
                  <a:pt x="16115" y="8087"/>
                  <a:pt x="16148" y="8161"/>
                </a:cubicBezTo>
                <a:cubicBezTo>
                  <a:pt x="16172" y="8208"/>
                  <a:pt x="16178" y="8225"/>
                  <a:pt x="16222" y="8210"/>
                </a:cubicBezTo>
              </a:path>
              <a:path w="7070" h="2730">
                <a:moveTo>
                  <a:pt x="17264" y="7119"/>
                </a:moveTo>
                <a:cubicBezTo>
                  <a:pt x="17264" y="7111"/>
                  <a:pt x="17264" y="7102"/>
                  <a:pt x="17264" y="7094"/>
                </a:cubicBezTo>
                <a:cubicBezTo>
                  <a:pt x="17190" y="7105"/>
                  <a:pt x="17187" y="7110"/>
                  <a:pt x="17140" y="7193"/>
                </a:cubicBezTo>
                <a:cubicBezTo>
                  <a:pt x="17029" y="7389"/>
                  <a:pt x="16951" y="7571"/>
                  <a:pt x="16892" y="7789"/>
                </a:cubicBezTo>
                <a:cubicBezTo>
                  <a:pt x="16840" y="7983"/>
                  <a:pt x="16769" y="8254"/>
                  <a:pt x="16818" y="8458"/>
                </a:cubicBezTo>
                <a:cubicBezTo>
                  <a:pt x="16862" y="8548"/>
                  <a:pt x="16875" y="8571"/>
                  <a:pt x="16892" y="8632"/>
                </a:cubicBezTo>
              </a:path>
              <a:path w="7070" h="2730">
                <a:moveTo>
                  <a:pt x="17983" y="7640"/>
                </a:moveTo>
                <a:cubicBezTo>
                  <a:pt x="17975" y="7640"/>
                  <a:pt x="17967" y="7640"/>
                  <a:pt x="17959" y="7640"/>
                </a:cubicBezTo>
                <a:cubicBezTo>
                  <a:pt x="17970" y="7675"/>
                  <a:pt x="18043" y="7606"/>
                  <a:pt x="18008" y="7615"/>
                </a:cubicBezTo>
                <a:cubicBezTo>
                  <a:pt x="17960" y="7627"/>
                  <a:pt x="17989" y="7631"/>
                  <a:pt x="18008" y="7590"/>
                </a:cubicBezTo>
                <a:cubicBezTo>
                  <a:pt x="18038" y="7525"/>
                  <a:pt x="18090" y="7452"/>
                  <a:pt x="18132" y="7392"/>
                </a:cubicBezTo>
                <a:cubicBezTo>
                  <a:pt x="18160" y="7364"/>
                  <a:pt x="18169" y="7350"/>
                  <a:pt x="18157" y="7317"/>
                </a:cubicBezTo>
                <a:cubicBezTo>
                  <a:pt x="18090" y="7400"/>
                  <a:pt x="18096" y="7493"/>
                  <a:pt x="18058" y="7590"/>
                </a:cubicBezTo>
                <a:cubicBezTo>
                  <a:pt x="18017" y="7694"/>
                  <a:pt x="17967" y="7775"/>
                  <a:pt x="17959" y="7888"/>
                </a:cubicBezTo>
                <a:cubicBezTo>
                  <a:pt x="17959" y="7913"/>
                  <a:pt x="17959" y="7921"/>
                  <a:pt x="17959" y="7938"/>
                </a:cubicBezTo>
              </a:path>
              <a:path w="7070" h="2730">
                <a:moveTo>
                  <a:pt x="18331" y="7764"/>
                </a:moveTo>
                <a:cubicBezTo>
                  <a:pt x="18296" y="7791"/>
                  <a:pt x="18292" y="7781"/>
                  <a:pt x="18281" y="7813"/>
                </a:cubicBezTo>
              </a:path>
              <a:path w="7070" h="2730">
                <a:moveTo>
                  <a:pt x="18703" y="7491"/>
                </a:moveTo>
                <a:cubicBezTo>
                  <a:pt x="18680" y="7444"/>
                  <a:pt x="18712" y="7428"/>
                  <a:pt x="18777" y="7417"/>
                </a:cubicBezTo>
                <a:cubicBezTo>
                  <a:pt x="18831" y="7408"/>
                  <a:pt x="18896" y="7417"/>
                  <a:pt x="18951" y="7417"/>
                </a:cubicBezTo>
                <a:cubicBezTo>
                  <a:pt x="18938" y="7516"/>
                  <a:pt x="18883" y="7581"/>
                  <a:pt x="18827" y="7665"/>
                </a:cubicBezTo>
                <a:cubicBezTo>
                  <a:pt x="18775" y="7743"/>
                  <a:pt x="18680" y="7821"/>
                  <a:pt x="18728" y="7913"/>
                </a:cubicBezTo>
                <a:cubicBezTo>
                  <a:pt x="18764" y="7983"/>
                  <a:pt x="18923" y="7926"/>
                  <a:pt x="18976" y="7913"/>
                </a:cubicBezTo>
                <a:cubicBezTo>
                  <a:pt x="19071" y="7889"/>
                  <a:pt x="19100" y="7883"/>
                  <a:pt x="19149" y="7838"/>
                </a:cubicBezTo>
              </a:path>
              <a:path w="7070" h="2730">
                <a:moveTo>
                  <a:pt x="19496" y="7392"/>
                </a:moveTo>
                <a:cubicBezTo>
                  <a:pt x="19461" y="7441"/>
                  <a:pt x="19443" y="7504"/>
                  <a:pt x="19422" y="7565"/>
                </a:cubicBezTo>
                <a:cubicBezTo>
                  <a:pt x="19391" y="7655"/>
                  <a:pt x="19317" y="7735"/>
                  <a:pt x="19348" y="7838"/>
                </a:cubicBezTo>
                <a:cubicBezTo>
                  <a:pt x="19356" y="7846"/>
                  <a:pt x="19364" y="7855"/>
                  <a:pt x="19372" y="7863"/>
                </a:cubicBezTo>
              </a:path>
              <a:path w="7070" h="2730">
                <a:moveTo>
                  <a:pt x="20042" y="7466"/>
                </a:moveTo>
                <a:cubicBezTo>
                  <a:pt x="19981" y="7413"/>
                  <a:pt x="19929" y="7389"/>
                  <a:pt x="19844" y="7441"/>
                </a:cubicBezTo>
                <a:cubicBezTo>
                  <a:pt x="19781" y="7480"/>
                  <a:pt x="19761" y="7507"/>
                  <a:pt x="19745" y="7565"/>
                </a:cubicBezTo>
                <a:cubicBezTo>
                  <a:pt x="19759" y="7622"/>
                  <a:pt x="19808" y="7632"/>
                  <a:pt x="19869" y="7615"/>
                </a:cubicBezTo>
                <a:cubicBezTo>
                  <a:pt x="19940" y="7595"/>
                  <a:pt x="19992" y="7516"/>
                  <a:pt x="20042" y="7466"/>
                </a:cubicBezTo>
                <a:cubicBezTo>
                  <a:pt x="20050" y="7458"/>
                  <a:pt x="20059" y="7449"/>
                  <a:pt x="20067" y="7441"/>
                </a:cubicBezTo>
                <a:cubicBezTo>
                  <a:pt x="20067" y="7522"/>
                  <a:pt x="20041" y="7586"/>
                  <a:pt x="20017" y="7665"/>
                </a:cubicBezTo>
                <a:cubicBezTo>
                  <a:pt x="19984" y="7773"/>
                  <a:pt x="19954" y="7880"/>
                  <a:pt x="19918" y="7987"/>
                </a:cubicBezTo>
              </a:path>
              <a:path w="7070" h="2730">
                <a:moveTo>
                  <a:pt x="17810" y="8161"/>
                </a:moveTo>
                <a:cubicBezTo>
                  <a:pt x="17934" y="8161"/>
                  <a:pt x="18059" y="8175"/>
                  <a:pt x="18182" y="8186"/>
                </a:cubicBezTo>
                <a:cubicBezTo>
                  <a:pt x="18529" y="8216"/>
                  <a:pt x="18875" y="8210"/>
                  <a:pt x="19224" y="8210"/>
                </a:cubicBezTo>
                <a:cubicBezTo>
                  <a:pt x="19467" y="8210"/>
                  <a:pt x="19703" y="8205"/>
                  <a:pt x="19943" y="8186"/>
                </a:cubicBezTo>
                <a:cubicBezTo>
                  <a:pt x="20014" y="8180"/>
                  <a:pt x="20084" y="8194"/>
                  <a:pt x="20117" y="8210"/>
                </a:cubicBezTo>
              </a:path>
              <a:path w="7070" h="2730">
                <a:moveTo>
                  <a:pt x="18182" y="8954"/>
                </a:moveTo>
                <a:cubicBezTo>
                  <a:pt x="18174" y="8971"/>
                  <a:pt x="18165" y="8987"/>
                  <a:pt x="18157" y="9004"/>
                </a:cubicBezTo>
                <a:cubicBezTo>
                  <a:pt x="18171" y="8990"/>
                  <a:pt x="18244" y="8940"/>
                  <a:pt x="18231" y="8930"/>
                </a:cubicBezTo>
                <a:cubicBezTo>
                  <a:pt x="18212" y="8916"/>
                  <a:pt x="18153" y="8974"/>
                  <a:pt x="18132" y="8979"/>
                </a:cubicBezTo>
              </a:path>
              <a:path w="7070" h="2730">
                <a:moveTo>
                  <a:pt x="19025" y="8607"/>
                </a:moveTo>
                <a:cubicBezTo>
                  <a:pt x="18998" y="8513"/>
                  <a:pt x="18952" y="8533"/>
                  <a:pt x="18852" y="8533"/>
                </a:cubicBezTo>
                <a:cubicBezTo>
                  <a:pt x="18781" y="8533"/>
                  <a:pt x="18731" y="8544"/>
                  <a:pt x="18678" y="8582"/>
                </a:cubicBezTo>
                <a:cubicBezTo>
                  <a:pt x="18690" y="8664"/>
                  <a:pt x="18740" y="8694"/>
                  <a:pt x="18802" y="8756"/>
                </a:cubicBezTo>
                <a:cubicBezTo>
                  <a:pt x="18855" y="8809"/>
                  <a:pt x="18966" y="8886"/>
                  <a:pt x="18926" y="8979"/>
                </a:cubicBezTo>
                <a:cubicBezTo>
                  <a:pt x="18899" y="9042"/>
                  <a:pt x="18815" y="9099"/>
                  <a:pt x="18752" y="9103"/>
                </a:cubicBezTo>
                <a:cubicBezTo>
                  <a:pt x="18708" y="9103"/>
                  <a:pt x="18695" y="9106"/>
                  <a:pt x="18678" y="9079"/>
                </a:cubicBezTo>
                <a:cubicBezTo>
                  <a:pt x="18692" y="8963"/>
                  <a:pt x="18744" y="8932"/>
                  <a:pt x="18827" y="8855"/>
                </a:cubicBezTo>
                <a:cubicBezTo>
                  <a:pt x="18928" y="8762"/>
                  <a:pt x="19032" y="8704"/>
                  <a:pt x="19149" y="8632"/>
                </a:cubicBezTo>
              </a:path>
              <a:path w="7070" h="2730">
                <a:moveTo>
                  <a:pt x="19372" y="8508"/>
                </a:moveTo>
                <a:cubicBezTo>
                  <a:pt x="19418" y="8508"/>
                  <a:pt x="19437" y="8501"/>
                  <a:pt x="19472" y="8533"/>
                </a:cubicBezTo>
                <a:cubicBezTo>
                  <a:pt x="19505" y="8563"/>
                  <a:pt x="19542" y="8555"/>
                  <a:pt x="19546" y="8607"/>
                </a:cubicBezTo>
                <a:cubicBezTo>
                  <a:pt x="19551" y="8672"/>
                  <a:pt x="19548" y="8722"/>
                  <a:pt x="19521" y="8781"/>
                </a:cubicBezTo>
                <a:cubicBezTo>
                  <a:pt x="19491" y="8848"/>
                  <a:pt x="19455" y="8913"/>
                  <a:pt x="19422" y="8979"/>
                </a:cubicBezTo>
              </a:path>
              <a:path w="7070" h="2730">
                <a:moveTo>
                  <a:pt x="19993" y="8657"/>
                </a:moveTo>
                <a:cubicBezTo>
                  <a:pt x="19993" y="8612"/>
                  <a:pt x="19996" y="8599"/>
                  <a:pt x="19968" y="8582"/>
                </a:cubicBezTo>
                <a:cubicBezTo>
                  <a:pt x="19923" y="8582"/>
                  <a:pt x="19869" y="8586"/>
                  <a:pt x="19844" y="8632"/>
                </a:cubicBezTo>
                <a:cubicBezTo>
                  <a:pt x="19822" y="8672"/>
                  <a:pt x="19855" y="8748"/>
                  <a:pt x="19869" y="8781"/>
                </a:cubicBezTo>
                <a:cubicBezTo>
                  <a:pt x="19898" y="8848"/>
                  <a:pt x="19935" y="8901"/>
                  <a:pt x="19918" y="8979"/>
                </a:cubicBezTo>
                <a:cubicBezTo>
                  <a:pt x="19899" y="9066"/>
                  <a:pt x="19880" y="9121"/>
                  <a:pt x="19794" y="9128"/>
                </a:cubicBezTo>
                <a:cubicBezTo>
                  <a:pt x="19769" y="9128"/>
                  <a:pt x="19761" y="9128"/>
                  <a:pt x="19769" y="9103"/>
                </a:cubicBezTo>
                <a:cubicBezTo>
                  <a:pt x="19795" y="8988"/>
                  <a:pt x="19875" y="8908"/>
                  <a:pt x="19968" y="8830"/>
                </a:cubicBezTo>
                <a:cubicBezTo>
                  <a:pt x="20067" y="8756"/>
                  <a:pt x="20100" y="8731"/>
                  <a:pt x="20166" y="8682"/>
                </a:cubicBezTo>
              </a:path>
              <a:path w="7070" h="2730">
                <a:moveTo>
                  <a:pt x="20638" y="7020"/>
                </a:moveTo>
                <a:cubicBezTo>
                  <a:pt x="20681" y="7118"/>
                  <a:pt x="20739" y="7239"/>
                  <a:pt x="20762" y="7342"/>
                </a:cubicBezTo>
                <a:cubicBezTo>
                  <a:pt x="20819" y="7594"/>
                  <a:pt x="20841" y="7905"/>
                  <a:pt x="20811" y="8161"/>
                </a:cubicBezTo>
                <a:cubicBezTo>
                  <a:pt x="20778" y="8437"/>
                  <a:pt x="20692" y="8723"/>
                  <a:pt x="20588" y="8979"/>
                </a:cubicBezTo>
                <a:cubicBezTo>
                  <a:pt x="20526" y="9131"/>
                  <a:pt x="20449" y="9261"/>
                  <a:pt x="20365" y="9401"/>
                </a:cubicBezTo>
              </a:path>
              <a:path w="7070" h="2730">
                <a:moveTo>
                  <a:pt x="16396" y="7491"/>
                </a:moveTo>
                <a:cubicBezTo>
                  <a:pt x="16328" y="7559"/>
                  <a:pt x="16464" y="7377"/>
                  <a:pt x="16470" y="7367"/>
                </a:cubicBezTo>
                <a:cubicBezTo>
                  <a:pt x="16562" y="7228"/>
                  <a:pt x="16673" y="7097"/>
                  <a:pt x="16743" y="6945"/>
                </a:cubicBezTo>
                <a:cubicBezTo>
                  <a:pt x="16764" y="6900"/>
                  <a:pt x="16835" y="6745"/>
                  <a:pt x="16818" y="6697"/>
                </a:cubicBezTo>
                <a:cubicBezTo>
                  <a:pt x="16810" y="6689"/>
                  <a:pt x="16801" y="6680"/>
                  <a:pt x="16793" y="6672"/>
                </a:cubicBezTo>
                <a:cubicBezTo>
                  <a:pt x="16763" y="6682"/>
                  <a:pt x="16713" y="6780"/>
                  <a:pt x="16694" y="6821"/>
                </a:cubicBezTo>
                <a:cubicBezTo>
                  <a:pt x="16644" y="6930"/>
                  <a:pt x="16625" y="7075"/>
                  <a:pt x="16644" y="7193"/>
                </a:cubicBezTo>
                <a:cubicBezTo>
                  <a:pt x="16657" y="7274"/>
                  <a:pt x="16698" y="7359"/>
                  <a:pt x="16793" y="7342"/>
                </a:cubicBezTo>
                <a:cubicBezTo>
                  <a:pt x="16877" y="7327"/>
                  <a:pt x="16967" y="7237"/>
                  <a:pt x="17016" y="7169"/>
                </a:cubicBezTo>
                <a:cubicBezTo>
                  <a:pt x="17031" y="7148"/>
                  <a:pt x="17064" y="7048"/>
                  <a:pt x="17041" y="7020"/>
                </a:cubicBezTo>
                <a:cubicBezTo>
                  <a:pt x="17033" y="7020"/>
                  <a:pt x="17024" y="7020"/>
                  <a:pt x="17016" y="7020"/>
                </a:cubicBezTo>
                <a:cubicBezTo>
                  <a:pt x="17004" y="7067"/>
                  <a:pt x="16974" y="7110"/>
                  <a:pt x="16991" y="7169"/>
                </a:cubicBezTo>
                <a:cubicBezTo>
                  <a:pt x="17005" y="7218"/>
                  <a:pt x="17033" y="7233"/>
                  <a:pt x="17090" y="7218"/>
                </a:cubicBezTo>
                <a:cubicBezTo>
                  <a:pt x="17135" y="7206"/>
                  <a:pt x="17140" y="7155"/>
                  <a:pt x="17140" y="7119"/>
                </a:cubicBezTo>
                <a:cubicBezTo>
                  <a:pt x="17140" y="7056"/>
                  <a:pt x="17121" y="7022"/>
                  <a:pt x="17115" y="6970"/>
                </a:cubicBezTo>
                <a:cubicBezTo>
                  <a:pt x="17115" y="6962"/>
                  <a:pt x="17115" y="6953"/>
                  <a:pt x="17115" y="6945"/>
                </a:cubicBezTo>
              </a:path>
              <a:path w="7070" h="2730">
                <a:moveTo>
                  <a:pt x="17487" y="6871"/>
                </a:moveTo>
                <a:cubicBezTo>
                  <a:pt x="17424" y="6862"/>
                  <a:pt x="17433" y="6849"/>
                  <a:pt x="17388" y="6871"/>
                </a:cubicBezTo>
                <a:cubicBezTo>
                  <a:pt x="17388" y="6930"/>
                  <a:pt x="17395" y="7017"/>
                  <a:pt x="17413" y="7069"/>
                </a:cubicBezTo>
                <a:cubicBezTo>
                  <a:pt x="17462" y="7212"/>
                  <a:pt x="17482" y="7335"/>
                  <a:pt x="17487" y="7491"/>
                </a:cubicBezTo>
                <a:cubicBezTo>
                  <a:pt x="17489" y="7560"/>
                  <a:pt x="17493" y="7588"/>
                  <a:pt x="17462" y="7640"/>
                </a:cubicBezTo>
                <a:cubicBezTo>
                  <a:pt x="17410" y="7586"/>
                  <a:pt x="17373" y="7519"/>
                  <a:pt x="17363" y="7441"/>
                </a:cubicBezTo>
                <a:cubicBezTo>
                  <a:pt x="17347" y="7314"/>
                  <a:pt x="17445" y="7175"/>
                  <a:pt x="17537" y="7094"/>
                </a:cubicBezTo>
                <a:cubicBezTo>
                  <a:pt x="17608" y="7047"/>
                  <a:pt x="17630" y="7031"/>
                  <a:pt x="17686" y="7020"/>
                </a:cubicBezTo>
              </a:path>
              <a:path w="7070" h="2730">
                <a:moveTo>
                  <a:pt x="16545" y="8161"/>
                </a:moveTo>
                <a:cubicBezTo>
                  <a:pt x="16499" y="8194"/>
                  <a:pt x="16429" y="8250"/>
                  <a:pt x="16396" y="8310"/>
                </a:cubicBezTo>
                <a:cubicBezTo>
                  <a:pt x="16290" y="8500"/>
                  <a:pt x="16186" y="8706"/>
                  <a:pt x="16098" y="8905"/>
                </a:cubicBezTo>
                <a:cubicBezTo>
                  <a:pt x="16050" y="9015"/>
                  <a:pt x="15989" y="9135"/>
                  <a:pt x="15974" y="9252"/>
                </a:cubicBezTo>
                <a:cubicBezTo>
                  <a:pt x="16051" y="9160"/>
                  <a:pt x="16111" y="9057"/>
                  <a:pt x="16173" y="8954"/>
                </a:cubicBezTo>
                <a:cubicBezTo>
                  <a:pt x="16286" y="8767"/>
                  <a:pt x="16394" y="8577"/>
                  <a:pt x="16495" y="8384"/>
                </a:cubicBezTo>
                <a:cubicBezTo>
                  <a:pt x="16535" y="8308"/>
                  <a:pt x="16577" y="8236"/>
                  <a:pt x="16619" y="8161"/>
                </a:cubicBezTo>
                <a:cubicBezTo>
                  <a:pt x="16645" y="8221"/>
                  <a:pt x="16625" y="8310"/>
                  <a:pt x="16619" y="8409"/>
                </a:cubicBezTo>
                <a:cubicBezTo>
                  <a:pt x="16606" y="8626"/>
                  <a:pt x="16621" y="8824"/>
                  <a:pt x="16669" y="9029"/>
                </a:cubicBezTo>
                <a:cubicBezTo>
                  <a:pt x="16692" y="9141"/>
                  <a:pt x="16693" y="9172"/>
                  <a:pt x="16743" y="9227"/>
                </a:cubicBezTo>
              </a:path>
              <a:path w="7070" h="2730">
                <a:moveTo>
                  <a:pt x="16197" y="7169"/>
                </a:moveTo>
                <a:cubicBezTo>
                  <a:pt x="16171" y="7133"/>
                  <a:pt x="16166" y="7106"/>
                  <a:pt x="16222" y="7094"/>
                </a:cubicBezTo>
                <a:cubicBezTo>
                  <a:pt x="16289" y="7080"/>
                  <a:pt x="16354" y="7060"/>
                  <a:pt x="16421" y="7045"/>
                </a:cubicBezTo>
                <a:cubicBezTo>
                  <a:pt x="16454" y="7045"/>
                  <a:pt x="16470" y="7045"/>
                  <a:pt x="16495" y="7045"/>
                </a:cubicBezTo>
              </a:path>
              <a:path w="7070" h="2730">
                <a:moveTo>
                  <a:pt x="16396" y="6896"/>
                </a:moveTo>
                <a:cubicBezTo>
                  <a:pt x="16350" y="6987"/>
                  <a:pt x="16346" y="7041"/>
                  <a:pt x="16346" y="7144"/>
                </a:cubicBezTo>
                <a:cubicBezTo>
                  <a:pt x="16346" y="7236"/>
                  <a:pt x="16344" y="7262"/>
                  <a:pt x="16371" y="73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85040" y="3446640"/>
            <a:ext cx="1438200" cy="2260440"/>
          </a:xfrm>
          <a:custGeom>
            <a:avLst/>
            <a:gdLst/>
            <a:ahLst/>
            <a:rect l="l" t="t" r="r" b="b"/>
            <a:pathLst>
              <a:path w="3995" h="6276">
                <a:moveTo>
                  <a:pt x="24433" y="15850"/>
                </a:moveTo>
                <a:cubicBezTo>
                  <a:pt x="24441" y="15796"/>
                  <a:pt x="24446" y="15714"/>
                  <a:pt x="24457" y="15652"/>
                </a:cubicBezTo>
                <a:cubicBezTo>
                  <a:pt x="24475" y="15552"/>
                  <a:pt x="24501" y="15460"/>
                  <a:pt x="24507" y="15354"/>
                </a:cubicBezTo>
                <a:cubicBezTo>
                  <a:pt x="24524" y="15069"/>
                  <a:pt x="24528" y="14762"/>
                  <a:pt x="24457" y="14486"/>
                </a:cubicBezTo>
                <a:cubicBezTo>
                  <a:pt x="24422" y="14350"/>
                  <a:pt x="24365" y="14191"/>
                  <a:pt x="24309" y="14064"/>
                </a:cubicBezTo>
                <a:cubicBezTo>
                  <a:pt x="24251" y="13931"/>
                  <a:pt x="24199" y="13796"/>
                  <a:pt x="24135" y="13667"/>
                </a:cubicBezTo>
                <a:cubicBezTo>
                  <a:pt x="24058" y="13511"/>
                  <a:pt x="23990" y="13353"/>
                  <a:pt x="23912" y="13196"/>
                </a:cubicBezTo>
                <a:cubicBezTo>
                  <a:pt x="23837" y="13046"/>
                  <a:pt x="23743" y="12905"/>
                  <a:pt x="23639" y="12774"/>
                </a:cubicBezTo>
                <a:cubicBezTo>
                  <a:pt x="23528" y="12634"/>
                  <a:pt x="23400" y="12521"/>
                  <a:pt x="23267" y="12402"/>
                </a:cubicBezTo>
                <a:cubicBezTo>
                  <a:pt x="23066" y="12223"/>
                  <a:pt x="22928" y="12044"/>
                  <a:pt x="22771" y="11832"/>
                </a:cubicBezTo>
                <a:cubicBezTo>
                  <a:pt x="22673" y="11700"/>
                  <a:pt x="22598" y="11581"/>
                  <a:pt x="22523" y="11435"/>
                </a:cubicBezTo>
                <a:cubicBezTo>
                  <a:pt x="22473" y="11338"/>
                  <a:pt x="22438" y="11240"/>
                  <a:pt x="22399" y="11137"/>
                </a:cubicBezTo>
                <a:cubicBezTo>
                  <a:pt x="22368" y="11054"/>
                  <a:pt x="22339" y="10969"/>
                  <a:pt x="22299" y="10889"/>
                </a:cubicBezTo>
                <a:cubicBezTo>
                  <a:pt x="22256" y="10804"/>
                  <a:pt x="22224" y="10720"/>
                  <a:pt x="22175" y="10641"/>
                </a:cubicBezTo>
                <a:cubicBezTo>
                  <a:pt x="22130" y="10569"/>
                  <a:pt x="22055" y="10510"/>
                  <a:pt x="22002" y="10443"/>
                </a:cubicBezTo>
                <a:cubicBezTo>
                  <a:pt x="21961" y="10392"/>
                  <a:pt x="21922" y="10315"/>
                  <a:pt x="21878" y="10269"/>
                </a:cubicBezTo>
                <a:cubicBezTo>
                  <a:pt x="21821" y="10210"/>
                  <a:pt x="21728" y="10158"/>
                  <a:pt x="21654" y="10120"/>
                </a:cubicBezTo>
                <a:cubicBezTo>
                  <a:pt x="21580" y="10082"/>
                  <a:pt x="21485" y="10049"/>
                  <a:pt x="21406" y="10021"/>
                </a:cubicBezTo>
                <a:cubicBezTo>
                  <a:pt x="21330" y="9994"/>
                  <a:pt x="21260" y="9973"/>
                  <a:pt x="21183" y="9947"/>
                </a:cubicBezTo>
                <a:cubicBezTo>
                  <a:pt x="21130" y="9929"/>
                  <a:pt x="21084" y="9912"/>
                  <a:pt x="21034" y="9897"/>
                </a:cubicBezTo>
                <a:cubicBezTo>
                  <a:pt x="20979" y="9880"/>
                  <a:pt x="20919" y="9864"/>
                  <a:pt x="20861" y="9847"/>
                </a:cubicBezTo>
                <a:cubicBezTo>
                  <a:pt x="20816" y="9834"/>
                  <a:pt x="20754" y="9819"/>
                  <a:pt x="20712" y="9798"/>
                </a:cubicBezTo>
                <a:cubicBezTo>
                  <a:pt x="20672" y="9778"/>
                  <a:pt x="20659" y="9773"/>
                  <a:pt x="20638" y="9748"/>
                </a:cubicBezTo>
                <a:cubicBezTo>
                  <a:pt x="20619" y="9725"/>
                  <a:pt x="20633" y="9706"/>
                  <a:pt x="20613" y="9674"/>
                </a:cubicBezTo>
                <a:cubicBezTo>
                  <a:pt x="20621" y="9674"/>
                  <a:pt x="20630" y="9674"/>
                  <a:pt x="20638" y="9674"/>
                </a:cubicBezTo>
                <a:cubicBezTo>
                  <a:pt x="20609" y="9732"/>
                  <a:pt x="20585" y="9737"/>
                  <a:pt x="20563" y="9798"/>
                </a:cubicBezTo>
                <a:cubicBezTo>
                  <a:pt x="20529" y="9889"/>
                  <a:pt x="20531" y="9956"/>
                  <a:pt x="20513" y="10046"/>
                </a:cubicBezTo>
                <a:cubicBezTo>
                  <a:pt x="20520" y="10030"/>
                  <a:pt x="20576" y="9967"/>
                  <a:pt x="20588" y="9922"/>
                </a:cubicBezTo>
                <a:cubicBezTo>
                  <a:pt x="20614" y="9822"/>
                  <a:pt x="20623" y="9723"/>
                  <a:pt x="20638" y="9624"/>
                </a:cubicBezTo>
                <a:cubicBezTo>
                  <a:pt x="20638" y="9616"/>
                  <a:pt x="20638" y="9607"/>
                  <a:pt x="20638" y="9599"/>
                </a:cubicBezTo>
                <a:cubicBezTo>
                  <a:pt x="20671" y="9609"/>
                  <a:pt x="20760" y="9629"/>
                  <a:pt x="20811" y="9649"/>
                </a:cubicBezTo>
                <a:cubicBezTo>
                  <a:pt x="20908" y="9686"/>
                  <a:pt x="21013" y="9710"/>
                  <a:pt x="21109" y="97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85960" y="3643200"/>
            <a:ext cx="608040" cy="349200"/>
          </a:xfrm>
          <a:custGeom>
            <a:avLst/>
            <a:gdLst/>
            <a:ahLst/>
            <a:rect l="l" t="t" r="r" b="b"/>
            <a:pathLst>
              <a:path w="1688" h="969">
                <a:moveTo>
                  <a:pt x="4986" y="10393"/>
                </a:moveTo>
                <a:cubicBezTo>
                  <a:pt x="4986" y="10368"/>
                  <a:pt x="4986" y="10360"/>
                  <a:pt x="4961" y="10368"/>
                </a:cubicBezTo>
                <a:cubicBezTo>
                  <a:pt x="4973" y="10323"/>
                  <a:pt x="5042" y="10266"/>
                  <a:pt x="5085" y="10244"/>
                </a:cubicBezTo>
                <a:cubicBezTo>
                  <a:pt x="5150" y="10210"/>
                  <a:pt x="5205" y="10202"/>
                  <a:pt x="5259" y="10220"/>
                </a:cubicBezTo>
                <a:cubicBezTo>
                  <a:pt x="5282" y="10337"/>
                  <a:pt x="5232" y="10451"/>
                  <a:pt x="5184" y="10567"/>
                </a:cubicBezTo>
                <a:cubicBezTo>
                  <a:pt x="5157" y="10632"/>
                  <a:pt x="5128" y="10688"/>
                  <a:pt x="5085" y="10740"/>
                </a:cubicBezTo>
                <a:cubicBezTo>
                  <a:pt x="5134" y="10693"/>
                  <a:pt x="5174" y="10649"/>
                  <a:pt x="5234" y="10616"/>
                </a:cubicBezTo>
                <a:cubicBezTo>
                  <a:pt x="5274" y="10596"/>
                  <a:pt x="5281" y="10588"/>
                  <a:pt x="5308" y="10592"/>
                </a:cubicBezTo>
                <a:cubicBezTo>
                  <a:pt x="5344" y="10687"/>
                  <a:pt x="5318" y="10720"/>
                  <a:pt x="5283" y="10815"/>
                </a:cubicBezTo>
                <a:cubicBezTo>
                  <a:pt x="5248" y="10910"/>
                  <a:pt x="5203" y="10988"/>
                  <a:pt x="5135" y="11063"/>
                </a:cubicBezTo>
                <a:cubicBezTo>
                  <a:pt x="5127" y="11071"/>
                  <a:pt x="5118" y="11080"/>
                  <a:pt x="5110" y="11088"/>
                </a:cubicBezTo>
              </a:path>
              <a:path w="1688" h="969">
                <a:moveTo>
                  <a:pt x="5631" y="10195"/>
                </a:moveTo>
                <a:cubicBezTo>
                  <a:pt x="5553" y="10156"/>
                  <a:pt x="5547" y="10298"/>
                  <a:pt x="5531" y="10368"/>
                </a:cubicBezTo>
                <a:cubicBezTo>
                  <a:pt x="5499" y="10512"/>
                  <a:pt x="5481" y="10636"/>
                  <a:pt x="5606" y="10740"/>
                </a:cubicBezTo>
                <a:cubicBezTo>
                  <a:pt x="5686" y="10807"/>
                  <a:pt x="5803" y="10702"/>
                  <a:pt x="5854" y="10641"/>
                </a:cubicBezTo>
                <a:cubicBezTo>
                  <a:pt x="5926" y="10555"/>
                  <a:pt x="5954" y="10449"/>
                  <a:pt x="5904" y="10344"/>
                </a:cubicBezTo>
                <a:cubicBezTo>
                  <a:pt x="5851" y="10233"/>
                  <a:pt x="5734" y="10192"/>
                  <a:pt x="5631" y="10145"/>
                </a:cubicBezTo>
                <a:cubicBezTo>
                  <a:pt x="5584" y="10123"/>
                  <a:pt x="5547" y="10097"/>
                  <a:pt x="5531" y="10145"/>
                </a:cubicBezTo>
              </a:path>
              <a:path w="1688" h="969">
                <a:moveTo>
                  <a:pt x="6226" y="10567"/>
                </a:moveTo>
                <a:cubicBezTo>
                  <a:pt x="6218" y="10628"/>
                  <a:pt x="6201" y="10676"/>
                  <a:pt x="6201" y="10740"/>
                </a:cubicBezTo>
                <a:cubicBezTo>
                  <a:pt x="6201" y="10765"/>
                  <a:pt x="6201" y="10773"/>
                  <a:pt x="6201" y="10790"/>
                </a:cubicBezTo>
                <a:cubicBezTo>
                  <a:pt x="6226" y="10777"/>
                  <a:pt x="6306" y="10701"/>
                  <a:pt x="6325" y="10666"/>
                </a:cubicBezTo>
                <a:cubicBezTo>
                  <a:pt x="6360" y="10603"/>
                  <a:pt x="6364" y="10548"/>
                  <a:pt x="6424" y="10517"/>
                </a:cubicBezTo>
                <a:cubicBezTo>
                  <a:pt x="6424" y="10581"/>
                  <a:pt x="6405" y="10628"/>
                  <a:pt x="6400" y="10691"/>
                </a:cubicBezTo>
                <a:cubicBezTo>
                  <a:pt x="6400" y="10716"/>
                  <a:pt x="6400" y="10724"/>
                  <a:pt x="6400" y="10740"/>
                </a:cubicBezTo>
                <a:cubicBezTo>
                  <a:pt x="6455" y="10726"/>
                  <a:pt x="6471" y="10692"/>
                  <a:pt x="6499" y="10641"/>
                </a:cubicBezTo>
                <a:cubicBezTo>
                  <a:pt x="6531" y="10581"/>
                  <a:pt x="6552" y="10518"/>
                  <a:pt x="6598" y="10468"/>
                </a:cubicBezTo>
                <a:cubicBezTo>
                  <a:pt x="6606" y="10460"/>
                  <a:pt x="6615" y="10451"/>
                  <a:pt x="6623" y="10443"/>
                </a:cubicBezTo>
                <a:cubicBezTo>
                  <a:pt x="6623" y="10541"/>
                  <a:pt x="6625" y="10625"/>
                  <a:pt x="6648" y="10716"/>
                </a:cubicBezTo>
                <a:cubicBezTo>
                  <a:pt x="6648" y="10724"/>
                  <a:pt x="6648" y="10732"/>
                  <a:pt x="6648" y="107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36920" y="3581280"/>
            <a:ext cx="150840" cy="276480"/>
          </a:xfrm>
          <a:custGeom>
            <a:avLst/>
            <a:gdLst/>
            <a:ahLst/>
            <a:rect l="l" t="t" r="r" b="b"/>
            <a:pathLst>
              <a:path w="422" h="770">
                <a:moveTo>
                  <a:pt x="7094" y="9947"/>
                </a:moveTo>
                <a:cubicBezTo>
                  <a:pt x="7094" y="10027"/>
                  <a:pt x="7076" y="10091"/>
                  <a:pt x="7069" y="10170"/>
                </a:cubicBezTo>
                <a:cubicBezTo>
                  <a:pt x="7057" y="10304"/>
                  <a:pt x="7022" y="10457"/>
                  <a:pt x="7045" y="10592"/>
                </a:cubicBezTo>
                <a:cubicBezTo>
                  <a:pt x="7055" y="10652"/>
                  <a:pt x="7095" y="10734"/>
                  <a:pt x="7169" y="10716"/>
                </a:cubicBezTo>
                <a:cubicBezTo>
                  <a:pt x="7260" y="10694"/>
                  <a:pt x="7320" y="10610"/>
                  <a:pt x="7417" y="10592"/>
                </a:cubicBezTo>
                <a:cubicBezTo>
                  <a:pt x="7433" y="10592"/>
                  <a:pt x="7450" y="10592"/>
                  <a:pt x="7466" y="105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73240" y="3670200"/>
            <a:ext cx="277920" cy="347760"/>
          </a:xfrm>
          <a:custGeom>
            <a:avLst/>
            <a:gdLst/>
            <a:ahLst/>
            <a:rect l="l" t="t" r="r" b="b"/>
            <a:pathLst>
              <a:path w="770" h="968">
                <a:moveTo>
                  <a:pt x="8260" y="10468"/>
                </a:moveTo>
                <a:cubicBezTo>
                  <a:pt x="8260" y="10518"/>
                  <a:pt x="8241" y="10582"/>
                  <a:pt x="8285" y="10616"/>
                </a:cubicBezTo>
                <a:cubicBezTo>
                  <a:pt x="8368" y="10680"/>
                  <a:pt x="8413" y="10610"/>
                  <a:pt x="8458" y="10542"/>
                </a:cubicBezTo>
                <a:cubicBezTo>
                  <a:pt x="8516" y="10454"/>
                  <a:pt x="8467" y="10367"/>
                  <a:pt x="8409" y="10294"/>
                </a:cubicBezTo>
                <a:cubicBezTo>
                  <a:pt x="8382" y="10259"/>
                  <a:pt x="8342" y="10227"/>
                  <a:pt x="8310" y="10195"/>
                </a:cubicBezTo>
                <a:cubicBezTo>
                  <a:pt x="8374" y="10223"/>
                  <a:pt x="8443" y="10252"/>
                  <a:pt x="8508" y="10294"/>
                </a:cubicBezTo>
                <a:cubicBezTo>
                  <a:pt x="8609" y="10358"/>
                  <a:pt x="8730" y="10427"/>
                  <a:pt x="8781" y="10542"/>
                </a:cubicBezTo>
                <a:cubicBezTo>
                  <a:pt x="8842" y="10680"/>
                  <a:pt x="8830" y="10842"/>
                  <a:pt x="8830" y="10988"/>
                </a:cubicBezTo>
                <a:cubicBezTo>
                  <a:pt x="8830" y="11059"/>
                  <a:pt x="8826" y="11104"/>
                  <a:pt x="8855" y="11162"/>
                </a:cubicBezTo>
                <a:cubicBezTo>
                  <a:pt x="8926" y="11153"/>
                  <a:pt x="8936" y="11151"/>
                  <a:pt x="8979" y="11088"/>
                </a:cubicBezTo>
                <a:cubicBezTo>
                  <a:pt x="9017" y="11032"/>
                  <a:pt x="9058" y="10938"/>
                  <a:pt x="9029" y="10864"/>
                </a:cubicBezTo>
                <a:cubicBezTo>
                  <a:pt x="8998" y="10785"/>
                  <a:pt x="8886" y="10830"/>
                  <a:pt x="8830" y="10815"/>
                </a:cubicBezTo>
                <a:cubicBezTo>
                  <a:pt x="8814" y="10807"/>
                  <a:pt x="8797" y="10798"/>
                  <a:pt x="8781" y="107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10000" y="3537000"/>
            <a:ext cx="919080" cy="303120"/>
          </a:xfrm>
          <a:custGeom>
            <a:avLst/>
            <a:gdLst/>
            <a:ahLst/>
            <a:rect l="l" t="t" r="r" b="b"/>
            <a:pathLst>
              <a:path w="2556" h="844">
                <a:moveTo>
                  <a:pt x="9922" y="9897"/>
                </a:moveTo>
                <a:cubicBezTo>
                  <a:pt x="9994" y="9886"/>
                  <a:pt x="10038" y="9872"/>
                  <a:pt x="10120" y="9872"/>
                </a:cubicBezTo>
                <a:cubicBezTo>
                  <a:pt x="10189" y="9872"/>
                  <a:pt x="10264" y="9854"/>
                  <a:pt x="10319" y="9823"/>
                </a:cubicBezTo>
              </a:path>
              <a:path w="2556" h="844">
                <a:moveTo>
                  <a:pt x="10021" y="9947"/>
                </a:moveTo>
                <a:cubicBezTo>
                  <a:pt x="9951" y="9985"/>
                  <a:pt x="9900" y="9992"/>
                  <a:pt x="9847" y="10046"/>
                </a:cubicBezTo>
                <a:cubicBezTo>
                  <a:pt x="9810" y="10084"/>
                  <a:pt x="9812" y="10130"/>
                  <a:pt x="9847" y="10170"/>
                </a:cubicBezTo>
                <a:cubicBezTo>
                  <a:pt x="9905" y="10237"/>
                  <a:pt x="9975" y="10304"/>
                  <a:pt x="9996" y="10393"/>
                </a:cubicBezTo>
                <a:cubicBezTo>
                  <a:pt x="10011" y="10455"/>
                  <a:pt x="9976" y="10542"/>
                  <a:pt x="9922" y="10567"/>
                </a:cubicBezTo>
                <a:cubicBezTo>
                  <a:pt x="9873" y="10590"/>
                  <a:pt x="9785" y="10564"/>
                  <a:pt x="9748" y="10542"/>
                </a:cubicBezTo>
              </a:path>
              <a:path w="2556" h="844">
                <a:moveTo>
                  <a:pt x="10468" y="10517"/>
                </a:moveTo>
                <a:cubicBezTo>
                  <a:pt x="10461" y="10523"/>
                  <a:pt x="10357" y="10617"/>
                  <a:pt x="10393" y="10567"/>
                </a:cubicBezTo>
                <a:cubicBezTo>
                  <a:pt x="10401" y="10559"/>
                  <a:pt x="10410" y="10550"/>
                  <a:pt x="10418" y="10542"/>
                </a:cubicBezTo>
              </a:path>
              <a:path w="2556" h="844">
                <a:moveTo>
                  <a:pt x="10964" y="10071"/>
                </a:moveTo>
                <a:cubicBezTo>
                  <a:pt x="10972" y="10054"/>
                  <a:pt x="10980" y="10038"/>
                  <a:pt x="10988" y="10021"/>
                </a:cubicBezTo>
                <a:cubicBezTo>
                  <a:pt x="10911" y="10077"/>
                  <a:pt x="10837" y="10195"/>
                  <a:pt x="10815" y="10294"/>
                </a:cubicBezTo>
                <a:cubicBezTo>
                  <a:pt x="10784" y="10436"/>
                  <a:pt x="10839" y="10555"/>
                  <a:pt x="10988" y="10542"/>
                </a:cubicBezTo>
                <a:cubicBezTo>
                  <a:pt x="11109" y="10531"/>
                  <a:pt x="11235" y="10412"/>
                  <a:pt x="11261" y="10294"/>
                </a:cubicBezTo>
                <a:cubicBezTo>
                  <a:pt x="11284" y="10188"/>
                  <a:pt x="11202" y="10136"/>
                  <a:pt x="11137" y="10071"/>
                </a:cubicBezTo>
                <a:cubicBezTo>
                  <a:pt x="11096" y="10030"/>
                  <a:pt x="11057" y="10006"/>
                  <a:pt x="11013" y="9971"/>
                </a:cubicBezTo>
              </a:path>
              <a:path w="2556" h="844">
                <a:moveTo>
                  <a:pt x="11708" y="9971"/>
                </a:moveTo>
                <a:cubicBezTo>
                  <a:pt x="11674" y="10130"/>
                  <a:pt x="11630" y="10294"/>
                  <a:pt x="11584" y="10443"/>
                </a:cubicBezTo>
                <a:cubicBezTo>
                  <a:pt x="11560" y="10491"/>
                  <a:pt x="11551" y="10505"/>
                  <a:pt x="11559" y="10542"/>
                </a:cubicBezTo>
                <a:cubicBezTo>
                  <a:pt x="11617" y="10484"/>
                  <a:pt x="11673" y="10420"/>
                  <a:pt x="11708" y="10344"/>
                </a:cubicBezTo>
                <a:cubicBezTo>
                  <a:pt x="11745" y="10264"/>
                  <a:pt x="11777" y="10189"/>
                  <a:pt x="11832" y="10120"/>
                </a:cubicBezTo>
                <a:cubicBezTo>
                  <a:pt x="11832" y="10252"/>
                  <a:pt x="11832" y="10385"/>
                  <a:pt x="11832" y="10517"/>
                </a:cubicBezTo>
                <a:cubicBezTo>
                  <a:pt x="11925" y="10480"/>
                  <a:pt x="11918" y="10407"/>
                  <a:pt x="11956" y="10319"/>
                </a:cubicBezTo>
                <a:cubicBezTo>
                  <a:pt x="12007" y="10201"/>
                  <a:pt x="12053" y="10087"/>
                  <a:pt x="12105" y="9971"/>
                </a:cubicBezTo>
                <a:cubicBezTo>
                  <a:pt x="12126" y="9928"/>
                  <a:pt x="12130" y="9916"/>
                  <a:pt x="12154" y="9897"/>
                </a:cubicBezTo>
                <a:cubicBezTo>
                  <a:pt x="12206" y="9914"/>
                  <a:pt x="12179" y="10040"/>
                  <a:pt x="12179" y="10096"/>
                </a:cubicBezTo>
                <a:cubicBezTo>
                  <a:pt x="12179" y="10246"/>
                  <a:pt x="12188" y="10422"/>
                  <a:pt x="12229" y="10567"/>
                </a:cubicBezTo>
                <a:cubicBezTo>
                  <a:pt x="12243" y="10616"/>
                  <a:pt x="12268" y="10648"/>
                  <a:pt x="12303" y="106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06920" y="3589200"/>
            <a:ext cx="652320" cy="304920"/>
          </a:xfrm>
          <a:custGeom>
            <a:avLst/>
            <a:gdLst/>
            <a:ahLst/>
            <a:rect l="l" t="t" r="r" b="b"/>
            <a:pathLst>
              <a:path w="1812" h="845">
                <a:moveTo>
                  <a:pt x="12849" y="10046"/>
                </a:moveTo>
                <a:cubicBezTo>
                  <a:pt x="12794" y="10028"/>
                  <a:pt x="12824" y="10170"/>
                  <a:pt x="12824" y="10244"/>
                </a:cubicBezTo>
                <a:cubicBezTo>
                  <a:pt x="12824" y="10397"/>
                  <a:pt x="12805" y="10540"/>
                  <a:pt x="12799" y="10691"/>
                </a:cubicBezTo>
                <a:cubicBezTo>
                  <a:pt x="12799" y="10707"/>
                  <a:pt x="12799" y="10724"/>
                  <a:pt x="12799" y="10740"/>
                </a:cubicBezTo>
              </a:path>
              <a:path w="1812" h="845">
                <a:moveTo>
                  <a:pt x="12824" y="10443"/>
                </a:moveTo>
                <a:cubicBezTo>
                  <a:pt x="12903" y="10443"/>
                  <a:pt x="12973" y="10425"/>
                  <a:pt x="13047" y="10393"/>
                </a:cubicBezTo>
                <a:cubicBezTo>
                  <a:pt x="13138" y="10354"/>
                  <a:pt x="13214" y="10299"/>
                  <a:pt x="13295" y="10244"/>
                </a:cubicBezTo>
              </a:path>
              <a:path w="1812" h="845">
                <a:moveTo>
                  <a:pt x="13444" y="10071"/>
                </a:moveTo>
                <a:cubicBezTo>
                  <a:pt x="13422" y="10006"/>
                  <a:pt x="13424" y="9981"/>
                  <a:pt x="13370" y="9996"/>
                </a:cubicBezTo>
                <a:cubicBezTo>
                  <a:pt x="13295" y="10071"/>
                  <a:pt x="13253" y="10112"/>
                  <a:pt x="13246" y="10220"/>
                </a:cubicBezTo>
                <a:cubicBezTo>
                  <a:pt x="13238" y="10349"/>
                  <a:pt x="13248" y="10470"/>
                  <a:pt x="13295" y="10592"/>
                </a:cubicBezTo>
                <a:cubicBezTo>
                  <a:pt x="13303" y="10608"/>
                  <a:pt x="13312" y="10625"/>
                  <a:pt x="13320" y="10641"/>
                </a:cubicBezTo>
              </a:path>
              <a:path w="1812" h="845">
                <a:moveTo>
                  <a:pt x="14015" y="10046"/>
                </a:moveTo>
                <a:cubicBezTo>
                  <a:pt x="14007" y="10021"/>
                  <a:pt x="13998" y="9996"/>
                  <a:pt x="13990" y="9971"/>
                </a:cubicBezTo>
                <a:cubicBezTo>
                  <a:pt x="13902" y="9991"/>
                  <a:pt x="13849" y="9996"/>
                  <a:pt x="13791" y="10096"/>
                </a:cubicBezTo>
                <a:cubicBezTo>
                  <a:pt x="13712" y="10231"/>
                  <a:pt x="13632" y="10458"/>
                  <a:pt x="13667" y="10616"/>
                </a:cubicBezTo>
                <a:cubicBezTo>
                  <a:pt x="13709" y="10806"/>
                  <a:pt x="13851" y="10824"/>
                  <a:pt x="14015" y="10765"/>
                </a:cubicBezTo>
                <a:cubicBezTo>
                  <a:pt x="14205" y="10696"/>
                  <a:pt x="14389" y="10553"/>
                  <a:pt x="14511" y="10393"/>
                </a:cubicBezTo>
                <a:cubicBezTo>
                  <a:pt x="14599" y="10278"/>
                  <a:pt x="14610" y="10182"/>
                  <a:pt x="14610" y="10046"/>
                </a:cubicBezTo>
                <a:cubicBezTo>
                  <a:pt x="14452" y="10073"/>
                  <a:pt x="14398" y="10139"/>
                  <a:pt x="14337" y="10294"/>
                </a:cubicBezTo>
                <a:cubicBezTo>
                  <a:pt x="14256" y="10499"/>
                  <a:pt x="14278" y="10648"/>
                  <a:pt x="14412" y="108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7240" y="4483080"/>
            <a:ext cx="920880" cy="741240"/>
          </a:xfrm>
          <a:custGeom>
            <a:avLst/>
            <a:gdLst/>
            <a:ahLst/>
            <a:rect l="l" t="t" r="r" b="b"/>
            <a:pathLst>
              <a:path w="2556" h="2060">
                <a:moveTo>
                  <a:pt x="1910" y="13370"/>
                </a:moveTo>
                <a:cubicBezTo>
                  <a:pt x="1921" y="13403"/>
                  <a:pt x="1933" y="13394"/>
                  <a:pt x="1935" y="13395"/>
                </a:cubicBezTo>
                <a:cubicBezTo>
                  <a:pt x="1961" y="13406"/>
                  <a:pt x="1961" y="13378"/>
                  <a:pt x="1984" y="13370"/>
                </a:cubicBezTo>
                <a:cubicBezTo>
                  <a:pt x="1975" y="13409"/>
                  <a:pt x="1960" y="13425"/>
                  <a:pt x="1960" y="13469"/>
                </a:cubicBezTo>
              </a:path>
              <a:path w="2556" h="2060">
                <a:moveTo>
                  <a:pt x="2282" y="12750"/>
                </a:moveTo>
                <a:cubicBezTo>
                  <a:pt x="2316" y="12700"/>
                  <a:pt x="2337" y="12680"/>
                  <a:pt x="2406" y="12675"/>
                </a:cubicBezTo>
                <a:cubicBezTo>
                  <a:pt x="2477" y="12670"/>
                  <a:pt x="2535" y="12666"/>
                  <a:pt x="2555" y="12750"/>
                </a:cubicBezTo>
                <a:cubicBezTo>
                  <a:pt x="2571" y="12818"/>
                  <a:pt x="2543" y="12893"/>
                  <a:pt x="2505" y="12948"/>
                </a:cubicBezTo>
                <a:cubicBezTo>
                  <a:pt x="2482" y="12971"/>
                  <a:pt x="2474" y="12975"/>
                  <a:pt x="2480" y="12998"/>
                </a:cubicBezTo>
                <a:cubicBezTo>
                  <a:pt x="2511" y="12998"/>
                  <a:pt x="2592" y="12982"/>
                  <a:pt x="2604" y="13022"/>
                </a:cubicBezTo>
                <a:cubicBezTo>
                  <a:pt x="2635" y="13123"/>
                  <a:pt x="2563" y="13206"/>
                  <a:pt x="2530" y="13295"/>
                </a:cubicBezTo>
                <a:cubicBezTo>
                  <a:pt x="2512" y="13344"/>
                  <a:pt x="2490" y="13394"/>
                  <a:pt x="2480" y="13444"/>
                </a:cubicBezTo>
              </a:path>
              <a:path w="2556" h="2060">
                <a:moveTo>
                  <a:pt x="2902" y="12650"/>
                </a:moveTo>
                <a:cubicBezTo>
                  <a:pt x="2835" y="12650"/>
                  <a:pt x="2941" y="12650"/>
                  <a:pt x="2952" y="12650"/>
                </a:cubicBezTo>
                <a:cubicBezTo>
                  <a:pt x="3025" y="12650"/>
                  <a:pt x="3048" y="12680"/>
                  <a:pt x="3051" y="12750"/>
                </a:cubicBezTo>
                <a:cubicBezTo>
                  <a:pt x="3056" y="12849"/>
                  <a:pt x="3014" y="12955"/>
                  <a:pt x="2977" y="13047"/>
                </a:cubicBezTo>
                <a:cubicBezTo>
                  <a:pt x="2959" y="13091"/>
                  <a:pt x="2925" y="13174"/>
                  <a:pt x="3001" y="13196"/>
                </a:cubicBezTo>
                <a:cubicBezTo>
                  <a:pt x="3077" y="13218"/>
                  <a:pt x="3190" y="13131"/>
                  <a:pt x="3249" y="13097"/>
                </a:cubicBezTo>
              </a:path>
              <a:path w="2556" h="2060">
                <a:moveTo>
                  <a:pt x="3572" y="12601"/>
                </a:moveTo>
                <a:cubicBezTo>
                  <a:pt x="3495" y="12629"/>
                  <a:pt x="3426" y="12640"/>
                  <a:pt x="3398" y="12725"/>
                </a:cubicBezTo>
                <a:cubicBezTo>
                  <a:pt x="3374" y="12796"/>
                  <a:pt x="3429" y="12830"/>
                  <a:pt x="3473" y="12874"/>
                </a:cubicBezTo>
                <a:cubicBezTo>
                  <a:pt x="3534" y="12935"/>
                  <a:pt x="3565" y="12960"/>
                  <a:pt x="3572" y="13047"/>
                </a:cubicBezTo>
                <a:cubicBezTo>
                  <a:pt x="3576" y="13095"/>
                  <a:pt x="3570" y="13109"/>
                  <a:pt x="3547" y="13146"/>
                </a:cubicBezTo>
              </a:path>
              <a:path w="2556" h="2060">
                <a:moveTo>
                  <a:pt x="3522" y="12551"/>
                </a:moveTo>
                <a:cubicBezTo>
                  <a:pt x="3617" y="12495"/>
                  <a:pt x="3635" y="12502"/>
                  <a:pt x="3746" y="12502"/>
                </a:cubicBezTo>
                <a:cubicBezTo>
                  <a:pt x="3823" y="12502"/>
                  <a:pt x="3899" y="12478"/>
                  <a:pt x="3969" y="12452"/>
                </a:cubicBezTo>
              </a:path>
              <a:path w="2556" h="2060">
                <a:moveTo>
                  <a:pt x="2034" y="14064"/>
                </a:moveTo>
                <a:cubicBezTo>
                  <a:pt x="2009" y="14064"/>
                  <a:pt x="2001" y="14064"/>
                  <a:pt x="1984" y="14064"/>
                </a:cubicBezTo>
                <a:cubicBezTo>
                  <a:pt x="2029" y="14002"/>
                  <a:pt x="2068" y="13979"/>
                  <a:pt x="2158" y="13940"/>
                </a:cubicBezTo>
                <a:cubicBezTo>
                  <a:pt x="2480" y="13800"/>
                  <a:pt x="2804" y="13662"/>
                  <a:pt x="3125" y="13519"/>
                </a:cubicBezTo>
                <a:cubicBezTo>
                  <a:pt x="3333" y="13427"/>
                  <a:pt x="3539" y="13337"/>
                  <a:pt x="3746" y="13246"/>
                </a:cubicBezTo>
              </a:path>
              <a:path w="2556" h="2060">
                <a:moveTo>
                  <a:pt x="2604" y="14436"/>
                </a:moveTo>
                <a:cubicBezTo>
                  <a:pt x="2563" y="14436"/>
                  <a:pt x="2580" y="14477"/>
                  <a:pt x="2580" y="14511"/>
                </a:cubicBezTo>
              </a:path>
              <a:path w="2556" h="2060">
                <a:moveTo>
                  <a:pt x="2902" y="13965"/>
                </a:moveTo>
                <a:cubicBezTo>
                  <a:pt x="2970" y="13936"/>
                  <a:pt x="2988" y="13931"/>
                  <a:pt x="3051" y="13965"/>
                </a:cubicBezTo>
                <a:cubicBezTo>
                  <a:pt x="3123" y="14004"/>
                  <a:pt x="3163" y="14076"/>
                  <a:pt x="3150" y="14163"/>
                </a:cubicBezTo>
                <a:cubicBezTo>
                  <a:pt x="3130" y="14293"/>
                  <a:pt x="3067" y="14355"/>
                  <a:pt x="2977" y="14436"/>
                </a:cubicBezTo>
                <a:cubicBezTo>
                  <a:pt x="2919" y="14489"/>
                  <a:pt x="2890" y="14508"/>
                  <a:pt x="2828" y="14461"/>
                </a:cubicBezTo>
                <a:cubicBezTo>
                  <a:pt x="2850" y="14372"/>
                  <a:pt x="2893" y="14338"/>
                  <a:pt x="2977" y="14288"/>
                </a:cubicBezTo>
                <a:cubicBezTo>
                  <a:pt x="3036" y="14252"/>
                  <a:pt x="3157" y="14245"/>
                  <a:pt x="3225" y="14263"/>
                </a:cubicBezTo>
                <a:cubicBezTo>
                  <a:pt x="3265" y="14283"/>
                  <a:pt x="3271" y="14292"/>
                  <a:pt x="3299" y="14288"/>
                </a:cubicBezTo>
              </a:path>
              <a:path w="2556" h="2060">
                <a:moveTo>
                  <a:pt x="4068" y="12998"/>
                </a:moveTo>
                <a:cubicBezTo>
                  <a:pt x="4156" y="12998"/>
                  <a:pt x="4236" y="13008"/>
                  <a:pt x="4316" y="12973"/>
                </a:cubicBezTo>
              </a:path>
              <a:path w="2556" h="2060">
                <a:moveTo>
                  <a:pt x="4242" y="13320"/>
                </a:moveTo>
                <a:cubicBezTo>
                  <a:pt x="4234" y="13328"/>
                  <a:pt x="4225" y="13337"/>
                  <a:pt x="4217" y="13345"/>
                </a:cubicBezTo>
                <a:cubicBezTo>
                  <a:pt x="4265" y="13345"/>
                  <a:pt x="4302" y="13327"/>
                  <a:pt x="4341" y="13295"/>
                </a:cubicBezTo>
                <a:cubicBezTo>
                  <a:pt x="4395" y="13241"/>
                  <a:pt x="4417" y="13221"/>
                  <a:pt x="4465" y="131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84240" y="4456080"/>
            <a:ext cx="1054080" cy="303120"/>
          </a:xfrm>
          <a:custGeom>
            <a:avLst/>
            <a:gdLst/>
            <a:ahLst/>
            <a:rect l="l" t="t" r="r" b="b"/>
            <a:pathLst>
              <a:path w="2928" h="844">
                <a:moveTo>
                  <a:pt x="5333" y="12452"/>
                </a:moveTo>
                <a:cubicBezTo>
                  <a:pt x="5301" y="12547"/>
                  <a:pt x="5291" y="12672"/>
                  <a:pt x="5283" y="12774"/>
                </a:cubicBezTo>
                <a:cubicBezTo>
                  <a:pt x="5274" y="12894"/>
                  <a:pt x="5250" y="13005"/>
                  <a:pt x="5234" y="13122"/>
                </a:cubicBezTo>
                <a:cubicBezTo>
                  <a:pt x="5234" y="13171"/>
                  <a:pt x="5234" y="13188"/>
                  <a:pt x="5234" y="13221"/>
                </a:cubicBezTo>
              </a:path>
              <a:path w="2928" h="844">
                <a:moveTo>
                  <a:pt x="5655" y="12973"/>
                </a:moveTo>
                <a:cubicBezTo>
                  <a:pt x="5697" y="12987"/>
                  <a:pt x="5683" y="12986"/>
                  <a:pt x="5655" y="13022"/>
                </a:cubicBezTo>
                <a:cubicBezTo>
                  <a:pt x="5680" y="13022"/>
                  <a:pt x="5688" y="13022"/>
                  <a:pt x="5680" y="12998"/>
                </a:cubicBezTo>
                <a:cubicBezTo>
                  <a:pt x="5688" y="13006"/>
                  <a:pt x="5638" y="13041"/>
                  <a:pt x="5606" y="13097"/>
                </a:cubicBezTo>
              </a:path>
              <a:path w="2928" h="844">
                <a:moveTo>
                  <a:pt x="6201" y="12378"/>
                </a:moveTo>
                <a:cubicBezTo>
                  <a:pt x="6155" y="12396"/>
                  <a:pt x="6074" y="12474"/>
                  <a:pt x="6052" y="12526"/>
                </a:cubicBezTo>
                <a:cubicBezTo>
                  <a:pt x="6008" y="12629"/>
                  <a:pt x="5961" y="12811"/>
                  <a:pt x="5978" y="12923"/>
                </a:cubicBezTo>
                <a:cubicBezTo>
                  <a:pt x="5990" y="13003"/>
                  <a:pt x="6023" y="13067"/>
                  <a:pt x="6102" y="13072"/>
                </a:cubicBezTo>
                <a:cubicBezTo>
                  <a:pt x="6162" y="13076"/>
                  <a:pt x="6206" y="13006"/>
                  <a:pt x="6226" y="12948"/>
                </a:cubicBezTo>
                <a:cubicBezTo>
                  <a:pt x="6226" y="12923"/>
                  <a:pt x="6226" y="12915"/>
                  <a:pt x="6226" y="12898"/>
                </a:cubicBezTo>
                <a:cubicBezTo>
                  <a:pt x="6176" y="12862"/>
                  <a:pt x="6129" y="12882"/>
                  <a:pt x="6077" y="12923"/>
                </a:cubicBezTo>
                <a:cubicBezTo>
                  <a:pt x="6006" y="12979"/>
                  <a:pt x="5956" y="13019"/>
                  <a:pt x="6003" y="13097"/>
                </a:cubicBezTo>
              </a:path>
              <a:path w="2928" h="844">
                <a:moveTo>
                  <a:pt x="6573" y="12526"/>
                </a:moveTo>
                <a:cubicBezTo>
                  <a:pt x="6619" y="12526"/>
                  <a:pt x="6637" y="12520"/>
                  <a:pt x="6672" y="12551"/>
                </a:cubicBezTo>
                <a:cubicBezTo>
                  <a:pt x="6730" y="12603"/>
                  <a:pt x="6698" y="12735"/>
                  <a:pt x="6672" y="12799"/>
                </a:cubicBezTo>
                <a:cubicBezTo>
                  <a:pt x="6631" y="12901"/>
                  <a:pt x="6567" y="13015"/>
                  <a:pt x="6474" y="13072"/>
                </a:cubicBezTo>
                <a:cubicBezTo>
                  <a:pt x="6417" y="13107"/>
                  <a:pt x="6419" y="13105"/>
                  <a:pt x="6375" y="13072"/>
                </a:cubicBezTo>
                <a:cubicBezTo>
                  <a:pt x="6375" y="13015"/>
                  <a:pt x="6399" y="12981"/>
                  <a:pt x="6449" y="12948"/>
                </a:cubicBezTo>
                <a:cubicBezTo>
                  <a:pt x="6491" y="12920"/>
                  <a:pt x="6562" y="12901"/>
                  <a:pt x="6598" y="12948"/>
                </a:cubicBezTo>
                <a:cubicBezTo>
                  <a:pt x="6644" y="13008"/>
                  <a:pt x="6665" y="13047"/>
                  <a:pt x="6747" y="13072"/>
                </a:cubicBezTo>
                <a:cubicBezTo>
                  <a:pt x="6755" y="13072"/>
                  <a:pt x="6764" y="13072"/>
                  <a:pt x="6772" y="13072"/>
                </a:cubicBezTo>
              </a:path>
              <a:path w="2928" h="844">
                <a:moveTo>
                  <a:pt x="7243" y="12601"/>
                </a:moveTo>
                <a:cubicBezTo>
                  <a:pt x="7211" y="12562"/>
                  <a:pt x="7136" y="12513"/>
                  <a:pt x="7069" y="12551"/>
                </a:cubicBezTo>
                <a:cubicBezTo>
                  <a:pt x="6996" y="12592"/>
                  <a:pt x="6950" y="12642"/>
                  <a:pt x="6945" y="12725"/>
                </a:cubicBezTo>
                <a:cubicBezTo>
                  <a:pt x="6940" y="12807"/>
                  <a:pt x="7004" y="12816"/>
                  <a:pt x="7069" y="12849"/>
                </a:cubicBezTo>
                <a:cubicBezTo>
                  <a:pt x="7120" y="12875"/>
                  <a:pt x="7186" y="12886"/>
                  <a:pt x="7193" y="12948"/>
                </a:cubicBezTo>
                <a:cubicBezTo>
                  <a:pt x="7199" y="13004"/>
                  <a:pt x="7083" y="13063"/>
                  <a:pt x="7045" y="13097"/>
                </a:cubicBezTo>
              </a:path>
              <a:path w="2928" h="844">
                <a:moveTo>
                  <a:pt x="7119" y="12576"/>
                </a:moveTo>
                <a:cubicBezTo>
                  <a:pt x="7179" y="12524"/>
                  <a:pt x="7215" y="12520"/>
                  <a:pt x="7293" y="12502"/>
                </a:cubicBezTo>
                <a:cubicBezTo>
                  <a:pt x="7335" y="12502"/>
                  <a:pt x="7361" y="12496"/>
                  <a:pt x="7392" y="12477"/>
                </a:cubicBezTo>
              </a:path>
              <a:path w="2928" h="844">
                <a:moveTo>
                  <a:pt x="7714" y="12601"/>
                </a:moveTo>
                <a:cubicBezTo>
                  <a:pt x="7777" y="12622"/>
                  <a:pt x="7687" y="12674"/>
                  <a:pt x="7665" y="12725"/>
                </a:cubicBezTo>
                <a:cubicBezTo>
                  <a:pt x="7625" y="12817"/>
                  <a:pt x="7561" y="12924"/>
                  <a:pt x="7541" y="13022"/>
                </a:cubicBezTo>
                <a:cubicBezTo>
                  <a:pt x="7541" y="13064"/>
                  <a:pt x="7541" y="13072"/>
                  <a:pt x="7541" y="13097"/>
                </a:cubicBezTo>
                <a:cubicBezTo>
                  <a:pt x="7585" y="13040"/>
                  <a:pt x="7626" y="12983"/>
                  <a:pt x="7665" y="12923"/>
                </a:cubicBezTo>
                <a:cubicBezTo>
                  <a:pt x="7711" y="12852"/>
                  <a:pt x="7742" y="12769"/>
                  <a:pt x="7789" y="12700"/>
                </a:cubicBezTo>
                <a:cubicBezTo>
                  <a:pt x="7813" y="12675"/>
                  <a:pt x="7821" y="12666"/>
                  <a:pt x="7838" y="12650"/>
                </a:cubicBezTo>
                <a:cubicBezTo>
                  <a:pt x="7838" y="12717"/>
                  <a:pt x="7823" y="12762"/>
                  <a:pt x="7813" y="12824"/>
                </a:cubicBezTo>
                <a:cubicBezTo>
                  <a:pt x="7803" y="12883"/>
                  <a:pt x="7818" y="12887"/>
                  <a:pt x="7863" y="12898"/>
                </a:cubicBezTo>
                <a:cubicBezTo>
                  <a:pt x="7930" y="12882"/>
                  <a:pt x="7945" y="12824"/>
                  <a:pt x="7987" y="12774"/>
                </a:cubicBezTo>
                <a:cubicBezTo>
                  <a:pt x="8047" y="12702"/>
                  <a:pt x="8080" y="12619"/>
                  <a:pt x="8136" y="12551"/>
                </a:cubicBezTo>
                <a:cubicBezTo>
                  <a:pt x="8144" y="12543"/>
                  <a:pt x="8153" y="12534"/>
                  <a:pt x="8161" y="12526"/>
                </a:cubicBezTo>
                <a:cubicBezTo>
                  <a:pt x="8161" y="12620"/>
                  <a:pt x="8139" y="12705"/>
                  <a:pt x="8136" y="12799"/>
                </a:cubicBezTo>
                <a:cubicBezTo>
                  <a:pt x="8133" y="12914"/>
                  <a:pt x="8136" y="13030"/>
                  <a:pt x="8136" y="131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9200" y="4071960"/>
            <a:ext cx="1697040" cy="366840"/>
          </a:xfrm>
          <a:custGeom>
            <a:avLst/>
            <a:gdLst/>
            <a:ahLst/>
            <a:rect l="l" t="t" r="r" b="b"/>
            <a:pathLst>
              <a:path w="4714" h="1018">
                <a:moveTo>
                  <a:pt x="9996" y="12080"/>
                </a:moveTo>
                <a:cubicBezTo>
                  <a:pt x="9980" y="12159"/>
                  <a:pt x="9977" y="12124"/>
                  <a:pt x="9971" y="12204"/>
                </a:cubicBezTo>
                <a:cubicBezTo>
                  <a:pt x="9969" y="12236"/>
                  <a:pt x="9971" y="12271"/>
                  <a:pt x="9971" y="12303"/>
                </a:cubicBezTo>
                <a:cubicBezTo>
                  <a:pt x="10055" y="12253"/>
                  <a:pt x="10060" y="12224"/>
                  <a:pt x="10120" y="12129"/>
                </a:cubicBezTo>
                <a:cubicBezTo>
                  <a:pt x="10171" y="12049"/>
                  <a:pt x="10225" y="11946"/>
                  <a:pt x="10294" y="11881"/>
                </a:cubicBezTo>
                <a:cubicBezTo>
                  <a:pt x="10302" y="11881"/>
                  <a:pt x="10311" y="11881"/>
                  <a:pt x="10319" y="11881"/>
                </a:cubicBezTo>
                <a:cubicBezTo>
                  <a:pt x="10345" y="11930"/>
                  <a:pt x="10369" y="12015"/>
                  <a:pt x="10393" y="12055"/>
                </a:cubicBezTo>
                <a:cubicBezTo>
                  <a:pt x="10418" y="12080"/>
                  <a:pt x="10426" y="12088"/>
                  <a:pt x="10443" y="12105"/>
                </a:cubicBezTo>
                <a:cubicBezTo>
                  <a:pt x="10482" y="12083"/>
                  <a:pt x="10506" y="12106"/>
                  <a:pt x="10542" y="12055"/>
                </a:cubicBezTo>
                <a:cubicBezTo>
                  <a:pt x="10578" y="12004"/>
                  <a:pt x="10602" y="11955"/>
                  <a:pt x="10641" y="11906"/>
                </a:cubicBezTo>
                <a:cubicBezTo>
                  <a:pt x="10656" y="11948"/>
                  <a:pt x="10684" y="12075"/>
                  <a:pt x="10716" y="12105"/>
                </a:cubicBezTo>
                <a:cubicBezTo>
                  <a:pt x="10766" y="12151"/>
                  <a:pt x="10902" y="12182"/>
                  <a:pt x="10964" y="12154"/>
                </a:cubicBezTo>
                <a:cubicBezTo>
                  <a:pt x="11032" y="12123"/>
                  <a:pt x="11100" y="12043"/>
                  <a:pt x="11137" y="11981"/>
                </a:cubicBezTo>
                <a:cubicBezTo>
                  <a:pt x="11157" y="11948"/>
                  <a:pt x="11146" y="11969"/>
                  <a:pt x="11137" y="11931"/>
                </a:cubicBezTo>
                <a:cubicBezTo>
                  <a:pt x="11141" y="12002"/>
                  <a:pt x="11122" y="12066"/>
                  <a:pt x="11162" y="12129"/>
                </a:cubicBezTo>
                <a:cubicBezTo>
                  <a:pt x="11191" y="12175"/>
                  <a:pt x="11217" y="12142"/>
                  <a:pt x="11261" y="12154"/>
                </a:cubicBezTo>
                <a:cubicBezTo>
                  <a:pt x="11276" y="12088"/>
                  <a:pt x="11296" y="12106"/>
                  <a:pt x="11261" y="12030"/>
                </a:cubicBezTo>
                <a:cubicBezTo>
                  <a:pt x="11242" y="11988"/>
                  <a:pt x="11154" y="11964"/>
                  <a:pt x="11187" y="11931"/>
                </a:cubicBezTo>
                <a:cubicBezTo>
                  <a:pt x="11251" y="11866"/>
                  <a:pt x="11353" y="11921"/>
                  <a:pt x="11435" y="11881"/>
                </a:cubicBezTo>
                <a:cubicBezTo>
                  <a:pt x="11542" y="11829"/>
                  <a:pt x="11712" y="11732"/>
                  <a:pt x="11782" y="11633"/>
                </a:cubicBezTo>
                <a:cubicBezTo>
                  <a:pt x="11843" y="11547"/>
                  <a:pt x="11813" y="11513"/>
                  <a:pt x="11807" y="11435"/>
                </a:cubicBezTo>
                <a:cubicBezTo>
                  <a:pt x="11733" y="11452"/>
                  <a:pt x="11686" y="11430"/>
                  <a:pt x="11633" y="11509"/>
                </a:cubicBezTo>
                <a:cubicBezTo>
                  <a:pt x="11578" y="11591"/>
                  <a:pt x="11570" y="11738"/>
                  <a:pt x="11584" y="11832"/>
                </a:cubicBezTo>
                <a:cubicBezTo>
                  <a:pt x="11606" y="11978"/>
                  <a:pt x="11709" y="12059"/>
                  <a:pt x="11832" y="12105"/>
                </a:cubicBezTo>
                <a:cubicBezTo>
                  <a:pt x="11932" y="12143"/>
                  <a:pt x="12012" y="12133"/>
                  <a:pt x="12105" y="12080"/>
                </a:cubicBezTo>
                <a:cubicBezTo>
                  <a:pt x="12189" y="12032"/>
                  <a:pt x="12209" y="11936"/>
                  <a:pt x="12229" y="11857"/>
                </a:cubicBezTo>
                <a:cubicBezTo>
                  <a:pt x="12229" y="11849"/>
                  <a:pt x="12229" y="11840"/>
                  <a:pt x="12229" y="11832"/>
                </a:cubicBezTo>
                <a:cubicBezTo>
                  <a:pt x="12194" y="11842"/>
                  <a:pt x="12127" y="11828"/>
                  <a:pt x="12080" y="11906"/>
                </a:cubicBezTo>
                <a:cubicBezTo>
                  <a:pt x="12034" y="11982"/>
                  <a:pt x="12051" y="12080"/>
                  <a:pt x="12080" y="12154"/>
                </a:cubicBezTo>
                <a:cubicBezTo>
                  <a:pt x="12121" y="12258"/>
                  <a:pt x="12272" y="12198"/>
                  <a:pt x="12328" y="12154"/>
                </a:cubicBezTo>
                <a:cubicBezTo>
                  <a:pt x="12425" y="12079"/>
                  <a:pt x="12505" y="11982"/>
                  <a:pt x="12601" y="11906"/>
                </a:cubicBezTo>
                <a:cubicBezTo>
                  <a:pt x="12655" y="11863"/>
                  <a:pt x="12761" y="11820"/>
                  <a:pt x="12824" y="11881"/>
                </a:cubicBezTo>
                <a:cubicBezTo>
                  <a:pt x="12860" y="11915"/>
                  <a:pt x="12862" y="12035"/>
                  <a:pt x="12849" y="12080"/>
                </a:cubicBezTo>
                <a:cubicBezTo>
                  <a:pt x="12827" y="12153"/>
                  <a:pt x="12790" y="12167"/>
                  <a:pt x="12725" y="12179"/>
                </a:cubicBezTo>
                <a:cubicBezTo>
                  <a:pt x="12683" y="12179"/>
                  <a:pt x="12675" y="12179"/>
                  <a:pt x="12650" y="12179"/>
                </a:cubicBezTo>
              </a:path>
              <a:path w="4714" h="1018">
                <a:moveTo>
                  <a:pt x="13469" y="11609"/>
                </a:moveTo>
                <a:cubicBezTo>
                  <a:pt x="13477" y="11584"/>
                  <a:pt x="13486" y="11559"/>
                  <a:pt x="13494" y="11534"/>
                </a:cubicBezTo>
                <a:cubicBezTo>
                  <a:pt x="13446" y="11566"/>
                  <a:pt x="13446" y="11684"/>
                  <a:pt x="13444" y="11757"/>
                </a:cubicBezTo>
                <a:cubicBezTo>
                  <a:pt x="13441" y="11889"/>
                  <a:pt x="13432" y="12032"/>
                  <a:pt x="13494" y="12154"/>
                </a:cubicBezTo>
                <a:cubicBezTo>
                  <a:pt x="13502" y="12162"/>
                  <a:pt x="13511" y="12171"/>
                  <a:pt x="13519" y="12179"/>
                </a:cubicBezTo>
              </a:path>
              <a:path w="4714" h="1018">
                <a:moveTo>
                  <a:pt x="13568" y="11931"/>
                </a:moveTo>
                <a:cubicBezTo>
                  <a:pt x="13485" y="11959"/>
                  <a:pt x="13613" y="11942"/>
                  <a:pt x="13643" y="11931"/>
                </a:cubicBezTo>
                <a:cubicBezTo>
                  <a:pt x="13755" y="11892"/>
                  <a:pt x="13862" y="11825"/>
                  <a:pt x="13940" y="11733"/>
                </a:cubicBezTo>
                <a:cubicBezTo>
                  <a:pt x="13985" y="11680"/>
                  <a:pt x="14039" y="11627"/>
                  <a:pt x="14039" y="11559"/>
                </a:cubicBezTo>
                <a:cubicBezTo>
                  <a:pt x="13944" y="11598"/>
                  <a:pt x="13920" y="11659"/>
                  <a:pt x="13891" y="11757"/>
                </a:cubicBezTo>
                <a:cubicBezTo>
                  <a:pt x="13853" y="11888"/>
                  <a:pt x="13801" y="12041"/>
                  <a:pt x="13816" y="12179"/>
                </a:cubicBezTo>
                <a:cubicBezTo>
                  <a:pt x="13837" y="12263"/>
                  <a:pt x="13839" y="12282"/>
                  <a:pt x="13866" y="12328"/>
                </a:cubicBezTo>
              </a:path>
              <a:path w="4714" h="1018">
                <a:moveTo>
                  <a:pt x="14362" y="11509"/>
                </a:moveTo>
                <a:cubicBezTo>
                  <a:pt x="14354" y="11517"/>
                  <a:pt x="14345" y="11526"/>
                  <a:pt x="14337" y="11534"/>
                </a:cubicBezTo>
                <a:cubicBezTo>
                  <a:pt x="14418" y="11534"/>
                  <a:pt x="14486" y="11541"/>
                  <a:pt x="14560" y="11509"/>
                </a:cubicBezTo>
                <a:cubicBezTo>
                  <a:pt x="14607" y="11489"/>
                  <a:pt x="14638" y="11480"/>
                  <a:pt x="14684" y="11460"/>
                </a:cubicBezTo>
              </a:path>
              <a:path w="4714" h="1018">
                <a:moveTo>
                  <a:pt x="14585" y="11311"/>
                </a:moveTo>
                <a:cubicBezTo>
                  <a:pt x="14585" y="11416"/>
                  <a:pt x="14594" y="11510"/>
                  <a:pt x="14610" y="11609"/>
                </a:cubicBezTo>
                <a:cubicBezTo>
                  <a:pt x="14610" y="11625"/>
                  <a:pt x="14610" y="11642"/>
                  <a:pt x="14610" y="116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54800" y="4232160"/>
            <a:ext cx="231480" cy="196920"/>
          </a:xfrm>
          <a:custGeom>
            <a:avLst/>
            <a:gdLst/>
            <a:ahLst/>
            <a:rect l="l" t="t" r="r" b="b"/>
            <a:pathLst>
              <a:path w="645" h="547">
                <a:moveTo>
                  <a:pt x="15429" y="11832"/>
                </a:moveTo>
                <a:cubicBezTo>
                  <a:pt x="15459" y="11786"/>
                  <a:pt x="15536" y="11795"/>
                  <a:pt x="15602" y="11782"/>
                </a:cubicBezTo>
                <a:cubicBezTo>
                  <a:pt x="15721" y="11759"/>
                  <a:pt x="15828" y="11757"/>
                  <a:pt x="15949" y="11757"/>
                </a:cubicBezTo>
              </a:path>
              <a:path w="645" h="547">
                <a:moveTo>
                  <a:pt x="15577" y="12204"/>
                </a:moveTo>
                <a:cubicBezTo>
                  <a:pt x="15569" y="12229"/>
                  <a:pt x="15561" y="12253"/>
                  <a:pt x="15553" y="12278"/>
                </a:cubicBezTo>
                <a:cubicBezTo>
                  <a:pt x="15653" y="12278"/>
                  <a:pt x="15727" y="12285"/>
                  <a:pt x="15825" y="12278"/>
                </a:cubicBezTo>
                <a:cubicBezTo>
                  <a:pt x="15931" y="12271"/>
                  <a:pt x="15980" y="12254"/>
                  <a:pt x="16073" y="122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26120" y="4419720"/>
            <a:ext cx="54000" cy="36360"/>
          </a:xfrm>
          <a:custGeom>
            <a:avLst/>
            <a:gdLst/>
            <a:ahLst/>
            <a:rect l="l" t="t" r="r" b="b"/>
            <a:pathLst>
              <a:path w="150" h="101">
                <a:moveTo>
                  <a:pt x="17041" y="12328"/>
                </a:moveTo>
                <a:cubicBezTo>
                  <a:pt x="17016" y="12328"/>
                  <a:pt x="17008" y="12328"/>
                  <a:pt x="17016" y="12353"/>
                </a:cubicBezTo>
                <a:cubicBezTo>
                  <a:pt x="17076" y="12341"/>
                  <a:pt x="17091" y="12300"/>
                  <a:pt x="17140" y="12278"/>
                </a:cubicBezTo>
                <a:cubicBezTo>
                  <a:pt x="17148" y="12278"/>
                  <a:pt x="17157" y="12278"/>
                  <a:pt x="17165" y="12278"/>
                </a:cubicBezTo>
                <a:cubicBezTo>
                  <a:pt x="17121" y="12289"/>
                  <a:pt x="17100" y="12319"/>
                  <a:pt x="17066" y="12353"/>
                </a:cubicBezTo>
                <a:cubicBezTo>
                  <a:pt x="17058" y="12361"/>
                  <a:pt x="17049" y="12370"/>
                  <a:pt x="17041" y="123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29240" y="4044960"/>
            <a:ext cx="955800" cy="393840"/>
          </a:xfrm>
          <a:custGeom>
            <a:avLst/>
            <a:gdLst/>
            <a:ahLst/>
            <a:rect l="l" t="t" r="r" b="b"/>
            <a:pathLst>
              <a:path w="2655" h="1092">
                <a:moveTo>
                  <a:pt x="17859" y="11237"/>
                </a:moveTo>
                <a:cubicBezTo>
                  <a:pt x="17892" y="11368"/>
                  <a:pt x="17884" y="11496"/>
                  <a:pt x="17884" y="11633"/>
                </a:cubicBezTo>
                <a:cubicBezTo>
                  <a:pt x="17884" y="11790"/>
                  <a:pt x="17884" y="11948"/>
                  <a:pt x="17884" y="12105"/>
                </a:cubicBezTo>
              </a:path>
              <a:path w="2655" h="1092">
                <a:moveTo>
                  <a:pt x="18479" y="11534"/>
                </a:moveTo>
                <a:cubicBezTo>
                  <a:pt x="18418" y="11494"/>
                  <a:pt x="18297" y="11443"/>
                  <a:pt x="18231" y="11534"/>
                </a:cubicBezTo>
                <a:cubicBezTo>
                  <a:pt x="18171" y="11616"/>
                  <a:pt x="18178" y="11749"/>
                  <a:pt x="18231" y="11832"/>
                </a:cubicBezTo>
                <a:cubicBezTo>
                  <a:pt x="18281" y="11910"/>
                  <a:pt x="18404" y="11916"/>
                  <a:pt x="18430" y="12005"/>
                </a:cubicBezTo>
                <a:cubicBezTo>
                  <a:pt x="18456" y="12092"/>
                  <a:pt x="18336" y="12207"/>
                  <a:pt x="18281" y="12254"/>
                </a:cubicBezTo>
                <a:cubicBezTo>
                  <a:pt x="18213" y="12312"/>
                  <a:pt x="18156" y="12348"/>
                  <a:pt x="18083" y="12303"/>
                </a:cubicBezTo>
              </a:path>
              <a:path w="2655" h="1092">
                <a:moveTo>
                  <a:pt x="18455" y="11435"/>
                </a:moveTo>
                <a:cubicBezTo>
                  <a:pt x="18513" y="11435"/>
                  <a:pt x="18508" y="11472"/>
                  <a:pt x="18554" y="11485"/>
                </a:cubicBezTo>
                <a:cubicBezTo>
                  <a:pt x="18652" y="11513"/>
                  <a:pt x="18799" y="11485"/>
                  <a:pt x="18901" y="11485"/>
                </a:cubicBezTo>
              </a:path>
              <a:path w="2655" h="1092">
                <a:moveTo>
                  <a:pt x="18976" y="11832"/>
                </a:moveTo>
                <a:cubicBezTo>
                  <a:pt x="18951" y="11917"/>
                  <a:pt x="18923" y="11998"/>
                  <a:pt x="18901" y="12080"/>
                </a:cubicBezTo>
                <a:cubicBezTo>
                  <a:pt x="18880" y="12159"/>
                  <a:pt x="18883" y="12157"/>
                  <a:pt x="18876" y="12229"/>
                </a:cubicBezTo>
                <a:cubicBezTo>
                  <a:pt x="18915" y="12169"/>
                  <a:pt x="18950" y="12108"/>
                  <a:pt x="19000" y="12055"/>
                </a:cubicBezTo>
                <a:cubicBezTo>
                  <a:pt x="19047" y="12005"/>
                  <a:pt x="19096" y="11982"/>
                  <a:pt x="19149" y="11956"/>
                </a:cubicBezTo>
                <a:cubicBezTo>
                  <a:pt x="19163" y="12012"/>
                  <a:pt x="19170" y="12056"/>
                  <a:pt x="19149" y="12129"/>
                </a:cubicBezTo>
                <a:cubicBezTo>
                  <a:pt x="19135" y="12179"/>
                  <a:pt x="19130" y="12182"/>
                  <a:pt x="19124" y="12229"/>
                </a:cubicBezTo>
                <a:cubicBezTo>
                  <a:pt x="19200" y="12220"/>
                  <a:pt x="19198" y="12211"/>
                  <a:pt x="19248" y="12154"/>
                </a:cubicBezTo>
                <a:cubicBezTo>
                  <a:pt x="19300" y="12096"/>
                  <a:pt x="19360" y="12075"/>
                  <a:pt x="19397" y="12005"/>
                </a:cubicBezTo>
                <a:cubicBezTo>
                  <a:pt x="19397" y="11997"/>
                  <a:pt x="19397" y="11989"/>
                  <a:pt x="19397" y="11981"/>
                </a:cubicBezTo>
                <a:cubicBezTo>
                  <a:pt x="19404" y="12002"/>
                  <a:pt x="19422" y="12050"/>
                  <a:pt x="19422" y="12105"/>
                </a:cubicBezTo>
                <a:cubicBezTo>
                  <a:pt x="19422" y="12157"/>
                  <a:pt x="19440" y="12254"/>
                  <a:pt x="19521" y="12254"/>
                </a:cubicBezTo>
                <a:cubicBezTo>
                  <a:pt x="19556" y="12254"/>
                  <a:pt x="19625" y="12211"/>
                  <a:pt x="19645" y="12179"/>
                </a:cubicBezTo>
                <a:cubicBezTo>
                  <a:pt x="19645" y="12134"/>
                  <a:pt x="19641" y="12121"/>
                  <a:pt x="19670" y="12105"/>
                </a:cubicBezTo>
                <a:cubicBezTo>
                  <a:pt x="19679" y="12151"/>
                  <a:pt x="19660" y="12206"/>
                  <a:pt x="19720" y="12229"/>
                </a:cubicBezTo>
                <a:cubicBezTo>
                  <a:pt x="19774" y="12250"/>
                  <a:pt x="19812" y="12217"/>
                  <a:pt x="19844" y="12179"/>
                </a:cubicBezTo>
                <a:cubicBezTo>
                  <a:pt x="19885" y="12131"/>
                  <a:pt x="19908" y="12066"/>
                  <a:pt x="19918" y="12005"/>
                </a:cubicBezTo>
                <a:cubicBezTo>
                  <a:pt x="19927" y="11950"/>
                  <a:pt x="19927" y="11924"/>
                  <a:pt x="19968" y="11906"/>
                </a:cubicBezTo>
                <a:cubicBezTo>
                  <a:pt x="20053" y="11869"/>
                  <a:pt x="20177" y="11873"/>
                  <a:pt x="20265" y="11832"/>
                </a:cubicBezTo>
                <a:cubicBezTo>
                  <a:pt x="20365" y="11785"/>
                  <a:pt x="20474" y="11691"/>
                  <a:pt x="20513" y="11584"/>
                </a:cubicBezTo>
                <a:cubicBezTo>
                  <a:pt x="20536" y="11519"/>
                  <a:pt x="20512" y="11425"/>
                  <a:pt x="20439" y="11410"/>
                </a:cubicBezTo>
                <a:cubicBezTo>
                  <a:pt x="20330" y="11387"/>
                  <a:pt x="20276" y="11634"/>
                  <a:pt x="20265" y="11683"/>
                </a:cubicBezTo>
                <a:cubicBezTo>
                  <a:pt x="20232" y="11826"/>
                  <a:pt x="20212" y="12019"/>
                  <a:pt x="20340" y="12129"/>
                </a:cubicBezTo>
                <a:cubicBezTo>
                  <a:pt x="20373" y="12146"/>
                  <a:pt x="20406" y="12162"/>
                  <a:pt x="20439" y="121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48120" y="5554800"/>
            <a:ext cx="1376640" cy="366480"/>
          </a:xfrm>
          <a:custGeom>
            <a:avLst/>
            <a:gdLst/>
            <a:ahLst/>
            <a:rect l="l" t="t" r="r" b="b"/>
            <a:pathLst>
              <a:path w="3821" h="1018">
                <a:moveTo>
                  <a:pt x="13469" y="15949"/>
                </a:moveTo>
                <a:cubicBezTo>
                  <a:pt x="13484" y="15993"/>
                  <a:pt x="13540" y="15974"/>
                  <a:pt x="13593" y="15974"/>
                </a:cubicBezTo>
                <a:cubicBezTo>
                  <a:pt x="13659" y="15974"/>
                  <a:pt x="13725" y="15974"/>
                  <a:pt x="13791" y="15974"/>
                </a:cubicBezTo>
              </a:path>
              <a:path w="3821" h="1018">
                <a:moveTo>
                  <a:pt x="14213" y="16421"/>
                </a:moveTo>
                <a:cubicBezTo>
                  <a:pt x="14249" y="16313"/>
                  <a:pt x="14211" y="16416"/>
                  <a:pt x="14188" y="16346"/>
                </a:cubicBezTo>
                <a:cubicBezTo>
                  <a:pt x="14188" y="16409"/>
                  <a:pt x="14159" y="16390"/>
                  <a:pt x="14139" y="16421"/>
                </a:cubicBezTo>
                <a:cubicBezTo>
                  <a:pt x="14139" y="16429"/>
                  <a:pt x="14139" y="16438"/>
                  <a:pt x="14139" y="16446"/>
                </a:cubicBezTo>
              </a:path>
              <a:path w="3821" h="1018">
                <a:moveTo>
                  <a:pt x="14610" y="15900"/>
                </a:moveTo>
                <a:cubicBezTo>
                  <a:pt x="14640" y="15831"/>
                  <a:pt x="14662" y="15809"/>
                  <a:pt x="14635" y="15900"/>
                </a:cubicBezTo>
                <a:cubicBezTo>
                  <a:pt x="14608" y="15992"/>
                  <a:pt x="14610" y="16074"/>
                  <a:pt x="14610" y="16173"/>
                </a:cubicBezTo>
                <a:cubicBezTo>
                  <a:pt x="14610" y="16198"/>
                  <a:pt x="14610" y="16222"/>
                  <a:pt x="14610" y="16247"/>
                </a:cubicBezTo>
              </a:path>
              <a:path w="3821" h="1018">
                <a:moveTo>
                  <a:pt x="15131" y="15949"/>
                </a:moveTo>
                <a:cubicBezTo>
                  <a:pt x="15066" y="15949"/>
                  <a:pt x="15035" y="15959"/>
                  <a:pt x="14982" y="15999"/>
                </a:cubicBezTo>
                <a:cubicBezTo>
                  <a:pt x="14919" y="16046"/>
                  <a:pt x="14972" y="16069"/>
                  <a:pt x="15007" y="16098"/>
                </a:cubicBezTo>
                <a:cubicBezTo>
                  <a:pt x="15033" y="16119"/>
                  <a:pt x="15119" y="16155"/>
                  <a:pt x="15131" y="16173"/>
                </a:cubicBezTo>
                <a:cubicBezTo>
                  <a:pt x="15163" y="16219"/>
                  <a:pt x="15100" y="16308"/>
                  <a:pt x="15081" y="16346"/>
                </a:cubicBezTo>
                <a:cubicBezTo>
                  <a:pt x="15056" y="16396"/>
                  <a:pt x="15048" y="16412"/>
                  <a:pt x="15007" y="16421"/>
                </a:cubicBezTo>
              </a:path>
              <a:path w="3821" h="1018">
                <a:moveTo>
                  <a:pt x="15156" y="15875"/>
                </a:moveTo>
                <a:cubicBezTo>
                  <a:pt x="15209" y="15844"/>
                  <a:pt x="15247" y="15818"/>
                  <a:pt x="15304" y="15801"/>
                </a:cubicBezTo>
                <a:cubicBezTo>
                  <a:pt x="15372" y="15778"/>
                  <a:pt x="15390" y="15774"/>
                  <a:pt x="15429" y="15751"/>
                </a:cubicBezTo>
              </a:path>
              <a:path w="3821" h="1018">
                <a:moveTo>
                  <a:pt x="15875" y="16148"/>
                </a:moveTo>
                <a:cubicBezTo>
                  <a:pt x="15854" y="16204"/>
                  <a:pt x="15828" y="16260"/>
                  <a:pt x="15825" y="16321"/>
                </a:cubicBezTo>
                <a:cubicBezTo>
                  <a:pt x="15825" y="16363"/>
                  <a:pt x="15825" y="16371"/>
                  <a:pt x="15825" y="16396"/>
                </a:cubicBezTo>
                <a:cubicBezTo>
                  <a:pt x="15851" y="16370"/>
                  <a:pt x="15920" y="16315"/>
                  <a:pt x="15949" y="16272"/>
                </a:cubicBezTo>
                <a:cubicBezTo>
                  <a:pt x="15978" y="16229"/>
                  <a:pt x="16024" y="16174"/>
                  <a:pt x="16073" y="16148"/>
                </a:cubicBezTo>
                <a:cubicBezTo>
                  <a:pt x="16081" y="16148"/>
                  <a:pt x="16090" y="16148"/>
                  <a:pt x="16098" y="16148"/>
                </a:cubicBezTo>
                <a:cubicBezTo>
                  <a:pt x="16098" y="16216"/>
                  <a:pt x="16102" y="16265"/>
                  <a:pt x="16123" y="16321"/>
                </a:cubicBezTo>
                <a:cubicBezTo>
                  <a:pt x="16172" y="16299"/>
                  <a:pt x="16202" y="16277"/>
                  <a:pt x="16247" y="16247"/>
                </a:cubicBezTo>
                <a:cubicBezTo>
                  <a:pt x="16278" y="16226"/>
                  <a:pt x="16334" y="16173"/>
                  <a:pt x="16371" y="16173"/>
                </a:cubicBezTo>
                <a:cubicBezTo>
                  <a:pt x="16407" y="16173"/>
                  <a:pt x="16454" y="16240"/>
                  <a:pt x="16495" y="16247"/>
                </a:cubicBezTo>
                <a:cubicBezTo>
                  <a:pt x="16558" y="16258"/>
                  <a:pt x="16665" y="16260"/>
                  <a:pt x="16718" y="16222"/>
                </a:cubicBezTo>
                <a:cubicBezTo>
                  <a:pt x="16767" y="16187"/>
                  <a:pt x="16771" y="16145"/>
                  <a:pt x="16793" y="16098"/>
                </a:cubicBezTo>
                <a:cubicBezTo>
                  <a:pt x="16789" y="16132"/>
                  <a:pt x="16764" y="16169"/>
                  <a:pt x="16768" y="16197"/>
                </a:cubicBezTo>
                <a:cubicBezTo>
                  <a:pt x="16776" y="16205"/>
                  <a:pt x="16785" y="16214"/>
                  <a:pt x="16793" y="16222"/>
                </a:cubicBezTo>
                <a:cubicBezTo>
                  <a:pt x="16808" y="16198"/>
                  <a:pt x="16815" y="16200"/>
                  <a:pt x="16818" y="16148"/>
                </a:cubicBezTo>
                <a:cubicBezTo>
                  <a:pt x="16822" y="16084"/>
                  <a:pt x="16803" y="16072"/>
                  <a:pt x="16793" y="16024"/>
                </a:cubicBezTo>
                <a:cubicBezTo>
                  <a:pt x="16793" y="16016"/>
                  <a:pt x="16793" y="16007"/>
                  <a:pt x="16793" y="15999"/>
                </a:cubicBezTo>
                <a:cubicBezTo>
                  <a:pt x="16865" y="15999"/>
                  <a:pt x="16923" y="15997"/>
                  <a:pt x="16991" y="15974"/>
                </a:cubicBezTo>
                <a:cubicBezTo>
                  <a:pt x="17076" y="15945"/>
                  <a:pt x="17180" y="15921"/>
                  <a:pt x="17239" y="15850"/>
                </a:cubicBezTo>
                <a:cubicBezTo>
                  <a:pt x="17297" y="15780"/>
                  <a:pt x="17289" y="15685"/>
                  <a:pt x="17289" y="15602"/>
                </a:cubicBezTo>
                <a:cubicBezTo>
                  <a:pt x="17289" y="15518"/>
                  <a:pt x="17261" y="15488"/>
                  <a:pt x="17214" y="15429"/>
                </a:cubicBezTo>
                <a:cubicBezTo>
                  <a:pt x="17161" y="15520"/>
                  <a:pt x="17143" y="15564"/>
                  <a:pt x="17140" y="15677"/>
                </a:cubicBezTo>
                <a:cubicBezTo>
                  <a:pt x="17136" y="15860"/>
                  <a:pt x="17124" y="16055"/>
                  <a:pt x="17214" y="16222"/>
                </a:cubicBezTo>
                <a:cubicBezTo>
                  <a:pt x="17239" y="16255"/>
                  <a:pt x="17264" y="16288"/>
                  <a:pt x="17289" y="163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05720" y="4902120"/>
            <a:ext cx="1671480" cy="615960"/>
          </a:xfrm>
          <a:custGeom>
            <a:avLst/>
            <a:gdLst/>
            <a:ahLst/>
            <a:rect l="l" t="t" r="r" b="b"/>
            <a:pathLst>
              <a:path w="4640" h="1712">
                <a:moveTo>
                  <a:pt x="19521" y="14288"/>
                </a:moveTo>
                <a:cubicBezTo>
                  <a:pt x="19384" y="14397"/>
                  <a:pt x="19257" y="14501"/>
                  <a:pt x="19174" y="14660"/>
                </a:cubicBezTo>
                <a:cubicBezTo>
                  <a:pt x="19088" y="14824"/>
                  <a:pt x="19039" y="14962"/>
                  <a:pt x="19124" y="15131"/>
                </a:cubicBezTo>
                <a:cubicBezTo>
                  <a:pt x="19168" y="15218"/>
                  <a:pt x="19297" y="15279"/>
                  <a:pt x="19397" y="15255"/>
                </a:cubicBezTo>
                <a:cubicBezTo>
                  <a:pt x="19453" y="15242"/>
                  <a:pt x="19460" y="15197"/>
                  <a:pt x="19472" y="15156"/>
                </a:cubicBezTo>
                <a:cubicBezTo>
                  <a:pt x="19426" y="15091"/>
                  <a:pt x="19342" y="15024"/>
                  <a:pt x="19248" y="15056"/>
                </a:cubicBezTo>
                <a:cubicBezTo>
                  <a:pt x="19160" y="15086"/>
                  <a:pt x="19158" y="15132"/>
                  <a:pt x="19149" y="15205"/>
                </a:cubicBezTo>
              </a:path>
              <a:path w="4640" h="1712">
                <a:moveTo>
                  <a:pt x="19199" y="13767"/>
                </a:moveTo>
                <a:cubicBezTo>
                  <a:pt x="19199" y="13808"/>
                  <a:pt x="19199" y="13832"/>
                  <a:pt x="19199" y="13791"/>
                </a:cubicBezTo>
                <a:cubicBezTo>
                  <a:pt x="19218" y="13741"/>
                  <a:pt x="19240" y="13717"/>
                  <a:pt x="19199" y="13667"/>
                </a:cubicBezTo>
                <a:cubicBezTo>
                  <a:pt x="19151" y="13608"/>
                  <a:pt x="19063" y="13599"/>
                  <a:pt x="19000" y="13643"/>
                </a:cubicBezTo>
                <a:cubicBezTo>
                  <a:pt x="18856" y="13742"/>
                  <a:pt x="18714" y="13928"/>
                  <a:pt x="18653" y="14089"/>
                </a:cubicBezTo>
                <a:cubicBezTo>
                  <a:pt x="18584" y="14272"/>
                  <a:pt x="18632" y="14411"/>
                  <a:pt x="18728" y="14560"/>
                </a:cubicBezTo>
                <a:cubicBezTo>
                  <a:pt x="18796" y="14665"/>
                  <a:pt x="18836" y="14671"/>
                  <a:pt x="18951" y="14709"/>
                </a:cubicBezTo>
              </a:path>
              <a:path w="4640" h="1712">
                <a:moveTo>
                  <a:pt x="19918" y="14635"/>
                </a:moveTo>
                <a:cubicBezTo>
                  <a:pt x="19936" y="14582"/>
                  <a:pt x="19987" y="14625"/>
                  <a:pt x="20042" y="14610"/>
                </a:cubicBezTo>
                <a:cubicBezTo>
                  <a:pt x="20112" y="14591"/>
                  <a:pt x="20126" y="14577"/>
                  <a:pt x="20191" y="14610"/>
                </a:cubicBezTo>
              </a:path>
              <a:path w="4640" h="1712">
                <a:moveTo>
                  <a:pt x="19918" y="14932"/>
                </a:moveTo>
                <a:cubicBezTo>
                  <a:pt x="19931" y="14972"/>
                  <a:pt x="19966" y="14957"/>
                  <a:pt x="20017" y="14957"/>
                </a:cubicBezTo>
                <a:cubicBezTo>
                  <a:pt x="20078" y="14957"/>
                  <a:pt x="20131" y="14939"/>
                  <a:pt x="20191" y="14932"/>
                </a:cubicBezTo>
              </a:path>
              <a:path w="4640" h="1712">
                <a:moveTo>
                  <a:pt x="20762" y="14139"/>
                </a:moveTo>
                <a:cubicBezTo>
                  <a:pt x="20794" y="14089"/>
                  <a:pt x="20739" y="14123"/>
                  <a:pt x="20762" y="14114"/>
                </a:cubicBezTo>
                <a:cubicBezTo>
                  <a:pt x="20823" y="14089"/>
                  <a:pt x="20800" y="14082"/>
                  <a:pt x="20786" y="14139"/>
                </a:cubicBezTo>
              </a:path>
              <a:path w="4640" h="1712">
                <a:moveTo>
                  <a:pt x="21406" y="13791"/>
                </a:moveTo>
                <a:cubicBezTo>
                  <a:pt x="21406" y="13775"/>
                  <a:pt x="21406" y="13758"/>
                  <a:pt x="21406" y="13742"/>
                </a:cubicBezTo>
                <a:cubicBezTo>
                  <a:pt x="21323" y="13742"/>
                  <a:pt x="21313" y="13761"/>
                  <a:pt x="21282" y="13841"/>
                </a:cubicBezTo>
                <a:cubicBezTo>
                  <a:pt x="21254" y="13915"/>
                  <a:pt x="21229" y="14036"/>
                  <a:pt x="21332" y="14064"/>
                </a:cubicBezTo>
                <a:cubicBezTo>
                  <a:pt x="21450" y="14096"/>
                  <a:pt x="21538" y="14010"/>
                  <a:pt x="21605" y="13940"/>
                </a:cubicBezTo>
                <a:cubicBezTo>
                  <a:pt x="21701" y="13839"/>
                  <a:pt x="21636" y="13799"/>
                  <a:pt x="21555" y="13717"/>
                </a:cubicBezTo>
                <a:cubicBezTo>
                  <a:pt x="21493" y="13654"/>
                  <a:pt x="21466" y="13667"/>
                  <a:pt x="21382" y="13667"/>
                </a:cubicBezTo>
              </a:path>
              <a:path w="4640" h="1712">
                <a:moveTo>
                  <a:pt x="22151" y="13742"/>
                </a:moveTo>
                <a:cubicBezTo>
                  <a:pt x="22114" y="13691"/>
                  <a:pt x="22079" y="13641"/>
                  <a:pt x="22002" y="13667"/>
                </a:cubicBezTo>
                <a:cubicBezTo>
                  <a:pt x="21937" y="13689"/>
                  <a:pt x="21938" y="13724"/>
                  <a:pt x="21977" y="13767"/>
                </a:cubicBezTo>
                <a:cubicBezTo>
                  <a:pt x="22016" y="13810"/>
                  <a:pt x="22096" y="13791"/>
                  <a:pt x="22151" y="13791"/>
                </a:cubicBezTo>
                <a:cubicBezTo>
                  <a:pt x="22175" y="13791"/>
                  <a:pt x="22184" y="13791"/>
                  <a:pt x="22200" y="13791"/>
                </a:cubicBezTo>
                <a:cubicBezTo>
                  <a:pt x="22190" y="13874"/>
                  <a:pt x="22140" y="13964"/>
                  <a:pt x="22101" y="14039"/>
                </a:cubicBezTo>
                <a:cubicBezTo>
                  <a:pt x="22062" y="14114"/>
                  <a:pt x="22031" y="14158"/>
                  <a:pt x="22002" y="14238"/>
                </a:cubicBezTo>
              </a:path>
              <a:path w="4640" h="1712">
                <a:moveTo>
                  <a:pt x="22622" y="13791"/>
                </a:moveTo>
                <a:cubicBezTo>
                  <a:pt x="22612" y="13858"/>
                  <a:pt x="22579" y="13900"/>
                  <a:pt x="22547" y="13965"/>
                </a:cubicBezTo>
                <a:cubicBezTo>
                  <a:pt x="22515" y="14031"/>
                  <a:pt x="22481" y="14097"/>
                  <a:pt x="22448" y="14163"/>
                </a:cubicBezTo>
                <a:cubicBezTo>
                  <a:pt x="22440" y="14180"/>
                  <a:pt x="22431" y="14196"/>
                  <a:pt x="22423" y="14213"/>
                </a:cubicBezTo>
              </a:path>
              <a:path w="4640" h="1712">
                <a:moveTo>
                  <a:pt x="22920" y="13915"/>
                </a:moveTo>
                <a:cubicBezTo>
                  <a:pt x="22940" y="13842"/>
                  <a:pt x="22930" y="13821"/>
                  <a:pt x="22845" y="13816"/>
                </a:cubicBezTo>
                <a:cubicBezTo>
                  <a:pt x="22793" y="13813"/>
                  <a:pt x="22724" y="13848"/>
                  <a:pt x="22746" y="13915"/>
                </a:cubicBezTo>
                <a:cubicBezTo>
                  <a:pt x="22767" y="13977"/>
                  <a:pt x="22823" y="14004"/>
                  <a:pt x="22870" y="14039"/>
                </a:cubicBezTo>
                <a:cubicBezTo>
                  <a:pt x="22917" y="14074"/>
                  <a:pt x="22902" y="14129"/>
                  <a:pt x="22870" y="14163"/>
                </a:cubicBezTo>
                <a:cubicBezTo>
                  <a:pt x="22816" y="14220"/>
                  <a:pt x="22815" y="14213"/>
                  <a:pt x="22746" y="14213"/>
                </a:cubicBezTo>
              </a:path>
              <a:path w="4640" h="1712">
                <a:moveTo>
                  <a:pt x="22944" y="13767"/>
                </a:moveTo>
                <a:cubicBezTo>
                  <a:pt x="22996" y="13805"/>
                  <a:pt x="23032" y="13774"/>
                  <a:pt x="23093" y="13791"/>
                </a:cubicBezTo>
                <a:cubicBezTo>
                  <a:pt x="23156" y="13809"/>
                  <a:pt x="23199" y="13816"/>
                  <a:pt x="23267" y="13816"/>
                </a:cubicBezTo>
              </a:path>
              <a:path w="4640" h="1712">
                <a:moveTo>
                  <a:pt x="21010" y="14337"/>
                </a:moveTo>
                <a:cubicBezTo>
                  <a:pt x="21020" y="14408"/>
                  <a:pt x="21010" y="14396"/>
                  <a:pt x="21084" y="14412"/>
                </a:cubicBezTo>
                <a:cubicBezTo>
                  <a:pt x="21307" y="14460"/>
                  <a:pt x="21551" y="14462"/>
                  <a:pt x="21779" y="14486"/>
                </a:cubicBezTo>
                <a:cubicBezTo>
                  <a:pt x="22051" y="14514"/>
                  <a:pt x="22325" y="14546"/>
                  <a:pt x="22597" y="14560"/>
                </a:cubicBezTo>
                <a:cubicBezTo>
                  <a:pt x="22658" y="14563"/>
                  <a:pt x="22922" y="14524"/>
                  <a:pt x="22944" y="14585"/>
                </a:cubicBezTo>
                <a:cubicBezTo>
                  <a:pt x="22936" y="14585"/>
                  <a:pt x="22928" y="14585"/>
                  <a:pt x="22920" y="14585"/>
                </a:cubicBezTo>
              </a:path>
              <a:path w="4640" h="1712">
                <a:moveTo>
                  <a:pt x="21258" y="15156"/>
                </a:moveTo>
                <a:cubicBezTo>
                  <a:pt x="21269" y="15121"/>
                  <a:pt x="21358" y="15132"/>
                  <a:pt x="21332" y="15106"/>
                </a:cubicBezTo>
                <a:cubicBezTo>
                  <a:pt x="21301" y="15075"/>
                  <a:pt x="21285" y="15145"/>
                  <a:pt x="21282" y="15156"/>
                </a:cubicBezTo>
              </a:path>
              <a:path w="4640" h="1712">
                <a:moveTo>
                  <a:pt x="22051" y="14957"/>
                </a:moveTo>
                <a:cubicBezTo>
                  <a:pt x="22121" y="14952"/>
                  <a:pt x="22197" y="14914"/>
                  <a:pt x="22250" y="14957"/>
                </a:cubicBezTo>
                <a:cubicBezTo>
                  <a:pt x="22304" y="15000"/>
                  <a:pt x="22273" y="15080"/>
                  <a:pt x="22250" y="15131"/>
                </a:cubicBezTo>
                <a:cubicBezTo>
                  <a:pt x="22225" y="15187"/>
                  <a:pt x="22165" y="15303"/>
                  <a:pt x="22101" y="15329"/>
                </a:cubicBezTo>
                <a:cubicBezTo>
                  <a:pt x="22056" y="15347"/>
                  <a:pt x="21964" y="15326"/>
                  <a:pt x="21927" y="15304"/>
                </a:cubicBezTo>
                <a:cubicBezTo>
                  <a:pt x="21893" y="15283"/>
                  <a:pt x="21892" y="15265"/>
                  <a:pt x="21853" y="15255"/>
                </a:cubicBezTo>
                <a:cubicBezTo>
                  <a:pt x="21942" y="15255"/>
                  <a:pt x="22015" y="15254"/>
                  <a:pt x="22101" y="15280"/>
                </a:cubicBezTo>
                <a:cubicBezTo>
                  <a:pt x="22175" y="15304"/>
                  <a:pt x="22200" y="15312"/>
                  <a:pt x="22250" y="153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17760" y="5027760"/>
            <a:ext cx="206280" cy="330120"/>
          </a:xfrm>
          <a:custGeom>
            <a:avLst/>
            <a:gdLst/>
            <a:ahLst/>
            <a:rect l="l" t="t" r="r" b="b"/>
            <a:pathLst>
              <a:path w="571" h="919">
                <a:moveTo>
                  <a:pt x="4390" y="13990"/>
                </a:moveTo>
                <a:cubicBezTo>
                  <a:pt x="4366" y="13990"/>
                  <a:pt x="4358" y="13990"/>
                  <a:pt x="4366" y="13965"/>
                </a:cubicBezTo>
                <a:cubicBezTo>
                  <a:pt x="4366" y="14006"/>
                  <a:pt x="4366" y="14048"/>
                  <a:pt x="4366" y="14089"/>
                </a:cubicBezTo>
                <a:cubicBezTo>
                  <a:pt x="4328" y="14076"/>
                  <a:pt x="4341" y="14060"/>
                  <a:pt x="4341" y="14015"/>
                </a:cubicBezTo>
                <a:cubicBezTo>
                  <a:pt x="4341" y="14007"/>
                  <a:pt x="4341" y="13998"/>
                  <a:pt x="4341" y="13990"/>
                </a:cubicBezTo>
                <a:cubicBezTo>
                  <a:pt x="4324" y="14076"/>
                  <a:pt x="4316" y="14144"/>
                  <a:pt x="4316" y="14238"/>
                </a:cubicBezTo>
                <a:cubicBezTo>
                  <a:pt x="4316" y="14431"/>
                  <a:pt x="4264" y="14703"/>
                  <a:pt x="4341" y="14883"/>
                </a:cubicBezTo>
              </a:path>
              <a:path w="571" h="919">
                <a:moveTo>
                  <a:pt x="4217" y="14660"/>
                </a:moveTo>
                <a:cubicBezTo>
                  <a:pt x="4259" y="14586"/>
                  <a:pt x="4310" y="14526"/>
                  <a:pt x="4390" y="14486"/>
                </a:cubicBezTo>
                <a:cubicBezTo>
                  <a:pt x="4503" y="14430"/>
                  <a:pt x="4607" y="14383"/>
                  <a:pt x="4713" y="14312"/>
                </a:cubicBezTo>
              </a:path>
              <a:path w="571" h="919">
                <a:moveTo>
                  <a:pt x="4688" y="14064"/>
                </a:moveTo>
                <a:cubicBezTo>
                  <a:pt x="4634" y="14132"/>
                  <a:pt x="4622" y="14197"/>
                  <a:pt x="4638" y="14288"/>
                </a:cubicBezTo>
                <a:cubicBezTo>
                  <a:pt x="4657" y="14399"/>
                  <a:pt x="4692" y="14558"/>
                  <a:pt x="4738" y="14660"/>
                </a:cubicBezTo>
                <a:cubicBezTo>
                  <a:pt x="4754" y="14685"/>
                  <a:pt x="4771" y="14709"/>
                  <a:pt x="4787" y="147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93960" y="5045040"/>
            <a:ext cx="579240" cy="482760"/>
          </a:xfrm>
          <a:custGeom>
            <a:avLst/>
            <a:gdLst/>
            <a:ahLst/>
            <a:rect l="l" t="t" r="r" b="b"/>
            <a:pathLst>
              <a:path w="1613" h="1340">
                <a:moveTo>
                  <a:pt x="5457" y="14114"/>
                </a:moveTo>
                <a:cubicBezTo>
                  <a:pt x="5457" y="14081"/>
                  <a:pt x="5457" y="14048"/>
                  <a:pt x="5457" y="14015"/>
                </a:cubicBezTo>
                <a:cubicBezTo>
                  <a:pt x="5389" y="14031"/>
                  <a:pt x="5358" y="14094"/>
                  <a:pt x="5333" y="14163"/>
                </a:cubicBezTo>
                <a:cubicBezTo>
                  <a:pt x="5282" y="14303"/>
                  <a:pt x="5231" y="14536"/>
                  <a:pt x="5259" y="14684"/>
                </a:cubicBezTo>
                <a:cubicBezTo>
                  <a:pt x="5282" y="14808"/>
                  <a:pt x="5324" y="14950"/>
                  <a:pt x="5457" y="14982"/>
                </a:cubicBezTo>
                <a:cubicBezTo>
                  <a:pt x="5539" y="15001"/>
                  <a:pt x="5590" y="14933"/>
                  <a:pt x="5631" y="14883"/>
                </a:cubicBezTo>
                <a:cubicBezTo>
                  <a:pt x="5664" y="14843"/>
                  <a:pt x="5655" y="14813"/>
                  <a:pt x="5655" y="14759"/>
                </a:cubicBezTo>
                <a:cubicBezTo>
                  <a:pt x="5655" y="14734"/>
                  <a:pt x="5655" y="14726"/>
                  <a:pt x="5655" y="14709"/>
                </a:cubicBezTo>
              </a:path>
              <a:path w="1613" h="1340">
                <a:moveTo>
                  <a:pt x="5953" y="14759"/>
                </a:moveTo>
                <a:cubicBezTo>
                  <a:pt x="5924" y="14673"/>
                  <a:pt x="5890" y="14833"/>
                  <a:pt x="5879" y="14858"/>
                </a:cubicBezTo>
                <a:cubicBezTo>
                  <a:pt x="5819" y="14991"/>
                  <a:pt x="5779" y="15086"/>
                  <a:pt x="5829" y="15230"/>
                </a:cubicBezTo>
                <a:cubicBezTo>
                  <a:pt x="5837" y="15247"/>
                  <a:pt x="5846" y="15263"/>
                  <a:pt x="5854" y="15280"/>
                </a:cubicBezTo>
                <a:cubicBezTo>
                  <a:pt x="5942" y="15269"/>
                  <a:pt x="5985" y="15241"/>
                  <a:pt x="6052" y="15180"/>
                </a:cubicBezTo>
                <a:cubicBezTo>
                  <a:pt x="6081" y="15152"/>
                  <a:pt x="6089" y="15139"/>
                  <a:pt x="6077" y="15106"/>
                </a:cubicBezTo>
                <a:cubicBezTo>
                  <a:pt x="6023" y="15106"/>
                  <a:pt x="5994" y="15118"/>
                  <a:pt x="5953" y="15156"/>
                </a:cubicBezTo>
                <a:cubicBezTo>
                  <a:pt x="5881" y="15223"/>
                  <a:pt x="5857" y="15268"/>
                  <a:pt x="5879" y="15354"/>
                </a:cubicBezTo>
              </a:path>
              <a:path w="1613" h="1340">
                <a:moveTo>
                  <a:pt x="6449" y="14808"/>
                </a:moveTo>
                <a:cubicBezTo>
                  <a:pt x="6449" y="14833"/>
                  <a:pt x="6449" y="14841"/>
                  <a:pt x="6474" y="14833"/>
                </a:cubicBezTo>
              </a:path>
              <a:path w="1613" h="1340">
                <a:moveTo>
                  <a:pt x="6648" y="14858"/>
                </a:moveTo>
                <a:cubicBezTo>
                  <a:pt x="6674" y="14922"/>
                  <a:pt x="6664" y="14950"/>
                  <a:pt x="6722" y="14908"/>
                </a:cubicBezTo>
              </a:path>
              <a:path w="1613" h="1340">
                <a:moveTo>
                  <a:pt x="6796" y="14858"/>
                </a:moveTo>
                <a:cubicBezTo>
                  <a:pt x="6834" y="14916"/>
                  <a:pt x="6811" y="14908"/>
                  <a:pt x="6871" y="149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19240" y="5126040"/>
            <a:ext cx="376560" cy="160200"/>
          </a:xfrm>
          <a:custGeom>
            <a:avLst/>
            <a:gdLst/>
            <a:ahLst/>
            <a:rect l="l" t="t" r="r" b="b"/>
            <a:pathLst>
              <a:path w="1043" h="447">
                <a:moveTo>
                  <a:pt x="8111" y="14684"/>
                </a:moveTo>
                <a:cubicBezTo>
                  <a:pt x="8111" y="14626"/>
                  <a:pt x="8149" y="14618"/>
                  <a:pt x="8210" y="14610"/>
                </a:cubicBezTo>
                <a:cubicBezTo>
                  <a:pt x="8336" y="14593"/>
                  <a:pt x="8457" y="14567"/>
                  <a:pt x="8582" y="14536"/>
                </a:cubicBezTo>
                <a:cubicBezTo>
                  <a:pt x="8698" y="14507"/>
                  <a:pt x="8776" y="14466"/>
                  <a:pt x="8880" y="14412"/>
                </a:cubicBezTo>
                <a:cubicBezTo>
                  <a:pt x="8928" y="14388"/>
                  <a:pt x="8945" y="14382"/>
                  <a:pt x="8930" y="14337"/>
                </a:cubicBezTo>
                <a:cubicBezTo>
                  <a:pt x="8930" y="14278"/>
                  <a:pt x="8892" y="14273"/>
                  <a:pt x="8830" y="14263"/>
                </a:cubicBezTo>
                <a:cubicBezTo>
                  <a:pt x="8755" y="14250"/>
                  <a:pt x="8680" y="14247"/>
                  <a:pt x="8607" y="14238"/>
                </a:cubicBezTo>
                <a:cubicBezTo>
                  <a:pt x="8559" y="14262"/>
                  <a:pt x="8667" y="14277"/>
                  <a:pt x="8706" y="14288"/>
                </a:cubicBezTo>
                <a:cubicBezTo>
                  <a:pt x="8832" y="14323"/>
                  <a:pt x="8956" y="14285"/>
                  <a:pt x="9079" y="14312"/>
                </a:cubicBezTo>
                <a:cubicBezTo>
                  <a:pt x="9123" y="14322"/>
                  <a:pt x="9192" y="14355"/>
                  <a:pt x="9153" y="14412"/>
                </a:cubicBezTo>
                <a:cubicBezTo>
                  <a:pt x="9109" y="14478"/>
                  <a:pt x="9026" y="14556"/>
                  <a:pt x="9004" y="14635"/>
                </a:cubicBezTo>
                <a:cubicBezTo>
                  <a:pt x="9004" y="14651"/>
                  <a:pt x="9004" y="14668"/>
                  <a:pt x="9004" y="146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24200" y="5027760"/>
            <a:ext cx="436680" cy="347400"/>
          </a:xfrm>
          <a:custGeom>
            <a:avLst/>
            <a:gdLst/>
            <a:ahLst/>
            <a:rect l="l" t="t" r="r" b="b"/>
            <a:pathLst>
              <a:path w="1216" h="968">
                <a:moveTo>
                  <a:pt x="10443" y="14188"/>
                </a:moveTo>
                <a:cubicBezTo>
                  <a:pt x="10525" y="14202"/>
                  <a:pt x="10503" y="14297"/>
                  <a:pt x="10492" y="14387"/>
                </a:cubicBezTo>
                <a:cubicBezTo>
                  <a:pt x="10475" y="14527"/>
                  <a:pt x="10435" y="14674"/>
                  <a:pt x="10393" y="14808"/>
                </a:cubicBezTo>
                <a:cubicBezTo>
                  <a:pt x="10371" y="14875"/>
                  <a:pt x="10366" y="14893"/>
                  <a:pt x="10344" y="14932"/>
                </a:cubicBezTo>
              </a:path>
              <a:path w="1216" h="968">
                <a:moveTo>
                  <a:pt x="10368" y="14709"/>
                </a:moveTo>
                <a:cubicBezTo>
                  <a:pt x="10387" y="14681"/>
                  <a:pt x="10514" y="14638"/>
                  <a:pt x="10567" y="14610"/>
                </a:cubicBezTo>
                <a:cubicBezTo>
                  <a:pt x="10706" y="14536"/>
                  <a:pt x="10803" y="14448"/>
                  <a:pt x="10914" y="14337"/>
                </a:cubicBezTo>
                <a:cubicBezTo>
                  <a:pt x="10972" y="14279"/>
                  <a:pt x="10979" y="14265"/>
                  <a:pt x="10988" y="14188"/>
                </a:cubicBezTo>
                <a:cubicBezTo>
                  <a:pt x="10906" y="14221"/>
                  <a:pt x="10848" y="14300"/>
                  <a:pt x="10815" y="14387"/>
                </a:cubicBezTo>
                <a:cubicBezTo>
                  <a:pt x="10762" y="14526"/>
                  <a:pt x="10744" y="14711"/>
                  <a:pt x="10765" y="14858"/>
                </a:cubicBezTo>
                <a:cubicBezTo>
                  <a:pt x="10773" y="14883"/>
                  <a:pt x="10782" y="14907"/>
                  <a:pt x="10790" y="14932"/>
                </a:cubicBezTo>
              </a:path>
              <a:path w="1216" h="968">
                <a:moveTo>
                  <a:pt x="11187" y="14288"/>
                </a:moveTo>
                <a:cubicBezTo>
                  <a:pt x="11266" y="14288"/>
                  <a:pt x="11337" y="14296"/>
                  <a:pt x="11410" y="14263"/>
                </a:cubicBezTo>
                <a:cubicBezTo>
                  <a:pt x="11427" y="14255"/>
                  <a:pt x="11443" y="14246"/>
                  <a:pt x="11460" y="14238"/>
                </a:cubicBezTo>
              </a:path>
              <a:path w="1216" h="968">
                <a:moveTo>
                  <a:pt x="11559" y="13965"/>
                </a:moveTo>
                <a:cubicBezTo>
                  <a:pt x="11437" y="14054"/>
                  <a:pt x="11419" y="14103"/>
                  <a:pt x="11361" y="14238"/>
                </a:cubicBezTo>
                <a:cubicBezTo>
                  <a:pt x="11308" y="14362"/>
                  <a:pt x="11311" y="14451"/>
                  <a:pt x="11311" y="145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29080" y="5180040"/>
            <a:ext cx="206280" cy="169920"/>
          </a:xfrm>
          <a:custGeom>
            <a:avLst/>
            <a:gdLst/>
            <a:ahLst/>
            <a:rect l="l" t="t" r="r" b="b"/>
            <a:pathLst>
              <a:path w="572" h="472">
                <a:moveTo>
                  <a:pt x="12303" y="14660"/>
                </a:moveTo>
                <a:cubicBezTo>
                  <a:pt x="12380" y="14692"/>
                  <a:pt x="12468" y="14677"/>
                  <a:pt x="12551" y="14660"/>
                </a:cubicBezTo>
                <a:cubicBezTo>
                  <a:pt x="12667" y="14637"/>
                  <a:pt x="12773" y="14594"/>
                  <a:pt x="12874" y="14536"/>
                </a:cubicBezTo>
              </a:path>
              <a:path w="572" h="472">
                <a:moveTo>
                  <a:pt x="12750" y="14387"/>
                </a:moveTo>
                <a:cubicBezTo>
                  <a:pt x="12706" y="14468"/>
                  <a:pt x="12660" y="14560"/>
                  <a:pt x="12675" y="14660"/>
                </a:cubicBezTo>
                <a:cubicBezTo>
                  <a:pt x="12685" y="14727"/>
                  <a:pt x="12723" y="14797"/>
                  <a:pt x="12750" y="148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73760" y="5089680"/>
            <a:ext cx="785520" cy="482400"/>
          </a:xfrm>
          <a:custGeom>
            <a:avLst/>
            <a:gdLst/>
            <a:ahLst/>
            <a:rect l="l" t="t" r="r" b="b"/>
            <a:pathLst>
              <a:path w="2184" h="1340">
                <a:moveTo>
                  <a:pt x="14188" y="14213"/>
                </a:moveTo>
                <a:cubicBezTo>
                  <a:pt x="14188" y="14196"/>
                  <a:pt x="14188" y="14180"/>
                  <a:pt x="14188" y="14163"/>
                </a:cubicBezTo>
                <a:cubicBezTo>
                  <a:pt x="14131" y="14135"/>
                  <a:pt x="14033" y="14194"/>
                  <a:pt x="13990" y="14263"/>
                </a:cubicBezTo>
                <a:cubicBezTo>
                  <a:pt x="13882" y="14435"/>
                  <a:pt x="13824" y="14634"/>
                  <a:pt x="13816" y="14833"/>
                </a:cubicBezTo>
                <a:cubicBezTo>
                  <a:pt x="13810" y="14991"/>
                  <a:pt x="13866" y="15096"/>
                  <a:pt x="14039" y="15081"/>
                </a:cubicBezTo>
                <a:cubicBezTo>
                  <a:pt x="14139" y="15056"/>
                  <a:pt x="14172" y="15048"/>
                  <a:pt x="14238" y="15032"/>
                </a:cubicBezTo>
              </a:path>
              <a:path w="2184" h="1340">
                <a:moveTo>
                  <a:pt x="14560" y="14957"/>
                </a:moveTo>
                <a:cubicBezTo>
                  <a:pt x="14560" y="14907"/>
                  <a:pt x="14512" y="15003"/>
                  <a:pt x="14486" y="15032"/>
                </a:cubicBezTo>
                <a:cubicBezTo>
                  <a:pt x="14417" y="15110"/>
                  <a:pt x="14377" y="15223"/>
                  <a:pt x="14362" y="15329"/>
                </a:cubicBezTo>
                <a:cubicBezTo>
                  <a:pt x="14349" y="15422"/>
                  <a:pt x="14417" y="15497"/>
                  <a:pt x="14511" y="15478"/>
                </a:cubicBezTo>
                <a:cubicBezTo>
                  <a:pt x="14572" y="15466"/>
                  <a:pt x="14638" y="15410"/>
                  <a:pt x="14660" y="15354"/>
                </a:cubicBezTo>
                <a:cubicBezTo>
                  <a:pt x="14660" y="15346"/>
                  <a:pt x="14660" y="15337"/>
                  <a:pt x="14660" y="15329"/>
                </a:cubicBezTo>
                <a:cubicBezTo>
                  <a:pt x="14616" y="15296"/>
                  <a:pt x="14544" y="15290"/>
                  <a:pt x="14486" y="15304"/>
                </a:cubicBezTo>
                <a:cubicBezTo>
                  <a:pt x="14428" y="15318"/>
                  <a:pt x="14399" y="15381"/>
                  <a:pt x="14387" y="15429"/>
                </a:cubicBezTo>
              </a:path>
              <a:path w="2184" h="1340">
                <a:moveTo>
                  <a:pt x="15106" y="15056"/>
                </a:moveTo>
                <a:cubicBezTo>
                  <a:pt x="15106" y="15099"/>
                  <a:pt x="15096" y="15094"/>
                  <a:pt x="15131" y="15106"/>
                </a:cubicBezTo>
              </a:path>
              <a:path w="2184" h="1340">
                <a:moveTo>
                  <a:pt x="15304" y="15081"/>
                </a:moveTo>
                <a:cubicBezTo>
                  <a:pt x="15304" y="15089"/>
                  <a:pt x="15304" y="15098"/>
                  <a:pt x="15304" y="15106"/>
                </a:cubicBezTo>
                <a:cubicBezTo>
                  <a:pt x="15366" y="15106"/>
                  <a:pt x="15395" y="15096"/>
                  <a:pt x="15453" y="15081"/>
                </a:cubicBezTo>
                <a:cubicBezTo>
                  <a:pt x="15461" y="15081"/>
                  <a:pt x="15470" y="15081"/>
                  <a:pt x="15478" y="15081"/>
                </a:cubicBezTo>
              </a:path>
              <a:path w="2184" h="1340">
                <a:moveTo>
                  <a:pt x="15577" y="15056"/>
                </a:moveTo>
                <a:cubicBezTo>
                  <a:pt x="15626" y="15084"/>
                  <a:pt x="15646" y="15106"/>
                  <a:pt x="15701" y="15106"/>
                </a:cubicBezTo>
                <a:cubicBezTo>
                  <a:pt x="15718" y="15106"/>
                  <a:pt x="15734" y="15106"/>
                  <a:pt x="15751" y="15106"/>
                </a:cubicBezTo>
              </a:path>
              <a:path w="2184" h="1340">
                <a:moveTo>
                  <a:pt x="15478" y="14139"/>
                </a:moveTo>
                <a:cubicBezTo>
                  <a:pt x="15652" y="14139"/>
                  <a:pt x="15825" y="14139"/>
                  <a:pt x="15999" y="141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1040" y="5554800"/>
            <a:ext cx="1241280" cy="347400"/>
          </a:xfrm>
          <a:custGeom>
            <a:avLst/>
            <a:gdLst/>
            <a:ahLst/>
            <a:rect l="l" t="t" r="r" b="b"/>
            <a:pathLst>
              <a:path w="3449" h="968">
                <a:moveTo>
                  <a:pt x="4911" y="15900"/>
                </a:moveTo>
                <a:cubicBezTo>
                  <a:pt x="4887" y="15900"/>
                  <a:pt x="4878" y="15900"/>
                  <a:pt x="4862" y="15900"/>
                </a:cubicBezTo>
                <a:cubicBezTo>
                  <a:pt x="4898" y="15927"/>
                  <a:pt x="4938" y="15946"/>
                  <a:pt x="4986" y="15949"/>
                </a:cubicBezTo>
                <a:cubicBezTo>
                  <a:pt x="5051" y="15953"/>
                  <a:pt x="5119" y="15949"/>
                  <a:pt x="5184" y="15949"/>
                </a:cubicBezTo>
              </a:path>
              <a:path w="3449" h="968">
                <a:moveTo>
                  <a:pt x="5159" y="15726"/>
                </a:moveTo>
                <a:cubicBezTo>
                  <a:pt x="5099" y="15813"/>
                  <a:pt x="5065" y="15842"/>
                  <a:pt x="5060" y="15949"/>
                </a:cubicBezTo>
                <a:cubicBezTo>
                  <a:pt x="5056" y="16036"/>
                  <a:pt x="5075" y="16094"/>
                  <a:pt x="5110" y="16173"/>
                </a:cubicBezTo>
              </a:path>
              <a:path w="3449" h="968">
                <a:moveTo>
                  <a:pt x="5779" y="16396"/>
                </a:moveTo>
                <a:cubicBezTo>
                  <a:pt x="5751" y="16357"/>
                  <a:pt x="5755" y="16333"/>
                  <a:pt x="5705" y="16321"/>
                </a:cubicBezTo>
                <a:cubicBezTo>
                  <a:pt x="5705" y="16349"/>
                  <a:pt x="5703" y="16360"/>
                  <a:pt x="5680" y="16371"/>
                </a:cubicBezTo>
              </a:path>
              <a:path w="3449" h="968">
                <a:moveTo>
                  <a:pt x="6052" y="15701"/>
                </a:moveTo>
                <a:cubicBezTo>
                  <a:pt x="6052" y="15788"/>
                  <a:pt x="6031" y="15863"/>
                  <a:pt x="6028" y="15949"/>
                </a:cubicBezTo>
                <a:cubicBezTo>
                  <a:pt x="6025" y="16040"/>
                  <a:pt x="6000" y="16200"/>
                  <a:pt x="6052" y="16272"/>
                </a:cubicBezTo>
                <a:cubicBezTo>
                  <a:pt x="6060" y="16280"/>
                  <a:pt x="6069" y="16289"/>
                  <a:pt x="6077" y="16297"/>
                </a:cubicBezTo>
              </a:path>
              <a:path w="3449" h="968">
                <a:moveTo>
                  <a:pt x="6524" y="15875"/>
                </a:moveTo>
                <a:cubicBezTo>
                  <a:pt x="6459" y="15875"/>
                  <a:pt x="6429" y="15885"/>
                  <a:pt x="6375" y="15925"/>
                </a:cubicBezTo>
                <a:cubicBezTo>
                  <a:pt x="6346" y="15947"/>
                  <a:pt x="6335" y="16037"/>
                  <a:pt x="6350" y="16073"/>
                </a:cubicBezTo>
                <a:cubicBezTo>
                  <a:pt x="6383" y="16150"/>
                  <a:pt x="6413" y="16127"/>
                  <a:pt x="6474" y="16148"/>
                </a:cubicBezTo>
                <a:cubicBezTo>
                  <a:pt x="6555" y="16175"/>
                  <a:pt x="6570" y="16169"/>
                  <a:pt x="6548" y="16247"/>
                </a:cubicBezTo>
              </a:path>
              <a:path w="3449" h="968">
                <a:moveTo>
                  <a:pt x="6499" y="15825"/>
                </a:moveTo>
                <a:cubicBezTo>
                  <a:pt x="6563" y="15789"/>
                  <a:pt x="6574" y="15776"/>
                  <a:pt x="6648" y="15776"/>
                </a:cubicBezTo>
                <a:cubicBezTo>
                  <a:pt x="6714" y="15776"/>
                  <a:pt x="6780" y="15776"/>
                  <a:pt x="6846" y="15776"/>
                </a:cubicBezTo>
              </a:path>
              <a:path w="3449" h="968">
                <a:moveTo>
                  <a:pt x="6970" y="16024"/>
                </a:moveTo>
                <a:cubicBezTo>
                  <a:pt x="6964" y="16068"/>
                  <a:pt x="6961" y="16131"/>
                  <a:pt x="6945" y="16173"/>
                </a:cubicBezTo>
                <a:cubicBezTo>
                  <a:pt x="6931" y="16209"/>
                  <a:pt x="6925" y="16227"/>
                  <a:pt x="6921" y="16272"/>
                </a:cubicBezTo>
                <a:cubicBezTo>
                  <a:pt x="6960" y="16232"/>
                  <a:pt x="7015" y="16186"/>
                  <a:pt x="7045" y="16148"/>
                </a:cubicBezTo>
                <a:cubicBezTo>
                  <a:pt x="7066" y="16104"/>
                  <a:pt x="7069" y="16092"/>
                  <a:pt x="7094" y="16073"/>
                </a:cubicBezTo>
                <a:cubicBezTo>
                  <a:pt x="7135" y="16085"/>
                  <a:pt x="7154" y="16069"/>
                  <a:pt x="7169" y="16123"/>
                </a:cubicBezTo>
                <a:cubicBezTo>
                  <a:pt x="7178" y="16155"/>
                  <a:pt x="7169" y="16212"/>
                  <a:pt x="7169" y="16247"/>
                </a:cubicBezTo>
                <a:cubicBezTo>
                  <a:pt x="7204" y="16227"/>
                  <a:pt x="7234" y="16207"/>
                  <a:pt x="7268" y="16173"/>
                </a:cubicBezTo>
                <a:cubicBezTo>
                  <a:pt x="7316" y="16125"/>
                  <a:pt x="7344" y="16072"/>
                  <a:pt x="7392" y="16024"/>
                </a:cubicBezTo>
                <a:cubicBezTo>
                  <a:pt x="7404" y="16044"/>
                  <a:pt x="7423" y="16111"/>
                  <a:pt x="7441" y="16148"/>
                </a:cubicBezTo>
                <a:cubicBezTo>
                  <a:pt x="7465" y="16196"/>
                  <a:pt x="7517" y="16206"/>
                  <a:pt x="7565" y="16197"/>
                </a:cubicBezTo>
                <a:cubicBezTo>
                  <a:pt x="7614" y="16187"/>
                  <a:pt x="7680" y="16123"/>
                  <a:pt x="7689" y="16073"/>
                </a:cubicBezTo>
                <a:cubicBezTo>
                  <a:pt x="7695" y="16041"/>
                  <a:pt x="7686" y="16006"/>
                  <a:pt x="7689" y="15974"/>
                </a:cubicBezTo>
                <a:cubicBezTo>
                  <a:pt x="7706" y="15991"/>
                  <a:pt x="7719" y="16022"/>
                  <a:pt x="7739" y="16049"/>
                </a:cubicBezTo>
                <a:cubicBezTo>
                  <a:pt x="7765" y="16083"/>
                  <a:pt x="7819" y="16112"/>
                  <a:pt x="7863" y="16098"/>
                </a:cubicBezTo>
                <a:cubicBezTo>
                  <a:pt x="7895" y="16088"/>
                  <a:pt x="7896" y="16025"/>
                  <a:pt x="7888" y="15999"/>
                </a:cubicBezTo>
                <a:cubicBezTo>
                  <a:pt x="7884" y="15985"/>
                  <a:pt x="7845" y="15938"/>
                  <a:pt x="7838" y="15925"/>
                </a:cubicBezTo>
                <a:cubicBezTo>
                  <a:pt x="7893" y="15892"/>
                  <a:pt x="7949" y="15903"/>
                  <a:pt x="8012" y="15875"/>
                </a:cubicBezTo>
                <a:cubicBezTo>
                  <a:pt x="8090" y="15840"/>
                  <a:pt x="8146" y="15774"/>
                  <a:pt x="8186" y="15701"/>
                </a:cubicBezTo>
                <a:cubicBezTo>
                  <a:pt x="8209" y="15659"/>
                  <a:pt x="8239" y="15520"/>
                  <a:pt x="8210" y="15478"/>
                </a:cubicBezTo>
                <a:cubicBezTo>
                  <a:pt x="8192" y="15453"/>
                  <a:pt x="8134" y="15440"/>
                  <a:pt x="8111" y="15429"/>
                </a:cubicBezTo>
                <a:cubicBezTo>
                  <a:pt x="8073" y="15504"/>
                  <a:pt x="8068" y="15662"/>
                  <a:pt x="8086" y="15751"/>
                </a:cubicBezTo>
                <a:cubicBezTo>
                  <a:pt x="8123" y="15929"/>
                  <a:pt x="8213" y="16098"/>
                  <a:pt x="8310" y="162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44920" y="5589720"/>
            <a:ext cx="750960" cy="285480"/>
          </a:xfrm>
          <a:custGeom>
            <a:avLst/>
            <a:gdLst/>
            <a:ahLst/>
            <a:rect l="l" t="t" r="r" b="b"/>
            <a:pathLst>
              <a:path w="2085" h="794">
                <a:moveTo>
                  <a:pt x="9872" y="16024"/>
                </a:moveTo>
                <a:cubicBezTo>
                  <a:pt x="9847" y="16024"/>
                  <a:pt x="9839" y="16024"/>
                  <a:pt x="9847" y="16049"/>
                </a:cubicBezTo>
                <a:cubicBezTo>
                  <a:pt x="9920" y="16049"/>
                  <a:pt x="9978" y="16035"/>
                  <a:pt x="10046" y="16024"/>
                </a:cubicBezTo>
                <a:cubicBezTo>
                  <a:pt x="10075" y="16019"/>
                  <a:pt x="10114" y="16024"/>
                  <a:pt x="10145" y="16024"/>
                </a:cubicBezTo>
              </a:path>
              <a:path w="2085" h="794">
                <a:moveTo>
                  <a:pt x="10468" y="16272"/>
                </a:moveTo>
                <a:cubicBezTo>
                  <a:pt x="10440" y="16279"/>
                  <a:pt x="10393" y="16331"/>
                  <a:pt x="10418" y="16297"/>
                </a:cubicBezTo>
                <a:cubicBezTo>
                  <a:pt x="10447" y="16256"/>
                  <a:pt x="10498" y="16219"/>
                  <a:pt x="10517" y="16173"/>
                </a:cubicBezTo>
                <a:cubicBezTo>
                  <a:pt x="10543" y="16107"/>
                  <a:pt x="10474" y="16189"/>
                  <a:pt x="10468" y="16197"/>
                </a:cubicBezTo>
              </a:path>
              <a:path w="2085" h="794">
                <a:moveTo>
                  <a:pt x="10864" y="15701"/>
                </a:moveTo>
                <a:cubicBezTo>
                  <a:pt x="10854" y="15786"/>
                  <a:pt x="10840" y="15859"/>
                  <a:pt x="10840" y="15949"/>
                </a:cubicBezTo>
                <a:cubicBezTo>
                  <a:pt x="10840" y="16044"/>
                  <a:pt x="10842" y="16107"/>
                  <a:pt x="10864" y="16197"/>
                </a:cubicBezTo>
              </a:path>
              <a:path w="2085" h="794">
                <a:moveTo>
                  <a:pt x="11435" y="15751"/>
                </a:moveTo>
                <a:cubicBezTo>
                  <a:pt x="11399" y="15724"/>
                  <a:pt x="11334" y="15707"/>
                  <a:pt x="11286" y="15726"/>
                </a:cubicBezTo>
                <a:cubicBezTo>
                  <a:pt x="11251" y="15740"/>
                  <a:pt x="11202" y="15814"/>
                  <a:pt x="11212" y="15850"/>
                </a:cubicBezTo>
                <a:cubicBezTo>
                  <a:pt x="11233" y="15927"/>
                  <a:pt x="11317" y="15963"/>
                  <a:pt x="11361" y="16024"/>
                </a:cubicBezTo>
                <a:cubicBezTo>
                  <a:pt x="11397" y="16074"/>
                  <a:pt x="11428" y="16132"/>
                  <a:pt x="11410" y="16197"/>
                </a:cubicBezTo>
                <a:cubicBezTo>
                  <a:pt x="11398" y="16242"/>
                  <a:pt x="11367" y="16266"/>
                  <a:pt x="11336" y="16297"/>
                </a:cubicBezTo>
              </a:path>
              <a:path w="2085" h="794">
                <a:moveTo>
                  <a:pt x="11410" y="15677"/>
                </a:moveTo>
                <a:cubicBezTo>
                  <a:pt x="11498" y="15677"/>
                  <a:pt x="11573" y="15677"/>
                  <a:pt x="11658" y="15652"/>
                </a:cubicBezTo>
                <a:cubicBezTo>
                  <a:pt x="11755" y="15623"/>
                  <a:pt x="11841" y="15573"/>
                  <a:pt x="11931" y="155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35880" y="5848200"/>
            <a:ext cx="28440" cy="19080"/>
          </a:xfrm>
          <a:custGeom>
            <a:avLst/>
            <a:gdLst/>
            <a:ahLst/>
            <a:rect l="l" t="t" r="r" b="b"/>
            <a:pathLst>
              <a:path w="76" h="51">
                <a:moveTo>
                  <a:pt x="21010" y="16247"/>
                </a:moveTo>
                <a:cubicBezTo>
                  <a:pt x="20959" y="16247"/>
                  <a:pt x="20947" y="16247"/>
                  <a:pt x="20935" y="16297"/>
                </a:cubicBezTo>
                <a:cubicBezTo>
                  <a:pt x="20946" y="16294"/>
                  <a:pt x="21036" y="16266"/>
                  <a:pt x="21010" y="16247"/>
                </a:cubicBezTo>
                <a:cubicBezTo>
                  <a:pt x="20978" y="16223"/>
                  <a:pt x="20965" y="16256"/>
                  <a:pt x="20960" y="162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42160" y="5749920"/>
            <a:ext cx="401760" cy="179280"/>
          </a:xfrm>
          <a:custGeom>
            <a:avLst/>
            <a:gdLst/>
            <a:ahLst/>
            <a:rect l="l" t="t" r="r" b="b"/>
            <a:pathLst>
              <a:path w="1117" h="497">
                <a:moveTo>
                  <a:pt x="21654" y="15999"/>
                </a:moveTo>
                <a:cubicBezTo>
                  <a:pt x="21584" y="15999"/>
                  <a:pt x="21596" y="16019"/>
                  <a:pt x="21555" y="16073"/>
                </a:cubicBezTo>
                <a:cubicBezTo>
                  <a:pt x="21534" y="16101"/>
                  <a:pt x="21454" y="16168"/>
                  <a:pt x="21530" y="16197"/>
                </a:cubicBezTo>
                <a:cubicBezTo>
                  <a:pt x="21603" y="16225"/>
                  <a:pt x="21700" y="16222"/>
                  <a:pt x="21779" y="16222"/>
                </a:cubicBezTo>
                <a:cubicBezTo>
                  <a:pt x="21804" y="16222"/>
                  <a:pt x="21828" y="16222"/>
                  <a:pt x="21853" y="16222"/>
                </a:cubicBezTo>
              </a:path>
              <a:path w="1117" h="497">
                <a:moveTo>
                  <a:pt x="22002" y="15974"/>
                </a:moveTo>
                <a:cubicBezTo>
                  <a:pt x="21958" y="16029"/>
                  <a:pt x="21908" y="16108"/>
                  <a:pt x="21878" y="16173"/>
                </a:cubicBezTo>
                <a:cubicBezTo>
                  <a:pt x="21844" y="16248"/>
                  <a:pt x="21809" y="16341"/>
                  <a:pt x="21803" y="16421"/>
                </a:cubicBezTo>
                <a:cubicBezTo>
                  <a:pt x="21803" y="16429"/>
                  <a:pt x="21803" y="16438"/>
                  <a:pt x="21803" y="16446"/>
                </a:cubicBezTo>
              </a:path>
              <a:path w="1117" h="497">
                <a:moveTo>
                  <a:pt x="22324" y="16197"/>
                </a:moveTo>
                <a:cubicBezTo>
                  <a:pt x="22324" y="16181"/>
                  <a:pt x="22324" y="16164"/>
                  <a:pt x="22324" y="16148"/>
                </a:cubicBezTo>
                <a:cubicBezTo>
                  <a:pt x="22272" y="16148"/>
                  <a:pt x="22263" y="16160"/>
                  <a:pt x="22225" y="16197"/>
                </a:cubicBezTo>
                <a:cubicBezTo>
                  <a:pt x="22195" y="16226"/>
                  <a:pt x="22186" y="16279"/>
                  <a:pt x="22200" y="16321"/>
                </a:cubicBezTo>
                <a:cubicBezTo>
                  <a:pt x="22217" y="16371"/>
                  <a:pt x="22260" y="16402"/>
                  <a:pt x="22275" y="16446"/>
                </a:cubicBezTo>
                <a:cubicBezTo>
                  <a:pt x="22289" y="16487"/>
                  <a:pt x="22224" y="16470"/>
                  <a:pt x="22200" y="16470"/>
                </a:cubicBezTo>
              </a:path>
              <a:path w="1117" h="497">
                <a:moveTo>
                  <a:pt x="22349" y="16098"/>
                </a:moveTo>
                <a:cubicBezTo>
                  <a:pt x="22387" y="16061"/>
                  <a:pt x="22396" y="16049"/>
                  <a:pt x="22448" y="16049"/>
                </a:cubicBezTo>
                <a:cubicBezTo>
                  <a:pt x="22506" y="16049"/>
                  <a:pt x="22564" y="16049"/>
                  <a:pt x="22622" y="160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96200" y="5759280"/>
            <a:ext cx="106560" cy="206640"/>
          </a:xfrm>
          <a:custGeom>
            <a:avLst/>
            <a:gdLst/>
            <a:ahLst/>
            <a:rect l="l" t="t" r="r" b="b"/>
            <a:pathLst>
              <a:path w="298" h="572">
                <a:moveTo>
                  <a:pt x="23044" y="16024"/>
                </a:moveTo>
                <a:cubicBezTo>
                  <a:pt x="23086" y="15992"/>
                  <a:pt x="23112" y="15999"/>
                  <a:pt x="23168" y="15999"/>
                </a:cubicBezTo>
                <a:cubicBezTo>
                  <a:pt x="23226" y="15999"/>
                  <a:pt x="23306" y="15987"/>
                  <a:pt x="23341" y="16049"/>
                </a:cubicBezTo>
                <a:cubicBezTo>
                  <a:pt x="23378" y="16115"/>
                  <a:pt x="23297" y="16224"/>
                  <a:pt x="23267" y="16272"/>
                </a:cubicBezTo>
                <a:cubicBezTo>
                  <a:pt x="23223" y="16341"/>
                  <a:pt x="23139" y="16443"/>
                  <a:pt x="23118" y="16520"/>
                </a:cubicBezTo>
                <a:cubicBezTo>
                  <a:pt x="23118" y="16537"/>
                  <a:pt x="23118" y="16553"/>
                  <a:pt x="23118" y="165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518680" y="5769000"/>
            <a:ext cx="268200" cy="268200"/>
          </a:xfrm>
          <a:custGeom>
            <a:avLst/>
            <a:gdLst/>
            <a:ahLst/>
            <a:rect l="l" t="t" r="r" b="b"/>
            <a:pathLst>
              <a:path w="745" h="745">
                <a:moveTo>
                  <a:pt x="23837" y="16173"/>
                </a:moveTo>
                <a:cubicBezTo>
                  <a:pt x="23791" y="16196"/>
                  <a:pt x="23760" y="16264"/>
                  <a:pt x="23738" y="16321"/>
                </a:cubicBezTo>
                <a:cubicBezTo>
                  <a:pt x="23710" y="16391"/>
                  <a:pt x="23673" y="16451"/>
                  <a:pt x="23664" y="16520"/>
                </a:cubicBezTo>
                <a:cubicBezTo>
                  <a:pt x="23722" y="16505"/>
                  <a:pt x="23753" y="16472"/>
                  <a:pt x="23788" y="16421"/>
                </a:cubicBezTo>
                <a:cubicBezTo>
                  <a:pt x="23847" y="16334"/>
                  <a:pt x="23888" y="16240"/>
                  <a:pt x="23937" y="16148"/>
                </a:cubicBezTo>
                <a:cubicBezTo>
                  <a:pt x="23963" y="16099"/>
                  <a:pt x="23960" y="16067"/>
                  <a:pt x="23986" y="16024"/>
                </a:cubicBezTo>
                <a:cubicBezTo>
                  <a:pt x="23976" y="16113"/>
                  <a:pt x="23944" y="16204"/>
                  <a:pt x="23961" y="16297"/>
                </a:cubicBezTo>
                <a:cubicBezTo>
                  <a:pt x="23969" y="16339"/>
                  <a:pt x="24007" y="16455"/>
                  <a:pt x="24061" y="16470"/>
                </a:cubicBezTo>
                <a:cubicBezTo>
                  <a:pt x="24156" y="16497"/>
                  <a:pt x="24189" y="16399"/>
                  <a:pt x="24234" y="16346"/>
                </a:cubicBezTo>
                <a:cubicBezTo>
                  <a:pt x="24280" y="16291"/>
                  <a:pt x="24356" y="16240"/>
                  <a:pt x="24383" y="16173"/>
                </a:cubicBezTo>
                <a:cubicBezTo>
                  <a:pt x="24383" y="16165"/>
                  <a:pt x="24383" y="16156"/>
                  <a:pt x="24383" y="16148"/>
                </a:cubicBezTo>
                <a:cubicBezTo>
                  <a:pt x="24431" y="16164"/>
                  <a:pt x="24416" y="16293"/>
                  <a:pt x="24408" y="16346"/>
                </a:cubicBezTo>
                <a:cubicBezTo>
                  <a:pt x="24391" y="16462"/>
                  <a:pt x="24357" y="16599"/>
                  <a:pt x="24383" y="16718"/>
                </a:cubicBezTo>
                <a:cubicBezTo>
                  <a:pt x="24391" y="16735"/>
                  <a:pt x="24400" y="16751"/>
                  <a:pt x="24408" y="167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11760" y="5965920"/>
            <a:ext cx="115560" cy="125280"/>
          </a:xfrm>
          <a:custGeom>
            <a:avLst/>
            <a:gdLst/>
            <a:ahLst/>
            <a:rect l="l" t="t" r="r" b="b"/>
            <a:pathLst>
              <a:path w="324" h="348">
                <a:moveTo>
                  <a:pt x="10964" y="16570"/>
                </a:moveTo>
                <a:cubicBezTo>
                  <a:pt x="10928" y="16631"/>
                  <a:pt x="10879" y="16697"/>
                  <a:pt x="10864" y="16768"/>
                </a:cubicBezTo>
                <a:cubicBezTo>
                  <a:pt x="10845" y="16859"/>
                  <a:pt x="10876" y="16907"/>
                  <a:pt x="10964" y="16917"/>
                </a:cubicBezTo>
                <a:cubicBezTo>
                  <a:pt x="11025" y="16924"/>
                  <a:pt x="11124" y="16842"/>
                  <a:pt x="11162" y="16793"/>
                </a:cubicBezTo>
                <a:cubicBezTo>
                  <a:pt x="11208" y="16734"/>
                  <a:pt x="11184" y="16686"/>
                  <a:pt x="11112" y="16669"/>
                </a:cubicBezTo>
                <a:cubicBezTo>
                  <a:pt x="11057" y="16656"/>
                  <a:pt x="11005" y="16696"/>
                  <a:pt x="10988" y="166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75040" y="4946760"/>
            <a:ext cx="19080" cy="27000"/>
          </a:xfrm>
          <a:custGeom>
            <a:avLst/>
            <a:gdLst/>
            <a:ahLst/>
            <a:rect l="l" t="t" r="r" b="b"/>
            <a:pathLst>
              <a:path w="51" h="75">
                <a:moveTo>
                  <a:pt x="10790" y="13816"/>
                </a:moveTo>
                <a:cubicBezTo>
                  <a:pt x="10790" y="13791"/>
                  <a:pt x="10790" y="13783"/>
                  <a:pt x="10815" y="13791"/>
                </a:cubicBezTo>
              </a:path>
              <a:path w="51" h="75">
                <a:moveTo>
                  <a:pt x="10815" y="13816"/>
                </a:moveTo>
                <a:cubicBezTo>
                  <a:pt x="10815" y="13808"/>
                  <a:pt x="10815" y="13799"/>
                  <a:pt x="10815" y="13791"/>
                </a:cubicBezTo>
              </a:path>
              <a:path w="51" h="75">
                <a:moveTo>
                  <a:pt x="10815" y="13791"/>
                </a:moveTo>
                <a:cubicBezTo>
                  <a:pt x="10815" y="13761"/>
                  <a:pt x="10789" y="13750"/>
                  <a:pt x="10765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23120" y="5518080"/>
            <a:ext cx="1741680" cy="625680"/>
          </a:xfrm>
          <a:custGeom>
            <a:avLst/>
            <a:gdLst/>
            <a:ahLst/>
            <a:rect l="l" t="t" r="r" b="b"/>
            <a:pathLst>
              <a:path w="4838" h="1738">
                <a:moveTo>
                  <a:pt x="20662" y="16669"/>
                </a:moveTo>
                <a:cubicBezTo>
                  <a:pt x="20691" y="16661"/>
                  <a:pt x="20713" y="16625"/>
                  <a:pt x="20786" y="16619"/>
                </a:cubicBezTo>
                <a:cubicBezTo>
                  <a:pt x="21008" y="16600"/>
                  <a:pt x="21215" y="16651"/>
                  <a:pt x="21431" y="16694"/>
                </a:cubicBezTo>
                <a:cubicBezTo>
                  <a:pt x="21706" y="16748"/>
                  <a:pt x="21978" y="16806"/>
                  <a:pt x="22250" y="16867"/>
                </a:cubicBezTo>
                <a:cubicBezTo>
                  <a:pt x="22440" y="16910"/>
                  <a:pt x="22629" y="16921"/>
                  <a:pt x="22820" y="16942"/>
                </a:cubicBezTo>
                <a:cubicBezTo>
                  <a:pt x="23010" y="16963"/>
                  <a:pt x="23201" y="16947"/>
                  <a:pt x="23391" y="16966"/>
                </a:cubicBezTo>
                <a:cubicBezTo>
                  <a:pt x="23515" y="16979"/>
                  <a:pt x="23669" y="16985"/>
                  <a:pt x="23788" y="17016"/>
                </a:cubicBezTo>
                <a:cubicBezTo>
                  <a:pt x="23891" y="17043"/>
                  <a:pt x="23949" y="17072"/>
                  <a:pt x="24061" y="17066"/>
                </a:cubicBezTo>
                <a:cubicBezTo>
                  <a:pt x="24187" y="17059"/>
                  <a:pt x="24270" y="17009"/>
                  <a:pt x="24383" y="16966"/>
                </a:cubicBezTo>
                <a:cubicBezTo>
                  <a:pt x="24559" y="16898"/>
                  <a:pt x="24756" y="16880"/>
                  <a:pt x="24929" y="16818"/>
                </a:cubicBezTo>
                <a:cubicBezTo>
                  <a:pt x="24990" y="16796"/>
                  <a:pt x="25003" y="16795"/>
                  <a:pt x="25053" y="16743"/>
                </a:cubicBezTo>
                <a:cubicBezTo>
                  <a:pt x="25091" y="16703"/>
                  <a:pt x="25129" y="16645"/>
                  <a:pt x="25152" y="16594"/>
                </a:cubicBezTo>
                <a:cubicBezTo>
                  <a:pt x="25174" y="16544"/>
                  <a:pt x="25184" y="16454"/>
                  <a:pt x="25177" y="16396"/>
                </a:cubicBezTo>
                <a:cubicBezTo>
                  <a:pt x="25167" y="16309"/>
                  <a:pt x="25123" y="16271"/>
                  <a:pt x="25078" y="16197"/>
                </a:cubicBezTo>
                <a:cubicBezTo>
                  <a:pt x="25029" y="16117"/>
                  <a:pt x="24993" y="16047"/>
                  <a:pt x="24929" y="15974"/>
                </a:cubicBezTo>
                <a:cubicBezTo>
                  <a:pt x="24872" y="15908"/>
                  <a:pt x="24824" y="15878"/>
                  <a:pt x="24755" y="15850"/>
                </a:cubicBezTo>
                <a:cubicBezTo>
                  <a:pt x="24696" y="15826"/>
                  <a:pt x="24652" y="15827"/>
                  <a:pt x="24581" y="15825"/>
                </a:cubicBezTo>
                <a:cubicBezTo>
                  <a:pt x="24489" y="15823"/>
                  <a:pt x="24419" y="15826"/>
                  <a:pt x="24333" y="15801"/>
                </a:cubicBezTo>
                <a:cubicBezTo>
                  <a:pt x="24286" y="15787"/>
                  <a:pt x="24226" y="15735"/>
                  <a:pt x="24185" y="15726"/>
                </a:cubicBezTo>
                <a:cubicBezTo>
                  <a:pt x="24014" y="15687"/>
                  <a:pt x="23803" y="15733"/>
                  <a:pt x="23639" y="15701"/>
                </a:cubicBezTo>
                <a:cubicBezTo>
                  <a:pt x="23572" y="15688"/>
                  <a:pt x="23509" y="15687"/>
                  <a:pt x="23440" y="15677"/>
                </a:cubicBezTo>
                <a:cubicBezTo>
                  <a:pt x="23329" y="15661"/>
                  <a:pt x="23201" y="15654"/>
                  <a:pt x="23093" y="15627"/>
                </a:cubicBezTo>
                <a:cubicBezTo>
                  <a:pt x="22992" y="15602"/>
                  <a:pt x="22896" y="15578"/>
                  <a:pt x="22796" y="15553"/>
                </a:cubicBezTo>
                <a:cubicBezTo>
                  <a:pt x="22678" y="15523"/>
                  <a:pt x="22565" y="15505"/>
                  <a:pt x="22448" y="15478"/>
                </a:cubicBezTo>
                <a:cubicBezTo>
                  <a:pt x="22264" y="15435"/>
                  <a:pt x="22088" y="15404"/>
                  <a:pt x="21903" y="15379"/>
                </a:cubicBezTo>
                <a:cubicBezTo>
                  <a:pt x="21764" y="15360"/>
                  <a:pt x="21647" y="15332"/>
                  <a:pt x="21506" y="15329"/>
                </a:cubicBezTo>
                <a:cubicBezTo>
                  <a:pt x="21384" y="15326"/>
                  <a:pt x="21276" y="15336"/>
                  <a:pt x="21158" y="15354"/>
                </a:cubicBezTo>
                <a:cubicBezTo>
                  <a:pt x="21082" y="15366"/>
                  <a:pt x="20955" y="15374"/>
                  <a:pt x="20886" y="15404"/>
                </a:cubicBezTo>
                <a:cubicBezTo>
                  <a:pt x="20823" y="15432"/>
                  <a:pt x="20765" y="15484"/>
                  <a:pt x="20712" y="15528"/>
                </a:cubicBezTo>
                <a:cubicBezTo>
                  <a:pt x="20647" y="15582"/>
                  <a:pt x="20589" y="15641"/>
                  <a:pt x="20538" y="15701"/>
                </a:cubicBezTo>
                <a:cubicBezTo>
                  <a:pt x="20483" y="15766"/>
                  <a:pt x="20433" y="15828"/>
                  <a:pt x="20389" y="15900"/>
                </a:cubicBezTo>
                <a:cubicBezTo>
                  <a:pt x="20347" y="15969"/>
                  <a:pt x="20325" y="16041"/>
                  <a:pt x="20340" y="16123"/>
                </a:cubicBezTo>
                <a:cubicBezTo>
                  <a:pt x="20354" y="16203"/>
                  <a:pt x="20398" y="16289"/>
                  <a:pt x="20414" y="16371"/>
                </a:cubicBezTo>
                <a:cubicBezTo>
                  <a:pt x="20433" y="16467"/>
                  <a:pt x="20451" y="16552"/>
                  <a:pt x="20489" y="16644"/>
                </a:cubicBezTo>
                <a:cubicBezTo>
                  <a:pt x="20516" y="16711"/>
                  <a:pt x="20569" y="16790"/>
                  <a:pt x="20638" y="16818"/>
                </a:cubicBezTo>
                <a:cubicBezTo>
                  <a:pt x="20724" y="16853"/>
                  <a:pt x="20796" y="16837"/>
                  <a:pt x="20886" y="168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8320" y="750960"/>
            <a:ext cx="384480" cy="561960"/>
          </a:xfrm>
          <a:custGeom>
            <a:avLst/>
            <a:gdLst/>
            <a:ahLst/>
            <a:rect l="l" t="t" r="r" b="b"/>
            <a:pathLst>
              <a:path w="1068" h="1563">
                <a:moveTo>
                  <a:pt x="2158" y="2480"/>
                </a:moveTo>
                <a:cubicBezTo>
                  <a:pt x="2150" y="2612"/>
                  <a:pt x="2098" y="2723"/>
                  <a:pt x="2084" y="2853"/>
                </a:cubicBezTo>
                <a:cubicBezTo>
                  <a:pt x="2074" y="2941"/>
                  <a:pt x="2084" y="3036"/>
                  <a:pt x="2084" y="3125"/>
                </a:cubicBezTo>
              </a:path>
              <a:path w="1068" h="1563">
                <a:moveTo>
                  <a:pt x="2431" y="2604"/>
                </a:moveTo>
                <a:cubicBezTo>
                  <a:pt x="2504" y="2582"/>
                  <a:pt x="2438" y="2654"/>
                  <a:pt x="2431" y="2704"/>
                </a:cubicBezTo>
                <a:cubicBezTo>
                  <a:pt x="2417" y="2804"/>
                  <a:pt x="2406" y="2898"/>
                  <a:pt x="2406" y="3001"/>
                </a:cubicBezTo>
                <a:cubicBezTo>
                  <a:pt x="2406" y="3051"/>
                  <a:pt x="2406" y="3100"/>
                  <a:pt x="2406" y="3150"/>
                </a:cubicBezTo>
              </a:path>
              <a:path w="1068" h="1563">
                <a:moveTo>
                  <a:pt x="2307" y="2084"/>
                </a:moveTo>
                <a:cubicBezTo>
                  <a:pt x="2139" y="2092"/>
                  <a:pt x="2043" y="2096"/>
                  <a:pt x="1910" y="2208"/>
                </a:cubicBezTo>
                <a:cubicBezTo>
                  <a:pt x="1748" y="2343"/>
                  <a:pt x="1679" y="2551"/>
                  <a:pt x="1662" y="2753"/>
                </a:cubicBezTo>
                <a:cubicBezTo>
                  <a:pt x="1643" y="2974"/>
                  <a:pt x="1684" y="3248"/>
                  <a:pt x="1786" y="3448"/>
                </a:cubicBezTo>
                <a:cubicBezTo>
                  <a:pt x="1852" y="3577"/>
                  <a:pt x="1960" y="3666"/>
                  <a:pt x="2108" y="3646"/>
                </a:cubicBezTo>
                <a:cubicBezTo>
                  <a:pt x="2278" y="3623"/>
                  <a:pt x="2422" y="3427"/>
                  <a:pt x="2505" y="3299"/>
                </a:cubicBezTo>
                <a:cubicBezTo>
                  <a:pt x="2623" y="3116"/>
                  <a:pt x="2709" y="2873"/>
                  <a:pt x="2729" y="2654"/>
                </a:cubicBezTo>
                <a:cubicBezTo>
                  <a:pt x="2743" y="2498"/>
                  <a:pt x="2688" y="2343"/>
                  <a:pt x="2555" y="2257"/>
                </a:cubicBezTo>
                <a:cubicBezTo>
                  <a:pt x="2435" y="2180"/>
                  <a:pt x="2331" y="2206"/>
                  <a:pt x="2208" y="2257"/>
                </a:cubicBezTo>
                <a:cubicBezTo>
                  <a:pt x="2191" y="2265"/>
                  <a:pt x="2175" y="2274"/>
                  <a:pt x="2158" y="22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12920" y="857160"/>
            <a:ext cx="401760" cy="554040"/>
          </a:xfrm>
          <a:custGeom>
            <a:avLst/>
            <a:gdLst/>
            <a:ahLst/>
            <a:rect l="l" t="t" r="r" b="b"/>
            <a:pathLst>
              <a:path w="1117" h="1539">
                <a:moveTo>
                  <a:pt x="3696" y="3001"/>
                </a:moveTo>
                <a:cubicBezTo>
                  <a:pt x="3696" y="3105"/>
                  <a:pt x="3673" y="3193"/>
                  <a:pt x="3671" y="3299"/>
                </a:cubicBezTo>
                <a:cubicBezTo>
                  <a:pt x="3667" y="3476"/>
                  <a:pt x="3616" y="3669"/>
                  <a:pt x="3646" y="3845"/>
                </a:cubicBezTo>
                <a:cubicBezTo>
                  <a:pt x="3666" y="3885"/>
                  <a:pt x="3675" y="3891"/>
                  <a:pt x="3671" y="3919"/>
                </a:cubicBezTo>
                <a:cubicBezTo>
                  <a:pt x="3709" y="3793"/>
                  <a:pt x="3696" y="3657"/>
                  <a:pt x="3696" y="3522"/>
                </a:cubicBezTo>
                <a:cubicBezTo>
                  <a:pt x="3696" y="3364"/>
                  <a:pt x="3660" y="3122"/>
                  <a:pt x="3746" y="2977"/>
                </a:cubicBezTo>
                <a:cubicBezTo>
                  <a:pt x="3788" y="2906"/>
                  <a:pt x="3908" y="2835"/>
                  <a:pt x="3994" y="2853"/>
                </a:cubicBezTo>
                <a:cubicBezTo>
                  <a:pt x="4106" y="2876"/>
                  <a:pt x="4116" y="2967"/>
                  <a:pt x="4093" y="3051"/>
                </a:cubicBezTo>
                <a:cubicBezTo>
                  <a:pt x="4063" y="3163"/>
                  <a:pt x="3936" y="3279"/>
                  <a:pt x="3845" y="3349"/>
                </a:cubicBezTo>
                <a:cubicBezTo>
                  <a:pt x="3789" y="3376"/>
                  <a:pt x="3767" y="3384"/>
                  <a:pt x="3721" y="3373"/>
                </a:cubicBezTo>
              </a:path>
              <a:path w="1117" h="1539">
                <a:moveTo>
                  <a:pt x="4390" y="2381"/>
                </a:moveTo>
                <a:cubicBezTo>
                  <a:pt x="4437" y="2397"/>
                  <a:pt x="4415" y="2475"/>
                  <a:pt x="4415" y="2530"/>
                </a:cubicBezTo>
                <a:cubicBezTo>
                  <a:pt x="4415" y="2809"/>
                  <a:pt x="4458" y="3128"/>
                  <a:pt x="4390" y="3398"/>
                </a:cubicBezTo>
              </a:path>
              <a:path w="1117" h="1539">
                <a:moveTo>
                  <a:pt x="4366" y="3001"/>
                </a:moveTo>
                <a:cubicBezTo>
                  <a:pt x="4415" y="2964"/>
                  <a:pt x="4479" y="2953"/>
                  <a:pt x="4539" y="2927"/>
                </a:cubicBezTo>
                <a:cubicBezTo>
                  <a:pt x="4635" y="2886"/>
                  <a:pt x="4688" y="2852"/>
                  <a:pt x="4762" y="2778"/>
                </a:cubicBezTo>
              </a:path>
              <a:path w="1117" h="1539">
                <a:moveTo>
                  <a:pt x="4762" y="2505"/>
                </a:moveTo>
                <a:cubicBezTo>
                  <a:pt x="4678" y="2529"/>
                  <a:pt x="4671" y="2604"/>
                  <a:pt x="4663" y="2704"/>
                </a:cubicBezTo>
                <a:cubicBezTo>
                  <a:pt x="4647" y="2911"/>
                  <a:pt x="4645" y="3147"/>
                  <a:pt x="4688" y="3349"/>
                </a:cubicBezTo>
                <a:cubicBezTo>
                  <a:pt x="4696" y="3382"/>
                  <a:pt x="4705" y="3415"/>
                  <a:pt x="4713" y="34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38240" y="1044720"/>
            <a:ext cx="133560" cy="161640"/>
          </a:xfrm>
          <a:custGeom>
            <a:avLst/>
            <a:gdLst/>
            <a:ahLst/>
            <a:rect l="l" t="t" r="r" b="b"/>
            <a:pathLst>
              <a:path w="373" h="448">
                <a:moveTo>
                  <a:pt x="5407" y="2902"/>
                </a:moveTo>
                <a:cubicBezTo>
                  <a:pt x="5488" y="2924"/>
                  <a:pt x="5547" y="2927"/>
                  <a:pt x="5631" y="2927"/>
                </a:cubicBezTo>
                <a:cubicBezTo>
                  <a:pt x="5647" y="2927"/>
                  <a:pt x="5664" y="2927"/>
                  <a:pt x="5680" y="2927"/>
                </a:cubicBezTo>
              </a:path>
              <a:path w="373" h="448">
                <a:moveTo>
                  <a:pt x="5383" y="3299"/>
                </a:moveTo>
                <a:cubicBezTo>
                  <a:pt x="5391" y="3316"/>
                  <a:pt x="5399" y="3332"/>
                  <a:pt x="5407" y="3349"/>
                </a:cubicBezTo>
                <a:cubicBezTo>
                  <a:pt x="5464" y="3335"/>
                  <a:pt x="5520" y="3320"/>
                  <a:pt x="5581" y="3299"/>
                </a:cubicBezTo>
                <a:cubicBezTo>
                  <a:pt x="5646" y="3277"/>
                  <a:pt x="5689" y="3257"/>
                  <a:pt x="5755" y="32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30280" y="812880"/>
            <a:ext cx="652680" cy="482400"/>
          </a:xfrm>
          <a:custGeom>
            <a:avLst/>
            <a:gdLst/>
            <a:ahLst/>
            <a:rect l="l" t="t" r="r" b="b"/>
            <a:pathLst>
              <a:path w="1812" h="1341">
                <a:moveTo>
                  <a:pt x="6598" y="2952"/>
                </a:moveTo>
                <a:cubicBezTo>
                  <a:pt x="6549" y="3001"/>
                  <a:pt x="6508" y="3052"/>
                  <a:pt x="6499" y="3125"/>
                </a:cubicBezTo>
                <a:cubicBezTo>
                  <a:pt x="6482" y="3257"/>
                  <a:pt x="6474" y="3387"/>
                  <a:pt x="6474" y="3522"/>
                </a:cubicBezTo>
                <a:cubicBezTo>
                  <a:pt x="6474" y="3555"/>
                  <a:pt x="6474" y="3605"/>
                  <a:pt x="6474" y="3572"/>
                </a:cubicBezTo>
                <a:cubicBezTo>
                  <a:pt x="6474" y="3452"/>
                  <a:pt x="6476" y="3343"/>
                  <a:pt x="6499" y="3225"/>
                </a:cubicBezTo>
                <a:cubicBezTo>
                  <a:pt x="6525" y="3091"/>
                  <a:pt x="6539" y="2948"/>
                  <a:pt x="6648" y="2853"/>
                </a:cubicBezTo>
                <a:cubicBezTo>
                  <a:pt x="6700" y="2808"/>
                  <a:pt x="6796" y="2749"/>
                  <a:pt x="6871" y="2778"/>
                </a:cubicBezTo>
                <a:cubicBezTo>
                  <a:pt x="6945" y="2807"/>
                  <a:pt x="6930" y="2928"/>
                  <a:pt x="6896" y="2977"/>
                </a:cubicBezTo>
                <a:cubicBezTo>
                  <a:pt x="6852" y="3040"/>
                  <a:pt x="6749" y="3134"/>
                  <a:pt x="6672" y="3150"/>
                </a:cubicBezTo>
                <a:cubicBezTo>
                  <a:pt x="6614" y="3150"/>
                  <a:pt x="6606" y="3150"/>
                  <a:pt x="6573" y="3150"/>
                </a:cubicBezTo>
              </a:path>
              <a:path w="1812" h="1341">
                <a:moveTo>
                  <a:pt x="7417" y="2257"/>
                </a:moveTo>
                <a:cubicBezTo>
                  <a:pt x="7417" y="2352"/>
                  <a:pt x="7398" y="2438"/>
                  <a:pt x="7392" y="2530"/>
                </a:cubicBezTo>
                <a:cubicBezTo>
                  <a:pt x="7378" y="2738"/>
                  <a:pt x="7339" y="2922"/>
                  <a:pt x="7293" y="3125"/>
                </a:cubicBezTo>
                <a:cubicBezTo>
                  <a:pt x="7274" y="3209"/>
                  <a:pt x="7252" y="3288"/>
                  <a:pt x="7243" y="3373"/>
                </a:cubicBezTo>
              </a:path>
              <a:path w="1812" h="1341">
                <a:moveTo>
                  <a:pt x="7689" y="2877"/>
                </a:moveTo>
                <a:cubicBezTo>
                  <a:pt x="7617" y="2941"/>
                  <a:pt x="7540" y="2973"/>
                  <a:pt x="7466" y="3026"/>
                </a:cubicBezTo>
                <a:cubicBezTo>
                  <a:pt x="7426" y="3055"/>
                  <a:pt x="7326" y="3140"/>
                  <a:pt x="7342" y="3200"/>
                </a:cubicBezTo>
                <a:cubicBezTo>
                  <a:pt x="7365" y="3286"/>
                  <a:pt x="7418" y="3274"/>
                  <a:pt x="7491" y="3274"/>
                </a:cubicBezTo>
                <a:cubicBezTo>
                  <a:pt x="7582" y="3274"/>
                  <a:pt x="7673" y="3274"/>
                  <a:pt x="7764" y="3274"/>
                </a:cubicBezTo>
              </a:path>
              <a:path w="1812" h="1341">
                <a:moveTo>
                  <a:pt x="8136" y="3101"/>
                </a:moveTo>
                <a:cubicBezTo>
                  <a:pt x="8031" y="3114"/>
                  <a:pt x="7992" y="3150"/>
                  <a:pt x="7913" y="3225"/>
                </a:cubicBezTo>
                <a:cubicBezTo>
                  <a:pt x="7872" y="3264"/>
                  <a:pt x="7783" y="3377"/>
                  <a:pt x="7838" y="3423"/>
                </a:cubicBezTo>
                <a:cubicBezTo>
                  <a:pt x="7925" y="3495"/>
                  <a:pt x="8001" y="3408"/>
                  <a:pt x="8062" y="3349"/>
                </a:cubicBezTo>
                <a:cubicBezTo>
                  <a:pt x="8129" y="3286"/>
                  <a:pt x="8161" y="3241"/>
                  <a:pt x="8161" y="3150"/>
                </a:cubicBezTo>
                <a:cubicBezTo>
                  <a:pt x="8161" y="3142"/>
                  <a:pt x="8161" y="3133"/>
                  <a:pt x="8161" y="3125"/>
                </a:cubicBezTo>
                <a:cubicBezTo>
                  <a:pt x="8111" y="3142"/>
                  <a:pt x="8113" y="3215"/>
                  <a:pt x="8111" y="3274"/>
                </a:cubicBezTo>
                <a:cubicBezTo>
                  <a:pt x="8107" y="3377"/>
                  <a:pt x="8148" y="3444"/>
                  <a:pt x="8235" y="3497"/>
                </a:cubicBezTo>
                <a:cubicBezTo>
                  <a:pt x="8252" y="3505"/>
                  <a:pt x="8268" y="3514"/>
                  <a:pt x="8285" y="35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70160" y="1027080"/>
            <a:ext cx="142920" cy="142920"/>
          </a:xfrm>
          <a:custGeom>
            <a:avLst/>
            <a:gdLst/>
            <a:ahLst/>
            <a:rect l="l" t="t" r="r" b="b"/>
            <a:pathLst>
              <a:path w="398" h="397">
                <a:moveTo>
                  <a:pt x="8806" y="3076"/>
                </a:moveTo>
                <a:cubicBezTo>
                  <a:pt x="8938" y="3076"/>
                  <a:pt x="9071" y="3076"/>
                  <a:pt x="9203" y="3076"/>
                </a:cubicBezTo>
              </a:path>
              <a:path w="398" h="397">
                <a:moveTo>
                  <a:pt x="9153" y="2853"/>
                </a:moveTo>
                <a:cubicBezTo>
                  <a:pt x="9079" y="2882"/>
                  <a:pt x="9020" y="2910"/>
                  <a:pt x="9004" y="3001"/>
                </a:cubicBezTo>
                <a:cubicBezTo>
                  <a:pt x="8989" y="3087"/>
                  <a:pt x="9010" y="3168"/>
                  <a:pt x="9029" y="32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44920" y="750960"/>
            <a:ext cx="1546200" cy="669960"/>
          </a:xfrm>
          <a:custGeom>
            <a:avLst/>
            <a:gdLst/>
            <a:ahLst/>
            <a:rect l="l" t="t" r="r" b="b"/>
            <a:pathLst>
              <a:path w="4293" h="1861">
                <a:moveTo>
                  <a:pt x="9847" y="3324"/>
                </a:moveTo>
                <a:cubicBezTo>
                  <a:pt x="9957" y="3242"/>
                  <a:pt x="10064" y="3138"/>
                  <a:pt x="10145" y="3026"/>
                </a:cubicBezTo>
                <a:cubicBezTo>
                  <a:pt x="10250" y="2881"/>
                  <a:pt x="10322" y="2726"/>
                  <a:pt x="10368" y="2555"/>
                </a:cubicBezTo>
                <a:cubicBezTo>
                  <a:pt x="10395" y="2454"/>
                  <a:pt x="10401" y="2443"/>
                  <a:pt x="10368" y="2356"/>
                </a:cubicBezTo>
                <a:cubicBezTo>
                  <a:pt x="10285" y="2380"/>
                  <a:pt x="10226" y="2484"/>
                  <a:pt x="10195" y="2580"/>
                </a:cubicBezTo>
                <a:cubicBezTo>
                  <a:pt x="10147" y="2728"/>
                  <a:pt x="10114" y="2926"/>
                  <a:pt x="10170" y="3076"/>
                </a:cubicBezTo>
                <a:cubicBezTo>
                  <a:pt x="10205" y="3169"/>
                  <a:pt x="10321" y="3240"/>
                  <a:pt x="10418" y="3225"/>
                </a:cubicBezTo>
                <a:cubicBezTo>
                  <a:pt x="10487" y="3214"/>
                  <a:pt x="10612" y="3117"/>
                  <a:pt x="10641" y="3051"/>
                </a:cubicBezTo>
                <a:cubicBezTo>
                  <a:pt x="10641" y="3026"/>
                  <a:pt x="10641" y="3018"/>
                  <a:pt x="10641" y="3001"/>
                </a:cubicBezTo>
                <a:cubicBezTo>
                  <a:pt x="10619" y="3051"/>
                  <a:pt x="10582" y="3111"/>
                  <a:pt x="10592" y="3175"/>
                </a:cubicBezTo>
                <a:cubicBezTo>
                  <a:pt x="10608" y="3275"/>
                  <a:pt x="10681" y="3353"/>
                  <a:pt x="10790" y="3349"/>
                </a:cubicBezTo>
                <a:cubicBezTo>
                  <a:pt x="10856" y="3347"/>
                  <a:pt x="10991" y="3264"/>
                  <a:pt x="11013" y="3200"/>
                </a:cubicBezTo>
                <a:cubicBezTo>
                  <a:pt x="11044" y="3111"/>
                  <a:pt x="10952" y="3023"/>
                  <a:pt x="10889" y="2977"/>
                </a:cubicBezTo>
                <a:cubicBezTo>
                  <a:pt x="10818" y="2925"/>
                  <a:pt x="10760" y="2956"/>
                  <a:pt x="10691" y="2977"/>
                </a:cubicBezTo>
              </a:path>
              <a:path w="4293" h="1861">
                <a:moveTo>
                  <a:pt x="11237" y="3076"/>
                </a:moveTo>
                <a:cubicBezTo>
                  <a:pt x="11207" y="3069"/>
                  <a:pt x="11192" y="3058"/>
                  <a:pt x="11162" y="3051"/>
                </a:cubicBezTo>
                <a:cubicBezTo>
                  <a:pt x="11162" y="3126"/>
                  <a:pt x="11164" y="3176"/>
                  <a:pt x="11187" y="3249"/>
                </a:cubicBezTo>
                <a:cubicBezTo>
                  <a:pt x="11224" y="3368"/>
                  <a:pt x="11257" y="3473"/>
                  <a:pt x="11261" y="3597"/>
                </a:cubicBezTo>
                <a:cubicBezTo>
                  <a:pt x="11264" y="3693"/>
                  <a:pt x="11240" y="3807"/>
                  <a:pt x="11162" y="3870"/>
                </a:cubicBezTo>
                <a:cubicBezTo>
                  <a:pt x="11120" y="3904"/>
                  <a:pt x="11011" y="3910"/>
                  <a:pt x="10988" y="3845"/>
                </a:cubicBezTo>
                <a:cubicBezTo>
                  <a:pt x="10947" y="3731"/>
                  <a:pt x="11034" y="3617"/>
                  <a:pt x="11112" y="3547"/>
                </a:cubicBezTo>
                <a:cubicBezTo>
                  <a:pt x="11145" y="3522"/>
                  <a:pt x="11179" y="3498"/>
                  <a:pt x="11212" y="3473"/>
                </a:cubicBezTo>
              </a:path>
              <a:path w="4293" h="1861">
                <a:moveTo>
                  <a:pt x="12303" y="2431"/>
                </a:moveTo>
                <a:cubicBezTo>
                  <a:pt x="12303" y="2605"/>
                  <a:pt x="12303" y="2778"/>
                  <a:pt x="12303" y="2952"/>
                </a:cubicBezTo>
                <a:cubicBezTo>
                  <a:pt x="12319" y="2871"/>
                  <a:pt x="12357" y="2787"/>
                  <a:pt x="12378" y="2704"/>
                </a:cubicBezTo>
                <a:cubicBezTo>
                  <a:pt x="12404" y="2600"/>
                  <a:pt x="12446" y="2435"/>
                  <a:pt x="12526" y="2356"/>
                </a:cubicBezTo>
                <a:cubicBezTo>
                  <a:pt x="12571" y="2311"/>
                  <a:pt x="12642" y="2307"/>
                  <a:pt x="12700" y="2307"/>
                </a:cubicBezTo>
                <a:cubicBezTo>
                  <a:pt x="12721" y="2335"/>
                  <a:pt x="12752" y="2421"/>
                  <a:pt x="12725" y="2456"/>
                </a:cubicBezTo>
                <a:cubicBezTo>
                  <a:pt x="12694" y="2495"/>
                  <a:pt x="12623" y="2552"/>
                  <a:pt x="12576" y="2580"/>
                </a:cubicBezTo>
                <a:cubicBezTo>
                  <a:pt x="12535" y="2600"/>
                  <a:pt x="12518" y="2597"/>
                  <a:pt x="12526" y="2629"/>
                </a:cubicBezTo>
                <a:cubicBezTo>
                  <a:pt x="12631" y="2629"/>
                  <a:pt x="12723" y="2640"/>
                  <a:pt x="12824" y="2654"/>
                </a:cubicBezTo>
                <a:cubicBezTo>
                  <a:pt x="12883" y="2662"/>
                  <a:pt x="12901" y="2666"/>
                  <a:pt x="12948" y="2704"/>
                </a:cubicBezTo>
                <a:cubicBezTo>
                  <a:pt x="12926" y="2779"/>
                  <a:pt x="12873" y="2805"/>
                  <a:pt x="12799" y="2853"/>
                </a:cubicBezTo>
                <a:cubicBezTo>
                  <a:pt x="12724" y="2901"/>
                  <a:pt x="12660" y="2924"/>
                  <a:pt x="12576" y="2952"/>
                </a:cubicBezTo>
              </a:path>
              <a:path w="4293" h="1861">
                <a:moveTo>
                  <a:pt x="12154" y="2183"/>
                </a:moveTo>
                <a:cubicBezTo>
                  <a:pt x="11938" y="2476"/>
                  <a:pt x="11737" y="2770"/>
                  <a:pt x="11633" y="3125"/>
                </a:cubicBezTo>
                <a:cubicBezTo>
                  <a:pt x="11561" y="3369"/>
                  <a:pt x="11519" y="3579"/>
                  <a:pt x="11658" y="3795"/>
                </a:cubicBezTo>
                <a:cubicBezTo>
                  <a:pt x="11683" y="3828"/>
                  <a:pt x="11708" y="3861"/>
                  <a:pt x="11733" y="3894"/>
                </a:cubicBezTo>
              </a:path>
              <a:path w="4293" h="1861">
                <a:moveTo>
                  <a:pt x="12229" y="3225"/>
                </a:moveTo>
                <a:cubicBezTo>
                  <a:pt x="12329" y="3174"/>
                  <a:pt x="12388" y="3175"/>
                  <a:pt x="12502" y="3175"/>
                </a:cubicBezTo>
                <a:cubicBezTo>
                  <a:pt x="12719" y="3175"/>
                  <a:pt x="12934" y="3164"/>
                  <a:pt x="13146" y="3200"/>
                </a:cubicBezTo>
              </a:path>
              <a:path w="4293" h="1861">
                <a:moveTo>
                  <a:pt x="12502" y="3522"/>
                </a:moveTo>
                <a:cubicBezTo>
                  <a:pt x="12447" y="3585"/>
                  <a:pt x="12394" y="3648"/>
                  <a:pt x="12353" y="3721"/>
                </a:cubicBezTo>
                <a:cubicBezTo>
                  <a:pt x="12326" y="3769"/>
                  <a:pt x="12329" y="3802"/>
                  <a:pt x="12303" y="3845"/>
                </a:cubicBezTo>
                <a:cubicBezTo>
                  <a:pt x="12365" y="3783"/>
                  <a:pt x="12386" y="3720"/>
                  <a:pt x="12427" y="3646"/>
                </a:cubicBezTo>
                <a:cubicBezTo>
                  <a:pt x="12477" y="3557"/>
                  <a:pt x="12516" y="3456"/>
                  <a:pt x="12576" y="3373"/>
                </a:cubicBezTo>
                <a:cubicBezTo>
                  <a:pt x="12613" y="3321"/>
                  <a:pt x="12651" y="3307"/>
                  <a:pt x="12700" y="3349"/>
                </a:cubicBezTo>
                <a:cubicBezTo>
                  <a:pt x="12768" y="3407"/>
                  <a:pt x="12793" y="3490"/>
                  <a:pt x="12824" y="3572"/>
                </a:cubicBezTo>
                <a:cubicBezTo>
                  <a:pt x="12858" y="3662"/>
                  <a:pt x="12849" y="3750"/>
                  <a:pt x="12849" y="3845"/>
                </a:cubicBezTo>
              </a:path>
              <a:path w="4293" h="1861">
                <a:moveTo>
                  <a:pt x="12353" y="3646"/>
                </a:moveTo>
                <a:cubicBezTo>
                  <a:pt x="12410" y="3646"/>
                  <a:pt x="12444" y="3627"/>
                  <a:pt x="12502" y="3621"/>
                </a:cubicBezTo>
                <a:cubicBezTo>
                  <a:pt x="12645" y="3607"/>
                  <a:pt x="12780" y="3619"/>
                  <a:pt x="12923" y="3597"/>
                </a:cubicBezTo>
              </a:path>
              <a:path w="4293" h="1861">
                <a:moveTo>
                  <a:pt x="13271" y="2084"/>
                </a:moveTo>
                <a:cubicBezTo>
                  <a:pt x="13319" y="2146"/>
                  <a:pt x="13361" y="2237"/>
                  <a:pt x="13395" y="2332"/>
                </a:cubicBezTo>
                <a:cubicBezTo>
                  <a:pt x="13491" y="2604"/>
                  <a:pt x="13567" y="2886"/>
                  <a:pt x="13593" y="3175"/>
                </a:cubicBezTo>
                <a:cubicBezTo>
                  <a:pt x="13612" y="3391"/>
                  <a:pt x="13586" y="3617"/>
                  <a:pt x="13469" y="3795"/>
                </a:cubicBezTo>
                <a:cubicBezTo>
                  <a:pt x="13402" y="3885"/>
                  <a:pt x="13386" y="3912"/>
                  <a:pt x="13320" y="3944"/>
                </a:cubicBezTo>
              </a:path>
              <a:path w="4293" h="1861">
                <a:moveTo>
                  <a:pt x="13866" y="2877"/>
                </a:moveTo>
                <a:cubicBezTo>
                  <a:pt x="13876" y="2838"/>
                  <a:pt x="13895" y="2806"/>
                  <a:pt x="13940" y="2803"/>
                </a:cubicBezTo>
                <a:cubicBezTo>
                  <a:pt x="14006" y="2798"/>
                  <a:pt x="14058" y="2815"/>
                  <a:pt x="14114" y="2853"/>
                </a:cubicBezTo>
                <a:cubicBezTo>
                  <a:pt x="14122" y="2861"/>
                  <a:pt x="14131" y="2869"/>
                  <a:pt x="14139" y="2877"/>
                </a:cubicBezTo>
              </a:path>
              <a:path w="4293" h="1861">
                <a:moveTo>
                  <a:pt x="13940" y="3150"/>
                </a:moveTo>
                <a:cubicBezTo>
                  <a:pt x="13940" y="3167"/>
                  <a:pt x="13940" y="3183"/>
                  <a:pt x="13940" y="3200"/>
                </a:cubicBezTo>
                <a:cubicBezTo>
                  <a:pt x="14016" y="3200"/>
                  <a:pt x="14068" y="3201"/>
                  <a:pt x="14139" y="3175"/>
                </a:cubicBezTo>
              </a:path>
              <a:path w="4293" h="1861">
                <a:moveTo>
                  <a:pt x="12179" y="2604"/>
                </a:moveTo>
                <a:cubicBezTo>
                  <a:pt x="12179" y="2522"/>
                  <a:pt x="12190" y="2677"/>
                  <a:pt x="12154" y="2629"/>
                </a:cubicBezTo>
                <a:cubicBezTo>
                  <a:pt x="12140" y="2610"/>
                  <a:pt x="12165" y="2606"/>
                  <a:pt x="12129" y="2654"/>
                </a:cubicBezTo>
                <a:cubicBezTo>
                  <a:pt x="12158" y="2644"/>
                  <a:pt x="12176" y="2603"/>
                  <a:pt x="12129" y="2580"/>
                </a:cubicBezTo>
                <a:cubicBezTo>
                  <a:pt x="12092" y="2562"/>
                  <a:pt x="12065" y="2601"/>
                  <a:pt x="12055" y="2629"/>
                </a:cubicBezTo>
                <a:cubicBezTo>
                  <a:pt x="12040" y="2674"/>
                  <a:pt x="12008" y="2688"/>
                  <a:pt x="11981" y="2729"/>
                </a:cubicBezTo>
                <a:cubicBezTo>
                  <a:pt x="11953" y="2773"/>
                  <a:pt x="11921" y="2852"/>
                  <a:pt x="11906" y="2902"/>
                </a:cubicBezTo>
                <a:cubicBezTo>
                  <a:pt x="11890" y="2953"/>
                  <a:pt x="11901" y="3065"/>
                  <a:pt x="11931" y="3101"/>
                </a:cubicBezTo>
                <a:cubicBezTo>
                  <a:pt x="11969" y="3148"/>
                  <a:pt x="11991" y="3128"/>
                  <a:pt x="12030" y="3150"/>
                </a:cubicBezTo>
                <a:cubicBezTo>
                  <a:pt x="12079" y="3177"/>
                  <a:pt x="12080" y="3188"/>
                  <a:pt x="12129" y="31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57880" y="884160"/>
            <a:ext cx="598320" cy="500040"/>
          </a:xfrm>
          <a:custGeom>
            <a:avLst/>
            <a:gdLst/>
            <a:ahLst/>
            <a:rect l="l" t="t" r="r" b="b"/>
            <a:pathLst>
              <a:path w="1663" h="1390">
                <a:moveTo>
                  <a:pt x="14883" y="2902"/>
                </a:moveTo>
                <a:cubicBezTo>
                  <a:pt x="14936" y="2902"/>
                  <a:pt x="14952" y="2924"/>
                  <a:pt x="15007" y="2927"/>
                </a:cubicBezTo>
                <a:cubicBezTo>
                  <a:pt x="15089" y="2932"/>
                  <a:pt x="15173" y="2927"/>
                  <a:pt x="15255" y="2927"/>
                </a:cubicBezTo>
              </a:path>
              <a:path w="1663" h="1390">
                <a:moveTo>
                  <a:pt x="15825" y="2456"/>
                </a:moveTo>
                <a:cubicBezTo>
                  <a:pt x="15873" y="2471"/>
                  <a:pt x="15820" y="2528"/>
                  <a:pt x="15801" y="2580"/>
                </a:cubicBezTo>
                <a:cubicBezTo>
                  <a:pt x="15748" y="2729"/>
                  <a:pt x="15671" y="2875"/>
                  <a:pt x="15627" y="3026"/>
                </a:cubicBezTo>
                <a:cubicBezTo>
                  <a:pt x="15594" y="3141"/>
                  <a:pt x="15577" y="3254"/>
                  <a:pt x="15577" y="3373"/>
                </a:cubicBezTo>
              </a:path>
              <a:path w="1663" h="1390">
                <a:moveTo>
                  <a:pt x="15999" y="3101"/>
                </a:moveTo>
                <a:cubicBezTo>
                  <a:pt x="15979" y="3120"/>
                  <a:pt x="15906" y="3154"/>
                  <a:pt x="15900" y="3175"/>
                </a:cubicBezTo>
                <a:cubicBezTo>
                  <a:pt x="15883" y="3230"/>
                  <a:pt x="15920" y="3306"/>
                  <a:pt x="15974" y="3324"/>
                </a:cubicBezTo>
                <a:cubicBezTo>
                  <a:pt x="16013" y="3337"/>
                  <a:pt x="16099" y="3330"/>
                  <a:pt x="16123" y="3299"/>
                </a:cubicBezTo>
                <a:cubicBezTo>
                  <a:pt x="16167" y="3242"/>
                  <a:pt x="16149" y="3184"/>
                  <a:pt x="16123" y="3125"/>
                </a:cubicBezTo>
                <a:cubicBezTo>
                  <a:pt x="16094" y="3059"/>
                  <a:pt x="16041" y="3039"/>
                  <a:pt x="15974" y="3026"/>
                </a:cubicBezTo>
              </a:path>
              <a:path w="1663" h="1390">
                <a:moveTo>
                  <a:pt x="16545" y="3150"/>
                </a:moveTo>
                <a:cubicBezTo>
                  <a:pt x="16493" y="3128"/>
                  <a:pt x="16475" y="3125"/>
                  <a:pt x="16421" y="3125"/>
                </a:cubicBezTo>
                <a:cubicBezTo>
                  <a:pt x="16421" y="3245"/>
                  <a:pt x="16422" y="3355"/>
                  <a:pt x="16396" y="3473"/>
                </a:cubicBezTo>
                <a:cubicBezTo>
                  <a:pt x="16369" y="3594"/>
                  <a:pt x="16304" y="3704"/>
                  <a:pt x="16222" y="3795"/>
                </a:cubicBezTo>
                <a:cubicBezTo>
                  <a:pt x="16172" y="3851"/>
                  <a:pt x="16181" y="3845"/>
                  <a:pt x="16123" y="3845"/>
                </a:cubicBezTo>
                <a:cubicBezTo>
                  <a:pt x="16074" y="3763"/>
                  <a:pt x="16103" y="3745"/>
                  <a:pt x="16148" y="3671"/>
                </a:cubicBezTo>
                <a:cubicBezTo>
                  <a:pt x="16188" y="3606"/>
                  <a:pt x="16266" y="3560"/>
                  <a:pt x="16346" y="3547"/>
                </a:cubicBezTo>
                <a:cubicBezTo>
                  <a:pt x="16412" y="3547"/>
                  <a:pt x="16429" y="3547"/>
                  <a:pt x="16470" y="35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43760" y="820800"/>
            <a:ext cx="2643120" cy="652320"/>
          </a:xfrm>
          <a:custGeom>
            <a:avLst/>
            <a:gdLst/>
            <a:ahLst/>
            <a:rect l="l" t="t" r="r" b="b"/>
            <a:pathLst>
              <a:path w="7343" h="1812">
                <a:moveTo>
                  <a:pt x="17338" y="2654"/>
                </a:moveTo>
                <a:cubicBezTo>
                  <a:pt x="17257" y="2675"/>
                  <a:pt x="17226" y="2782"/>
                  <a:pt x="17190" y="2853"/>
                </a:cubicBezTo>
                <a:cubicBezTo>
                  <a:pt x="17117" y="2995"/>
                  <a:pt x="17071" y="3115"/>
                  <a:pt x="17066" y="3274"/>
                </a:cubicBezTo>
                <a:cubicBezTo>
                  <a:pt x="17065" y="3310"/>
                  <a:pt x="17072" y="3456"/>
                  <a:pt x="17115" y="3473"/>
                </a:cubicBezTo>
                <a:cubicBezTo>
                  <a:pt x="17178" y="3497"/>
                  <a:pt x="17232" y="3445"/>
                  <a:pt x="17264" y="3398"/>
                </a:cubicBezTo>
                <a:cubicBezTo>
                  <a:pt x="17301" y="3343"/>
                  <a:pt x="17303" y="3273"/>
                  <a:pt x="17264" y="3225"/>
                </a:cubicBezTo>
                <a:cubicBezTo>
                  <a:pt x="17236" y="3190"/>
                  <a:pt x="17176" y="3180"/>
                  <a:pt x="17165" y="3225"/>
                </a:cubicBezTo>
                <a:cubicBezTo>
                  <a:pt x="17165" y="3249"/>
                  <a:pt x="17165" y="3258"/>
                  <a:pt x="17165" y="3274"/>
                </a:cubicBezTo>
              </a:path>
              <a:path w="7343" h="1812">
                <a:moveTo>
                  <a:pt x="17537" y="3398"/>
                </a:moveTo>
                <a:cubicBezTo>
                  <a:pt x="17545" y="3398"/>
                  <a:pt x="17554" y="3398"/>
                  <a:pt x="17562" y="3398"/>
                </a:cubicBezTo>
              </a:path>
              <a:path w="7343" h="1812">
                <a:moveTo>
                  <a:pt x="17934" y="2902"/>
                </a:moveTo>
                <a:cubicBezTo>
                  <a:pt x="17962" y="2854"/>
                  <a:pt x="17987" y="2799"/>
                  <a:pt x="18058" y="2828"/>
                </a:cubicBezTo>
                <a:cubicBezTo>
                  <a:pt x="18147" y="2865"/>
                  <a:pt x="18154" y="2972"/>
                  <a:pt x="18157" y="3051"/>
                </a:cubicBezTo>
                <a:cubicBezTo>
                  <a:pt x="18163" y="3212"/>
                  <a:pt x="18090" y="3266"/>
                  <a:pt x="17983" y="3373"/>
                </a:cubicBezTo>
                <a:cubicBezTo>
                  <a:pt x="17894" y="3462"/>
                  <a:pt x="17860" y="3497"/>
                  <a:pt x="17735" y="3497"/>
                </a:cubicBezTo>
                <a:cubicBezTo>
                  <a:pt x="17727" y="3497"/>
                  <a:pt x="17719" y="3497"/>
                  <a:pt x="17711" y="3497"/>
                </a:cubicBezTo>
                <a:cubicBezTo>
                  <a:pt x="17720" y="3436"/>
                  <a:pt x="17738" y="3370"/>
                  <a:pt x="17810" y="3349"/>
                </a:cubicBezTo>
                <a:cubicBezTo>
                  <a:pt x="17861" y="3334"/>
                  <a:pt x="17945" y="3343"/>
                  <a:pt x="17983" y="3373"/>
                </a:cubicBezTo>
                <a:cubicBezTo>
                  <a:pt x="18010" y="3394"/>
                  <a:pt x="18034" y="3424"/>
                  <a:pt x="18058" y="3448"/>
                </a:cubicBezTo>
              </a:path>
              <a:path w="7343" h="1812">
                <a:moveTo>
                  <a:pt x="18479" y="3175"/>
                </a:moveTo>
                <a:cubicBezTo>
                  <a:pt x="18411" y="3193"/>
                  <a:pt x="18425" y="3217"/>
                  <a:pt x="18405" y="3274"/>
                </a:cubicBezTo>
                <a:cubicBezTo>
                  <a:pt x="18380" y="3345"/>
                  <a:pt x="18361" y="3402"/>
                  <a:pt x="18405" y="3473"/>
                </a:cubicBezTo>
                <a:cubicBezTo>
                  <a:pt x="18431" y="3515"/>
                  <a:pt x="18460" y="3522"/>
                  <a:pt x="18504" y="3522"/>
                </a:cubicBezTo>
                <a:cubicBezTo>
                  <a:pt x="18549" y="3522"/>
                  <a:pt x="18562" y="3525"/>
                  <a:pt x="18579" y="3497"/>
                </a:cubicBezTo>
              </a:path>
              <a:path w="7343" h="1812">
                <a:moveTo>
                  <a:pt x="18529" y="3349"/>
                </a:moveTo>
                <a:cubicBezTo>
                  <a:pt x="18504" y="3349"/>
                  <a:pt x="18480" y="3349"/>
                  <a:pt x="18455" y="3349"/>
                </a:cubicBezTo>
                <a:cubicBezTo>
                  <a:pt x="18473" y="3275"/>
                  <a:pt x="18493" y="3317"/>
                  <a:pt x="18554" y="3299"/>
                </a:cubicBezTo>
                <a:cubicBezTo>
                  <a:pt x="18622" y="3279"/>
                  <a:pt x="18681" y="3258"/>
                  <a:pt x="18752" y="3249"/>
                </a:cubicBezTo>
              </a:path>
              <a:path w="7343" h="1812">
                <a:moveTo>
                  <a:pt x="18554" y="3076"/>
                </a:moveTo>
                <a:cubicBezTo>
                  <a:pt x="18537" y="3059"/>
                  <a:pt x="18521" y="3043"/>
                  <a:pt x="18504" y="3026"/>
                </a:cubicBezTo>
                <a:cubicBezTo>
                  <a:pt x="18543" y="2987"/>
                  <a:pt x="18596" y="2937"/>
                  <a:pt x="18653" y="2927"/>
                </a:cubicBezTo>
                <a:cubicBezTo>
                  <a:pt x="18729" y="2914"/>
                  <a:pt x="18798" y="2902"/>
                  <a:pt x="18876" y="2902"/>
                </a:cubicBezTo>
              </a:path>
              <a:path w="7343" h="1812">
                <a:moveTo>
                  <a:pt x="19000" y="3200"/>
                </a:moveTo>
                <a:cubicBezTo>
                  <a:pt x="19055" y="3200"/>
                  <a:pt x="19071" y="3188"/>
                  <a:pt x="19124" y="3175"/>
                </a:cubicBezTo>
                <a:cubicBezTo>
                  <a:pt x="19175" y="3162"/>
                  <a:pt x="19245" y="3175"/>
                  <a:pt x="19298" y="3175"/>
                </a:cubicBezTo>
              </a:path>
              <a:path w="7343" h="1812">
                <a:moveTo>
                  <a:pt x="19596" y="2952"/>
                </a:moveTo>
                <a:cubicBezTo>
                  <a:pt x="19585" y="2995"/>
                  <a:pt x="19555" y="3028"/>
                  <a:pt x="19546" y="3076"/>
                </a:cubicBezTo>
                <a:cubicBezTo>
                  <a:pt x="19530" y="3163"/>
                  <a:pt x="19511" y="3242"/>
                  <a:pt x="19472" y="3324"/>
                </a:cubicBezTo>
                <a:cubicBezTo>
                  <a:pt x="19451" y="3368"/>
                  <a:pt x="19431" y="3402"/>
                  <a:pt x="19422" y="3448"/>
                </a:cubicBezTo>
              </a:path>
              <a:path w="7343" h="1812">
                <a:moveTo>
                  <a:pt x="19943" y="3076"/>
                </a:moveTo>
                <a:cubicBezTo>
                  <a:pt x="19908" y="3123"/>
                  <a:pt x="19918" y="3163"/>
                  <a:pt x="19918" y="3225"/>
                </a:cubicBezTo>
                <a:cubicBezTo>
                  <a:pt x="19918" y="3306"/>
                  <a:pt x="19950" y="3358"/>
                  <a:pt x="20017" y="3398"/>
                </a:cubicBezTo>
                <a:cubicBezTo>
                  <a:pt x="20093" y="3443"/>
                  <a:pt x="20101" y="3412"/>
                  <a:pt x="20166" y="3373"/>
                </a:cubicBezTo>
                <a:cubicBezTo>
                  <a:pt x="20247" y="3325"/>
                  <a:pt x="20263" y="3247"/>
                  <a:pt x="20241" y="3150"/>
                </a:cubicBezTo>
                <a:cubicBezTo>
                  <a:pt x="20224" y="3078"/>
                  <a:pt x="20170" y="2995"/>
                  <a:pt x="20117" y="2952"/>
                </a:cubicBezTo>
                <a:cubicBezTo>
                  <a:pt x="20076" y="2932"/>
                  <a:pt x="20070" y="2923"/>
                  <a:pt x="20042" y="2927"/>
                </a:cubicBezTo>
              </a:path>
              <a:path w="7343" h="1812">
                <a:moveTo>
                  <a:pt x="20662" y="3101"/>
                </a:moveTo>
                <a:cubicBezTo>
                  <a:pt x="20708" y="3101"/>
                  <a:pt x="20726" y="3117"/>
                  <a:pt x="20762" y="3125"/>
                </a:cubicBezTo>
                <a:cubicBezTo>
                  <a:pt x="20821" y="3137"/>
                  <a:pt x="20877" y="3137"/>
                  <a:pt x="20935" y="3150"/>
                </a:cubicBezTo>
                <a:cubicBezTo>
                  <a:pt x="20957" y="3155"/>
                  <a:pt x="20988" y="3150"/>
                  <a:pt x="21010" y="3150"/>
                </a:cubicBezTo>
              </a:path>
              <a:path w="7343" h="1812">
                <a:moveTo>
                  <a:pt x="20985" y="2902"/>
                </a:moveTo>
                <a:cubicBezTo>
                  <a:pt x="20957" y="2976"/>
                  <a:pt x="20939" y="3022"/>
                  <a:pt x="20935" y="3101"/>
                </a:cubicBezTo>
                <a:cubicBezTo>
                  <a:pt x="20931" y="3181"/>
                  <a:pt x="20898" y="3249"/>
                  <a:pt x="20886" y="3324"/>
                </a:cubicBezTo>
                <a:cubicBezTo>
                  <a:pt x="20886" y="3340"/>
                  <a:pt x="20886" y="3357"/>
                  <a:pt x="20886" y="3373"/>
                </a:cubicBezTo>
              </a:path>
              <a:path w="7343" h="1812">
                <a:moveTo>
                  <a:pt x="21307" y="3349"/>
                </a:moveTo>
                <a:cubicBezTo>
                  <a:pt x="21259" y="3349"/>
                  <a:pt x="21318" y="3336"/>
                  <a:pt x="21332" y="3324"/>
                </a:cubicBezTo>
                <a:cubicBezTo>
                  <a:pt x="21409" y="3259"/>
                  <a:pt x="21503" y="3216"/>
                  <a:pt x="21580" y="3150"/>
                </a:cubicBezTo>
                <a:cubicBezTo>
                  <a:pt x="21660" y="3082"/>
                  <a:pt x="21786" y="2950"/>
                  <a:pt x="21828" y="2853"/>
                </a:cubicBezTo>
                <a:cubicBezTo>
                  <a:pt x="21868" y="2761"/>
                  <a:pt x="21903" y="2680"/>
                  <a:pt x="21903" y="2580"/>
                </a:cubicBezTo>
                <a:cubicBezTo>
                  <a:pt x="21903" y="2555"/>
                  <a:pt x="21903" y="2547"/>
                  <a:pt x="21903" y="2530"/>
                </a:cubicBezTo>
                <a:cubicBezTo>
                  <a:pt x="21823" y="2530"/>
                  <a:pt x="21794" y="2586"/>
                  <a:pt x="21754" y="2654"/>
                </a:cubicBezTo>
                <a:cubicBezTo>
                  <a:pt x="21671" y="2796"/>
                  <a:pt x="21621" y="2962"/>
                  <a:pt x="21605" y="3125"/>
                </a:cubicBezTo>
                <a:cubicBezTo>
                  <a:pt x="21595" y="3228"/>
                  <a:pt x="21594" y="3335"/>
                  <a:pt x="21654" y="3423"/>
                </a:cubicBezTo>
                <a:cubicBezTo>
                  <a:pt x="21662" y="3431"/>
                  <a:pt x="21671" y="3440"/>
                  <a:pt x="21679" y="3448"/>
                </a:cubicBezTo>
              </a:path>
              <a:path w="7343" h="1812">
                <a:moveTo>
                  <a:pt x="22076" y="3200"/>
                </a:moveTo>
                <a:cubicBezTo>
                  <a:pt x="22014" y="3231"/>
                  <a:pt x="21954" y="3257"/>
                  <a:pt x="21927" y="3324"/>
                </a:cubicBezTo>
                <a:cubicBezTo>
                  <a:pt x="21927" y="3357"/>
                  <a:pt x="21927" y="3373"/>
                  <a:pt x="21927" y="3398"/>
                </a:cubicBezTo>
                <a:cubicBezTo>
                  <a:pt x="21992" y="3411"/>
                  <a:pt x="22013" y="3441"/>
                  <a:pt x="22076" y="3398"/>
                </a:cubicBezTo>
                <a:cubicBezTo>
                  <a:pt x="22132" y="3360"/>
                  <a:pt x="22146" y="3312"/>
                  <a:pt x="22151" y="3249"/>
                </a:cubicBezTo>
                <a:cubicBezTo>
                  <a:pt x="22154" y="3207"/>
                  <a:pt x="22159" y="3211"/>
                  <a:pt x="22126" y="3200"/>
                </a:cubicBezTo>
                <a:cubicBezTo>
                  <a:pt x="22111" y="3274"/>
                  <a:pt x="22069" y="3347"/>
                  <a:pt x="22051" y="3423"/>
                </a:cubicBezTo>
                <a:cubicBezTo>
                  <a:pt x="22009" y="3600"/>
                  <a:pt x="21967" y="3713"/>
                  <a:pt x="21878" y="3870"/>
                </a:cubicBezTo>
                <a:cubicBezTo>
                  <a:pt x="21819" y="3974"/>
                  <a:pt x="21782" y="4061"/>
                  <a:pt x="21654" y="4068"/>
                </a:cubicBezTo>
                <a:cubicBezTo>
                  <a:pt x="21582" y="4072"/>
                  <a:pt x="21552" y="3984"/>
                  <a:pt x="21580" y="3919"/>
                </a:cubicBezTo>
                <a:cubicBezTo>
                  <a:pt x="21628" y="3811"/>
                  <a:pt x="21723" y="3722"/>
                  <a:pt x="21828" y="3671"/>
                </a:cubicBezTo>
                <a:cubicBezTo>
                  <a:pt x="21853" y="3663"/>
                  <a:pt x="21878" y="3654"/>
                  <a:pt x="21903" y="3646"/>
                </a:cubicBezTo>
              </a:path>
              <a:path w="7343" h="1812">
                <a:moveTo>
                  <a:pt x="21927" y="3150"/>
                </a:moveTo>
                <a:cubicBezTo>
                  <a:pt x="21884" y="3116"/>
                  <a:pt x="21856" y="3114"/>
                  <a:pt x="21803" y="3150"/>
                </a:cubicBezTo>
                <a:cubicBezTo>
                  <a:pt x="21762" y="3178"/>
                  <a:pt x="21754" y="3204"/>
                  <a:pt x="21754" y="3249"/>
                </a:cubicBezTo>
                <a:cubicBezTo>
                  <a:pt x="21754" y="3307"/>
                  <a:pt x="21808" y="3340"/>
                  <a:pt x="21878" y="3324"/>
                </a:cubicBezTo>
                <a:cubicBezTo>
                  <a:pt x="21922" y="3314"/>
                  <a:pt x="21974" y="3269"/>
                  <a:pt x="21977" y="3225"/>
                </a:cubicBezTo>
                <a:cubicBezTo>
                  <a:pt x="21981" y="3166"/>
                  <a:pt x="21962" y="3144"/>
                  <a:pt x="21927" y="3101"/>
                </a:cubicBezTo>
              </a:path>
              <a:path w="7343" h="1812">
                <a:moveTo>
                  <a:pt x="22870" y="2431"/>
                </a:moveTo>
                <a:cubicBezTo>
                  <a:pt x="22870" y="2423"/>
                  <a:pt x="22870" y="2414"/>
                  <a:pt x="22870" y="2406"/>
                </a:cubicBezTo>
                <a:cubicBezTo>
                  <a:pt x="22785" y="2418"/>
                  <a:pt x="22815" y="2427"/>
                  <a:pt x="22746" y="2505"/>
                </a:cubicBezTo>
                <a:cubicBezTo>
                  <a:pt x="22611" y="2658"/>
                  <a:pt x="22492" y="2816"/>
                  <a:pt x="22399" y="3001"/>
                </a:cubicBezTo>
                <a:cubicBezTo>
                  <a:pt x="22317" y="3164"/>
                  <a:pt x="22210" y="3411"/>
                  <a:pt x="22225" y="3597"/>
                </a:cubicBezTo>
                <a:cubicBezTo>
                  <a:pt x="22247" y="3686"/>
                  <a:pt x="22248" y="3711"/>
                  <a:pt x="22299" y="3746"/>
                </a:cubicBezTo>
              </a:path>
              <a:path w="7343" h="1812">
                <a:moveTo>
                  <a:pt x="22895" y="2853"/>
                </a:moveTo>
                <a:cubicBezTo>
                  <a:pt x="22887" y="2853"/>
                  <a:pt x="22878" y="2853"/>
                  <a:pt x="22870" y="2853"/>
                </a:cubicBezTo>
              </a:path>
              <a:path w="7343" h="1812">
                <a:moveTo>
                  <a:pt x="23490" y="2555"/>
                </a:moveTo>
                <a:cubicBezTo>
                  <a:pt x="23465" y="2588"/>
                  <a:pt x="23439" y="2617"/>
                  <a:pt x="23416" y="2654"/>
                </a:cubicBezTo>
                <a:cubicBezTo>
                  <a:pt x="23385" y="2703"/>
                  <a:pt x="23334" y="2774"/>
                  <a:pt x="23316" y="2828"/>
                </a:cubicBezTo>
                <a:cubicBezTo>
                  <a:pt x="23316" y="2853"/>
                  <a:pt x="23316" y="2861"/>
                  <a:pt x="23316" y="2877"/>
                </a:cubicBezTo>
              </a:path>
              <a:path w="7343" h="1812">
                <a:moveTo>
                  <a:pt x="23664" y="2580"/>
                </a:moveTo>
                <a:cubicBezTo>
                  <a:pt x="23713" y="2580"/>
                  <a:pt x="23751" y="2570"/>
                  <a:pt x="23788" y="2604"/>
                </a:cubicBezTo>
                <a:cubicBezTo>
                  <a:pt x="23811" y="2625"/>
                  <a:pt x="23902" y="2696"/>
                  <a:pt x="23887" y="2729"/>
                </a:cubicBezTo>
                <a:cubicBezTo>
                  <a:pt x="23863" y="2783"/>
                  <a:pt x="23778" y="2827"/>
                  <a:pt x="23738" y="2853"/>
                </a:cubicBezTo>
                <a:cubicBezTo>
                  <a:pt x="23730" y="2861"/>
                  <a:pt x="23721" y="2869"/>
                  <a:pt x="23713" y="2877"/>
                </a:cubicBezTo>
                <a:cubicBezTo>
                  <a:pt x="23723" y="2906"/>
                  <a:pt x="23769" y="2937"/>
                  <a:pt x="23812" y="2952"/>
                </a:cubicBezTo>
                <a:cubicBezTo>
                  <a:pt x="23847" y="2952"/>
                  <a:pt x="23865" y="2957"/>
                  <a:pt x="23887" y="2977"/>
                </a:cubicBezTo>
              </a:path>
              <a:path w="7343" h="1812">
                <a:moveTo>
                  <a:pt x="22771" y="3076"/>
                </a:moveTo>
                <a:cubicBezTo>
                  <a:pt x="22844" y="3076"/>
                  <a:pt x="22922" y="3089"/>
                  <a:pt x="22994" y="3101"/>
                </a:cubicBezTo>
                <a:cubicBezTo>
                  <a:pt x="23176" y="3132"/>
                  <a:pt x="23362" y="3174"/>
                  <a:pt x="23540" y="3225"/>
                </a:cubicBezTo>
                <a:cubicBezTo>
                  <a:pt x="23600" y="3242"/>
                  <a:pt x="23628" y="3249"/>
                  <a:pt x="23688" y="3249"/>
                </a:cubicBezTo>
              </a:path>
              <a:path w="7343" h="1812">
                <a:moveTo>
                  <a:pt x="22820" y="3621"/>
                </a:moveTo>
                <a:cubicBezTo>
                  <a:pt x="22789" y="3645"/>
                  <a:pt x="22778" y="3647"/>
                  <a:pt x="22746" y="3671"/>
                </a:cubicBezTo>
                <a:cubicBezTo>
                  <a:pt x="22779" y="3671"/>
                  <a:pt x="22833" y="3654"/>
                  <a:pt x="22771" y="3646"/>
                </a:cubicBezTo>
                <a:cubicBezTo>
                  <a:pt x="22763" y="3646"/>
                  <a:pt x="22754" y="3646"/>
                  <a:pt x="22746" y="3646"/>
                </a:cubicBezTo>
              </a:path>
              <a:path w="7343" h="1812">
                <a:moveTo>
                  <a:pt x="23316" y="3522"/>
                </a:moveTo>
                <a:cubicBezTo>
                  <a:pt x="23288" y="3529"/>
                  <a:pt x="23212" y="3573"/>
                  <a:pt x="23192" y="3597"/>
                </a:cubicBezTo>
                <a:cubicBezTo>
                  <a:pt x="23150" y="3646"/>
                  <a:pt x="23102" y="3688"/>
                  <a:pt x="23068" y="3746"/>
                </a:cubicBezTo>
                <a:cubicBezTo>
                  <a:pt x="23060" y="3762"/>
                  <a:pt x="23052" y="3779"/>
                  <a:pt x="23044" y="3795"/>
                </a:cubicBezTo>
              </a:path>
              <a:path w="7343" h="1812">
                <a:moveTo>
                  <a:pt x="23465" y="3621"/>
                </a:moveTo>
                <a:cubicBezTo>
                  <a:pt x="23429" y="3628"/>
                  <a:pt x="23354" y="3651"/>
                  <a:pt x="23341" y="3696"/>
                </a:cubicBezTo>
                <a:cubicBezTo>
                  <a:pt x="23316" y="3782"/>
                  <a:pt x="23402" y="3820"/>
                  <a:pt x="23465" y="3845"/>
                </a:cubicBezTo>
                <a:cubicBezTo>
                  <a:pt x="23558" y="3882"/>
                  <a:pt x="23630" y="3878"/>
                  <a:pt x="23713" y="3820"/>
                </a:cubicBezTo>
                <a:cubicBezTo>
                  <a:pt x="23747" y="3796"/>
                  <a:pt x="23778" y="3739"/>
                  <a:pt x="23763" y="3696"/>
                </a:cubicBezTo>
                <a:cubicBezTo>
                  <a:pt x="23747" y="3650"/>
                  <a:pt x="23721" y="3629"/>
                  <a:pt x="23688" y="3597"/>
                </a:cubicBezTo>
              </a:path>
              <a:path w="7343" h="1812">
                <a:moveTo>
                  <a:pt x="24160" y="2282"/>
                </a:moveTo>
                <a:cubicBezTo>
                  <a:pt x="24172" y="2342"/>
                  <a:pt x="24186" y="2365"/>
                  <a:pt x="24209" y="2431"/>
                </a:cubicBezTo>
                <a:cubicBezTo>
                  <a:pt x="24271" y="2611"/>
                  <a:pt x="24347" y="2789"/>
                  <a:pt x="24383" y="2977"/>
                </a:cubicBezTo>
                <a:cubicBezTo>
                  <a:pt x="24432" y="3232"/>
                  <a:pt x="24396" y="3488"/>
                  <a:pt x="24234" y="3696"/>
                </a:cubicBezTo>
                <a:cubicBezTo>
                  <a:pt x="24093" y="3877"/>
                  <a:pt x="23912" y="3951"/>
                  <a:pt x="23713" y="4043"/>
                </a:cubicBezTo>
                <a:cubicBezTo>
                  <a:pt x="23680" y="4060"/>
                  <a:pt x="23647" y="4076"/>
                  <a:pt x="23614" y="40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82920" y="1598760"/>
            <a:ext cx="714240" cy="473040"/>
          </a:xfrm>
          <a:custGeom>
            <a:avLst/>
            <a:gdLst/>
            <a:ahLst/>
            <a:rect l="l" t="t" r="r" b="b"/>
            <a:pathLst>
              <a:path w="1985" h="1316">
                <a:moveTo>
                  <a:pt x="6921" y="5110"/>
                </a:moveTo>
                <a:cubicBezTo>
                  <a:pt x="6978" y="5090"/>
                  <a:pt x="6923" y="5190"/>
                  <a:pt x="6921" y="5259"/>
                </a:cubicBezTo>
                <a:cubicBezTo>
                  <a:pt x="6917" y="5386"/>
                  <a:pt x="6901" y="5506"/>
                  <a:pt x="6896" y="5631"/>
                </a:cubicBezTo>
                <a:cubicBezTo>
                  <a:pt x="6894" y="5680"/>
                  <a:pt x="6912" y="5710"/>
                  <a:pt x="6921" y="5755"/>
                </a:cubicBezTo>
                <a:cubicBezTo>
                  <a:pt x="6973" y="5648"/>
                  <a:pt x="6984" y="5545"/>
                  <a:pt x="7020" y="5432"/>
                </a:cubicBezTo>
                <a:cubicBezTo>
                  <a:pt x="7073" y="5264"/>
                  <a:pt x="7105" y="5092"/>
                  <a:pt x="7193" y="4936"/>
                </a:cubicBezTo>
                <a:cubicBezTo>
                  <a:pt x="7236" y="4860"/>
                  <a:pt x="7282" y="4804"/>
                  <a:pt x="7367" y="4787"/>
                </a:cubicBezTo>
                <a:cubicBezTo>
                  <a:pt x="7396" y="4836"/>
                  <a:pt x="7407" y="4923"/>
                  <a:pt x="7392" y="4986"/>
                </a:cubicBezTo>
                <a:cubicBezTo>
                  <a:pt x="7377" y="5049"/>
                  <a:pt x="7343" y="5146"/>
                  <a:pt x="7268" y="5159"/>
                </a:cubicBezTo>
                <a:cubicBezTo>
                  <a:pt x="7179" y="5175"/>
                  <a:pt x="7072" y="5159"/>
                  <a:pt x="6995" y="5110"/>
                </a:cubicBezTo>
                <a:cubicBezTo>
                  <a:pt x="6987" y="5102"/>
                  <a:pt x="6978" y="5093"/>
                  <a:pt x="6970" y="5085"/>
                </a:cubicBezTo>
              </a:path>
              <a:path w="1985" h="1316">
                <a:moveTo>
                  <a:pt x="7913" y="4440"/>
                </a:moveTo>
                <a:cubicBezTo>
                  <a:pt x="7913" y="4521"/>
                  <a:pt x="7902" y="4609"/>
                  <a:pt x="7888" y="4688"/>
                </a:cubicBezTo>
                <a:cubicBezTo>
                  <a:pt x="7861" y="4842"/>
                  <a:pt x="7845" y="5003"/>
                  <a:pt x="7838" y="5159"/>
                </a:cubicBezTo>
                <a:cubicBezTo>
                  <a:pt x="7838" y="5176"/>
                  <a:pt x="7838" y="5192"/>
                  <a:pt x="7838" y="5209"/>
                </a:cubicBezTo>
              </a:path>
              <a:path w="1985" h="1316">
                <a:moveTo>
                  <a:pt x="7764" y="5011"/>
                </a:moveTo>
                <a:cubicBezTo>
                  <a:pt x="7850" y="5003"/>
                  <a:pt x="7933" y="4978"/>
                  <a:pt x="8012" y="4936"/>
                </a:cubicBezTo>
                <a:cubicBezTo>
                  <a:pt x="8079" y="4900"/>
                  <a:pt x="8130" y="4861"/>
                  <a:pt x="8186" y="4812"/>
                </a:cubicBezTo>
              </a:path>
              <a:path w="1985" h="1316">
                <a:moveTo>
                  <a:pt x="8210" y="4514"/>
                </a:moveTo>
                <a:cubicBezTo>
                  <a:pt x="8179" y="4579"/>
                  <a:pt x="8144" y="4707"/>
                  <a:pt x="8136" y="4787"/>
                </a:cubicBezTo>
                <a:cubicBezTo>
                  <a:pt x="8121" y="4941"/>
                  <a:pt x="8094" y="5226"/>
                  <a:pt x="8161" y="5358"/>
                </a:cubicBezTo>
              </a:path>
              <a:path w="1985" h="1316">
                <a:moveTo>
                  <a:pt x="8582" y="4862"/>
                </a:moveTo>
                <a:cubicBezTo>
                  <a:pt x="8676" y="4862"/>
                  <a:pt x="8803" y="4840"/>
                  <a:pt x="8880" y="4887"/>
                </a:cubicBezTo>
              </a:path>
              <a:path w="1985" h="1316">
                <a:moveTo>
                  <a:pt x="8558" y="5159"/>
                </a:moveTo>
                <a:cubicBezTo>
                  <a:pt x="8568" y="5190"/>
                  <a:pt x="8612" y="5198"/>
                  <a:pt x="8657" y="5184"/>
                </a:cubicBezTo>
                <a:cubicBezTo>
                  <a:pt x="8714" y="5167"/>
                  <a:pt x="8774" y="5130"/>
                  <a:pt x="8830" y="51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56000" y="1660680"/>
            <a:ext cx="196920" cy="285480"/>
          </a:xfrm>
          <a:custGeom>
            <a:avLst/>
            <a:gdLst/>
            <a:ahLst/>
            <a:rect l="l" t="t" r="r" b="b"/>
            <a:pathLst>
              <a:path w="547" h="794">
                <a:moveTo>
                  <a:pt x="10021" y="4688"/>
                </a:moveTo>
                <a:cubicBezTo>
                  <a:pt x="9987" y="4677"/>
                  <a:pt x="9992" y="4649"/>
                  <a:pt x="9971" y="4638"/>
                </a:cubicBezTo>
                <a:cubicBezTo>
                  <a:pt x="9932" y="4618"/>
                  <a:pt x="9940" y="4614"/>
                  <a:pt x="9872" y="4614"/>
                </a:cubicBezTo>
                <a:cubicBezTo>
                  <a:pt x="9826" y="4614"/>
                  <a:pt x="9758" y="4659"/>
                  <a:pt x="9723" y="4688"/>
                </a:cubicBezTo>
                <a:cubicBezTo>
                  <a:pt x="9669" y="4733"/>
                  <a:pt x="9604" y="4789"/>
                  <a:pt x="9599" y="4862"/>
                </a:cubicBezTo>
                <a:cubicBezTo>
                  <a:pt x="9594" y="4931"/>
                  <a:pt x="9687" y="4970"/>
                  <a:pt x="9748" y="4936"/>
                </a:cubicBezTo>
                <a:cubicBezTo>
                  <a:pt x="9812" y="4901"/>
                  <a:pt x="9889" y="4833"/>
                  <a:pt x="9947" y="4787"/>
                </a:cubicBezTo>
                <a:cubicBezTo>
                  <a:pt x="9975" y="4765"/>
                  <a:pt x="9971" y="4689"/>
                  <a:pt x="9971" y="4738"/>
                </a:cubicBezTo>
                <a:cubicBezTo>
                  <a:pt x="9971" y="4825"/>
                  <a:pt x="9947" y="4902"/>
                  <a:pt x="9922" y="4986"/>
                </a:cubicBezTo>
                <a:cubicBezTo>
                  <a:pt x="9889" y="5097"/>
                  <a:pt x="9823" y="5198"/>
                  <a:pt x="9798" y="5308"/>
                </a:cubicBezTo>
                <a:cubicBezTo>
                  <a:pt x="9788" y="5351"/>
                  <a:pt x="9783" y="5369"/>
                  <a:pt x="9773" y="5407"/>
                </a:cubicBezTo>
              </a:path>
              <a:path w="547" h="794">
                <a:moveTo>
                  <a:pt x="10145" y="5358"/>
                </a:moveTo>
                <a:cubicBezTo>
                  <a:pt x="10134" y="5391"/>
                  <a:pt x="10109" y="5383"/>
                  <a:pt x="10145" y="53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30760" y="1714680"/>
            <a:ext cx="349200" cy="277560"/>
          </a:xfrm>
          <a:custGeom>
            <a:avLst/>
            <a:gdLst/>
            <a:ahLst/>
            <a:rect l="l" t="t" r="r" b="b"/>
            <a:pathLst>
              <a:path w="969" h="770">
                <a:moveTo>
                  <a:pt x="10740" y="4837"/>
                </a:moveTo>
                <a:cubicBezTo>
                  <a:pt x="10755" y="4778"/>
                  <a:pt x="10779" y="4766"/>
                  <a:pt x="10840" y="4762"/>
                </a:cubicBezTo>
                <a:cubicBezTo>
                  <a:pt x="10906" y="4758"/>
                  <a:pt x="10981" y="4830"/>
                  <a:pt x="11013" y="4887"/>
                </a:cubicBezTo>
                <a:cubicBezTo>
                  <a:pt x="11065" y="4978"/>
                  <a:pt x="11033" y="5097"/>
                  <a:pt x="10988" y="5184"/>
                </a:cubicBezTo>
                <a:cubicBezTo>
                  <a:pt x="10948" y="5262"/>
                  <a:pt x="10871" y="5348"/>
                  <a:pt x="10790" y="5383"/>
                </a:cubicBezTo>
                <a:cubicBezTo>
                  <a:pt x="10741" y="5404"/>
                  <a:pt x="10652" y="5434"/>
                  <a:pt x="10641" y="5358"/>
                </a:cubicBezTo>
                <a:cubicBezTo>
                  <a:pt x="10631" y="5287"/>
                  <a:pt x="10644" y="5237"/>
                  <a:pt x="10691" y="5184"/>
                </a:cubicBezTo>
                <a:cubicBezTo>
                  <a:pt x="10734" y="5136"/>
                  <a:pt x="10769" y="5156"/>
                  <a:pt x="10790" y="5184"/>
                </a:cubicBezTo>
                <a:cubicBezTo>
                  <a:pt x="10817" y="5219"/>
                  <a:pt x="10878" y="5282"/>
                  <a:pt x="10914" y="5308"/>
                </a:cubicBezTo>
                <a:cubicBezTo>
                  <a:pt x="10958" y="5330"/>
                  <a:pt x="10969" y="5333"/>
                  <a:pt x="10988" y="5358"/>
                </a:cubicBezTo>
              </a:path>
              <a:path w="969" h="770">
                <a:moveTo>
                  <a:pt x="11609" y="4812"/>
                </a:moveTo>
                <a:cubicBezTo>
                  <a:pt x="11574" y="4799"/>
                  <a:pt x="11477" y="4762"/>
                  <a:pt x="11435" y="4787"/>
                </a:cubicBezTo>
                <a:cubicBezTo>
                  <a:pt x="11361" y="4831"/>
                  <a:pt x="11244" y="4902"/>
                  <a:pt x="11212" y="4986"/>
                </a:cubicBezTo>
                <a:cubicBezTo>
                  <a:pt x="11212" y="4994"/>
                  <a:pt x="11212" y="5003"/>
                  <a:pt x="11212" y="5011"/>
                </a:cubicBezTo>
                <a:cubicBezTo>
                  <a:pt x="11257" y="5037"/>
                  <a:pt x="11337" y="5059"/>
                  <a:pt x="11385" y="5011"/>
                </a:cubicBezTo>
                <a:cubicBezTo>
                  <a:pt x="11430" y="4966"/>
                  <a:pt x="11467" y="4915"/>
                  <a:pt x="11509" y="4862"/>
                </a:cubicBezTo>
                <a:cubicBezTo>
                  <a:pt x="11493" y="4944"/>
                  <a:pt x="11478" y="5026"/>
                  <a:pt x="11460" y="5110"/>
                </a:cubicBezTo>
                <a:cubicBezTo>
                  <a:pt x="11436" y="5224"/>
                  <a:pt x="11415" y="5342"/>
                  <a:pt x="11410" y="5457"/>
                </a:cubicBezTo>
                <a:cubicBezTo>
                  <a:pt x="11410" y="5498"/>
                  <a:pt x="11410" y="5506"/>
                  <a:pt x="11410" y="55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51200" y="2330280"/>
            <a:ext cx="1562040" cy="357480"/>
          </a:xfrm>
          <a:custGeom>
            <a:avLst/>
            <a:gdLst/>
            <a:ahLst/>
            <a:rect l="l" t="t" r="r" b="b"/>
            <a:pathLst>
              <a:path w="4342" h="993">
                <a:moveTo>
                  <a:pt x="10468" y="6970"/>
                </a:moveTo>
                <a:cubicBezTo>
                  <a:pt x="10468" y="6937"/>
                  <a:pt x="10468" y="6904"/>
                  <a:pt x="10468" y="6871"/>
                </a:cubicBezTo>
                <a:cubicBezTo>
                  <a:pt x="10500" y="6882"/>
                  <a:pt x="10502" y="6924"/>
                  <a:pt x="10492" y="6970"/>
                </a:cubicBezTo>
                <a:cubicBezTo>
                  <a:pt x="10471" y="7066"/>
                  <a:pt x="10467" y="7177"/>
                  <a:pt x="10443" y="7268"/>
                </a:cubicBezTo>
                <a:cubicBezTo>
                  <a:pt x="10429" y="7319"/>
                  <a:pt x="10418" y="7318"/>
                  <a:pt x="10418" y="7367"/>
                </a:cubicBezTo>
                <a:cubicBezTo>
                  <a:pt x="10434" y="7305"/>
                  <a:pt x="10453" y="7238"/>
                  <a:pt x="10468" y="7169"/>
                </a:cubicBezTo>
                <a:cubicBezTo>
                  <a:pt x="10494" y="7051"/>
                  <a:pt x="10551" y="6946"/>
                  <a:pt x="10616" y="6846"/>
                </a:cubicBezTo>
                <a:cubicBezTo>
                  <a:pt x="10673" y="6758"/>
                  <a:pt x="10759" y="6694"/>
                  <a:pt x="10864" y="6672"/>
                </a:cubicBezTo>
                <a:cubicBezTo>
                  <a:pt x="10881" y="6672"/>
                  <a:pt x="10897" y="6672"/>
                  <a:pt x="10914" y="6672"/>
                </a:cubicBezTo>
                <a:cubicBezTo>
                  <a:pt x="10954" y="6725"/>
                  <a:pt x="10942" y="6758"/>
                  <a:pt x="10914" y="6821"/>
                </a:cubicBezTo>
                <a:cubicBezTo>
                  <a:pt x="10873" y="6913"/>
                  <a:pt x="10810" y="6975"/>
                  <a:pt x="10740" y="7045"/>
                </a:cubicBezTo>
                <a:cubicBezTo>
                  <a:pt x="10692" y="7093"/>
                  <a:pt x="10675" y="7103"/>
                  <a:pt x="10666" y="7169"/>
                </a:cubicBezTo>
                <a:cubicBezTo>
                  <a:pt x="10706" y="7192"/>
                  <a:pt x="10789" y="7234"/>
                  <a:pt x="10840" y="7243"/>
                </a:cubicBezTo>
                <a:cubicBezTo>
                  <a:pt x="10941" y="7261"/>
                  <a:pt x="11020" y="7227"/>
                  <a:pt x="11112" y="7193"/>
                </a:cubicBezTo>
              </a:path>
              <a:path w="4342" h="993">
                <a:moveTo>
                  <a:pt x="11435" y="6921"/>
                </a:moveTo>
                <a:cubicBezTo>
                  <a:pt x="11427" y="6921"/>
                  <a:pt x="11418" y="6921"/>
                  <a:pt x="11410" y="6921"/>
                </a:cubicBezTo>
                <a:cubicBezTo>
                  <a:pt x="11397" y="6971"/>
                  <a:pt x="11385" y="6984"/>
                  <a:pt x="11385" y="7045"/>
                </a:cubicBezTo>
                <a:cubicBezTo>
                  <a:pt x="11385" y="7099"/>
                  <a:pt x="11391" y="7118"/>
                  <a:pt x="11410" y="7169"/>
                </a:cubicBezTo>
              </a:path>
              <a:path w="4342" h="993">
                <a:moveTo>
                  <a:pt x="11733" y="6995"/>
                </a:moveTo>
                <a:cubicBezTo>
                  <a:pt x="11733" y="6950"/>
                  <a:pt x="11737" y="6937"/>
                  <a:pt x="11708" y="6921"/>
                </a:cubicBezTo>
                <a:cubicBezTo>
                  <a:pt x="11720" y="6967"/>
                  <a:pt x="11750" y="7017"/>
                  <a:pt x="11757" y="7069"/>
                </a:cubicBezTo>
                <a:cubicBezTo>
                  <a:pt x="11770" y="7170"/>
                  <a:pt x="11782" y="7263"/>
                  <a:pt x="11782" y="7367"/>
                </a:cubicBezTo>
                <a:cubicBezTo>
                  <a:pt x="11782" y="7433"/>
                  <a:pt x="11744" y="7460"/>
                  <a:pt x="11683" y="7466"/>
                </a:cubicBezTo>
                <a:cubicBezTo>
                  <a:pt x="11654" y="7469"/>
                  <a:pt x="11594" y="7427"/>
                  <a:pt x="11609" y="7392"/>
                </a:cubicBezTo>
                <a:cubicBezTo>
                  <a:pt x="11644" y="7311"/>
                  <a:pt x="11719" y="7273"/>
                  <a:pt x="11782" y="7218"/>
                </a:cubicBezTo>
                <a:cubicBezTo>
                  <a:pt x="11807" y="7193"/>
                  <a:pt x="11832" y="7169"/>
                  <a:pt x="11857" y="7144"/>
                </a:cubicBezTo>
              </a:path>
              <a:path w="4342" h="993">
                <a:moveTo>
                  <a:pt x="12303" y="6474"/>
                </a:moveTo>
                <a:cubicBezTo>
                  <a:pt x="12275" y="6549"/>
                  <a:pt x="12257" y="6615"/>
                  <a:pt x="12254" y="6697"/>
                </a:cubicBezTo>
                <a:cubicBezTo>
                  <a:pt x="12250" y="6804"/>
                  <a:pt x="12254" y="6913"/>
                  <a:pt x="12254" y="7020"/>
                </a:cubicBezTo>
                <a:cubicBezTo>
                  <a:pt x="12291" y="6973"/>
                  <a:pt x="12333" y="6903"/>
                  <a:pt x="12378" y="6871"/>
                </a:cubicBezTo>
                <a:cubicBezTo>
                  <a:pt x="12422" y="6840"/>
                  <a:pt x="12470" y="6915"/>
                  <a:pt x="12477" y="6945"/>
                </a:cubicBezTo>
                <a:cubicBezTo>
                  <a:pt x="12499" y="7036"/>
                  <a:pt x="12504" y="7059"/>
                  <a:pt x="12576" y="7119"/>
                </a:cubicBezTo>
                <a:cubicBezTo>
                  <a:pt x="12584" y="7127"/>
                  <a:pt x="12593" y="7136"/>
                  <a:pt x="12601" y="7144"/>
                </a:cubicBezTo>
              </a:path>
              <a:path w="4342" h="993">
                <a:moveTo>
                  <a:pt x="12923" y="6598"/>
                </a:moveTo>
                <a:cubicBezTo>
                  <a:pt x="12923" y="6694"/>
                  <a:pt x="12938" y="6779"/>
                  <a:pt x="12948" y="6871"/>
                </a:cubicBezTo>
                <a:cubicBezTo>
                  <a:pt x="12956" y="6939"/>
                  <a:pt x="12965" y="7002"/>
                  <a:pt x="12973" y="7069"/>
                </a:cubicBezTo>
              </a:path>
              <a:path w="4342" h="993">
                <a:moveTo>
                  <a:pt x="12675" y="6945"/>
                </a:moveTo>
                <a:cubicBezTo>
                  <a:pt x="12739" y="6872"/>
                  <a:pt x="12818" y="6857"/>
                  <a:pt x="12923" y="6846"/>
                </a:cubicBezTo>
                <a:cubicBezTo>
                  <a:pt x="13006" y="6837"/>
                  <a:pt x="13087" y="6828"/>
                  <a:pt x="13171" y="6821"/>
                </a:cubicBezTo>
              </a:path>
              <a:path w="4342" h="993">
                <a:moveTo>
                  <a:pt x="11112" y="6747"/>
                </a:moveTo>
                <a:cubicBezTo>
                  <a:pt x="11164" y="6726"/>
                  <a:pt x="11221" y="6674"/>
                  <a:pt x="11237" y="6722"/>
                </a:cubicBezTo>
              </a:path>
              <a:path w="4342" h="993">
                <a:moveTo>
                  <a:pt x="13692" y="6970"/>
                </a:moveTo>
                <a:cubicBezTo>
                  <a:pt x="13658" y="6936"/>
                  <a:pt x="13629" y="6915"/>
                  <a:pt x="13618" y="6871"/>
                </a:cubicBezTo>
                <a:cubicBezTo>
                  <a:pt x="13962" y="6871"/>
                  <a:pt x="14389" y="6934"/>
                  <a:pt x="14709" y="6846"/>
                </a:cubicBezTo>
                <a:cubicBezTo>
                  <a:pt x="14717" y="6846"/>
                  <a:pt x="14726" y="6846"/>
                  <a:pt x="14734" y="6846"/>
                </a:cubicBezTo>
                <a:cubicBezTo>
                  <a:pt x="14688" y="6818"/>
                  <a:pt x="14596" y="6780"/>
                  <a:pt x="14536" y="6772"/>
                </a:cubicBezTo>
                <a:cubicBezTo>
                  <a:pt x="14443" y="6760"/>
                  <a:pt x="14344" y="6737"/>
                  <a:pt x="14263" y="6722"/>
                </a:cubicBezTo>
                <a:cubicBezTo>
                  <a:pt x="14246" y="6722"/>
                  <a:pt x="14230" y="6722"/>
                  <a:pt x="14213" y="6722"/>
                </a:cubicBezTo>
                <a:cubicBezTo>
                  <a:pt x="14333" y="6722"/>
                  <a:pt x="14443" y="6736"/>
                  <a:pt x="14560" y="6747"/>
                </a:cubicBezTo>
                <a:cubicBezTo>
                  <a:pt x="14650" y="6756"/>
                  <a:pt x="14694" y="6757"/>
                  <a:pt x="14759" y="6821"/>
                </a:cubicBezTo>
                <a:cubicBezTo>
                  <a:pt x="14694" y="6886"/>
                  <a:pt x="14635" y="6942"/>
                  <a:pt x="14560" y="6995"/>
                </a:cubicBezTo>
                <a:cubicBezTo>
                  <a:pt x="14486" y="7045"/>
                  <a:pt x="14461" y="7062"/>
                  <a:pt x="14436" y="71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8960" y="2571840"/>
            <a:ext cx="536400" cy="642960"/>
          </a:xfrm>
          <a:custGeom>
            <a:avLst/>
            <a:gdLst/>
            <a:ahLst/>
            <a:rect l="l" t="t" r="r" b="b"/>
            <a:pathLst>
              <a:path w="1489" h="1787">
                <a:moveTo>
                  <a:pt x="2183" y="7590"/>
                </a:moveTo>
                <a:cubicBezTo>
                  <a:pt x="2183" y="7534"/>
                  <a:pt x="2207" y="7621"/>
                  <a:pt x="2208" y="7640"/>
                </a:cubicBezTo>
                <a:cubicBezTo>
                  <a:pt x="2214" y="7748"/>
                  <a:pt x="2247" y="7850"/>
                  <a:pt x="2232" y="7962"/>
                </a:cubicBezTo>
                <a:cubicBezTo>
                  <a:pt x="2218" y="8063"/>
                  <a:pt x="2194" y="8160"/>
                  <a:pt x="2183" y="8260"/>
                </a:cubicBezTo>
              </a:path>
              <a:path w="1489" h="1787">
                <a:moveTo>
                  <a:pt x="2530" y="7615"/>
                </a:moveTo>
                <a:cubicBezTo>
                  <a:pt x="2530" y="7688"/>
                  <a:pt x="2524" y="7770"/>
                  <a:pt x="2505" y="7838"/>
                </a:cubicBezTo>
                <a:cubicBezTo>
                  <a:pt x="2492" y="7883"/>
                  <a:pt x="2455" y="7962"/>
                  <a:pt x="2480" y="8012"/>
                </a:cubicBezTo>
                <a:cubicBezTo>
                  <a:pt x="2496" y="8043"/>
                  <a:pt x="2576" y="8049"/>
                  <a:pt x="2604" y="8037"/>
                </a:cubicBezTo>
                <a:cubicBezTo>
                  <a:pt x="2640" y="8022"/>
                  <a:pt x="2670" y="8008"/>
                  <a:pt x="2704" y="7987"/>
                </a:cubicBezTo>
              </a:path>
              <a:path w="1489" h="1787">
                <a:moveTo>
                  <a:pt x="2853" y="7565"/>
                </a:moveTo>
                <a:cubicBezTo>
                  <a:pt x="2767" y="7660"/>
                  <a:pt x="2740" y="7707"/>
                  <a:pt x="2729" y="7838"/>
                </a:cubicBezTo>
                <a:cubicBezTo>
                  <a:pt x="2719" y="7961"/>
                  <a:pt x="2708" y="8088"/>
                  <a:pt x="2704" y="8210"/>
                </a:cubicBezTo>
                <a:cubicBezTo>
                  <a:pt x="2704" y="8276"/>
                  <a:pt x="2704" y="8293"/>
                  <a:pt x="2704" y="8334"/>
                </a:cubicBezTo>
              </a:path>
              <a:path w="1489" h="1787">
                <a:moveTo>
                  <a:pt x="2877" y="7268"/>
                </a:moveTo>
                <a:cubicBezTo>
                  <a:pt x="2779" y="7205"/>
                  <a:pt x="2697" y="7149"/>
                  <a:pt x="2580" y="7144"/>
                </a:cubicBezTo>
                <a:cubicBezTo>
                  <a:pt x="2441" y="7139"/>
                  <a:pt x="2334" y="7137"/>
                  <a:pt x="2208" y="7193"/>
                </a:cubicBezTo>
                <a:cubicBezTo>
                  <a:pt x="2013" y="7280"/>
                  <a:pt x="1819" y="7466"/>
                  <a:pt x="1736" y="7665"/>
                </a:cubicBezTo>
                <a:cubicBezTo>
                  <a:pt x="1646" y="7879"/>
                  <a:pt x="1628" y="8059"/>
                  <a:pt x="1662" y="8285"/>
                </a:cubicBezTo>
                <a:cubicBezTo>
                  <a:pt x="1693" y="8490"/>
                  <a:pt x="1782" y="8727"/>
                  <a:pt x="1960" y="8855"/>
                </a:cubicBezTo>
                <a:cubicBezTo>
                  <a:pt x="2100" y="8955"/>
                  <a:pt x="2286" y="8938"/>
                  <a:pt x="2431" y="8855"/>
                </a:cubicBezTo>
                <a:cubicBezTo>
                  <a:pt x="2607" y="8754"/>
                  <a:pt x="2854" y="8509"/>
                  <a:pt x="2952" y="8334"/>
                </a:cubicBezTo>
                <a:cubicBezTo>
                  <a:pt x="3075" y="8115"/>
                  <a:pt x="3148" y="7863"/>
                  <a:pt x="3101" y="7615"/>
                </a:cubicBezTo>
                <a:cubicBezTo>
                  <a:pt x="3065" y="7427"/>
                  <a:pt x="2992" y="7247"/>
                  <a:pt x="2803" y="7169"/>
                </a:cubicBezTo>
                <a:cubicBezTo>
                  <a:pt x="2685" y="7120"/>
                  <a:pt x="2574" y="7150"/>
                  <a:pt x="2456" y="71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32000" y="2795760"/>
            <a:ext cx="733320" cy="276120"/>
          </a:xfrm>
          <a:custGeom>
            <a:avLst/>
            <a:gdLst/>
            <a:ahLst/>
            <a:rect l="l" t="t" r="r" b="b"/>
            <a:pathLst>
              <a:path w="2035" h="770">
                <a:moveTo>
                  <a:pt x="6350" y="7789"/>
                </a:moveTo>
                <a:cubicBezTo>
                  <a:pt x="6341" y="7854"/>
                  <a:pt x="6304" y="7891"/>
                  <a:pt x="6300" y="7962"/>
                </a:cubicBezTo>
                <a:cubicBezTo>
                  <a:pt x="6295" y="8057"/>
                  <a:pt x="6286" y="8143"/>
                  <a:pt x="6276" y="8235"/>
                </a:cubicBezTo>
                <a:cubicBezTo>
                  <a:pt x="6266" y="8323"/>
                  <a:pt x="6244" y="8398"/>
                  <a:pt x="6226" y="8483"/>
                </a:cubicBezTo>
                <a:cubicBezTo>
                  <a:pt x="6226" y="8491"/>
                  <a:pt x="6226" y="8500"/>
                  <a:pt x="6226" y="8508"/>
                </a:cubicBezTo>
              </a:path>
              <a:path w="2035" h="770">
                <a:moveTo>
                  <a:pt x="6201" y="8186"/>
                </a:moveTo>
                <a:cubicBezTo>
                  <a:pt x="6330" y="8186"/>
                  <a:pt x="6481" y="8210"/>
                  <a:pt x="6598" y="8161"/>
                </a:cubicBezTo>
                <a:cubicBezTo>
                  <a:pt x="6615" y="8153"/>
                  <a:pt x="6631" y="8144"/>
                  <a:pt x="6648" y="8136"/>
                </a:cubicBezTo>
              </a:path>
              <a:path w="2035" h="770">
                <a:moveTo>
                  <a:pt x="6747" y="7764"/>
                </a:moveTo>
                <a:cubicBezTo>
                  <a:pt x="6693" y="7800"/>
                  <a:pt x="6671" y="7842"/>
                  <a:pt x="6648" y="7913"/>
                </a:cubicBezTo>
                <a:cubicBezTo>
                  <a:pt x="6602" y="8057"/>
                  <a:pt x="6598" y="8184"/>
                  <a:pt x="6598" y="8334"/>
                </a:cubicBezTo>
                <a:cubicBezTo>
                  <a:pt x="6598" y="8400"/>
                  <a:pt x="6598" y="8467"/>
                  <a:pt x="6598" y="8533"/>
                </a:cubicBezTo>
              </a:path>
              <a:path w="2035" h="770">
                <a:moveTo>
                  <a:pt x="7367" y="7938"/>
                </a:moveTo>
                <a:cubicBezTo>
                  <a:pt x="7358" y="7910"/>
                  <a:pt x="7333" y="7893"/>
                  <a:pt x="7293" y="7888"/>
                </a:cubicBezTo>
                <a:cubicBezTo>
                  <a:pt x="7242" y="7882"/>
                  <a:pt x="7179" y="7929"/>
                  <a:pt x="7144" y="7962"/>
                </a:cubicBezTo>
                <a:cubicBezTo>
                  <a:pt x="7066" y="8035"/>
                  <a:pt x="7049" y="8106"/>
                  <a:pt x="7045" y="8210"/>
                </a:cubicBezTo>
                <a:cubicBezTo>
                  <a:pt x="7041" y="8309"/>
                  <a:pt x="7059" y="8384"/>
                  <a:pt x="7144" y="8434"/>
                </a:cubicBezTo>
                <a:cubicBezTo>
                  <a:pt x="7225" y="8481"/>
                  <a:pt x="7307" y="8454"/>
                  <a:pt x="7392" y="8434"/>
                </a:cubicBezTo>
              </a:path>
              <a:path w="2035" h="770">
                <a:moveTo>
                  <a:pt x="7813" y="7987"/>
                </a:moveTo>
                <a:cubicBezTo>
                  <a:pt x="7774" y="8027"/>
                  <a:pt x="7736" y="8058"/>
                  <a:pt x="7714" y="8111"/>
                </a:cubicBezTo>
                <a:cubicBezTo>
                  <a:pt x="7679" y="8196"/>
                  <a:pt x="7654" y="8298"/>
                  <a:pt x="7640" y="8384"/>
                </a:cubicBezTo>
                <a:cubicBezTo>
                  <a:pt x="7640" y="8425"/>
                  <a:pt x="7640" y="8433"/>
                  <a:pt x="7640" y="8458"/>
                </a:cubicBezTo>
                <a:cubicBezTo>
                  <a:pt x="7655" y="8401"/>
                  <a:pt x="7704" y="8352"/>
                  <a:pt x="7714" y="8285"/>
                </a:cubicBezTo>
                <a:cubicBezTo>
                  <a:pt x="7727" y="8202"/>
                  <a:pt x="7736" y="8090"/>
                  <a:pt x="7764" y="8012"/>
                </a:cubicBezTo>
                <a:cubicBezTo>
                  <a:pt x="7787" y="7989"/>
                  <a:pt x="7795" y="7985"/>
                  <a:pt x="7789" y="7962"/>
                </a:cubicBezTo>
                <a:cubicBezTo>
                  <a:pt x="7799" y="8047"/>
                  <a:pt x="7835" y="8126"/>
                  <a:pt x="7863" y="8210"/>
                </a:cubicBezTo>
                <a:cubicBezTo>
                  <a:pt x="7900" y="8320"/>
                  <a:pt x="7946" y="8354"/>
                  <a:pt x="8062" y="8359"/>
                </a:cubicBezTo>
                <a:cubicBezTo>
                  <a:pt x="8162" y="8363"/>
                  <a:pt x="8195" y="8311"/>
                  <a:pt x="8210" y="8210"/>
                </a:cubicBezTo>
                <a:cubicBezTo>
                  <a:pt x="8222" y="8129"/>
                  <a:pt x="8186" y="7756"/>
                  <a:pt x="8235" y="77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2840040"/>
            <a:ext cx="492120" cy="312840"/>
          </a:xfrm>
          <a:custGeom>
            <a:avLst/>
            <a:gdLst/>
            <a:ahLst/>
            <a:rect l="l" t="t" r="r" b="b"/>
            <a:pathLst>
              <a:path w="1366" h="869">
                <a:moveTo>
                  <a:pt x="9103" y="8136"/>
                </a:moveTo>
                <a:cubicBezTo>
                  <a:pt x="9185" y="8136"/>
                  <a:pt x="9248" y="8120"/>
                  <a:pt x="9327" y="8111"/>
                </a:cubicBezTo>
                <a:cubicBezTo>
                  <a:pt x="9679" y="8070"/>
                  <a:pt x="10048" y="8141"/>
                  <a:pt x="10393" y="8086"/>
                </a:cubicBezTo>
                <a:cubicBezTo>
                  <a:pt x="10438" y="8086"/>
                  <a:pt x="10451" y="8090"/>
                  <a:pt x="10468" y="8062"/>
                </a:cubicBezTo>
                <a:cubicBezTo>
                  <a:pt x="10468" y="8013"/>
                  <a:pt x="10444" y="7976"/>
                  <a:pt x="10393" y="7962"/>
                </a:cubicBezTo>
                <a:cubicBezTo>
                  <a:pt x="10319" y="7942"/>
                  <a:pt x="10249" y="7918"/>
                  <a:pt x="10170" y="7913"/>
                </a:cubicBezTo>
                <a:cubicBezTo>
                  <a:pt x="10134" y="7911"/>
                  <a:pt x="10106" y="7895"/>
                  <a:pt x="10071" y="7888"/>
                </a:cubicBezTo>
                <a:cubicBezTo>
                  <a:pt x="10123" y="7898"/>
                  <a:pt x="10146" y="7902"/>
                  <a:pt x="10195" y="7938"/>
                </a:cubicBezTo>
                <a:cubicBezTo>
                  <a:pt x="10203" y="7946"/>
                  <a:pt x="10212" y="7954"/>
                  <a:pt x="10220" y="7962"/>
                </a:cubicBezTo>
              </a:path>
              <a:path w="1366" h="869">
                <a:moveTo>
                  <a:pt x="10468" y="8409"/>
                </a:moveTo>
                <a:cubicBezTo>
                  <a:pt x="10388" y="8409"/>
                  <a:pt x="10318" y="8424"/>
                  <a:pt x="10244" y="8434"/>
                </a:cubicBezTo>
                <a:cubicBezTo>
                  <a:pt x="10120" y="8450"/>
                  <a:pt x="9996" y="8457"/>
                  <a:pt x="9872" y="8483"/>
                </a:cubicBezTo>
                <a:cubicBezTo>
                  <a:pt x="9741" y="8511"/>
                  <a:pt x="9609" y="8529"/>
                  <a:pt x="9475" y="8533"/>
                </a:cubicBezTo>
                <a:cubicBezTo>
                  <a:pt x="9388" y="8536"/>
                  <a:pt x="9314" y="8558"/>
                  <a:pt x="9227" y="8558"/>
                </a:cubicBezTo>
                <a:cubicBezTo>
                  <a:pt x="9194" y="8558"/>
                  <a:pt x="9161" y="8558"/>
                  <a:pt x="9128" y="8558"/>
                </a:cubicBezTo>
                <a:cubicBezTo>
                  <a:pt x="9195" y="8623"/>
                  <a:pt x="9238" y="8672"/>
                  <a:pt x="9327" y="8706"/>
                </a:cubicBezTo>
                <a:cubicBezTo>
                  <a:pt x="9390" y="8730"/>
                  <a:pt x="9436" y="8748"/>
                  <a:pt x="9500" y="87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05160" y="2751120"/>
            <a:ext cx="474840" cy="347760"/>
          </a:xfrm>
          <a:custGeom>
            <a:avLst/>
            <a:gdLst/>
            <a:ahLst/>
            <a:rect l="l" t="t" r="r" b="b"/>
            <a:pathLst>
              <a:path w="1316" h="968">
                <a:moveTo>
                  <a:pt x="11733" y="7962"/>
                </a:moveTo>
                <a:cubicBezTo>
                  <a:pt x="11770" y="8052"/>
                  <a:pt x="11747" y="8038"/>
                  <a:pt x="11733" y="8136"/>
                </a:cubicBezTo>
                <a:cubicBezTo>
                  <a:pt x="11721" y="8216"/>
                  <a:pt x="11712" y="8304"/>
                  <a:pt x="11708" y="8384"/>
                </a:cubicBezTo>
                <a:cubicBezTo>
                  <a:pt x="11705" y="8447"/>
                  <a:pt x="11683" y="8493"/>
                  <a:pt x="11683" y="8558"/>
                </a:cubicBezTo>
                <a:cubicBezTo>
                  <a:pt x="11683" y="8582"/>
                  <a:pt x="11683" y="8591"/>
                  <a:pt x="11683" y="8607"/>
                </a:cubicBezTo>
              </a:path>
              <a:path w="1316" h="968">
                <a:moveTo>
                  <a:pt x="11683" y="8334"/>
                </a:moveTo>
                <a:cubicBezTo>
                  <a:pt x="11748" y="8296"/>
                  <a:pt x="11783" y="8329"/>
                  <a:pt x="11857" y="8310"/>
                </a:cubicBezTo>
                <a:cubicBezTo>
                  <a:pt x="11946" y="8288"/>
                  <a:pt x="12040" y="8305"/>
                  <a:pt x="12129" y="8285"/>
                </a:cubicBezTo>
                <a:cubicBezTo>
                  <a:pt x="12177" y="8261"/>
                  <a:pt x="12192" y="8253"/>
                  <a:pt x="12229" y="8260"/>
                </a:cubicBezTo>
              </a:path>
              <a:path w="1316" h="968">
                <a:moveTo>
                  <a:pt x="12303" y="7938"/>
                </a:moveTo>
                <a:cubicBezTo>
                  <a:pt x="12215" y="8000"/>
                  <a:pt x="12250" y="8016"/>
                  <a:pt x="12229" y="8111"/>
                </a:cubicBezTo>
                <a:cubicBezTo>
                  <a:pt x="12205" y="8221"/>
                  <a:pt x="12204" y="8319"/>
                  <a:pt x="12204" y="8434"/>
                </a:cubicBezTo>
                <a:cubicBezTo>
                  <a:pt x="12204" y="8492"/>
                  <a:pt x="12204" y="8549"/>
                  <a:pt x="12204" y="8607"/>
                </a:cubicBezTo>
              </a:path>
              <a:path w="1316" h="968">
                <a:moveTo>
                  <a:pt x="12650" y="7863"/>
                </a:moveTo>
                <a:cubicBezTo>
                  <a:pt x="12739" y="7863"/>
                  <a:pt x="12822" y="7853"/>
                  <a:pt x="12898" y="7838"/>
                </a:cubicBezTo>
                <a:cubicBezTo>
                  <a:pt x="12926" y="7832"/>
                  <a:pt x="12968" y="7838"/>
                  <a:pt x="12998" y="7838"/>
                </a:cubicBezTo>
              </a:path>
              <a:path w="1316" h="968">
                <a:moveTo>
                  <a:pt x="12898" y="7640"/>
                </a:moveTo>
                <a:cubicBezTo>
                  <a:pt x="12829" y="7670"/>
                  <a:pt x="12804" y="7659"/>
                  <a:pt x="12799" y="7739"/>
                </a:cubicBezTo>
                <a:cubicBezTo>
                  <a:pt x="12791" y="7870"/>
                  <a:pt x="12799" y="8004"/>
                  <a:pt x="12799" y="81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10120" y="2830680"/>
            <a:ext cx="1187640" cy="241200"/>
          </a:xfrm>
          <a:custGeom>
            <a:avLst/>
            <a:gdLst/>
            <a:ahLst/>
            <a:rect l="l" t="t" r="r" b="b"/>
            <a:pathLst>
              <a:path w="3300" h="671">
                <a:moveTo>
                  <a:pt x="13915" y="8310"/>
                </a:moveTo>
                <a:cubicBezTo>
                  <a:pt x="13962" y="8344"/>
                  <a:pt x="14003" y="8334"/>
                  <a:pt x="14064" y="8334"/>
                </a:cubicBezTo>
                <a:cubicBezTo>
                  <a:pt x="14169" y="8334"/>
                  <a:pt x="14263" y="8326"/>
                  <a:pt x="14362" y="8310"/>
                </a:cubicBezTo>
                <a:cubicBezTo>
                  <a:pt x="14379" y="8310"/>
                  <a:pt x="14395" y="8310"/>
                  <a:pt x="14412" y="8310"/>
                </a:cubicBezTo>
              </a:path>
              <a:path w="3300" h="671">
                <a:moveTo>
                  <a:pt x="14312" y="8037"/>
                </a:moveTo>
                <a:cubicBezTo>
                  <a:pt x="14232" y="8083"/>
                  <a:pt x="14238" y="8094"/>
                  <a:pt x="14238" y="8186"/>
                </a:cubicBezTo>
                <a:cubicBezTo>
                  <a:pt x="14238" y="8276"/>
                  <a:pt x="14249" y="8350"/>
                  <a:pt x="14263" y="8434"/>
                </a:cubicBezTo>
                <a:cubicBezTo>
                  <a:pt x="14263" y="8450"/>
                  <a:pt x="14263" y="8467"/>
                  <a:pt x="14263" y="8483"/>
                </a:cubicBezTo>
              </a:path>
              <a:path w="3300" h="671">
                <a:moveTo>
                  <a:pt x="15404" y="8062"/>
                </a:moveTo>
                <a:cubicBezTo>
                  <a:pt x="15284" y="8026"/>
                  <a:pt x="15294" y="8038"/>
                  <a:pt x="15180" y="8086"/>
                </a:cubicBezTo>
                <a:cubicBezTo>
                  <a:pt x="15093" y="8123"/>
                  <a:pt x="15004" y="8180"/>
                  <a:pt x="14982" y="8285"/>
                </a:cubicBezTo>
                <a:cubicBezTo>
                  <a:pt x="14962" y="8380"/>
                  <a:pt x="15025" y="8447"/>
                  <a:pt x="15106" y="8483"/>
                </a:cubicBezTo>
                <a:cubicBezTo>
                  <a:pt x="15220" y="8533"/>
                  <a:pt x="15337" y="8506"/>
                  <a:pt x="15453" y="8483"/>
                </a:cubicBezTo>
              </a:path>
              <a:path w="3300" h="671">
                <a:moveTo>
                  <a:pt x="15974" y="8086"/>
                </a:moveTo>
                <a:cubicBezTo>
                  <a:pt x="15933" y="8128"/>
                  <a:pt x="15920" y="8154"/>
                  <a:pt x="15900" y="8210"/>
                </a:cubicBezTo>
                <a:cubicBezTo>
                  <a:pt x="15869" y="8294"/>
                  <a:pt x="15831" y="8368"/>
                  <a:pt x="15825" y="8458"/>
                </a:cubicBezTo>
                <a:cubicBezTo>
                  <a:pt x="15825" y="8483"/>
                  <a:pt x="15825" y="8491"/>
                  <a:pt x="15825" y="8508"/>
                </a:cubicBezTo>
                <a:cubicBezTo>
                  <a:pt x="15825" y="8560"/>
                  <a:pt x="15839" y="8458"/>
                  <a:pt x="15850" y="8434"/>
                </a:cubicBezTo>
                <a:cubicBezTo>
                  <a:pt x="15883" y="8365"/>
                  <a:pt x="15911" y="8263"/>
                  <a:pt x="15925" y="8186"/>
                </a:cubicBezTo>
                <a:cubicBezTo>
                  <a:pt x="15936" y="8126"/>
                  <a:pt x="15938" y="8084"/>
                  <a:pt x="15974" y="8037"/>
                </a:cubicBezTo>
                <a:cubicBezTo>
                  <a:pt x="16012" y="8100"/>
                  <a:pt x="16018" y="8167"/>
                  <a:pt x="16073" y="8235"/>
                </a:cubicBezTo>
                <a:cubicBezTo>
                  <a:pt x="16145" y="8324"/>
                  <a:pt x="16200" y="8391"/>
                  <a:pt x="16321" y="8409"/>
                </a:cubicBezTo>
                <a:cubicBezTo>
                  <a:pt x="16377" y="8417"/>
                  <a:pt x="16533" y="8422"/>
                  <a:pt x="16570" y="8359"/>
                </a:cubicBezTo>
                <a:cubicBezTo>
                  <a:pt x="16613" y="8284"/>
                  <a:pt x="16578" y="8189"/>
                  <a:pt x="16570" y="8111"/>
                </a:cubicBezTo>
                <a:cubicBezTo>
                  <a:pt x="16562" y="8032"/>
                  <a:pt x="16527" y="7962"/>
                  <a:pt x="16520" y="7888"/>
                </a:cubicBezTo>
                <a:cubicBezTo>
                  <a:pt x="16520" y="7880"/>
                  <a:pt x="16520" y="7871"/>
                  <a:pt x="16520" y="7863"/>
                </a:cubicBezTo>
              </a:path>
              <a:path w="3300" h="671">
                <a:moveTo>
                  <a:pt x="16892" y="7962"/>
                </a:moveTo>
                <a:cubicBezTo>
                  <a:pt x="16945" y="7962"/>
                  <a:pt x="16962" y="7942"/>
                  <a:pt x="17016" y="7938"/>
                </a:cubicBezTo>
                <a:cubicBezTo>
                  <a:pt x="17081" y="7933"/>
                  <a:pt x="17164" y="7925"/>
                  <a:pt x="17214" y="79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01920" y="3276720"/>
            <a:ext cx="571320" cy="206280"/>
          </a:xfrm>
          <a:custGeom>
            <a:avLst/>
            <a:gdLst/>
            <a:ahLst/>
            <a:rect l="l" t="t" r="r" b="b"/>
            <a:pathLst>
              <a:path w="1589" h="572">
                <a:moveTo>
                  <a:pt x="6697" y="9624"/>
                </a:moveTo>
                <a:cubicBezTo>
                  <a:pt x="6697" y="9649"/>
                  <a:pt x="6697" y="9657"/>
                  <a:pt x="6697" y="9674"/>
                </a:cubicBezTo>
                <a:cubicBezTo>
                  <a:pt x="6675" y="9663"/>
                  <a:pt x="6705" y="9630"/>
                  <a:pt x="6697" y="9649"/>
                </a:cubicBezTo>
                <a:cubicBezTo>
                  <a:pt x="6697" y="9657"/>
                  <a:pt x="6697" y="9666"/>
                  <a:pt x="6697" y="9674"/>
                </a:cubicBezTo>
              </a:path>
              <a:path w="1589" h="572">
                <a:moveTo>
                  <a:pt x="7193" y="9277"/>
                </a:moveTo>
                <a:cubicBezTo>
                  <a:pt x="7158" y="9349"/>
                  <a:pt x="7130" y="9420"/>
                  <a:pt x="7119" y="9500"/>
                </a:cubicBezTo>
                <a:cubicBezTo>
                  <a:pt x="7111" y="9559"/>
                  <a:pt x="7177" y="9632"/>
                  <a:pt x="7243" y="9599"/>
                </a:cubicBezTo>
                <a:cubicBezTo>
                  <a:pt x="7297" y="9572"/>
                  <a:pt x="7424" y="9428"/>
                  <a:pt x="7441" y="9376"/>
                </a:cubicBezTo>
                <a:cubicBezTo>
                  <a:pt x="7464" y="9306"/>
                  <a:pt x="7411" y="9198"/>
                  <a:pt x="7342" y="9178"/>
                </a:cubicBezTo>
                <a:cubicBezTo>
                  <a:pt x="7318" y="9171"/>
                  <a:pt x="7270" y="9178"/>
                  <a:pt x="7243" y="9178"/>
                </a:cubicBezTo>
              </a:path>
              <a:path w="1589" h="572">
                <a:moveTo>
                  <a:pt x="6846" y="9128"/>
                </a:moveTo>
                <a:cubicBezTo>
                  <a:pt x="6846" y="9054"/>
                  <a:pt x="6846" y="9251"/>
                  <a:pt x="6846" y="9252"/>
                </a:cubicBezTo>
                <a:cubicBezTo>
                  <a:pt x="6864" y="9364"/>
                  <a:pt x="6867" y="9492"/>
                  <a:pt x="6896" y="9599"/>
                </a:cubicBezTo>
                <a:cubicBezTo>
                  <a:pt x="6904" y="9616"/>
                  <a:pt x="6913" y="9632"/>
                  <a:pt x="6921" y="9649"/>
                </a:cubicBezTo>
              </a:path>
              <a:path w="1589" h="572">
                <a:moveTo>
                  <a:pt x="7838" y="9302"/>
                </a:moveTo>
                <a:cubicBezTo>
                  <a:pt x="7871" y="9318"/>
                  <a:pt x="7827" y="9346"/>
                  <a:pt x="7813" y="9401"/>
                </a:cubicBezTo>
                <a:cubicBezTo>
                  <a:pt x="7800" y="9452"/>
                  <a:pt x="7777" y="9505"/>
                  <a:pt x="7764" y="9550"/>
                </a:cubicBezTo>
                <a:cubicBezTo>
                  <a:pt x="7764" y="9558"/>
                  <a:pt x="7764" y="9567"/>
                  <a:pt x="7764" y="9575"/>
                </a:cubicBezTo>
                <a:cubicBezTo>
                  <a:pt x="7808" y="9530"/>
                  <a:pt x="7840" y="9485"/>
                  <a:pt x="7863" y="9426"/>
                </a:cubicBezTo>
                <a:cubicBezTo>
                  <a:pt x="7888" y="9361"/>
                  <a:pt x="7928" y="9303"/>
                  <a:pt x="7962" y="9252"/>
                </a:cubicBezTo>
                <a:cubicBezTo>
                  <a:pt x="7970" y="9244"/>
                  <a:pt x="7979" y="9235"/>
                  <a:pt x="7987" y="9227"/>
                </a:cubicBezTo>
                <a:cubicBezTo>
                  <a:pt x="7987" y="9285"/>
                  <a:pt x="7987" y="9343"/>
                  <a:pt x="7987" y="9401"/>
                </a:cubicBezTo>
                <a:cubicBezTo>
                  <a:pt x="8032" y="9401"/>
                  <a:pt x="8089" y="9364"/>
                  <a:pt x="8111" y="9327"/>
                </a:cubicBezTo>
                <a:cubicBezTo>
                  <a:pt x="8144" y="9271"/>
                  <a:pt x="8153" y="9148"/>
                  <a:pt x="8186" y="9103"/>
                </a:cubicBezTo>
                <a:cubicBezTo>
                  <a:pt x="8194" y="9103"/>
                  <a:pt x="8202" y="9103"/>
                  <a:pt x="8210" y="9103"/>
                </a:cubicBezTo>
                <a:cubicBezTo>
                  <a:pt x="8210" y="9185"/>
                  <a:pt x="8217" y="9272"/>
                  <a:pt x="8235" y="9351"/>
                </a:cubicBezTo>
                <a:cubicBezTo>
                  <a:pt x="8243" y="9376"/>
                  <a:pt x="8252" y="9401"/>
                  <a:pt x="8260" y="94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56160" y="3483000"/>
            <a:ext cx="27000" cy="34920"/>
          </a:xfrm>
          <a:custGeom>
            <a:avLst/>
            <a:gdLst/>
            <a:ahLst/>
            <a:rect l="l" t="t" r="r" b="b"/>
            <a:pathLst>
              <a:path w="75" h="100">
                <a:moveTo>
                  <a:pt x="15156" y="9699"/>
                </a:moveTo>
                <a:cubicBezTo>
                  <a:pt x="15166" y="9729"/>
                  <a:pt x="15212" y="9726"/>
                  <a:pt x="15230" y="9699"/>
                </a:cubicBezTo>
                <a:cubicBezTo>
                  <a:pt x="15230" y="9691"/>
                  <a:pt x="15230" y="9682"/>
                  <a:pt x="15230" y="9674"/>
                </a:cubicBezTo>
                <a:cubicBezTo>
                  <a:pt x="15219" y="9717"/>
                  <a:pt x="15189" y="9739"/>
                  <a:pt x="15156" y="97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43720" y="3367080"/>
            <a:ext cx="607680" cy="241200"/>
          </a:xfrm>
          <a:custGeom>
            <a:avLst/>
            <a:gdLst/>
            <a:ahLst/>
            <a:rect l="l" t="t" r="r" b="b"/>
            <a:pathLst>
              <a:path w="1687" h="671">
                <a:moveTo>
                  <a:pt x="15825" y="9376"/>
                </a:moveTo>
                <a:cubicBezTo>
                  <a:pt x="15803" y="9353"/>
                  <a:pt x="15798" y="9345"/>
                  <a:pt x="15776" y="9351"/>
                </a:cubicBezTo>
                <a:cubicBezTo>
                  <a:pt x="15765" y="9439"/>
                  <a:pt x="15745" y="9537"/>
                  <a:pt x="15726" y="9624"/>
                </a:cubicBezTo>
                <a:cubicBezTo>
                  <a:pt x="15709" y="9704"/>
                  <a:pt x="15677" y="9764"/>
                  <a:pt x="15677" y="9847"/>
                </a:cubicBezTo>
              </a:path>
              <a:path w="1687" h="671">
                <a:moveTo>
                  <a:pt x="16272" y="9475"/>
                </a:moveTo>
                <a:cubicBezTo>
                  <a:pt x="16264" y="9475"/>
                  <a:pt x="16255" y="9475"/>
                  <a:pt x="16247" y="9475"/>
                </a:cubicBezTo>
                <a:cubicBezTo>
                  <a:pt x="16247" y="9489"/>
                  <a:pt x="16257" y="9497"/>
                  <a:pt x="16297" y="9475"/>
                </a:cubicBezTo>
                <a:cubicBezTo>
                  <a:pt x="16325" y="9460"/>
                  <a:pt x="16383" y="9431"/>
                  <a:pt x="16421" y="9451"/>
                </a:cubicBezTo>
                <a:cubicBezTo>
                  <a:pt x="16483" y="9484"/>
                  <a:pt x="16435" y="9605"/>
                  <a:pt x="16421" y="9649"/>
                </a:cubicBezTo>
                <a:cubicBezTo>
                  <a:pt x="16394" y="9736"/>
                  <a:pt x="16323" y="9818"/>
                  <a:pt x="16247" y="9872"/>
                </a:cubicBezTo>
                <a:cubicBezTo>
                  <a:pt x="16201" y="9905"/>
                  <a:pt x="16153" y="9922"/>
                  <a:pt x="16098" y="9922"/>
                </a:cubicBezTo>
                <a:cubicBezTo>
                  <a:pt x="16098" y="9854"/>
                  <a:pt x="16085" y="9783"/>
                  <a:pt x="16123" y="9723"/>
                </a:cubicBezTo>
                <a:cubicBezTo>
                  <a:pt x="16142" y="9692"/>
                  <a:pt x="16216" y="9684"/>
                  <a:pt x="16247" y="9699"/>
                </a:cubicBezTo>
                <a:cubicBezTo>
                  <a:pt x="16274" y="9712"/>
                  <a:pt x="16351" y="9796"/>
                  <a:pt x="16371" y="9823"/>
                </a:cubicBezTo>
                <a:cubicBezTo>
                  <a:pt x="16406" y="9872"/>
                  <a:pt x="16392" y="9884"/>
                  <a:pt x="16446" y="9897"/>
                </a:cubicBezTo>
              </a:path>
              <a:path w="1687" h="671">
                <a:moveTo>
                  <a:pt x="16842" y="9599"/>
                </a:moveTo>
                <a:cubicBezTo>
                  <a:pt x="16842" y="9532"/>
                  <a:pt x="16821" y="9669"/>
                  <a:pt x="16818" y="9674"/>
                </a:cubicBezTo>
                <a:cubicBezTo>
                  <a:pt x="16797" y="9715"/>
                  <a:pt x="16765" y="9786"/>
                  <a:pt x="16743" y="9823"/>
                </a:cubicBezTo>
                <a:cubicBezTo>
                  <a:pt x="16720" y="9861"/>
                  <a:pt x="16718" y="9851"/>
                  <a:pt x="16718" y="9897"/>
                </a:cubicBezTo>
                <a:cubicBezTo>
                  <a:pt x="16760" y="9855"/>
                  <a:pt x="16784" y="9819"/>
                  <a:pt x="16818" y="9773"/>
                </a:cubicBezTo>
                <a:cubicBezTo>
                  <a:pt x="16855" y="9722"/>
                  <a:pt x="16901" y="9671"/>
                  <a:pt x="16942" y="9624"/>
                </a:cubicBezTo>
                <a:cubicBezTo>
                  <a:pt x="16966" y="9599"/>
                  <a:pt x="16974" y="9591"/>
                  <a:pt x="16991" y="9575"/>
                </a:cubicBezTo>
                <a:cubicBezTo>
                  <a:pt x="16991" y="9624"/>
                  <a:pt x="16965" y="9748"/>
                  <a:pt x="17016" y="9773"/>
                </a:cubicBezTo>
                <a:cubicBezTo>
                  <a:pt x="17066" y="9798"/>
                  <a:pt x="17114" y="9724"/>
                  <a:pt x="17140" y="9699"/>
                </a:cubicBezTo>
                <a:cubicBezTo>
                  <a:pt x="17185" y="9654"/>
                  <a:pt x="17229" y="9589"/>
                  <a:pt x="17289" y="9575"/>
                </a:cubicBezTo>
                <a:cubicBezTo>
                  <a:pt x="17289" y="9648"/>
                  <a:pt x="17311" y="9700"/>
                  <a:pt x="17314" y="9773"/>
                </a:cubicBezTo>
                <a:cubicBezTo>
                  <a:pt x="17317" y="9842"/>
                  <a:pt x="17309" y="9934"/>
                  <a:pt x="17338" y="9996"/>
                </a:cubicBezTo>
                <a:cubicBezTo>
                  <a:pt x="17346" y="10004"/>
                  <a:pt x="17355" y="10013"/>
                  <a:pt x="17363" y="100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63800" y="3813120"/>
            <a:ext cx="393480" cy="330120"/>
          </a:xfrm>
          <a:custGeom>
            <a:avLst/>
            <a:gdLst/>
            <a:ahLst/>
            <a:rect l="l" t="t" r="r" b="b"/>
            <a:pathLst>
              <a:path w="1092" h="918">
                <a:moveTo>
                  <a:pt x="5531" y="10815"/>
                </a:moveTo>
                <a:cubicBezTo>
                  <a:pt x="5591" y="10835"/>
                  <a:pt x="5540" y="10888"/>
                  <a:pt x="5531" y="10939"/>
                </a:cubicBezTo>
                <a:cubicBezTo>
                  <a:pt x="5516" y="11028"/>
                  <a:pt x="5492" y="11123"/>
                  <a:pt x="5482" y="11212"/>
                </a:cubicBezTo>
                <a:cubicBezTo>
                  <a:pt x="5473" y="11291"/>
                  <a:pt x="5457" y="11354"/>
                  <a:pt x="5457" y="11435"/>
                </a:cubicBezTo>
                <a:cubicBezTo>
                  <a:pt x="5457" y="11443"/>
                  <a:pt x="5457" y="11452"/>
                  <a:pt x="5457" y="11460"/>
                </a:cubicBezTo>
                <a:cubicBezTo>
                  <a:pt x="5520" y="11367"/>
                  <a:pt x="5513" y="11294"/>
                  <a:pt x="5531" y="11187"/>
                </a:cubicBezTo>
                <a:cubicBezTo>
                  <a:pt x="5552" y="11068"/>
                  <a:pt x="5555" y="10952"/>
                  <a:pt x="5606" y="10840"/>
                </a:cubicBezTo>
                <a:cubicBezTo>
                  <a:pt x="5631" y="10790"/>
                  <a:pt x="5639" y="10774"/>
                  <a:pt x="5680" y="10765"/>
                </a:cubicBezTo>
                <a:cubicBezTo>
                  <a:pt x="5750" y="10765"/>
                  <a:pt x="5770" y="10792"/>
                  <a:pt x="5804" y="10864"/>
                </a:cubicBezTo>
                <a:cubicBezTo>
                  <a:pt x="5858" y="10978"/>
                  <a:pt x="5870" y="11117"/>
                  <a:pt x="5904" y="11237"/>
                </a:cubicBezTo>
                <a:cubicBezTo>
                  <a:pt x="5925" y="11312"/>
                  <a:pt x="5953" y="11357"/>
                  <a:pt x="5953" y="11435"/>
                </a:cubicBezTo>
              </a:path>
              <a:path w="1092" h="918">
                <a:moveTo>
                  <a:pt x="5606" y="11311"/>
                </a:moveTo>
                <a:cubicBezTo>
                  <a:pt x="5545" y="11311"/>
                  <a:pt x="5662" y="11339"/>
                  <a:pt x="5680" y="11336"/>
                </a:cubicBezTo>
                <a:cubicBezTo>
                  <a:pt x="5780" y="11318"/>
                  <a:pt x="5881" y="11300"/>
                  <a:pt x="5978" y="11261"/>
                </a:cubicBezTo>
                <a:cubicBezTo>
                  <a:pt x="5995" y="11253"/>
                  <a:pt x="6011" y="11245"/>
                  <a:pt x="6028" y="11237"/>
                </a:cubicBezTo>
              </a:path>
              <a:path w="1092" h="918">
                <a:moveTo>
                  <a:pt x="6350" y="10592"/>
                </a:moveTo>
                <a:cubicBezTo>
                  <a:pt x="6371" y="10605"/>
                  <a:pt x="6395" y="10695"/>
                  <a:pt x="6400" y="10740"/>
                </a:cubicBezTo>
                <a:cubicBezTo>
                  <a:pt x="6413" y="10871"/>
                  <a:pt x="6433" y="10985"/>
                  <a:pt x="6474" y="11112"/>
                </a:cubicBezTo>
                <a:cubicBezTo>
                  <a:pt x="6498" y="11186"/>
                  <a:pt x="6529" y="11270"/>
                  <a:pt x="6548" y="11336"/>
                </a:cubicBezTo>
                <a:cubicBezTo>
                  <a:pt x="6562" y="11386"/>
                  <a:pt x="6519" y="11306"/>
                  <a:pt x="6499" y="11286"/>
                </a:cubicBezTo>
                <a:cubicBezTo>
                  <a:pt x="6469" y="11256"/>
                  <a:pt x="6425" y="11199"/>
                  <a:pt x="6375" y="11212"/>
                </a:cubicBezTo>
                <a:cubicBezTo>
                  <a:pt x="6322" y="11226"/>
                  <a:pt x="6258" y="11285"/>
                  <a:pt x="6251" y="11336"/>
                </a:cubicBezTo>
                <a:cubicBezTo>
                  <a:pt x="6245" y="11380"/>
                  <a:pt x="6251" y="11485"/>
                  <a:pt x="6300" y="11509"/>
                </a:cubicBezTo>
                <a:cubicBezTo>
                  <a:pt x="6334" y="11526"/>
                  <a:pt x="6437" y="11509"/>
                  <a:pt x="6474" y="115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73200" y="3786120"/>
            <a:ext cx="108000" cy="312840"/>
          </a:xfrm>
          <a:custGeom>
            <a:avLst/>
            <a:gdLst/>
            <a:ahLst/>
            <a:rect l="l" t="t" r="r" b="b"/>
            <a:pathLst>
              <a:path w="299" h="869">
                <a:moveTo>
                  <a:pt x="6921" y="10517"/>
                </a:moveTo>
                <a:cubicBezTo>
                  <a:pt x="6949" y="10576"/>
                  <a:pt x="6986" y="10692"/>
                  <a:pt x="6995" y="10765"/>
                </a:cubicBezTo>
                <a:cubicBezTo>
                  <a:pt x="7010" y="10886"/>
                  <a:pt x="7048" y="10993"/>
                  <a:pt x="7069" y="11112"/>
                </a:cubicBezTo>
                <a:cubicBezTo>
                  <a:pt x="7076" y="11152"/>
                  <a:pt x="7119" y="11248"/>
                  <a:pt x="7094" y="11212"/>
                </a:cubicBezTo>
                <a:cubicBezTo>
                  <a:pt x="7082" y="11196"/>
                  <a:pt x="7015" y="11146"/>
                  <a:pt x="6995" y="11137"/>
                </a:cubicBezTo>
                <a:cubicBezTo>
                  <a:pt x="6951" y="11117"/>
                  <a:pt x="6922" y="11161"/>
                  <a:pt x="6896" y="11187"/>
                </a:cubicBezTo>
                <a:cubicBezTo>
                  <a:pt x="6870" y="11214"/>
                  <a:pt x="6854" y="11296"/>
                  <a:pt x="6871" y="11336"/>
                </a:cubicBezTo>
                <a:cubicBezTo>
                  <a:pt x="6893" y="11390"/>
                  <a:pt x="6972" y="11398"/>
                  <a:pt x="7020" y="11385"/>
                </a:cubicBezTo>
                <a:cubicBezTo>
                  <a:pt x="7069" y="11372"/>
                  <a:pt x="7123" y="11334"/>
                  <a:pt x="7169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19240" y="3813120"/>
            <a:ext cx="536760" cy="268200"/>
          </a:xfrm>
          <a:custGeom>
            <a:avLst/>
            <a:gdLst/>
            <a:ahLst/>
            <a:rect l="l" t="t" r="r" b="b"/>
            <a:pathLst>
              <a:path w="1489" h="745">
                <a:moveTo>
                  <a:pt x="8186" y="11212"/>
                </a:moveTo>
                <a:cubicBezTo>
                  <a:pt x="8145" y="11226"/>
                  <a:pt x="8161" y="11246"/>
                  <a:pt x="8161" y="11187"/>
                </a:cubicBezTo>
                <a:cubicBezTo>
                  <a:pt x="8132" y="11225"/>
                  <a:pt x="8136" y="11238"/>
                  <a:pt x="8136" y="11286"/>
                </a:cubicBezTo>
                <a:cubicBezTo>
                  <a:pt x="8136" y="11346"/>
                  <a:pt x="8177" y="11298"/>
                  <a:pt x="8186" y="11286"/>
                </a:cubicBezTo>
                <a:cubicBezTo>
                  <a:pt x="8217" y="11244"/>
                  <a:pt x="8225" y="11214"/>
                  <a:pt x="8186" y="11187"/>
                </a:cubicBezTo>
                <a:cubicBezTo>
                  <a:pt x="8161" y="11195"/>
                  <a:pt x="8126" y="11249"/>
                  <a:pt x="8111" y="11286"/>
                </a:cubicBezTo>
                <a:cubicBezTo>
                  <a:pt x="8111" y="11314"/>
                  <a:pt x="8113" y="11325"/>
                  <a:pt x="8136" y="11336"/>
                </a:cubicBezTo>
              </a:path>
              <a:path w="1489" h="745">
                <a:moveTo>
                  <a:pt x="8582" y="10765"/>
                </a:moveTo>
                <a:cubicBezTo>
                  <a:pt x="8574" y="10749"/>
                  <a:pt x="8566" y="10732"/>
                  <a:pt x="8558" y="10716"/>
                </a:cubicBezTo>
                <a:cubicBezTo>
                  <a:pt x="8504" y="10733"/>
                  <a:pt x="8510" y="10828"/>
                  <a:pt x="8508" y="10889"/>
                </a:cubicBezTo>
                <a:cubicBezTo>
                  <a:pt x="8505" y="10987"/>
                  <a:pt x="8512" y="11151"/>
                  <a:pt x="8607" y="11212"/>
                </a:cubicBezTo>
                <a:cubicBezTo>
                  <a:pt x="8700" y="11271"/>
                  <a:pt x="8810" y="11192"/>
                  <a:pt x="8855" y="11112"/>
                </a:cubicBezTo>
                <a:cubicBezTo>
                  <a:pt x="8908" y="11017"/>
                  <a:pt x="8927" y="10890"/>
                  <a:pt x="8880" y="10790"/>
                </a:cubicBezTo>
                <a:cubicBezTo>
                  <a:pt x="8865" y="10758"/>
                  <a:pt x="8749" y="10593"/>
                  <a:pt x="8706" y="10592"/>
                </a:cubicBezTo>
                <a:cubicBezTo>
                  <a:pt x="8706" y="10600"/>
                  <a:pt x="8706" y="10608"/>
                  <a:pt x="8706" y="10616"/>
                </a:cubicBezTo>
              </a:path>
              <a:path w="1489" h="745">
                <a:moveTo>
                  <a:pt x="9203" y="10616"/>
                </a:moveTo>
                <a:cubicBezTo>
                  <a:pt x="9280" y="10627"/>
                  <a:pt x="9320" y="10684"/>
                  <a:pt x="9351" y="10765"/>
                </a:cubicBezTo>
                <a:cubicBezTo>
                  <a:pt x="9396" y="10881"/>
                  <a:pt x="9376" y="11016"/>
                  <a:pt x="9376" y="11137"/>
                </a:cubicBezTo>
                <a:cubicBezTo>
                  <a:pt x="9376" y="11205"/>
                  <a:pt x="9379" y="11224"/>
                  <a:pt x="9351" y="11261"/>
                </a:cubicBezTo>
                <a:cubicBezTo>
                  <a:pt x="9267" y="11261"/>
                  <a:pt x="9246" y="11258"/>
                  <a:pt x="9227" y="11162"/>
                </a:cubicBezTo>
                <a:cubicBezTo>
                  <a:pt x="9210" y="11079"/>
                  <a:pt x="9224" y="11026"/>
                  <a:pt x="9302" y="11013"/>
                </a:cubicBezTo>
                <a:cubicBezTo>
                  <a:pt x="9367" y="11002"/>
                  <a:pt x="9441" y="11093"/>
                  <a:pt x="9475" y="11137"/>
                </a:cubicBezTo>
                <a:cubicBezTo>
                  <a:pt x="9517" y="11191"/>
                  <a:pt x="9551" y="11237"/>
                  <a:pt x="9599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51200" y="3786120"/>
            <a:ext cx="480960" cy="304920"/>
          </a:xfrm>
          <a:custGeom>
            <a:avLst/>
            <a:gdLst/>
            <a:ahLst/>
            <a:rect l="l" t="t" r="r" b="b"/>
            <a:pathLst>
              <a:path w="1340" h="845">
                <a:moveTo>
                  <a:pt x="10468" y="11038"/>
                </a:moveTo>
                <a:cubicBezTo>
                  <a:pt x="10468" y="11104"/>
                  <a:pt x="10447" y="11148"/>
                  <a:pt x="10443" y="11212"/>
                </a:cubicBezTo>
                <a:cubicBezTo>
                  <a:pt x="10440" y="11268"/>
                  <a:pt x="10426" y="11280"/>
                  <a:pt x="10418" y="11336"/>
                </a:cubicBezTo>
                <a:cubicBezTo>
                  <a:pt x="10418" y="11377"/>
                  <a:pt x="10454" y="11317"/>
                  <a:pt x="10468" y="11286"/>
                </a:cubicBezTo>
                <a:cubicBezTo>
                  <a:pt x="10510" y="11197"/>
                  <a:pt x="10524" y="11137"/>
                  <a:pt x="10592" y="11063"/>
                </a:cubicBezTo>
                <a:cubicBezTo>
                  <a:pt x="10622" y="11030"/>
                  <a:pt x="10649" y="11021"/>
                  <a:pt x="10691" y="11013"/>
                </a:cubicBezTo>
                <a:cubicBezTo>
                  <a:pt x="10726" y="11060"/>
                  <a:pt x="10716" y="11100"/>
                  <a:pt x="10716" y="11162"/>
                </a:cubicBezTo>
                <a:cubicBezTo>
                  <a:pt x="10716" y="11203"/>
                  <a:pt x="10716" y="11245"/>
                  <a:pt x="10716" y="11286"/>
                </a:cubicBezTo>
                <a:cubicBezTo>
                  <a:pt x="10795" y="11266"/>
                  <a:pt x="10774" y="11199"/>
                  <a:pt x="10815" y="11137"/>
                </a:cubicBezTo>
                <a:cubicBezTo>
                  <a:pt x="10847" y="11089"/>
                  <a:pt x="10911" y="10990"/>
                  <a:pt x="10964" y="10964"/>
                </a:cubicBezTo>
                <a:cubicBezTo>
                  <a:pt x="10972" y="10964"/>
                  <a:pt x="10980" y="10964"/>
                  <a:pt x="10988" y="10964"/>
                </a:cubicBezTo>
                <a:cubicBezTo>
                  <a:pt x="11017" y="11041"/>
                  <a:pt x="10993" y="11110"/>
                  <a:pt x="11013" y="11187"/>
                </a:cubicBezTo>
                <a:cubicBezTo>
                  <a:pt x="11023" y="11224"/>
                  <a:pt x="11075" y="11337"/>
                  <a:pt x="11137" y="11286"/>
                </a:cubicBezTo>
                <a:cubicBezTo>
                  <a:pt x="11189" y="11243"/>
                  <a:pt x="11251" y="11175"/>
                  <a:pt x="11286" y="11112"/>
                </a:cubicBezTo>
                <a:cubicBezTo>
                  <a:pt x="11306" y="11072"/>
                  <a:pt x="11315" y="11066"/>
                  <a:pt x="11311" y="11038"/>
                </a:cubicBezTo>
                <a:cubicBezTo>
                  <a:pt x="11298" y="11101"/>
                  <a:pt x="11266" y="11146"/>
                  <a:pt x="11261" y="11212"/>
                </a:cubicBezTo>
                <a:cubicBezTo>
                  <a:pt x="11256" y="11275"/>
                  <a:pt x="11317" y="11261"/>
                  <a:pt x="11361" y="11261"/>
                </a:cubicBezTo>
                <a:cubicBezTo>
                  <a:pt x="11443" y="11261"/>
                  <a:pt x="11435" y="11235"/>
                  <a:pt x="11435" y="11162"/>
                </a:cubicBezTo>
                <a:cubicBezTo>
                  <a:pt x="11435" y="11113"/>
                  <a:pt x="11373" y="11095"/>
                  <a:pt x="11336" y="11088"/>
                </a:cubicBezTo>
                <a:cubicBezTo>
                  <a:pt x="11291" y="11079"/>
                  <a:pt x="11277" y="11073"/>
                  <a:pt x="11237" y="11063"/>
                </a:cubicBezTo>
              </a:path>
              <a:path w="1340" h="845">
                <a:moveTo>
                  <a:pt x="11733" y="10542"/>
                </a:moveTo>
                <a:cubicBezTo>
                  <a:pt x="11741" y="10534"/>
                  <a:pt x="11749" y="10525"/>
                  <a:pt x="11757" y="10517"/>
                </a:cubicBezTo>
                <a:cubicBezTo>
                  <a:pt x="11757" y="10582"/>
                  <a:pt x="11745" y="10653"/>
                  <a:pt x="11733" y="10716"/>
                </a:cubicBezTo>
                <a:cubicBezTo>
                  <a:pt x="11709" y="10845"/>
                  <a:pt x="11694" y="10983"/>
                  <a:pt x="11683" y="11112"/>
                </a:cubicBezTo>
                <a:cubicBezTo>
                  <a:pt x="11675" y="11197"/>
                  <a:pt x="11681" y="11238"/>
                  <a:pt x="11708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62640" y="3857760"/>
            <a:ext cx="403200" cy="233280"/>
          </a:xfrm>
          <a:custGeom>
            <a:avLst/>
            <a:gdLst/>
            <a:ahLst/>
            <a:rect l="l" t="t" r="r" b="b"/>
            <a:pathLst>
              <a:path w="1117" h="646">
                <a:moveTo>
                  <a:pt x="12923" y="10790"/>
                </a:moveTo>
                <a:cubicBezTo>
                  <a:pt x="12806" y="10843"/>
                  <a:pt x="12748" y="10911"/>
                  <a:pt x="12700" y="11038"/>
                </a:cubicBezTo>
                <a:cubicBezTo>
                  <a:pt x="12668" y="11123"/>
                  <a:pt x="12637" y="11277"/>
                  <a:pt x="12725" y="11336"/>
                </a:cubicBezTo>
                <a:cubicBezTo>
                  <a:pt x="12815" y="11397"/>
                  <a:pt x="12945" y="11315"/>
                  <a:pt x="12998" y="11237"/>
                </a:cubicBezTo>
                <a:cubicBezTo>
                  <a:pt x="13055" y="11152"/>
                  <a:pt x="13077" y="11008"/>
                  <a:pt x="13022" y="10914"/>
                </a:cubicBezTo>
                <a:cubicBezTo>
                  <a:pt x="12986" y="10853"/>
                  <a:pt x="12941" y="10804"/>
                  <a:pt x="12874" y="10790"/>
                </a:cubicBezTo>
              </a:path>
              <a:path w="1117" h="646">
                <a:moveTo>
                  <a:pt x="13370" y="10716"/>
                </a:moveTo>
                <a:cubicBezTo>
                  <a:pt x="13335" y="10837"/>
                  <a:pt x="13299" y="10935"/>
                  <a:pt x="13295" y="11063"/>
                </a:cubicBezTo>
                <a:cubicBezTo>
                  <a:pt x="13293" y="11129"/>
                  <a:pt x="13295" y="11195"/>
                  <a:pt x="13295" y="11261"/>
                </a:cubicBezTo>
              </a:path>
              <a:path w="1117" h="646">
                <a:moveTo>
                  <a:pt x="13320" y="10939"/>
                </a:moveTo>
                <a:cubicBezTo>
                  <a:pt x="13332" y="11019"/>
                  <a:pt x="13339" y="11013"/>
                  <a:pt x="13419" y="11013"/>
                </a:cubicBezTo>
                <a:cubicBezTo>
                  <a:pt x="13526" y="11013"/>
                  <a:pt x="13548" y="11011"/>
                  <a:pt x="13643" y="10964"/>
                </a:cubicBezTo>
              </a:path>
              <a:path w="1117" h="646">
                <a:moveTo>
                  <a:pt x="13791" y="10740"/>
                </a:moveTo>
                <a:cubicBezTo>
                  <a:pt x="13791" y="10732"/>
                  <a:pt x="13791" y="10724"/>
                  <a:pt x="13791" y="10716"/>
                </a:cubicBezTo>
                <a:cubicBezTo>
                  <a:pt x="13722" y="10733"/>
                  <a:pt x="13678" y="10817"/>
                  <a:pt x="13667" y="10889"/>
                </a:cubicBezTo>
                <a:cubicBezTo>
                  <a:pt x="13650" y="10994"/>
                  <a:pt x="13655" y="11137"/>
                  <a:pt x="13692" y="11237"/>
                </a:cubicBezTo>
                <a:cubicBezTo>
                  <a:pt x="13700" y="11253"/>
                  <a:pt x="13709" y="11270"/>
                  <a:pt x="13717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6960" y="3813120"/>
            <a:ext cx="144360" cy="36720"/>
          </a:xfrm>
          <a:custGeom>
            <a:avLst/>
            <a:gdLst/>
            <a:ahLst/>
            <a:rect l="l" t="t" r="r" b="b"/>
            <a:pathLst>
              <a:path w="398" h="100">
                <a:moveTo>
                  <a:pt x="14188" y="10691"/>
                </a:moveTo>
                <a:cubicBezTo>
                  <a:pt x="14247" y="10640"/>
                  <a:pt x="14280" y="10620"/>
                  <a:pt x="14362" y="10616"/>
                </a:cubicBezTo>
                <a:cubicBezTo>
                  <a:pt x="14442" y="10612"/>
                  <a:pt x="14504" y="10592"/>
                  <a:pt x="14585" y="105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4483080"/>
            <a:ext cx="268200" cy="17640"/>
          </a:xfrm>
          <a:custGeom>
            <a:avLst/>
            <a:gdLst/>
            <a:ahLst/>
            <a:rect l="l" t="t" r="r" b="b"/>
            <a:pathLst>
              <a:path w="745" h="51">
                <a:moveTo>
                  <a:pt x="3770" y="12477"/>
                </a:moveTo>
                <a:cubicBezTo>
                  <a:pt x="3762" y="12477"/>
                  <a:pt x="3754" y="12477"/>
                  <a:pt x="3746" y="12477"/>
                </a:cubicBezTo>
                <a:cubicBezTo>
                  <a:pt x="3805" y="12431"/>
                  <a:pt x="3893" y="12452"/>
                  <a:pt x="3969" y="12452"/>
                </a:cubicBezTo>
                <a:cubicBezTo>
                  <a:pt x="4111" y="12452"/>
                  <a:pt x="4247" y="12477"/>
                  <a:pt x="4390" y="12477"/>
                </a:cubicBezTo>
                <a:cubicBezTo>
                  <a:pt x="4452" y="12477"/>
                  <a:pt x="4467" y="12468"/>
                  <a:pt x="4490" y="125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76880" y="4606920"/>
            <a:ext cx="63360" cy="28440"/>
          </a:xfrm>
          <a:custGeom>
            <a:avLst/>
            <a:gdLst/>
            <a:ahLst/>
            <a:rect l="l" t="t" r="r" b="b"/>
            <a:pathLst>
              <a:path w="174" h="76">
                <a:moveTo>
                  <a:pt x="14660" y="12874"/>
                </a:moveTo>
                <a:cubicBezTo>
                  <a:pt x="14696" y="12865"/>
                  <a:pt x="14751" y="12788"/>
                  <a:pt x="14759" y="12849"/>
                </a:cubicBezTo>
                <a:cubicBezTo>
                  <a:pt x="14759" y="12857"/>
                  <a:pt x="14759" y="12866"/>
                  <a:pt x="14759" y="12874"/>
                </a:cubicBezTo>
                <a:cubicBezTo>
                  <a:pt x="14759" y="12849"/>
                  <a:pt x="14759" y="12841"/>
                  <a:pt x="14759" y="12824"/>
                </a:cubicBezTo>
                <a:cubicBezTo>
                  <a:pt x="14791" y="12824"/>
                  <a:pt x="14858" y="12824"/>
                  <a:pt x="14808" y="127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99080" y="4303800"/>
            <a:ext cx="768240" cy="331560"/>
          </a:xfrm>
          <a:custGeom>
            <a:avLst/>
            <a:gdLst/>
            <a:ahLst/>
            <a:rect l="l" t="t" r="r" b="b"/>
            <a:pathLst>
              <a:path w="2134" h="919">
                <a:moveTo>
                  <a:pt x="15577" y="12303"/>
                </a:moveTo>
                <a:cubicBezTo>
                  <a:pt x="15602" y="12303"/>
                  <a:pt x="15610" y="12303"/>
                  <a:pt x="15627" y="12303"/>
                </a:cubicBezTo>
                <a:cubicBezTo>
                  <a:pt x="15627" y="12383"/>
                  <a:pt x="15620" y="12446"/>
                  <a:pt x="15602" y="12526"/>
                </a:cubicBezTo>
                <a:cubicBezTo>
                  <a:pt x="15577" y="12634"/>
                  <a:pt x="15571" y="12741"/>
                  <a:pt x="15553" y="12849"/>
                </a:cubicBezTo>
                <a:cubicBezTo>
                  <a:pt x="15553" y="12874"/>
                  <a:pt x="15553" y="12882"/>
                  <a:pt x="15577" y="12874"/>
                </a:cubicBezTo>
              </a:path>
              <a:path w="2134" h="919">
                <a:moveTo>
                  <a:pt x="16049" y="12278"/>
                </a:moveTo>
                <a:cubicBezTo>
                  <a:pt x="16095" y="12278"/>
                  <a:pt x="16121" y="12286"/>
                  <a:pt x="16148" y="12328"/>
                </a:cubicBezTo>
                <a:cubicBezTo>
                  <a:pt x="16194" y="12399"/>
                  <a:pt x="16233" y="12490"/>
                  <a:pt x="16222" y="12576"/>
                </a:cubicBezTo>
                <a:cubicBezTo>
                  <a:pt x="16213" y="12647"/>
                  <a:pt x="16165" y="12833"/>
                  <a:pt x="16098" y="12874"/>
                </a:cubicBezTo>
                <a:cubicBezTo>
                  <a:pt x="16004" y="12931"/>
                  <a:pt x="15977" y="12835"/>
                  <a:pt x="15974" y="12774"/>
                </a:cubicBezTo>
                <a:cubicBezTo>
                  <a:pt x="15971" y="12708"/>
                  <a:pt x="16000" y="12600"/>
                  <a:pt x="16073" y="12576"/>
                </a:cubicBezTo>
                <a:cubicBezTo>
                  <a:pt x="16164" y="12546"/>
                  <a:pt x="16177" y="12596"/>
                  <a:pt x="16222" y="12650"/>
                </a:cubicBezTo>
                <a:cubicBezTo>
                  <a:pt x="16270" y="12708"/>
                  <a:pt x="16309" y="12759"/>
                  <a:pt x="16346" y="12824"/>
                </a:cubicBezTo>
              </a:path>
              <a:path w="2134" h="919">
                <a:moveTo>
                  <a:pt x="16570" y="12626"/>
                </a:moveTo>
                <a:cubicBezTo>
                  <a:pt x="16570" y="12684"/>
                  <a:pt x="16570" y="12741"/>
                  <a:pt x="16570" y="12799"/>
                </a:cubicBezTo>
                <a:cubicBezTo>
                  <a:pt x="16584" y="12781"/>
                  <a:pt x="16622" y="12737"/>
                  <a:pt x="16644" y="12700"/>
                </a:cubicBezTo>
                <a:cubicBezTo>
                  <a:pt x="16680" y="12640"/>
                  <a:pt x="16676" y="12656"/>
                  <a:pt x="16718" y="12626"/>
                </a:cubicBezTo>
                <a:cubicBezTo>
                  <a:pt x="16731" y="12648"/>
                  <a:pt x="16732" y="12712"/>
                  <a:pt x="16743" y="12725"/>
                </a:cubicBezTo>
                <a:cubicBezTo>
                  <a:pt x="16776" y="12764"/>
                  <a:pt x="16830" y="12728"/>
                  <a:pt x="16867" y="12700"/>
                </a:cubicBezTo>
                <a:cubicBezTo>
                  <a:pt x="16903" y="12673"/>
                  <a:pt x="16935" y="12633"/>
                  <a:pt x="16966" y="12601"/>
                </a:cubicBezTo>
                <a:cubicBezTo>
                  <a:pt x="16974" y="12658"/>
                  <a:pt x="16985" y="12652"/>
                  <a:pt x="17016" y="12700"/>
                </a:cubicBezTo>
                <a:cubicBezTo>
                  <a:pt x="17037" y="12732"/>
                  <a:pt x="17033" y="12763"/>
                  <a:pt x="17090" y="12750"/>
                </a:cubicBezTo>
                <a:cubicBezTo>
                  <a:pt x="17131" y="12740"/>
                  <a:pt x="17152" y="12724"/>
                  <a:pt x="17140" y="12675"/>
                </a:cubicBezTo>
                <a:cubicBezTo>
                  <a:pt x="17131" y="12637"/>
                  <a:pt x="17121" y="12618"/>
                  <a:pt x="17115" y="12576"/>
                </a:cubicBezTo>
                <a:cubicBezTo>
                  <a:pt x="17168" y="12569"/>
                  <a:pt x="17210" y="12554"/>
                  <a:pt x="17264" y="12551"/>
                </a:cubicBezTo>
                <a:cubicBezTo>
                  <a:pt x="17343" y="12547"/>
                  <a:pt x="17418" y="12553"/>
                  <a:pt x="17487" y="12502"/>
                </a:cubicBezTo>
                <a:cubicBezTo>
                  <a:pt x="17566" y="12444"/>
                  <a:pt x="17627" y="12367"/>
                  <a:pt x="17661" y="12278"/>
                </a:cubicBezTo>
                <a:cubicBezTo>
                  <a:pt x="17696" y="12188"/>
                  <a:pt x="17686" y="12100"/>
                  <a:pt x="17686" y="12005"/>
                </a:cubicBezTo>
                <a:cubicBezTo>
                  <a:pt x="17686" y="11981"/>
                  <a:pt x="17686" y="11972"/>
                  <a:pt x="17686" y="11956"/>
                </a:cubicBezTo>
                <a:cubicBezTo>
                  <a:pt x="17606" y="12035"/>
                  <a:pt x="17569" y="12116"/>
                  <a:pt x="17537" y="12229"/>
                </a:cubicBezTo>
                <a:cubicBezTo>
                  <a:pt x="17501" y="12356"/>
                  <a:pt x="17489" y="12555"/>
                  <a:pt x="17562" y="12675"/>
                </a:cubicBezTo>
                <a:cubicBezTo>
                  <a:pt x="17587" y="12700"/>
                  <a:pt x="17611" y="12725"/>
                  <a:pt x="17636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12920" y="4500720"/>
            <a:ext cx="276120" cy="223560"/>
          </a:xfrm>
          <a:custGeom>
            <a:avLst/>
            <a:gdLst/>
            <a:ahLst/>
            <a:rect l="l" t="t" r="r" b="b"/>
            <a:pathLst>
              <a:path w="770" h="621">
                <a:moveTo>
                  <a:pt x="4142" y="12526"/>
                </a:moveTo>
                <a:cubicBezTo>
                  <a:pt x="4142" y="12477"/>
                  <a:pt x="4142" y="12577"/>
                  <a:pt x="4142" y="12626"/>
                </a:cubicBezTo>
                <a:cubicBezTo>
                  <a:pt x="4142" y="12727"/>
                  <a:pt x="4118" y="12819"/>
                  <a:pt x="4118" y="12923"/>
                </a:cubicBezTo>
                <a:cubicBezTo>
                  <a:pt x="4118" y="12999"/>
                  <a:pt x="4109" y="13035"/>
                  <a:pt x="4093" y="13097"/>
                </a:cubicBezTo>
              </a:path>
              <a:path w="770" h="621">
                <a:moveTo>
                  <a:pt x="3696" y="13047"/>
                </a:moveTo>
                <a:cubicBezTo>
                  <a:pt x="3679" y="13047"/>
                  <a:pt x="3663" y="13047"/>
                  <a:pt x="3646" y="13047"/>
                </a:cubicBezTo>
                <a:cubicBezTo>
                  <a:pt x="3657" y="13063"/>
                  <a:pt x="3752" y="13116"/>
                  <a:pt x="3795" y="13122"/>
                </a:cubicBezTo>
                <a:cubicBezTo>
                  <a:pt x="3973" y="13148"/>
                  <a:pt x="4168" y="13116"/>
                  <a:pt x="4341" y="13097"/>
                </a:cubicBezTo>
                <a:cubicBezTo>
                  <a:pt x="4366" y="13097"/>
                  <a:pt x="4390" y="13097"/>
                  <a:pt x="4415" y="130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16120" y="4633920"/>
            <a:ext cx="27000" cy="36360"/>
          </a:xfrm>
          <a:custGeom>
            <a:avLst/>
            <a:gdLst/>
            <a:ahLst/>
            <a:rect l="l" t="t" r="r" b="b"/>
            <a:pathLst>
              <a:path w="75" h="100">
                <a:moveTo>
                  <a:pt x="7342" y="12948"/>
                </a:moveTo>
                <a:cubicBezTo>
                  <a:pt x="7342" y="12956"/>
                  <a:pt x="7342" y="12965"/>
                  <a:pt x="7342" y="12973"/>
                </a:cubicBezTo>
                <a:cubicBezTo>
                  <a:pt x="7311" y="12963"/>
                  <a:pt x="7307" y="13003"/>
                  <a:pt x="7293" y="12973"/>
                </a:cubicBezTo>
                <a:cubicBezTo>
                  <a:pt x="7264" y="12912"/>
                  <a:pt x="7268" y="12998"/>
                  <a:pt x="7268" y="12948"/>
                </a:cubicBezTo>
                <a:cubicBezTo>
                  <a:pt x="7268" y="12904"/>
                  <a:pt x="7266" y="12909"/>
                  <a:pt x="7293" y="128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30680" y="4456080"/>
            <a:ext cx="822240" cy="223920"/>
          </a:xfrm>
          <a:custGeom>
            <a:avLst/>
            <a:gdLst/>
            <a:ahLst/>
            <a:rect l="l" t="t" r="r" b="b"/>
            <a:pathLst>
              <a:path w="2283" h="621">
                <a:moveTo>
                  <a:pt x="7863" y="12427"/>
                </a:moveTo>
                <a:cubicBezTo>
                  <a:pt x="7895" y="12438"/>
                  <a:pt x="7908" y="12530"/>
                  <a:pt x="7913" y="12576"/>
                </a:cubicBezTo>
                <a:cubicBezTo>
                  <a:pt x="7922" y="12656"/>
                  <a:pt x="7870" y="12975"/>
                  <a:pt x="7938" y="12998"/>
                </a:cubicBezTo>
              </a:path>
              <a:path w="2283" h="621">
                <a:moveTo>
                  <a:pt x="8260" y="12576"/>
                </a:moveTo>
                <a:cubicBezTo>
                  <a:pt x="8260" y="12662"/>
                  <a:pt x="8276" y="12718"/>
                  <a:pt x="8310" y="12799"/>
                </a:cubicBezTo>
                <a:cubicBezTo>
                  <a:pt x="8345" y="12882"/>
                  <a:pt x="8396" y="12918"/>
                  <a:pt x="8483" y="12923"/>
                </a:cubicBezTo>
                <a:cubicBezTo>
                  <a:pt x="8557" y="12927"/>
                  <a:pt x="8579" y="12862"/>
                  <a:pt x="8582" y="12799"/>
                </a:cubicBezTo>
                <a:cubicBezTo>
                  <a:pt x="8585" y="12721"/>
                  <a:pt x="8551" y="12592"/>
                  <a:pt x="8508" y="12526"/>
                </a:cubicBezTo>
                <a:cubicBezTo>
                  <a:pt x="8471" y="12469"/>
                  <a:pt x="8401" y="12409"/>
                  <a:pt x="8334" y="12402"/>
                </a:cubicBezTo>
                <a:cubicBezTo>
                  <a:pt x="8301" y="12402"/>
                  <a:pt x="8293" y="12411"/>
                  <a:pt x="8310" y="12452"/>
                </a:cubicBezTo>
              </a:path>
              <a:path w="2283" h="621">
                <a:moveTo>
                  <a:pt x="9029" y="12675"/>
                </a:moveTo>
                <a:cubicBezTo>
                  <a:pt x="9029" y="12764"/>
                  <a:pt x="9002" y="12903"/>
                  <a:pt x="9054" y="12973"/>
                </a:cubicBezTo>
                <a:cubicBezTo>
                  <a:pt x="9062" y="12940"/>
                  <a:pt x="9089" y="12878"/>
                  <a:pt x="9103" y="12849"/>
                </a:cubicBezTo>
                <a:cubicBezTo>
                  <a:pt x="9119" y="12817"/>
                  <a:pt x="9158" y="12781"/>
                  <a:pt x="9178" y="12774"/>
                </a:cubicBezTo>
                <a:cubicBezTo>
                  <a:pt x="9201" y="12782"/>
                  <a:pt x="9216" y="12816"/>
                  <a:pt x="9227" y="12849"/>
                </a:cubicBezTo>
                <a:cubicBezTo>
                  <a:pt x="9238" y="12884"/>
                  <a:pt x="9242" y="12919"/>
                  <a:pt x="9277" y="12923"/>
                </a:cubicBezTo>
                <a:cubicBezTo>
                  <a:pt x="9311" y="12927"/>
                  <a:pt x="9358" y="12877"/>
                  <a:pt x="9376" y="12849"/>
                </a:cubicBezTo>
                <a:cubicBezTo>
                  <a:pt x="9408" y="12799"/>
                  <a:pt x="9398" y="12787"/>
                  <a:pt x="9451" y="12774"/>
                </a:cubicBezTo>
                <a:cubicBezTo>
                  <a:pt x="9451" y="12825"/>
                  <a:pt x="9468" y="12856"/>
                  <a:pt x="9500" y="12898"/>
                </a:cubicBezTo>
                <a:cubicBezTo>
                  <a:pt x="9519" y="12923"/>
                  <a:pt x="9561" y="12969"/>
                  <a:pt x="9599" y="12948"/>
                </a:cubicBezTo>
                <a:cubicBezTo>
                  <a:pt x="9628" y="12932"/>
                  <a:pt x="9665" y="12876"/>
                  <a:pt x="9674" y="12849"/>
                </a:cubicBezTo>
                <a:cubicBezTo>
                  <a:pt x="9674" y="12841"/>
                  <a:pt x="9674" y="12832"/>
                  <a:pt x="9674" y="12824"/>
                </a:cubicBezTo>
                <a:cubicBezTo>
                  <a:pt x="9684" y="12866"/>
                  <a:pt x="9695" y="12913"/>
                  <a:pt x="9723" y="12948"/>
                </a:cubicBezTo>
                <a:cubicBezTo>
                  <a:pt x="9759" y="12994"/>
                  <a:pt x="9808" y="12983"/>
                  <a:pt x="9823" y="12948"/>
                </a:cubicBezTo>
                <a:cubicBezTo>
                  <a:pt x="9861" y="12863"/>
                  <a:pt x="9840" y="12890"/>
                  <a:pt x="9798" y="12824"/>
                </a:cubicBezTo>
                <a:cubicBezTo>
                  <a:pt x="9761" y="12767"/>
                  <a:pt x="9749" y="12733"/>
                  <a:pt x="9674" y="12725"/>
                </a:cubicBezTo>
                <a:cubicBezTo>
                  <a:pt x="9604" y="12718"/>
                  <a:pt x="9685" y="12764"/>
                  <a:pt x="9699" y="12774"/>
                </a:cubicBezTo>
              </a:path>
              <a:path w="2283" h="621">
                <a:moveTo>
                  <a:pt x="9947" y="12551"/>
                </a:moveTo>
                <a:cubicBezTo>
                  <a:pt x="9963" y="12534"/>
                  <a:pt x="10053" y="12390"/>
                  <a:pt x="10071" y="12378"/>
                </a:cubicBezTo>
                <a:cubicBezTo>
                  <a:pt x="10097" y="12361"/>
                  <a:pt x="10071" y="12425"/>
                  <a:pt x="10071" y="12477"/>
                </a:cubicBezTo>
                <a:cubicBezTo>
                  <a:pt x="10071" y="12583"/>
                  <a:pt x="10067" y="12673"/>
                  <a:pt x="10096" y="12774"/>
                </a:cubicBezTo>
                <a:cubicBezTo>
                  <a:pt x="10118" y="12841"/>
                  <a:pt x="10122" y="12859"/>
                  <a:pt x="10145" y="128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84880" y="4929120"/>
            <a:ext cx="133200" cy="17928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14957" y="13891"/>
                </a:moveTo>
                <a:cubicBezTo>
                  <a:pt x="14985" y="13911"/>
                  <a:pt x="15042" y="13950"/>
                  <a:pt x="15081" y="13940"/>
                </a:cubicBezTo>
                <a:cubicBezTo>
                  <a:pt x="15148" y="13922"/>
                  <a:pt x="15219" y="13882"/>
                  <a:pt x="15280" y="13866"/>
                </a:cubicBezTo>
                <a:cubicBezTo>
                  <a:pt x="15296" y="13866"/>
                  <a:pt x="15313" y="13866"/>
                  <a:pt x="15329" y="13866"/>
                </a:cubicBezTo>
              </a:path>
              <a:path w="373" h="497">
                <a:moveTo>
                  <a:pt x="15205" y="13717"/>
                </a:moveTo>
                <a:cubicBezTo>
                  <a:pt x="15205" y="13692"/>
                  <a:pt x="15205" y="13684"/>
                  <a:pt x="15180" y="13692"/>
                </a:cubicBezTo>
                <a:cubicBezTo>
                  <a:pt x="15180" y="13835"/>
                  <a:pt x="15135" y="14072"/>
                  <a:pt x="15205" y="141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32640" y="4929120"/>
            <a:ext cx="438120" cy="241200"/>
          </a:xfrm>
          <a:custGeom>
            <a:avLst/>
            <a:gdLst/>
            <a:ahLst/>
            <a:rect l="l" t="t" r="r" b="b"/>
            <a:pathLst>
              <a:path w="1216" h="671">
                <a:moveTo>
                  <a:pt x="15999" y="14114"/>
                </a:moveTo>
                <a:cubicBezTo>
                  <a:pt x="15949" y="14114"/>
                  <a:pt x="15937" y="14114"/>
                  <a:pt x="15925" y="14163"/>
                </a:cubicBezTo>
                <a:cubicBezTo>
                  <a:pt x="15959" y="14152"/>
                  <a:pt x="15955" y="14109"/>
                  <a:pt x="15999" y="14089"/>
                </a:cubicBezTo>
                <a:cubicBezTo>
                  <a:pt x="16056" y="14064"/>
                  <a:pt x="16009" y="14079"/>
                  <a:pt x="15974" y="14114"/>
                </a:cubicBezTo>
                <a:cubicBezTo>
                  <a:pt x="15966" y="14122"/>
                  <a:pt x="15957" y="14131"/>
                  <a:pt x="15949" y="14139"/>
                </a:cubicBezTo>
              </a:path>
              <a:path w="1216" h="671">
                <a:moveTo>
                  <a:pt x="16396" y="13816"/>
                </a:moveTo>
                <a:cubicBezTo>
                  <a:pt x="16344" y="13842"/>
                  <a:pt x="16289" y="13897"/>
                  <a:pt x="16272" y="13965"/>
                </a:cubicBezTo>
                <a:cubicBezTo>
                  <a:pt x="16256" y="14029"/>
                  <a:pt x="16271" y="14100"/>
                  <a:pt x="16346" y="14114"/>
                </a:cubicBezTo>
                <a:cubicBezTo>
                  <a:pt x="16414" y="14126"/>
                  <a:pt x="16518" y="14072"/>
                  <a:pt x="16545" y="14015"/>
                </a:cubicBezTo>
                <a:cubicBezTo>
                  <a:pt x="16567" y="13968"/>
                  <a:pt x="16545" y="13857"/>
                  <a:pt x="16520" y="13816"/>
                </a:cubicBezTo>
                <a:cubicBezTo>
                  <a:pt x="16504" y="13790"/>
                  <a:pt x="16468" y="13764"/>
                  <a:pt x="16446" y="13742"/>
                </a:cubicBezTo>
              </a:path>
              <a:path w="1216" h="671">
                <a:moveTo>
                  <a:pt x="16793" y="13692"/>
                </a:moveTo>
                <a:cubicBezTo>
                  <a:pt x="16847" y="13692"/>
                  <a:pt x="16877" y="13682"/>
                  <a:pt x="16917" y="13717"/>
                </a:cubicBezTo>
                <a:cubicBezTo>
                  <a:pt x="16971" y="13765"/>
                  <a:pt x="16993" y="13850"/>
                  <a:pt x="17016" y="13915"/>
                </a:cubicBezTo>
                <a:cubicBezTo>
                  <a:pt x="17043" y="13991"/>
                  <a:pt x="17066" y="14090"/>
                  <a:pt x="17016" y="14163"/>
                </a:cubicBezTo>
                <a:cubicBezTo>
                  <a:pt x="16974" y="14225"/>
                  <a:pt x="16907" y="14254"/>
                  <a:pt x="16842" y="14263"/>
                </a:cubicBezTo>
                <a:cubicBezTo>
                  <a:pt x="16842" y="14213"/>
                  <a:pt x="16833" y="14178"/>
                  <a:pt x="16867" y="14139"/>
                </a:cubicBezTo>
                <a:cubicBezTo>
                  <a:pt x="16910" y="14090"/>
                  <a:pt x="16981" y="14055"/>
                  <a:pt x="17041" y="14114"/>
                </a:cubicBezTo>
                <a:cubicBezTo>
                  <a:pt x="17096" y="14169"/>
                  <a:pt x="17116" y="14292"/>
                  <a:pt x="17140" y="143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65200" y="4946760"/>
            <a:ext cx="249480" cy="260280"/>
          </a:xfrm>
          <a:custGeom>
            <a:avLst/>
            <a:gdLst/>
            <a:ahLst/>
            <a:rect l="l" t="t" r="r" b="b"/>
            <a:pathLst>
              <a:path w="695" h="720">
                <a:moveTo>
                  <a:pt x="4415" y="13891"/>
                </a:moveTo>
                <a:cubicBezTo>
                  <a:pt x="4453" y="13853"/>
                  <a:pt x="4465" y="13844"/>
                  <a:pt x="4465" y="13791"/>
                </a:cubicBezTo>
                <a:cubicBezTo>
                  <a:pt x="4465" y="13761"/>
                  <a:pt x="4422" y="13746"/>
                  <a:pt x="4390" y="13742"/>
                </a:cubicBezTo>
                <a:cubicBezTo>
                  <a:pt x="4318" y="13734"/>
                  <a:pt x="4261" y="13822"/>
                  <a:pt x="4217" y="13866"/>
                </a:cubicBezTo>
                <a:cubicBezTo>
                  <a:pt x="4134" y="13948"/>
                  <a:pt x="4064" y="14089"/>
                  <a:pt x="4068" y="14213"/>
                </a:cubicBezTo>
                <a:cubicBezTo>
                  <a:pt x="4071" y="14304"/>
                  <a:pt x="4147" y="14437"/>
                  <a:pt x="4242" y="14461"/>
                </a:cubicBezTo>
                <a:cubicBezTo>
                  <a:pt x="4373" y="14495"/>
                  <a:pt x="4563" y="14465"/>
                  <a:pt x="4688" y="14436"/>
                </a:cubicBezTo>
                <a:cubicBezTo>
                  <a:pt x="4732" y="14426"/>
                  <a:pt x="4723" y="14441"/>
                  <a:pt x="4762" y="144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51120" y="4973760"/>
            <a:ext cx="803160" cy="233280"/>
          </a:xfrm>
          <a:custGeom>
            <a:avLst/>
            <a:gdLst/>
            <a:ahLst/>
            <a:rect l="l" t="t" r="r" b="b"/>
            <a:pathLst>
              <a:path w="2233" h="646">
                <a:moveTo>
                  <a:pt x="7714" y="14163"/>
                </a:moveTo>
                <a:cubicBezTo>
                  <a:pt x="7694" y="14168"/>
                  <a:pt x="7610" y="14188"/>
                  <a:pt x="7665" y="14188"/>
                </a:cubicBezTo>
                <a:cubicBezTo>
                  <a:pt x="7733" y="14188"/>
                  <a:pt x="7776" y="14190"/>
                  <a:pt x="7838" y="14163"/>
                </a:cubicBezTo>
                <a:cubicBezTo>
                  <a:pt x="7889" y="14141"/>
                  <a:pt x="7968" y="14115"/>
                  <a:pt x="8012" y="14089"/>
                </a:cubicBezTo>
                <a:cubicBezTo>
                  <a:pt x="8020" y="14081"/>
                  <a:pt x="8029" y="14072"/>
                  <a:pt x="8037" y="14064"/>
                </a:cubicBezTo>
              </a:path>
              <a:path w="2233" h="646">
                <a:moveTo>
                  <a:pt x="8533" y="14436"/>
                </a:moveTo>
                <a:cubicBezTo>
                  <a:pt x="8508" y="14436"/>
                  <a:pt x="8500" y="14436"/>
                  <a:pt x="8508" y="14461"/>
                </a:cubicBezTo>
                <a:cubicBezTo>
                  <a:pt x="8508" y="14387"/>
                  <a:pt x="8508" y="14455"/>
                  <a:pt x="8508" y="14412"/>
                </a:cubicBezTo>
                <a:cubicBezTo>
                  <a:pt x="8508" y="14376"/>
                  <a:pt x="8516" y="14401"/>
                  <a:pt x="8483" y="14412"/>
                </a:cubicBezTo>
                <a:cubicBezTo>
                  <a:pt x="8527" y="14397"/>
                  <a:pt x="8498" y="14368"/>
                  <a:pt x="8483" y="14412"/>
                </a:cubicBezTo>
              </a:path>
              <a:path w="2233" h="646">
                <a:moveTo>
                  <a:pt x="8979" y="13990"/>
                </a:moveTo>
                <a:cubicBezTo>
                  <a:pt x="8952" y="14025"/>
                  <a:pt x="8913" y="14093"/>
                  <a:pt x="8905" y="14139"/>
                </a:cubicBezTo>
                <a:cubicBezTo>
                  <a:pt x="8897" y="14184"/>
                  <a:pt x="8890" y="14294"/>
                  <a:pt x="8954" y="14312"/>
                </a:cubicBezTo>
                <a:cubicBezTo>
                  <a:pt x="9023" y="14331"/>
                  <a:pt x="9127" y="14245"/>
                  <a:pt x="9153" y="14188"/>
                </a:cubicBezTo>
                <a:cubicBezTo>
                  <a:pt x="9171" y="14147"/>
                  <a:pt x="9151" y="14068"/>
                  <a:pt x="9128" y="14039"/>
                </a:cubicBezTo>
                <a:cubicBezTo>
                  <a:pt x="9098" y="14002"/>
                  <a:pt x="9018" y="14008"/>
                  <a:pt x="9004" y="13990"/>
                </a:cubicBezTo>
                <a:cubicBezTo>
                  <a:pt x="9004" y="13982"/>
                  <a:pt x="9004" y="13973"/>
                  <a:pt x="9004" y="13965"/>
                </a:cubicBezTo>
              </a:path>
              <a:path w="2233" h="646">
                <a:moveTo>
                  <a:pt x="9401" y="13816"/>
                </a:moveTo>
                <a:cubicBezTo>
                  <a:pt x="9440" y="13822"/>
                  <a:pt x="9525" y="13852"/>
                  <a:pt x="9550" y="13891"/>
                </a:cubicBezTo>
                <a:cubicBezTo>
                  <a:pt x="9596" y="13962"/>
                  <a:pt x="9613" y="14083"/>
                  <a:pt x="9624" y="14163"/>
                </a:cubicBezTo>
                <a:cubicBezTo>
                  <a:pt x="9631" y="14218"/>
                  <a:pt x="9632" y="14305"/>
                  <a:pt x="9575" y="14337"/>
                </a:cubicBezTo>
                <a:cubicBezTo>
                  <a:pt x="9535" y="14359"/>
                  <a:pt x="9515" y="14314"/>
                  <a:pt x="9500" y="14288"/>
                </a:cubicBezTo>
                <a:cubicBezTo>
                  <a:pt x="9481" y="14255"/>
                  <a:pt x="9449" y="14189"/>
                  <a:pt x="9500" y="14163"/>
                </a:cubicBezTo>
                <a:cubicBezTo>
                  <a:pt x="9540" y="14143"/>
                  <a:pt x="9594" y="14197"/>
                  <a:pt x="9624" y="14213"/>
                </a:cubicBezTo>
                <a:cubicBezTo>
                  <a:pt x="9704" y="14256"/>
                  <a:pt x="9785" y="14284"/>
                  <a:pt x="9872" y="143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71760" y="5367240"/>
            <a:ext cx="312480" cy="276480"/>
          </a:xfrm>
          <a:custGeom>
            <a:avLst/>
            <a:gdLst/>
            <a:ahLst/>
            <a:rect l="l" t="t" r="r" b="b"/>
            <a:pathLst>
              <a:path w="869" h="770">
                <a:moveTo>
                  <a:pt x="4465" y="14982"/>
                </a:moveTo>
                <a:cubicBezTo>
                  <a:pt x="4465" y="15071"/>
                  <a:pt x="4464" y="15143"/>
                  <a:pt x="4440" y="15230"/>
                </a:cubicBezTo>
                <a:cubicBezTo>
                  <a:pt x="4411" y="15337"/>
                  <a:pt x="4347" y="15463"/>
                  <a:pt x="4366" y="15577"/>
                </a:cubicBezTo>
                <a:cubicBezTo>
                  <a:pt x="4381" y="15666"/>
                  <a:pt x="4497" y="15674"/>
                  <a:pt x="4564" y="15677"/>
                </a:cubicBezTo>
                <a:cubicBezTo>
                  <a:pt x="4688" y="15682"/>
                  <a:pt x="4758" y="15631"/>
                  <a:pt x="4862" y="15577"/>
                </a:cubicBezTo>
                <a:cubicBezTo>
                  <a:pt x="4878" y="15569"/>
                  <a:pt x="4895" y="15561"/>
                  <a:pt x="4911" y="15553"/>
                </a:cubicBezTo>
              </a:path>
              <a:path w="869" h="770">
                <a:moveTo>
                  <a:pt x="4465" y="15404"/>
                </a:moveTo>
                <a:cubicBezTo>
                  <a:pt x="4410" y="15404"/>
                  <a:pt x="4609" y="15385"/>
                  <a:pt x="4638" y="15379"/>
                </a:cubicBezTo>
                <a:cubicBezTo>
                  <a:pt x="4750" y="15358"/>
                  <a:pt x="4885" y="15344"/>
                  <a:pt x="4986" y="15304"/>
                </a:cubicBezTo>
                <a:cubicBezTo>
                  <a:pt x="5002" y="15296"/>
                  <a:pt x="5019" y="15288"/>
                  <a:pt x="5035" y="15280"/>
                </a:cubicBezTo>
              </a:path>
              <a:path w="869" h="770">
                <a:moveTo>
                  <a:pt x="4638" y="14957"/>
                </a:moveTo>
                <a:cubicBezTo>
                  <a:pt x="4812" y="14957"/>
                  <a:pt x="5020" y="14991"/>
                  <a:pt x="5184" y="14932"/>
                </a:cubicBezTo>
                <a:cubicBezTo>
                  <a:pt x="5201" y="14924"/>
                  <a:pt x="5217" y="14916"/>
                  <a:pt x="5234" y="149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3040" y="5643720"/>
            <a:ext cx="36360" cy="27000"/>
          </a:xfrm>
          <a:custGeom>
            <a:avLst/>
            <a:gdLst/>
            <a:ahLst/>
            <a:rect l="l" t="t" r="r" b="b"/>
            <a:pathLst>
              <a:path w="101" h="75">
                <a:moveTo>
                  <a:pt x="7813" y="15701"/>
                </a:moveTo>
                <a:cubicBezTo>
                  <a:pt x="7834" y="15708"/>
                  <a:pt x="7852" y="15746"/>
                  <a:pt x="7888" y="15726"/>
                </a:cubicBezTo>
                <a:cubicBezTo>
                  <a:pt x="7943" y="15695"/>
                  <a:pt x="7932" y="15704"/>
                  <a:pt x="7888" y="15726"/>
                </a:cubicBezTo>
                <a:cubicBezTo>
                  <a:pt x="7863" y="15726"/>
                  <a:pt x="7855" y="15726"/>
                  <a:pt x="7863" y="157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81240" y="5392800"/>
            <a:ext cx="928800" cy="295200"/>
          </a:xfrm>
          <a:custGeom>
            <a:avLst/>
            <a:gdLst/>
            <a:ahLst/>
            <a:rect l="l" t="t" r="r" b="b"/>
            <a:pathLst>
              <a:path w="2580" h="820">
                <a:moveTo>
                  <a:pt x="8657" y="15280"/>
                </a:moveTo>
                <a:cubicBezTo>
                  <a:pt x="8595" y="15365"/>
                  <a:pt x="8562" y="15384"/>
                  <a:pt x="8558" y="15503"/>
                </a:cubicBezTo>
                <a:cubicBezTo>
                  <a:pt x="8555" y="15579"/>
                  <a:pt x="8530" y="15683"/>
                  <a:pt x="8632" y="15701"/>
                </a:cubicBezTo>
                <a:cubicBezTo>
                  <a:pt x="8749" y="15722"/>
                  <a:pt x="8770" y="15649"/>
                  <a:pt x="8830" y="15577"/>
                </a:cubicBezTo>
                <a:cubicBezTo>
                  <a:pt x="8877" y="15520"/>
                  <a:pt x="8911" y="15470"/>
                  <a:pt x="8855" y="15404"/>
                </a:cubicBezTo>
                <a:cubicBezTo>
                  <a:pt x="8799" y="15338"/>
                  <a:pt x="8762" y="15329"/>
                  <a:pt x="8682" y="15329"/>
                </a:cubicBezTo>
                <a:cubicBezTo>
                  <a:pt x="8674" y="15329"/>
                  <a:pt x="8665" y="15329"/>
                  <a:pt x="8657" y="15329"/>
                </a:cubicBezTo>
              </a:path>
              <a:path w="2580" h="820">
                <a:moveTo>
                  <a:pt x="9351" y="15205"/>
                </a:moveTo>
                <a:cubicBezTo>
                  <a:pt x="9377" y="15166"/>
                  <a:pt x="9347" y="15164"/>
                  <a:pt x="9302" y="15180"/>
                </a:cubicBezTo>
                <a:cubicBezTo>
                  <a:pt x="9228" y="15207"/>
                  <a:pt x="9176" y="15280"/>
                  <a:pt x="9153" y="15354"/>
                </a:cubicBezTo>
                <a:cubicBezTo>
                  <a:pt x="9131" y="15426"/>
                  <a:pt x="9187" y="15464"/>
                  <a:pt x="9252" y="15478"/>
                </a:cubicBezTo>
                <a:cubicBezTo>
                  <a:pt x="9343" y="15498"/>
                  <a:pt x="9434" y="15497"/>
                  <a:pt x="9500" y="15577"/>
                </a:cubicBezTo>
                <a:cubicBezTo>
                  <a:pt x="9531" y="15614"/>
                  <a:pt x="9543" y="15730"/>
                  <a:pt x="9525" y="15776"/>
                </a:cubicBezTo>
                <a:cubicBezTo>
                  <a:pt x="9517" y="15784"/>
                  <a:pt x="9508" y="15793"/>
                  <a:pt x="9500" y="15801"/>
                </a:cubicBezTo>
                <a:cubicBezTo>
                  <a:pt x="9434" y="15784"/>
                  <a:pt x="9415" y="15723"/>
                  <a:pt x="9426" y="15652"/>
                </a:cubicBezTo>
                <a:cubicBezTo>
                  <a:pt x="9441" y="15553"/>
                  <a:pt x="9503" y="15439"/>
                  <a:pt x="9550" y="15354"/>
                </a:cubicBezTo>
                <a:cubicBezTo>
                  <a:pt x="9566" y="15329"/>
                  <a:pt x="9583" y="15305"/>
                  <a:pt x="9599" y="15280"/>
                </a:cubicBezTo>
              </a:path>
              <a:path w="2580" h="820">
                <a:moveTo>
                  <a:pt x="9922" y="15602"/>
                </a:moveTo>
                <a:cubicBezTo>
                  <a:pt x="9922" y="15533"/>
                  <a:pt x="9918" y="15688"/>
                  <a:pt x="9922" y="15701"/>
                </a:cubicBezTo>
                <a:cubicBezTo>
                  <a:pt x="9933" y="15741"/>
                  <a:pt x="9949" y="15770"/>
                  <a:pt x="9971" y="15801"/>
                </a:cubicBezTo>
                <a:cubicBezTo>
                  <a:pt x="10010" y="15749"/>
                  <a:pt x="9982" y="15715"/>
                  <a:pt x="9996" y="15652"/>
                </a:cubicBezTo>
                <a:cubicBezTo>
                  <a:pt x="10007" y="15601"/>
                  <a:pt x="10020" y="15517"/>
                  <a:pt x="10046" y="15478"/>
                </a:cubicBezTo>
                <a:cubicBezTo>
                  <a:pt x="10054" y="15470"/>
                  <a:pt x="10063" y="15461"/>
                  <a:pt x="10071" y="15453"/>
                </a:cubicBezTo>
                <a:cubicBezTo>
                  <a:pt x="10110" y="15463"/>
                  <a:pt x="10158" y="15510"/>
                  <a:pt x="10170" y="15553"/>
                </a:cubicBezTo>
                <a:cubicBezTo>
                  <a:pt x="10186" y="15611"/>
                  <a:pt x="10179" y="15635"/>
                  <a:pt x="10244" y="15652"/>
                </a:cubicBezTo>
                <a:cubicBezTo>
                  <a:pt x="10286" y="15599"/>
                  <a:pt x="10346" y="15519"/>
                  <a:pt x="10368" y="15453"/>
                </a:cubicBezTo>
                <a:cubicBezTo>
                  <a:pt x="10368" y="15429"/>
                  <a:pt x="10368" y="15421"/>
                  <a:pt x="10393" y="15429"/>
                </a:cubicBezTo>
                <a:cubicBezTo>
                  <a:pt x="10426" y="15472"/>
                  <a:pt x="10435" y="15528"/>
                  <a:pt x="10468" y="15577"/>
                </a:cubicBezTo>
                <a:cubicBezTo>
                  <a:pt x="10494" y="15615"/>
                  <a:pt x="10542" y="15648"/>
                  <a:pt x="10592" y="15627"/>
                </a:cubicBezTo>
                <a:cubicBezTo>
                  <a:pt x="10624" y="15613"/>
                  <a:pt x="10663" y="15558"/>
                  <a:pt x="10666" y="15528"/>
                </a:cubicBezTo>
                <a:cubicBezTo>
                  <a:pt x="10666" y="15520"/>
                  <a:pt x="10666" y="15511"/>
                  <a:pt x="10666" y="15503"/>
                </a:cubicBezTo>
                <a:cubicBezTo>
                  <a:pt x="10701" y="15521"/>
                  <a:pt x="10645" y="15540"/>
                  <a:pt x="10666" y="15602"/>
                </a:cubicBezTo>
                <a:cubicBezTo>
                  <a:pt x="10682" y="15651"/>
                  <a:pt x="10736" y="15675"/>
                  <a:pt x="10790" y="15652"/>
                </a:cubicBezTo>
                <a:cubicBezTo>
                  <a:pt x="10822" y="15639"/>
                  <a:pt x="10859" y="15562"/>
                  <a:pt x="10840" y="15528"/>
                </a:cubicBezTo>
                <a:cubicBezTo>
                  <a:pt x="10821" y="15494"/>
                  <a:pt x="10749" y="15445"/>
                  <a:pt x="10740" y="15429"/>
                </a:cubicBezTo>
                <a:cubicBezTo>
                  <a:pt x="10740" y="15421"/>
                  <a:pt x="10740" y="15412"/>
                  <a:pt x="10740" y="15404"/>
                </a:cubicBezTo>
              </a:path>
              <a:path w="2580" h="820">
                <a:moveTo>
                  <a:pt x="11038" y="15056"/>
                </a:moveTo>
                <a:cubicBezTo>
                  <a:pt x="11038" y="15031"/>
                  <a:pt x="11038" y="15007"/>
                  <a:pt x="11038" y="14982"/>
                </a:cubicBezTo>
                <a:cubicBezTo>
                  <a:pt x="11038" y="15110"/>
                  <a:pt x="11035" y="15229"/>
                  <a:pt x="11063" y="15354"/>
                </a:cubicBezTo>
                <a:cubicBezTo>
                  <a:pt x="11087" y="15463"/>
                  <a:pt x="11115" y="15571"/>
                  <a:pt x="11137" y="15677"/>
                </a:cubicBezTo>
                <a:cubicBezTo>
                  <a:pt x="11137" y="15693"/>
                  <a:pt x="11137" y="15710"/>
                  <a:pt x="11137" y="157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38880" y="5429160"/>
            <a:ext cx="1044360" cy="304920"/>
          </a:xfrm>
          <a:custGeom>
            <a:avLst/>
            <a:gdLst/>
            <a:ahLst/>
            <a:rect l="l" t="t" r="r" b="b"/>
            <a:pathLst>
              <a:path w="2903" h="845">
                <a:moveTo>
                  <a:pt x="15131" y="15751"/>
                </a:moveTo>
                <a:cubicBezTo>
                  <a:pt x="15096" y="15733"/>
                  <a:pt x="15123" y="15734"/>
                  <a:pt x="15156" y="15701"/>
                </a:cubicBezTo>
                <a:cubicBezTo>
                  <a:pt x="15142" y="15744"/>
                  <a:pt x="15104" y="15739"/>
                  <a:pt x="15156" y="15726"/>
                </a:cubicBezTo>
                <a:cubicBezTo>
                  <a:pt x="15197" y="15716"/>
                  <a:pt x="15165" y="15714"/>
                  <a:pt x="15205" y="15701"/>
                </a:cubicBezTo>
              </a:path>
              <a:path w="2903" h="845">
                <a:moveTo>
                  <a:pt x="15850" y="15205"/>
                </a:moveTo>
                <a:cubicBezTo>
                  <a:pt x="15871" y="15205"/>
                  <a:pt x="15840" y="15243"/>
                  <a:pt x="15825" y="15304"/>
                </a:cubicBezTo>
                <a:cubicBezTo>
                  <a:pt x="15793" y="15428"/>
                  <a:pt x="15763" y="15550"/>
                  <a:pt x="15751" y="15677"/>
                </a:cubicBezTo>
                <a:cubicBezTo>
                  <a:pt x="15744" y="15749"/>
                  <a:pt x="15760" y="15769"/>
                  <a:pt x="15726" y="15825"/>
                </a:cubicBezTo>
              </a:path>
              <a:path w="2903" h="845">
                <a:moveTo>
                  <a:pt x="16197" y="15280"/>
                </a:moveTo>
                <a:cubicBezTo>
                  <a:pt x="16169" y="15317"/>
                  <a:pt x="16173" y="15332"/>
                  <a:pt x="16173" y="15379"/>
                </a:cubicBezTo>
                <a:cubicBezTo>
                  <a:pt x="16173" y="15461"/>
                  <a:pt x="16241" y="15491"/>
                  <a:pt x="16321" y="15503"/>
                </a:cubicBezTo>
                <a:cubicBezTo>
                  <a:pt x="16404" y="15516"/>
                  <a:pt x="16517" y="15502"/>
                  <a:pt x="16594" y="15478"/>
                </a:cubicBezTo>
                <a:cubicBezTo>
                  <a:pt x="16638" y="15456"/>
                  <a:pt x="16649" y="15453"/>
                  <a:pt x="16669" y="15429"/>
                </a:cubicBezTo>
              </a:path>
              <a:path w="2903" h="845">
                <a:moveTo>
                  <a:pt x="16718" y="15081"/>
                </a:moveTo>
                <a:cubicBezTo>
                  <a:pt x="16645" y="15155"/>
                  <a:pt x="16582" y="15231"/>
                  <a:pt x="16545" y="15329"/>
                </a:cubicBezTo>
                <a:cubicBezTo>
                  <a:pt x="16497" y="15458"/>
                  <a:pt x="16463" y="15594"/>
                  <a:pt x="16421" y="15726"/>
                </a:cubicBezTo>
                <a:cubicBezTo>
                  <a:pt x="16399" y="15795"/>
                  <a:pt x="16375" y="15860"/>
                  <a:pt x="16346" y="15925"/>
                </a:cubicBezTo>
              </a:path>
              <a:path w="2903" h="845">
                <a:moveTo>
                  <a:pt x="16867" y="15677"/>
                </a:moveTo>
                <a:cubicBezTo>
                  <a:pt x="16867" y="15669"/>
                  <a:pt x="16867" y="15660"/>
                  <a:pt x="16867" y="15652"/>
                </a:cubicBezTo>
                <a:cubicBezTo>
                  <a:pt x="16851" y="15683"/>
                  <a:pt x="16842" y="15682"/>
                  <a:pt x="16842" y="15751"/>
                </a:cubicBezTo>
                <a:cubicBezTo>
                  <a:pt x="16842" y="15821"/>
                  <a:pt x="16841" y="15798"/>
                  <a:pt x="16867" y="15850"/>
                </a:cubicBezTo>
                <a:cubicBezTo>
                  <a:pt x="16897" y="15805"/>
                  <a:pt x="16909" y="15749"/>
                  <a:pt x="16942" y="15701"/>
                </a:cubicBezTo>
                <a:cubicBezTo>
                  <a:pt x="16981" y="15645"/>
                  <a:pt x="16985" y="15643"/>
                  <a:pt x="17041" y="15627"/>
                </a:cubicBezTo>
                <a:cubicBezTo>
                  <a:pt x="17071" y="15676"/>
                  <a:pt x="17076" y="15724"/>
                  <a:pt x="17115" y="15776"/>
                </a:cubicBezTo>
                <a:cubicBezTo>
                  <a:pt x="17152" y="15825"/>
                  <a:pt x="17177" y="15796"/>
                  <a:pt x="17214" y="15776"/>
                </a:cubicBezTo>
                <a:cubicBezTo>
                  <a:pt x="17259" y="15752"/>
                  <a:pt x="17264" y="15744"/>
                  <a:pt x="17289" y="15701"/>
                </a:cubicBezTo>
                <a:cubicBezTo>
                  <a:pt x="17303" y="15718"/>
                  <a:pt x="17314" y="15745"/>
                  <a:pt x="17338" y="15776"/>
                </a:cubicBezTo>
                <a:cubicBezTo>
                  <a:pt x="17372" y="15820"/>
                  <a:pt x="17405" y="15836"/>
                  <a:pt x="17462" y="15825"/>
                </a:cubicBezTo>
                <a:cubicBezTo>
                  <a:pt x="17524" y="15813"/>
                  <a:pt x="17567" y="15775"/>
                  <a:pt x="17587" y="15726"/>
                </a:cubicBezTo>
                <a:cubicBezTo>
                  <a:pt x="17587" y="15718"/>
                  <a:pt x="17587" y="15709"/>
                  <a:pt x="17587" y="15701"/>
                </a:cubicBezTo>
                <a:cubicBezTo>
                  <a:pt x="17546" y="15707"/>
                  <a:pt x="17512" y="15693"/>
                  <a:pt x="17512" y="15751"/>
                </a:cubicBezTo>
                <a:cubicBezTo>
                  <a:pt x="17512" y="15797"/>
                  <a:pt x="17549" y="15816"/>
                  <a:pt x="17587" y="15825"/>
                </a:cubicBezTo>
                <a:cubicBezTo>
                  <a:pt x="17628" y="15835"/>
                  <a:pt x="17661" y="15821"/>
                  <a:pt x="17661" y="15776"/>
                </a:cubicBezTo>
                <a:cubicBezTo>
                  <a:pt x="17661" y="15740"/>
                  <a:pt x="17633" y="15704"/>
                  <a:pt x="17611" y="15677"/>
                </a:cubicBezTo>
                <a:cubicBezTo>
                  <a:pt x="17684" y="15670"/>
                  <a:pt x="17716" y="15654"/>
                  <a:pt x="17785" y="15627"/>
                </a:cubicBezTo>
                <a:cubicBezTo>
                  <a:pt x="17883" y="15588"/>
                  <a:pt x="17930" y="15573"/>
                  <a:pt x="17983" y="15478"/>
                </a:cubicBezTo>
                <a:cubicBezTo>
                  <a:pt x="18010" y="15430"/>
                  <a:pt x="18021" y="15360"/>
                  <a:pt x="18008" y="15304"/>
                </a:cubicBezTo>
                <a:cubicBezTo>
                  <a:pt x="17986" y="15261"/>
                  <a:pt x="17982" y="15250"/>
                  <a:pt x="17959" y="15230"/>
                </a:cubicBezTo>
                <a:cubicBezTo>
                  <a:pt x="17936" y="15259"/>
                  <a:pt x="17894" y="15313"/>
                  <a:pt x="17884" y="15379"/>
                </a:cubicBezTo>
                <a:cubicBezTo>
                  <a:pt x="17864" y="15506"/>
                  <a:pt x="17897" y="15628"/>
                  <a:pt x="17909" y="15751"/>
                </a:cubicBezTo>
                <a:cubicBezTo>
                  <a:pt x="17909" y="15776"/>
                  <a:pt x="17909" y="15800"/>
                  <a:pt x="17909" y="158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50000" y="3438360"/>
            <a:ext cx="393840" cy="419400"/>
          </a:xfrm>
          <a:custGeom>
            <a:avLst/>
            <a:gdLst/>
            <a:ahLst/>
            <a:rect l="l" t="t" r="r" b="b"/>
            <a:pathLst>
              <a:path w="1093" h="1167">
                <a:moveTo>
                  <a:pt x="18827" y="10517"/>
                </a:moveTo>
                <a:cubicBezTo>
                  <a:pt x="18819" y="10558"/>
                  <a:pt x="18810" y="10600"/>
                  <a:pt x="18802" y="10641"/>
                </a:cubicBezTo>
              </a:path>
              <a:path w="1093" h="1167">
                <a:moveTo>
                  <a:pt x="18777" y="10716"/>
                </a:moveTo>
                <a:cubicBezTo>
                  <a:pt x="18739" y="10703"/>
                  <a:pt x="18752" y="10686"/>
                  <a:pt x="18752" y="10641"/>
                </a:cubicBezTo>
                <a:cubicBezTo>
                  <a:pt x="18752" y="10563"/>
                  <a:pt x="18801" y="10492"/>
                  <a:pt x="18827" y="10418"/>
                </a:cubicBezTo>
                <a:cubicBezTo>
                  <a:pt x="18865" y="10310"/>
                  <a:pt x="18921" y="10249"/>
                  <a:pt x="19000" y="10170"/>
                </a:cubicBezTo>
                <a:cubicBezTo>
                  <a:pt x="19045" y="10125"/>
                  <a:pt x="19055" y="10108"/>
                  <a:pt x="19100" y="10120"/>
                </a:cubicBezTo>
                <a:cubicBezTo>
                  <a:pt x="19100" y="10174"/>
                  <a:pt x="19109" y="10222"/>
                  <a:pt x="19075" y="10269"/>
                </a:cubicBezTo>
                <a:cubicBezTo>
                  <a:pt x="19030" y="10331"/>
                  <a:pt x="18971" y="10382"/>
                  <a:pt x="18901" y="10393"/>
                </a:cubicBezTo>
                <a:cubicBezTo>
                  <a:pt x="18893" y="10393"/>
                  <a:pt x="18884" y="10393"/>
                  <a:pt x="18876" y="10393"/>
                </a:cubicBezTo>
              </a:path>
              <a:path w="1093" h="1167">
                <a:moveTo>
                  <a:pt x="19248" y="9550"/>
                </a:moveTo>
                <a:cubicBezTo>
                  <a:pt x="19285" y="9562"/>
                  <a:pt x="19283" y="9623"/>
                  <a:pt x="19273" y="9674"/>
                </a:cubicBezTo>
                <a:cubicBezTo>
                  <a:pt x="19249" y="9791"/>
                  <a:pt x="19266" y="9904"/>
                  <a:pt x="19248" y="10021"/>
                </a:cubicBezTo>
                <a:cubicBezTo>
                  <a:pt x="19238" y="10085"/>
                  <a:pt x="19224" y="10131"/>
                  <a:pt x="19224" y="10195"/>
                </a:cubicBezTo>
              </a:path>
              <a:path w="1093" h="1167">
                <a:moveTo>
                  <a:pt x="19224" y="10096"/>
                </a:moveTo>
                <a:cubicBezTo>
                  <a:pt x="19289" y="10029"/>
                  <a:pt x="19356" y="9963"/>
                  <a:pt x="19422" y="9897"/>
                </a:cubicBezTo>
                <a:cubicBezTo>
                  <a:pt x="19452" y="9867"/>
                  <a:pt x="19463" y="9853"/>
                  <a:pt x="19472" y="9823"/>
                </a:cubicBezTo>
              </a:path>
              <a:path w="1093" h="1167">
                <a:moveTo>
                  <a:pt x="19521" y="9624"/>
                </a:moveTo>
                <a:cubicBezTo>
                  <a:pt x="19443" y="9624"/>
                  <a:pt x="19464" y="9659"/>
                  <a:pt x="19447" y="9723"/>
                </a:cubicBezTo>
                <a:cubicBezTo>
                  <a:pt x="19420" y="9825"/>
                  <a:pt x="19400" y="9964"/>
                  <a:pt x="19422" y="10071"/>
                </a:cubicBezTo>
                <a:cubicBezTo>
                  <a:pt x="19432" y="10120"/>
                  <a:pt x="19454" y="10172"/>
                  <a:pt x="19472" y="10220"/>
                </a:cubicBezTo>
              </a:path>
              <a:path w="1093" h="1167">
                <a:moveTo>
                  <a:pt x="19670" y="9971"/>
                </a:moveTo>
                <a:cubicBezTo>
                  <a:pt x="19720" y="9959"/>
                  <a:pt x="19735" y="9947"/>
                  <a:pt x="19794" y="9947"/>
                </a:cubicBezTo>
                <a:cubicBezTo>
                  <a:pt x="19819" y="9947"/>
                  <a:pt x="19827" y="9947"/>
                  <a:pt x="19844" y="9947"/>
                </a:cubicBezTo>
              </a:path>
              <a:path w="1093" h="1167">
                <a:moveTo>
                  <a:pt x="19645" y="10220"/>
                </a:moveTo>
                <a:cubicBezTo>
                  <a:pt x="19713" y="10220"/>
                  <a:pt x="19761" y="10212"/>
                  <a:pt x="19819" y="10195"/>
                </a:cubicBezTo>
                <a:cubicBezTo>
                  <a:pt x="19827" y="10195"/>
                  <a:pt x="19836" y="10195"/>
                  <a:pt x="19844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59760" y="3456000"/>
            <a:ext cx="250560" cy="285840"/>
          </a:xfrm>
          <a:custGeom>
            <a:avLst/>
            <a:gdLst/>
            <a:ahLst/>
            <a:rect l="l" t="t" r="r" b="b"/>
            <a:pathLst>
              <a:path w="696" h="795">
                <a:moveTo>
                  <a:pt x="20439" y="9699"/>
                </a:moveTo>
                <a:cubicBezTo>
                  <a:pt x="20468" y="9661"/>
                  <a:pt x="20464" y="9648"/>
                  <a:pt x="20464" y="9599"/>
                </a:cubicBezTo>
                <a:cubicBezTo>
                  <a:pt x="20407" y="9599"/>
                  <a:pt x="20367" y="9594"/>
                  <a:pt x="20315" y="9624"/>
                </a:cubicBezTo>
                <a:cubicBezTo>
                  <a:pt x="20268" y="9651"/>
                  <a:pt x="20146" y="9724"/>
                  <a:pt x="20166" y="9798"/>
                </a:cubicBezTo>
                <a:cubicBezTo>
                  <a:pt x="20191" y="9889"/>
                  <a:pt x="20302" y="9842"/>
                  <a:pt x="20365" y="9823"/>
                </a:cubicBezTo>
                <a:cubicBezTo>
                  <a:pt x="20456" y="9795"/>
                  <a:pt x="20510" y="9742"/>
                  <a:pt x="20538" y="9649"/>
                </a:cubicBezTo>
                <a:cubicBezTo>
                  <a:pt x="20538" y="9624"/>
                  <a:pt x="20538" y="9616"/>
                  <a:pt x="20538" y="9599"/>
                </a:cubicBezTo>
                <a:cubicBezTo>
                  <a:pt x="20477" y="9691"/>
                  <a:pt x="20467" y="9786"/>
                  <a:pt x="20464" y="9897"/>
                </a:cubicBezTo>
                <a:cubicBezTo>
                  <a:pt x="20460" y="10062"/>
                  <a:pt x="20464" y="10228"/>
                  <a:pt x="20464" y="10393"/>
                </a:cubicBezTo>
              </a:path>
              <a:path w="696" h="795">
                <a:moveTo>
                  <a:pt x="20836" y="10294"/>
                </a:moveTo>
                <a:cubicBezTo>
                  <a:pt x="20859" y="10240"/>
                  <a:pt x="20881" y="10235"/>
                  <a:pt x="20836" y="102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16880" y="3500280"/>
            <a:ext cx="152280" cy="160560"/>
          </a:xfrm>
          <a:custGeom>
            <a:avLst/>
            <a:gdLst/>
            <a:ahLst/>
            <a:rect l="l" t="t" r="r" b="b"/>
            <a:pathLst>
              <a:path w="423" h="448">
                <a:moveTo>
                  <a:pt x="21233" y="9798"/>
                </a:moveTo>
                <a:cubicBezTo>
                  <a:pt x="21270" y="9761"/>
                  <a:pt x="21297" y="9709"/>
                  <a:pt x="21357" y="9723"/>
                </a:cubicBezTo>
                <a:cubicBezTo>
                  <a:pt x="21416" y="9737"/>
                  <a:pt x="21471" y="9815"/>
                  <a:pt x="21481" y="9872"/>
                </a:cubicBezTo>
                <a:cubicBezTo>
                  <a:pt x="21499" y="9974"/>
                  <a:pt x="21464" y="10056"/>
                  <a:pt x="21382" y="10120"/>
                </a:cubicBezTo>
                <a:cubicBezTo>
                  <a:pt x="21346" y="10148"/>
                  <a:pt x="21256" y="10194"/>
                  <a:pt x="21208" y="10170"/>
                </a:cubicBezTo>
                <a:cubicBezTo>
                  <a:pt x="21170" y="10151"/>
                  <a:pt x="21165" y="10106"/>
                  <a:pt x="21158" y="10071"/>
                </a:cubicBezTo>
                <a:cubicBezTo>
                  <a:pt x="21192" y="10046"/>
                  <a:pt x="21235" y="10030"/>
                  <a:pt x="21282" y="10046"/>
                </a:cubicBezTo>
                <a:cubicBezTo>
                  <a:pt x="21368" y="10075"/>
                  <a:pt x="21448" y="10143"/>
                  <a:pt x="21530" y="10170"/>
                </a:cubicBezTo>
                <a:cubicBezTo>
                  <a:pt x="21547" y="10170"/>
                  <a:pt x="21563" y="10170"/>
                  <a:pt x="21580" y="101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956720" y="3490920"/>
            <a:ext cx="9360" cy="216000"/>
          </a:xfrm>
          <a:custGeom>
            <a:avLst/>
            <a:gdLst/>
            <a:ahLst/>
            <a:rect l="l" t="t" r="r" b="b"/>
            <a:pathLst>
              <a:path w="26" h="596">
                <a:moveTo>
                  <a:pt x="22101" y="9699"/>
                </a:moveTo>
                <a:cubicBezTo>
                  <a:pt x="22142" y="9765"/>
                  <a:pt x="22104" y="9796"/>
                  <a:pt x="22101" y="9872"/>
                </a:cubicBezTo>
                <a:cubicBezTo>
                  <a:pt x="22095" y="10001"/>
                  <a:pt x="22098" y="10124"/>
                  <a:pt x="22126" y="10244"/>
                </a:cubicBezTo>
                <a:cubicBezTo>
                  <a:pt x="22126" y="10269"/>
                  <a:pt x="22126" y="10277"/>
                  <a:pt x="22126" y="102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91200" y="4848120"/>
            <a:ext cx="652680" cy="482760"/>
          </a:xfrm>
          <a:custGeom>
            <a:avLst/>
            <a:gdLst/>
            <a:ahLst/>
            <a:rect l="l" t="t" r="r" b="b"/>
            <a:pathLst>
              <a:path w="1812" h="1340">
                <a:moveTo>
                  <a:pt x="19447" y="14238"/>
                </a:moveTo>
                <a:cubicBezTo>
                  <a:pt x="19412" y="14169"/>
                  <a:pt x="19422" y="14341"/>
                  <a:pt x="19422" y="14362"/>
                </a:cubicBezTo>
                <a:cubicBezTo>
                  <a:pt x="19422" y="14511"/>
                  <a:pt x="19422" y="14659"/>
                  <a:pt x="19422" y="14808"/>
                </a:cubicBezTo>
                <a:cubicBezTo>
                  <a:pt x="19456" y="14797"/>
                  <a:pt x="19481" y="14731"/>
                  <a:pt x="19496" y="14684"/>
                </a:cubicBezTo>
                <a:cubicBezTo>
                  <a:pt x="19538" y="14552"/>
                  <a:pt x="19558" y="14434"/>
                  <a:pt x="19621" y="14312"/>
                </a:cubicBezTo>
                <a:cubicBezTo>
                  <a:pt x="19665" y="14227"/>
                  <a:pt x="19713" y="14093"/>
                  <a:pt x="19819" y="14064"/>
                </a:cubicBezTo>
                <a:cubicBezTo>
                  <a:pt x="19869" y="14064"/>
                  <a:pt x="19885" y="14064"/>
                  <a:pt x="19918" y="14064"/>
                </a:cubicBezTo>
                <a:cubicBezTo>
                  <a:pt x="19918" y="14118"/>
                  <a:pt x="19927" y="14165"/>
                  <a:pt x="19893" y="14213"/>
                </a:cubicBezTo>
                <a:cubicBezTo>
                  <a:pt x="19834" y="14296"/>
                  <a:pt x="19768" y="14330"/>
                  <a:pt x="19670" y="14337"/>
                </a:cubicBezTo>
                <a:cubicBezTo>
                  <a:pt x="19662" y="14337"/>
                  <a:pt x="19653" y="14337"/>
                  <a:pt x="19645" y="14337"/>
                </a:cubicBezTo>
              </a:path>
              <a:path w="1812" h="1340">
                <a:moveTo>
                  <a:pt x="20265" y="13469"/>
                </a:moveTo>
                <a:cubicBezTo>
                  <a:pt x="20265" y="13621"/>
                  <a:pt x="20278" y="13766"/>
                  <a:pt x="20290" y="13915"/>
                </a:cubicBezTo>
                <a:cubicBezTo>
                  <a:pt x="20299" y="14017"/>
                  <a:pt x="20315" y="14110"/>
                  <a:pt x="20315" y="14213"/>
                </a:cubicBezTo>
                <a:cubicBezTo>
                  <a:pt x="20315" y="14255"/>
                  <a:pt x="20315" y="14263"/>
                  <a:pt x="20315" y="14288"/>
                </a:cubicBezTo>
              </a:path>
              <a:path w="1812" h="1340">
                <a:moveTo>
                  <a:pt x="20191" y="13990"/>
                </a:moveTo>
                <a:cubicBezTo>
                  <a:pt x="20316" y="13990"/>
                  <a:pt x="20507" y="14030"/>
                  <a:pt x="20613" y="13965"/>
                </a:cubicBezTo>
                <a:cubicBezTo>
                  <a:pt x="20682" y="13922"/>
                  <a:pt x="20691" y="13863"/>
                  <a:pt x="20712" y="13791"/>
                </a:cubicBezTo>
              </a:path>
              <a:path w="1812" h="1340">
                <a:moveTo>
                  <a:pt x="20712" y="13692"/>
                </a:moveTo>
                <a:cubicBezTo>
                  <a:pt x="20696" y="13608"/>
                  <a:pt x="20713" y="13560"/>
                  <a:pt x="20662" y="13543"/>
                </a:cubicBezTo>
                <a:cubicBezTo>
                  <a:pt x="20605" y="13631"/>
                  <a:pt x="20591" y="13710"/>
                  <a:pt x="20588" y="13816"/>
                </a:cubicBezTo>
                <a:cubicBezTo>
                  <a:pt x="20585" y="13946"/>
                  <a:pt x="20542" y="14063"/>
                  <a:pt x="20588" y="14188"/>
                </a:cubicBezTo>
                <a:cubicBezTo>
                  <a:pt x="20607" y="14240"/>
                  <a:pt x="20601" y="14305"/>
                  <a:pt x="20662" y="14312"/>
                </a:cubicBezTo>
                <a:cubicBezTo>
                  <a:pt x="20670" y="14312"/>
                  <a:pt x="20679" y="14312"/>
                  <a:pt x="20687" y="14312"/>
                </a:cubicBezTo>
              </a:path>
              <a:path w="1812" h="1340">
                <a:moveTo>
                  <a:pt x="21010" y="13915"/>
                </a:moveTo>
                <a:cubicBezTo>
                  <a:pt x="21010" y="13923"/>
                  <a:pt x="21010" y="13932"/>
                  <a:pt x="21010" y="13940"/>
                </a:cubicBezTo>
                <a:cubicBezTo>
                  <a:pt x="21057" y="13940"/>
                  <a:pt x="21089" y="13918"/>
                  <a:pt x="21134" y="13915"/>
                </a:cubicBezTo>
                <a:cubicBezTo>
                  <a:pt x="21166" y="13913"/>
                  <a:pt x="21200" y="13915"/>
                  <a:pt x="21233" y="13915"/>
                </a:cubicBezTo>
              </a:path>
              <a:path w="1812" h="1340">
                <a:moveTo>
                  <a:pt x="21010" y="14139"/>
                </a:moveTo>
                <a:cubicBezTo>
                  <a:pt x="21002" y="14139"/>
                  <a:pt x="20993" y="14139"/>
                  <a:pt x="20985" y="14139"/>
                </a:cubicBezTo>
                <a:cubicBezTo>
                  <a:pt x="20995" y="14167"/>
                  <a:pt x="21019" y="14184"/>
                  <a:pt x="21059" y="14188"/>
                </a:cubicBezTo>
                <a:cubicBezTo>
                  <a:pt x="21125" y="14195"/>
                  <a:pt x="21173" y="14186"/>
                  <a:pt x="21233" y="141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840800" y="4919760"/>
            <a:ext cx="758520" cy="260280"/>
          </a:xfrm>
          <a:custGeom>
            <a:avLst/>
            <a:gdLst/>
            <a:ahLst/>
            <a:rect l="l" t="t" r="r" b="b"/>
            <a:pathLst>
              <a:path w="2109" h="721">
                <a:moveTo>
                  <a:pt x="22002" y="13767"/>
                </a:moveTo>
                <a:cubicBezTo>
                  <a:pt x="22002" y="13706"/>
                  <a:pt x="21992" y="13719"/>
                  <a:pt x="21952" y="13692"/>
                </a:cubicBezTo>
                <a:cubicBezTo>
                  <a:pt x="21909" y="13663"/>
                  <a:pt x="21897" y="13653"/>
                  <a:pt x="21853" y="13692"/>
                </a:cubicBezTo>
                <a:cubicBezTo>
                  <a:pt x="21813" y="13728"/>
                  <a:pt x="21783" y="13761"/>
                  <a:pt x="21779" y="13816"/>
                </a:cubicBezTo>
                <a:cubicBezTo>
                  <a:pt x="21775" y="13878"/>
                  <a:pt x="21840" y="13926"/>
                  <a:pt x="21903" y="13915"/>
                </a:cubicBezTo>
                <a:cubicBezTo>
                  <a:pt x="21981" y="13901"/>
                  <a:pt x="22072" y="13842"/>
                  <a:pt x="22101" y="13767"/>
                </a:cubicBezTo>
                <a:cubicBezTo>
                  <a:pt x="22101" y="13725"/>
                  <a:pt x="22101" y="13717"/>
                  <a:pt x="22101" y="13692"/>
                </a:cubicBezTo>
                <a:cubicBezTo>
                  <a:pt x="22101" y="13623"/>
                  <a:pt x="22076" y="13813"/>
                  <a:pt x="22076" y="13816"/>
                </a:cubicBezTo>
                <a:cubicBezTo>
                  <a:pt x="22058" y="13969"/>
                  <a:pt x="22076" y="14133"/>
                  <a:pt x="22076" y="14288"/>
                </a:cubicBezTo>
              </a:path>
              <a:path w="2109" h="721">
                <a:moveTo>
                  <a:pt x="22349" y="14238"/>
                </a:moveTo>
                <a:cubicBezTo>
                  <a:pt x="22324" y="14238"/>
                  <a:pt x="22316" y="14238"/>
                  <a:pt x="22299" y="14238"/>
                </a:cubicBezTo>
              </a:path>
              <a:path w="2109" h="721">
                <a:moveTo>
                  <a:pt x="22696" y="13791"/>
                </a:moveTo>
                <a:cubicBezTo>
                  <a:pt x="22630" y="13801"/>
                  <a:pt x="22622" y="13799"/>
                  <a:pt x="22622" y="13866"/>
                </a:cubicBezTo>
                <a:cubicBezTo>
                  <a:pt x="22622" y="13949"/>
                  <a:pt x="22635" y="13955"/>
                  <a:pt x="22696" y="14015"/>
                </a:cubicBezTo>
                <a:cubicBezTo>
                  <a:pt x="22750" y="14069"/>
                  <a:pt x="22798" y="14064"/>
                  <a:pt x="22870" y="14064"/>
                </a:cubicBezTo>
              </a:path>
              <a:path w="2109" h="721">
                <a:moveTo>
                  <a:pt x="22994" y="13841"/>
                </a:moveTo>
                <a:cubicBezTo>
                  <a:pt x="22939" y="13814"/>
                  <a:pt x="22907" y="13866"/>
                  <a:pt x="22895" y="13940"/>
                </a:cubicBezTo>
                <a:cubicBezTo>
                  <a:pt x="22879" y="14039"/>
                  <a:pt x="22871" y="14232"/>
                  <a:pt x="22920" y="14312"/>
                </a:cubicBezTo>
              </a:path>
              <a:path w="2109" h="721">
                <a:moveTo>
                  <a:pt x="23515" y="13965"/>
                </a:moveTo>
                <a:cubicBezTo>
                  <a:pt x="23471" y="13939"/>
                  <a:pt x="23444" y="13940"/>
                  <a:pt x="23391" y="13940"/>
                </a:cubicBezTo>
                <a:cubicBezTo>
                  <a:pt x="23366" y="13940"/>
                  <a:pt x="23358" y="13940"/>
                  <a:pt x="23341" y="13940"/>
                </a:cubicBezTo>
                <a:cubicBezTo>
                  <a:pt x="23341" y="13994"/>
                  <a:pt x="23342" y="14013"/>
                  <a:pt x="23366" y="14064"/>
                </a:cubicBezTo>
                <a:cubicBezTo>
                  <a:pt x="23398" y="14132"/>
                  <a:pt x="23436" y="14159"/>
                  <a:pt x="23440" y="14238"/>
                </a:cubicBezTo>
                <a:cubicBezTo>
                  <a:pt x="23442" y="14280"/>
                  <a:pt x="23456" y="14361"/>
                  <a:pt x="23416" y="14387"/>
                </a:cubicBezTo>
                <a:cubicBezTo>
                  <a:pt x="23391" y="14387"/>
                  <a:pt x="23383" y="14387"/>
                  <a:pt x="23366" y="14387"/>
                </a:cubicBezTo>
              </a:path>
              <a:path w="2109" h="721">
                <a:moveTo>
                  <a:pt x="23515" y="13891"/>
                </a:moveTo>
                <a:cubicBezTo>
                  <a:pt x="23597" y="13885"/>
                  <a:pt x="23707" y="13886"/>
                  <a:pt x="23788" y="13866"/>
                </a:cubicBezTo>
                <a:cubicBezTo>
                  <a:pt x="23836" y="13842"/>
                  <a:pt x="23850" y="13833"/>
                  <a:pt x="23887" y="138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5880" y="901800"/>
            <a:ext cx="2598840" cy="696960"/>
          </a:xfrm>
          <a:custGeom>
            <a:avLst/>
            <a:gdLst/>
            <a:ahLst/>
            <a:rect l="l" t="t" r="r" b="b"/>
            <a:pathLst>
              <a:path w="7219" h="1936">
                <a:moveTo>
                  <a:pt x="2232" y="2704"/>
                </a:moveTo>
                <a:cubicBezTo>
                  <a:pt x="2254" y="2652"/>
                  <a:pt x="2257" y="2634"/>
                  <a:pt x="2257" y="2580"/>
                </a:cubicBezTo>
                <a:cubicBezTo>
                  <a:pt x="2257" y="2781"/>
                  <a:pt x="2246" y="2976"/>
                  <a:pt x="2232" y="3175"/>
                </a:cubicBezTo>
                <a:cubicBezTo>
                  <a:pt x="2226" y="3265"/>
                  <a:pt x="2232" y="3358"/>
                  <a:pt x="2232" y="3448"/>
                </a:cubicBezTo>
              </a:path>
              <a:path w="7219" h="1936">
                <a:moveTo>
                  <a:pt x="2183" y="3076"/>
                </a:moveTo>
                <a:cubicBezTo>
                  <a:pt x="2294" y="3076"/>
                  <a:pt x="2398" y="3083"/>
                  <a:pt x="2505" y="3051"/>
                </a:cubicBezTo>
                <a:cubicBezTo>
                  <a:pt x="2580" y="3026"/>
                  <a:pt x="2604" y="3018"/>
                  <a:pt x="2654" y="3001"/>
                </a:cubicBezTo>
              </a:path>
              <a:path w="7219" h="1936">
                <a:moveTo>
                  <a:pt x="2654" y="2704"/>
                </a:moveTo>
                <a:cubicBezTo>
                  <a:pt x="2624" y="2744"/>
                  <a:pt x="2609" y="2825"/>
                  <a:pt x="2604" y="2877"/>
                </a:cubicBezTo>
                <a:cubicBezTo>
                  <a:pt x="2586" y="3064"/>
                  <a:pt x="2604" y="3260"/>
                  <a:pt x="2604" y="3448"/>
                </a:cubicBezTo>
              </a:path>
              <a:path w="7219" h="1936">
                <a:moveTo>
                  <a:pt x="3175" y="2753"/>
                </a:moveTo>
                <a:cubicBezTo>
                  <a:pt x="3164" y="2841"/>
                  <a:pt x="3131" y="2940"/>
                  <a:pt x="3101" y="3026"/>
                </a:cubicBezTo>
                <a:cubicBezTo>
                  <a:pt x="3053" y="3163"/>
                  <a:pt x="3026" y="3253"/>
                  <a:pt x="3026" y="3398"/>
                </a:cubicBezTo>
                <a:cubicBezTo>
                  <a:pt x="3026" y="3406"/>
                  <a:pt x="3026" y="3415"/>
                  <a:pt x="3026" y="3423"/>
                </a:cubicBezTo>
                <a:cubicBezTo>
                  <a:pt x="3075" y="3326"/>
                  <a:pt x="3102" y="3232"/>
                  <a:pt x="3125" y="3125"/>
                </a:cubicBezTo>
                <a:cubicBezTo>
                  <a:pt x="3154" y="2993"/>
                  <a:pt x="3176" y="2856"/>
                  <a:pt x="3225" y="2729"/>
                </a:cubicBezTo>
                <a:cubicBezTo>
                  <a:pt x="3249" y="2667"/>
                  <a:pt x="3264" y="2654"/>
                  <a:pt x="3324" y="2654"/>
                </a:cubicBezTo>
                <a:cubicBezTo>
                  <a:pt x="3372" y="2751"/>
                  <a:pt x="3400" y="2846"/>
                  <a:pt x="3423" y="2952"/>
                </a:cubicBezTo>
                <a:cubicBezTo>
                  <a:pt x="3451" y="3076"/>
                  <a:pt x="3476" y="3201"/>
                  <a:pt x="3497" y="3324"/>
                </a:cubicBezTo>
                <a:cubicBezTo>
                  <a:pt x="3497" y="3332"/>
                  <a:pt x="3497" y="3341"/>
                  <a:pt x="3497" y="3349"/>
                </a:cubicBezTo>
              </a:path>
              <a:path w="7219" h="1936">
                <a:moveTo>
                  <a:pt x="3076" y="3249"/>
                </a:moveTo>
                <a:cubicBezTo>
                  <a:pt x="3060" y="3203"/>
                  <a:pt x="3152" y="3202"/>
                  <a:pt x="3225" y="3200"/>
                </a:cubicBezTo>
                <a:cubicBezTo>
                  <a:pt x="3332" y="3197"/>
                  <a:pt x="3420" y="3184"/>
                  <a:pt x="3522" y="3175"/>
                </a:cubicBezTo>
              </a:path>
              <a:path w="7219" h="1936">
                <a:moveTo>
                  <a:pt x="3919" y="3125"/>
                </a:moveTo>
                <a:cubicBezTo>
                  <a:pt x="3868" y="3138"/>
                  <a:pt x="3805" y="3179"/>
                  <a:pt x="3770" y="3225"/>
                </a:cubicBezTo>
                <a:cubicBezTo>
                  <a:pt x="3732" y="3275"/>
                  <a:pt x="3701" y="3360"/>
                  <a:pt x="3721" y="3423"/>
                </a:cubicBezTo>
                <a:cubicBezTo>
                  <a:pt x="3748" y="3511"/>
                  <a:pt x="3820" y="3497"/>
                  <a:pt x="3894" y="3497"/>
                </a:cubicBezTo>
              </a:path>
              <a:path w="7219" h="1936">
                <a:moveTo>
                  <a:pt x="4638" y="3051"/>
                </a:moveTo>
                <a:cubicBezTo>
                  <a:pt x="4692" y="3051"/>
                  <a:pt x="4708" y="3029"/>
                  <a:pt x="4762" y="3026"/>
                </a:cubicBezTo>
                <a:cubicBezTo>
                  <a:pt x="4831" y="3022"/>
                  <a:pt x="4873" y="3036"/>
                  <a:pt x="4936" y="3051"/>
                </a:cubicBezTo>
                <a:cubicBezTo>
                  <a:pt x="4944" y="3051"/>
                  <a:pt x="4953" y="3051"/>
                  <a:pt x="4961" y="3051"/>
                </a:cubicBezTo>
              </a:path>
              <a:path w="7219" h="1936">
                <a:moveTo>
                  <a:pt x="4762" y="3249"/>
                </a:moveTo>
                <a:cubicBezTo>
                  <a:pt x="4806" y="3282"/>
                  <a:pt x="4829" y="3274"/>
                  <a:pt x="4887" y="3274"/>
                </a:cubicBezTo>
                <a:cubicBezTo>
                  <a:pt x="4928" y="3274"/>
                  <a:pt x="4970" y="3274"/>
                  <a:pt x="5011" y="3274"/>
                </a:cubicBezTo>
              </a:path>
              <a:path w="7219" h="1936">
                <a:moveTo>
                  <a:pt x="5804" y="2952"/>
                </a:moveTo>
                <a:cubicBezTo>
                  <a:pt x="5775" y="2981"/>
                  <a:pt x="5764" y="2989"/>
                  <a:pt x="5755" y="3026"/>
                </a:cubicBezTo>
                <a:cubicBezTo>
                  <a:pt x="5798" y="3015"/>
                  <a:pt x="5821" y="2985"/>
                  <a:pt x="5854" y="2952"/>
                </a:cubicBezTo>
                <a:cubicBezTo>
                  <a:pt x="5862" y="2944"/>
                  <a:pt x="5871" y="2935"/>
                  <a:pt x="5879" y="2927"/>
                </a:cubicBezTo>
                <a:cubicBezTo>
                  <a:pt x="5824" y="2927"/>
                  <a:pt x="5797" y="2940"/>
                  <a:pt x="5755" y="2977"/>
                </a:cubicBezTo>
                <a:cubicBezTo>
                  <a:pt x="5747" y="2985"/>
                  <a:pt x="5738" y="2993"/>
                  <a:pt x="5730" y="3001"/>
                </a:cubicBezTo>
              </a:path>
              <a:path w="7219" h="1936">
                <a:moveTo>
                  <a:pt x="6300" y="2555"/>
                </a:moveTo>
                <a:cubicBezTo>
                  <a:pt x="6375" y="2518"/>
                  <a:pt x="6416" y="2505"/>
                  <a:pt x="6499" y="2505"/>
                </a:cubicBezTo>
                <a:cubicBezTo>
                  <a:pt x="6548" y="2505"/>
                  <a:pt x="6626" y="2497"/>
                  <a:pt x="6598" y="2580"/>
                </a:cubicBezTo>
                <a:cubicBezTo>
                  <a:pt x="6580" y="2633"/>
                  <a:pt x="6514" y="2690"/>
                  <a:pt x="6474" y="2729"/>
                </a:cubicBezTo>
                <a:cubicBezTo>
                  <a:pt x="6451" y="2751"/>
                  <a:pt x="6443" y="2756"/>
                  <a:pt x="6449" y="2778"/>
                </a:cubicBezTo>
                <a:cubicBezTo>
                  <a:pt x="6507" y="2778"/>
                  <a:pt x="6543" y="2790"/>
                  <a:pt x="6598" y="2803"/>
                </a:cubicBezTo>
                <a:cubicBezTo>
                  <a:pt x="6658" y="2817"/>
                  <a:pt x="6665" y="2854"/>
                  <a:pt x="6623" y="2902"/>
                </a:cubicBezTo>
                <a:cubicBezTo>
                  <a:pt x="6571" y="2962"/>
                  <a:pt x="6534" y="3003"/>
                  <a:pt x="6474" y="3051"/>
                </a:cubicBezTo>
              </a:path>
              <a:path w="7219" h="1936">
                <a:moveTo>
                  <a:pt x="6970" y="2629"/>
                </a:moveTo>
                <a:cubicBezTo>
                  <a:pt x="6954" y="2721"/>
                  <a:pt x="6892" y="2761"/>
                  <a:pt x="6871" y="2853"/>
                </a:cubicBezTo>
                <a:cubicBezTo>
                  <a:pt x="6856" y="2922"/>
                  <a:pt x="6914" y="3014"/>
                  <a:pt x="6995" y="2977"/>
                </a:cubicBezTo>
                <a:cubicBezTo>
                  <a:pt x="7057" y="2949"/>
                  <a:pt x="7174" y="2848"/>
                  <a:pt x="7193" y="2778"/>
                </a:cubicBezTo>
                <a:cubicBezTo>
                  <a:pt x="7208" y="2722"/>
                  <a:pt x="7194" y="2639"/>
                  <a:pt x="7144" y="2604"/>
                </a:cubicBezTo>
                <a:cubicBezTo>
                  <a:pt x="7103" y="2584"/>
                  <a:pt x="7097" y="2576"/>
                  <a:pt x="7069" y="2580"/>
                </a:cubicBezTo>
              </a:path>
              <a:path w="7219" h="1936">
                <a:moveTo>
                  <a:pt x="7541" y="2604"/>
                </a:moveTo>
                <a:cubicBezTo>
                  <a:pt x="7517" y="2693"/>
                  <a:pt x="7466" y="2807"/>
                  <a:pt x="7491" y="2902"/>
                </a:cubicBezTo>
                <a:cubicBezTo>
                  <a:pt x="7518" y="3005"/>
                  <a:pt x="7639" y="2988"/>
                  <a:pt x="7714" y="2952"/>
                </a:cubicBezTo>
                <a:cubicBezTo>
                  <a:pt x="7784" y="2918"/>
                  <a:pt x="7938" y="2794"/>
                  <a:pt x="7938" y="2704"/>
                </a:cubicBezTo>
                <a:cubicBezTo>
                  <a:pt x="7938" y="2607"/>
                  <a:pt x="7814" y="2566"/>
                  <a:pt x="7739" y="2555"/>
                </a:cubicBezTo>
                <a:cubicBezTo>
                  <a:pt x="7655" y="2555"/>
                  <a:pt x="7621" y="2557"/>
                  <a:pt x="7565" y="2580"/>
                </a:cubicBezTo>
              </a:path>
              <a:path w="7219" h="1936">
                <a:moveTo>
                  <a:pt x="5507" y="3349"/>
                </a:moveTo>
                <a:cubicBezTo>
                  <a:pt x="5606" y="3356"/>
                  <a:pt x="5705" y="3362"/>
                  <a:pt x="5804" y="3373"/>
                </a:cubicBezTo>
                <a:cubicBezTo>
                  <a:pt x="6069" y="3402"/>
                  <a:pt x="6332" y="3416"/>
                  <a:pt x="6598" y="3448"/>
                </a:cubicBezTo>
                <a:cubicBezTo>
                  <a:pt x="6875" y="3482"/>
                  <a:pt x="7138" y="3497"/>
                  <a:pt x="7417" y="3497"/>
                </a:cubicBezTo>
                <a:cubicBezTo>
                  <a:pt x="7640" y="3497"/>
                  <a:pt x="7843" y="3469"/>
                  <a:pt x="8062" y="3448"/>
                </a:cubicBezTo>
                <a:cubicBezTo>
                  <a:pt x="8135" y="3441"/>
                  <a:pt x="8190" y="3436"/>
                  <a:pt x="8260" y="3423"/>
                </a:cubicBezTo>
              </a:path>
              <a:path w="7219" h="1936">
                <a:moveTo>
                  <a:pt x="5978" y="4192"/>
                </a:moveTo>
                <a:cubicBezTo>
                  <a:pt x="6014" y="4165"/>
                  <a:pt x="6017" y="4175"/>
                  <a:pt x="6028" y="4142"/>
                </a:cubicBezTo>
                <a:cubicBezTo>
                  <a:pt x="6016" y="4188"/>
                  <a:pt x="5971" y="4222"/>
                  <a:pt x="5953" y="4266"/>
                </a:cubicBezTo>
                <a:cubicBezTo>
                  <a:pt x="5953" y="4294"/>
                  <a:pt x="5951" y="4305"/>
                  <a:pt x="5928" y="4316"/>
                </a:cubicBezTo>
              </a:path>
              <a:path w="7219" h="1936">
                <a:moveTo>
                  <a:pt x="6499" y="3919"/>
                </a:moveTo>
                <a:cubicBezTo>
                  <a:pt x="6596" y="3919"/>
                  <a:pt x="6681" y="3909"/>
                  <a:pt x="6772" y="3894"/>
                </a:cubicBezTo>
                <a:cubicBezTo>
                  <a:pt x="6821" y="3894"/>
                  <a:pt x="6838" y="3894"/>
                  <a:pt x="6871" y="3894"/>
                </a:cubicBezTo>
              </a:path>
              <a:path w="7219" h="1936">
                <a:moveTo>
                  <a:pt x="6623" y="3969"/>
                </a:moveTo>
                <a:cubicBezTo>
                  <a:pt x="6525" y="4009"/>
                  <a:pt x="6425" y="4029"/>
                  <a:pt x="6350" y="4093"/>
                </a:cubicBezTo>
                <a:cubicBezTo>
                  <a:pt x="6307" y="4129"/>
                  <a:pt x="6318" y="4177"/>
                  <a:pt x="6350" y="4217"/>
                </a:cubicBezTo>
                <a:cubicBezTo>
                  <a:pt x="6398" y="4278"/>
                  <a:pt x="6508" y="4279"/>
                  <a:pt x="6573" y="4316"/>
                </a:cubicBezTo>
                <a:cubicBezTo>
                  <a:pt x="6608" y="4336"/>
                  <a:pt x="6614" y="4338"/>
                  <a:pt x="6623" y="4366"/>
                </a:cubicBezTo>
                <a:cubicBezTo>
                  <a:pt x="6611" y="4400"/>
                  <a:pt x="6567" y="4415"/>
                  <a:pt x="6524" y="4440"/>
                </a:cubicBezTo>
              </a:path>
              <a:path w="7219" h="1936">
                <a:moveTo>
                  <a:pt x="7045" y="4018"/>
                </a:moveTo>
                <a:cubicBezTo>
                  <a:pt x="7066" y="4062"/>
                  <a:pt x="7045" y="4062"/>
                  <a:pt x="7045" y="4118"/>
                </a:cubicBezTo>
                <a:cubicBezTo>
                  <a:pt x="7045" y="4184"/>
                  <a:pt x="7040" y="4213"/>
                  <a:pt x="7119" y="4217"/>
                </a:cubicBezTo>
                <a:cubicBezTo>
                  <a:pt x="7218" y="4222"/>
                  <a:pt x="7272" y="4182"/>
                  <a:pt x="7342" y="4118"/>
                </a:cubicBezTo>
                <a:cubicBezTo>
                  <a:pt x="7391" y="4073"/>
                  <a:pt x="7355" y="4056"/>
                  <a:pt x="7317" y="4018"/>
                </a:cubicBezTo>
                <a:cubicBezTo>
                  <a:pt x="7275" y="3976"/>
                  <a:pt x="7218" y="3999"/>
                  <a:pt x="7169" y="3969"/>
                </a:cubicBezTo>
              </a:path>
              <a:path w="7219" h="1936">
                <a:moveTo>
                  <a:pt x="7441" y="3894"/>
                </a:moveTo>
                <a:cubicBezTo>
                  <a:pt x="7481" y="3964"/>
                  <a:pt x="7491" y="3985"/>
                  <a:pt x="7491" y="4068"/>
                </a:cubicBezTo>
                <a:cubicBezTo>
                  <a:pt x="7491" y="4107"/>
                  <a:pt x="7517" y="4178"/>
                  <a:pt x="7565" y="4192"/>
                </a:cubicBezTo>
                <a:cubicBezTo>
                  <a:pt x="7639" y="4213"/>
                  <a:pt x="7708" y="4146"/>
                  <a:pt x="7739" y="4093"/>
                </a:cubicBezTo>
                <a:cubicBezTo>
                  <a:pt x="7770" y="4040"/>
                  <a:pt x="7814" y="3959"/>
                  <a:pt x="7789" y="3894"/>
                </a:cubicBezTo>
                <a:cubicBezTo>
                  <a:pt x="7764" y="3829"/>
                  <a:pt x="7729" y="3820"/>
                  <a:pt x="7665" y="3820"/>
                </a:cubicBezTo>
                <a:cubicBezTo>
                  <a:pt x="7657" y="3820"/>
                  <a:pt x="7648" y="3820"/>
                  <a:pt x="7640" y="3820"/>
                </a:cubicBezTo>
              </a:path>
              <a:path w="7219" h="1936">
                <a:moveTo>
                  <a:pt x="8186" y="3944"/>
                </a:moveTo>
                <a:cubicBezTo>
                  <a:pt x="8186" y="3919"/>
                  <a:pt x="8186" y="3911"/>
                  <a:pt x="8210" y="3919"/>
                </a:cubicBezTo>
                <a:cubicBezTo>
                  <a:pt x="8210" y="3993"/>
                  <a:pt x="8188" y="4025"/>
                  <a:pt x="8161" y="4093"/>
                </a:cubicBezTo>
                <a:cubicBezTo>
                  <a:pt x="8132" y="4168"/>
                  <a:pt x="8082" y="4222"/>
                  <a:pt x="8062" y="4291"/>
                </a:cubicBezTo>
                <a:cubicBezTo>
                  <a:pt x="8062" y="4299"/>
                  <a:pt x="8062" y="4308"/>
                  <a:pt x="8062" y="4316"/>
                </a:cubicBezTo>
                <a:cubicBezTo>
                  <a:pt x="8131" y="4316"/>
                  <a:pt x="8172" y="4313"/>
                  <a:pt x="8235" y="4291"/>
                </a:cubicBezTo>
                <a:cubicBezTo>
                  <a:pt x="8327" y="4259"/>
                  <a:pt x="8412" y="4266"/>
                  <a:pt x="8508" y="4266"/>
                </a:cubicBezTo>
              </a:path>
              <a:path w="7219" h="1936">
                <a:moveTo>
                  <a:pt x="8260" y="2952"/>
                </a:moveTo>
                <a:cubicBezTo>
                  <a:pt x="8260" y="2989"/>
                  <a:pt x="8250" y="3046"/>
                  <a:pt x="8235" y="3076"/>
                </a:cubicBezTo>
                <a:cubicBezTo>
                  <a:pt x="8213" y="3098"/>
                  <a:pt x="8204" y="3103"/>
                  <a:pt x="8210" y="3125"/>
                </a:cubicBezTo>
                <a:cubicBezTo>
                  <a:pt x="8241" y="3085"/>
                  <a:pt x="8280" y="3046"/>
                  <a:pt x="8310" y="3001"/>
                </a:cubicBezTo>
                <a:cubicBezTo>
                  <a:pt x="8344" y="2949"/>
                  <a:pt x="8375" y="2917"/>
                  <a:pt x="8434" y="2902"/>
                </a:cubicBezTo>
                <a:cubicBezTo>
                  <a:pt x="8434" y="2948"/>
                  <a:pt x="8414" y="2961"/>
                  <a:pt x="8409" y="3001"/>
                </a:cubicBezTo>
                <a:cubicBezTo>
                  <a:pt x="8407" y="3021"/>
                  <a:pt x="8373" y="3062"/>
                  <a:pt x="8458" y="3026"/>
                </a:cubicBezTo>
                <a:cubicBezTo>
                  <a:pt x="8502" y="3008"/>
                  <a:pt x="8569" y="2936"/>
                  <a:pt x="8607" y="2902"/>
                </a:cubicBezTo>
                <a:cubicBezTo>
                  <a:pt x="8630" y="2879"/>
                  <a:pt x="8634" y="2871"/>
                  <a:pt x="8657" y="2877"/>
                </a:cubicBezTo>
                <a:cubicBezTo>
                  <a:pt x="8657" y="2927"/>
                  <a:pt x="8631" y="3050"/>
                  <a:pt x="8682" y="3076"/>
                </a:cubicBezTo>
                <a:cubicBezTo>
                  <a:pt x="8710" y="3090"/>
                  <a:pt x="8798" y="3034"/>
                  <a:pt x="8806" y="3026"/>
                </a:cubicBezTo>
                <a:cubicBezTo>
                  <a:pt x="8818" y="3014"/>
                  <a:pt x="8830" y="2916"/>
                  <a:pt x="8830" y="2977"/>
                </a:cubicBezTo>
                <a:cubicBezTo>
                  <a:pt x="8830" y="3018"/>
                  <a:pt x="8892" y="3023"/>
                  <a:pt x="8930" y="3026"/>
                </a:cubicBezTo>
                <a:cubicBezTo>
                  <a:pt x="8969" y="3029"/>
                  <a:pt x="9022" y="2983"/>
                  <a:pt x="9029" y="2952"/>
                </a:cubicBezTo>
                <a:cubicBezTo>
                  <a:pt x="9040" y="2902"/>
                  <a:pt x="9011" y="2885"/>
                  <a:pt x="8979" y="2853"/>
                </a:cubicBezTo>
                <a:cubicBezTo>
                  <a:pt x="8954" y="2828"/>
                  <a:pt x="8946" y="2820"/>
                  <a:pt x="8930" y="2803"/>
                </a:cubicBezTo>
              </a:path>
              <a:path w="7219" h="1936">
                <a:moveTo>
                  <a:pt x="9351" y="2629"/>
                </a:moveTo>
                <a:cubicBezTo>
                  <a:pt x="9359" y="2613"/>
                  <a:pt x="9368" y="2596"/>
                  <a:pt x="9376" y="2580"/>
                </a:cubicBezTo>
                <a:cubicBezTo>
                  <a:pt x="9392" y="2642"/>
                  <a:pt x="9401" y="2678"/>
                  <a:pt x="9401" y="2753"/>
                </a:cubicBezTo>
                <a:cubicBezTo>
                  <a:pt x="9401" y="2862"/>
                  <a:pt x="9376" y="2964"/>
                  <a:pt x="9376" y="30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86160" y="901800"/>
            <a:ext cx="2822760" cy="384120"/>
          </a:xfrm>
          <a:custGeom>
            <a:avLst/>
            <a:gdLst/>
            <a:ahLst/>
            <a:rect l="l" t="t" r="r" b="b"/>
            <a:pathLst>
              <a:path w="7840" h="1068">
                <a:moveTo>
                  <a:pt x="12129" y="2902"/>
                </a:moveTo>
                <a:cubicBezTo>
                  <a:pt x="12184" y="2920"/>
                  <a:pt x="12146" y="2976"/>
                  <a:pt x="12129" y="3026"/>
                </a:cubicBezTo>
                <a:cubicBezTo>
                  <a:pt x="12090" y="3140"/>
                  <a:pt x="12020" y="3226"/>
                  <a:pt x="11956" y="3324"/>
                </a:cubicBezTo>
                <a:cubicBezTo>
                  <a:pt x="11931" y="3373"/>
                  <a:pt x="11922" y="3390"/>
                  <a:pt x="11906" y="3423"/>
                </a:cubicBezTo>
                <a:cubicBezTo>
                  <a:pt x="11999" y="3330"/>
                  <a:pt x="12100" y="3229"/>
                  <a:pt x="12179" y="3125"/>
                </a:cubicBezTo>
                <a:cubicBezTo>
                  <a:pt x="12295" y="2972"/>
                  <a:pt x="12400" y="2809"/>
                  <a:pt x="12502" y="2654"/>
                </a:cubicBezTo>
                <a:cubicBezTo>
                  <a:pt x="12535" y="2603"/>
                  <a:pt x="12522" y="2593"/>
                  <a:pt x="12576" y="2580"/>
                </a:cubicBezTo>
                <a:cubicBezTo>
                  <a:pt x="12593" y="2682"/>
                  <a:pt x="12601" y="2771"/>
                  <a:pt x="12601" y="2877"/>
                </a:cubicBezTo>
                <a:cubicBezTo>
                  <a:pt x="12601" y="3051"/>
                  <a:pt x="12601" y="3224"/>
                  <a:pt x="12601" y="3398"/>
                </a:cubicBezTo>
              </a:path>
              <a:path w="7840" h="1068">
                <a:moveTo>
                  <a:pt x="12055" y="3324"/>
                </a:moveTo>
                <a:cubicBezTo>
                  <a:pt x="12035" y="3283"/>
                  <a:pt x="12026" y="3277"/>
                  <a:pt x="12030" y="3249"/>
                </a:cubicBezTo>
                <a:cubicBezTo>
                  <a:pt x="12121" y="3205"/>
                  <a:pt x="12176" y="3200"/>
                  <a:pt x="12278" y="3200"/>
                </a:cubicBezTo>
                <a:cubicBezTo>
                  <a:pt x="12394" y="3200"/>
                  <a:pt x="12510" y="3200"/>
                  <a:pt x="12626" y="3200"/>
                </a:cubicBezTo>
              </a:path>
              <a:path w="7840" h="1068">
                <a:moveTo>
                  <a:pt x="13221" y="3125"/>
                </a:moveTo>
                <a:cubicBezTo>
                  <a:pt x="13206" y="3081"/>
                  <a:pt x="13146" y="3100"/>
                  <a:pt x="13097" y="3125"/>
                </a:cubicBezTo>
                <a:cubicBezTo>
                  <a:pt x="13020" y="3165"/>
                  <a:pt x="12877" y="3289"/>
                  <a:pt x="12849" y="3373"/>
                </a:cubicBezTo>
                <a:cubicBezTo>
                  <a:pt x="12822" y="3455"/>
                  <a:pt x="12859" y="3552"/>
                  <a:pt x="12948" y="3572"/>
                </a:cubicBezTo>
                <a:cubicBezTo>
                  <a:pt x="13024" y="3572"/>
                  <a:pt x="13050" y="3571"/>
                  <a:pt x="13097" y="3547"/>
                </a:cubicBezTo>
              </a:path>
              <a:path w="7840" h="1068">
                <a:moveTo>
                  <a:pt x="13469" y="2753"/>
                </a:moveTo>
                <a:cubicBezTo>
                  <a:pt x="13516" y="2719"/>
                  <a:pt x="13557" y="2729"/>
                  <a:pt x="13618" y="2729"/>
                </a:cubicBezTo>
                <a:cubicBezTo>
                  <a:pt x="13701" y="2729"/>
                  <a:pt x="13783" y="2729"/>
                  <a:pt x="13866" y="2729"/>
                </a:cubicBezTo>
              </a:path>
              <a:path w="7840" h="1068">
                <a:moveTo>
                  <a:pt x="14362" y="3125"/>
                </a:moveTo>
                <a:cubicBezTo>
                  <a:pt x="14433" y="3111"/>
                  <a:pt x="14483" y="3101"/>
                  <a:pt x="14560" y="3101"/>
                </a:cubicBezTo>
                <a:cubicBezTo>
                  <a:pt x="14620" y="3101"/>
                  <a:pt x="14640" y="3114"/>
                  <a:pt x="14684" y="3150"/>
                </a:cubicBezTo>
              </a:path>
              <a:path w="7840" h="1068">
                <a:moveTo>
                  <a:pt x="14536" y="3349"/>
                </a:moveTo>
                <a:cubicBezTo>
                  <a:pt x="14528" y="3365"/>
                  <a:pt x="14519" y="3382"/>
                  <a:pt x="14511" y="3398"/>
                </a:cubicBezTo>
                <a:cubicBezTo>
                  <a:pt x="14593" y="3398"/>
                  <a:pt x="14652" y="3395"/>
                  <a:pt x="14734" y="3373"/>
                </a:cubicBezTo>
                <a:cubicBezTo>
                  <a:pt x="14808" y="3349"/>
                  <a:pt x="14833" y="3341"/>
                  <a:pt x="14883" y="3324"/>
                </a:cubicBezTo>
              </a:path>
              <a:path w="7840" h="1068">
                <a:moveTo>
                  <a:pt x="15677" y="2927"/>
                </a:moveTo>
                <a:cubicBezTo>
                  <a:pt x="15638" y="2966"/>
                  <a:pt x="15606" y="2983"/>
                  <a:pt x="15652" y="2977"/>
                </a:cubicBezTo>
                <a:cubicBezTo>
                  <a:pt x="15674" y="2970"/>
                  <a:pt x="15708" y="2929"/>
                  <a:pt x="15677" y="2952"/>
                </a:cubicBezTo>
                <a:cubicBezTo>
                  <a:pt x="15646" y="2975"/>
                  <a:pt x="15633" y="2978"/>
                  <a:pt x="15602" y="3001"/>
                </a:cubicBezTo>
              </a:path>
              <a:path w="7840" h="1068">
                <a:moveTo>
                  <a:pt x="16098" y="2654"/>
                </a:moveTo>
                <a:cubicBezTo>
                  <a:pt x="16145" y="2636"/>
                  <a:pt x="16223" y="2592"/>
                  <a:pt x="16272" y="2604"/>
                </a:cubicBezTo>
                <a:cubicBezTo>
                  <a:pt x="16328" y="2617"/>
                  <a:pt x="16407" y="2695"/>
                  <a:pt x="16421" y="2753"/>
                </a:cubicBezTo>
                <a:cubicBezTo>
                  <a:pt x="16444" y="2849"/>
                  <a:pt x="16339" y="2933"/>
                  <a:pt x="16272" y="2977"/>
                </a:cubicBezTo>
                <a:cubicBezTo>
                  <a:pt x="16245" y="2995"/>
                  <a:pt x="16132" y="3060"/>
                  <a:pt x="16098" y="3026"/>
                </a:cubicBezTo>
                <a:cubicBezTo>
                  <a:pt x="16098" y="3018"/>
                  <a:pt x="16098" y="3009"/>
                  <a:pt x="16098" y="3001"/>
                </a:cubicBezTo>
                <a:cubicBezTo>
                  <a:pt x="16153" y="2925"/>
                  <a:pt x="16178" y="2927"/>
                  <a:pt x="16272" y="2927"/>
                </a:cubicBezTo>
                <a:cubicBezTo>
                  <a:pt x="16368" y="2927"/>
                  <a:pt x="16451" y="2944"/>
                  <a:pt x="16545" y="2952"/>
                </a:cubicBezTo>
              </a:path>
              <a:path w="7840" h="1068">
                <a:moveTo>
                  <a:pt x="16966" y="2753"/>
                </a:moveTo>
                <a:cubicBezTo>
                  <a:pt x="16914" y="2691"/>
                  <a:pt x="16888" y="2695"/>
                  <a:pt x="16818" y="2753"/>
                </a:cubicBezTo>
                <a:cubicBezTo>
                  <a:pt x="16739" y="2818"/>
                  <a:pt x="16744" y="2936"/>
                  <a:pt x="16818" y="3001"/>
                </a:cubicBezTo>
                <a:cubicBezTo>
                  <a:pt x="16909" y="3081"/>
                  <a:pt x="17006" y="3042"/>
                  <a:pt x="17090" y="2977"/>
                </a:cubicBezTo>
                <a:cubicBezTo>
                  <a:pt x="17159" y="2924"/>
                  <a:pt x="17188" y="2838"/>
                  <a:pt x="17165" y="2753"/>
                </a:cubicBezTo>
                <a:cubicBezTo>
                  <a:pt x="17145" y="2678"/>
                  <a:pt x="17083" y="2635"/>
                  <a:pt x="17016" y="2629"/>
                </a:cubicBezTo>
                <a:cubicBezTo>
                  <a:pt x="16976" y="2626"/>
                  <a:pt x="16991" y="2648"/>
                  <a:pt x="16991" y="2679"/>
                </a:cubicBezTo>
              </a:path>
              <a:path w="7840" h="1068">
                <a:moveTo>
                  <a:pt x="17462" y="2729"/>
                </a:moveTo>
                <a:cubicBezTo>
                  <a:pt x="17523" y="2668"/>
                  <a:pt x="17419" y="2776"/>
                  <a:pt x="17413" y="2803"/>
                </a:cubicBezTo>
                <a:cubicBezTo>
                  <a:pt x="17388" y="2911"/>
                  <a:pt x="17511" y="2972"/>
                  <a:pt x="17587" y="3001"/>
                </a:cubicBezTo>
                <a:cubicBezTo>
                  <a:pt x="17684" y="3038"/>
                  <a:pt x="17767" y="3042"/>
                  <a:pt x="17835" y="2952"/>
                </a:cubicBezTo>
                <a:cubicBezTo>
                  <a:pt x="17886" y="2885"/>
                  <a:pt x="17905" y="2779"/>
                  <a:pt x="17859" y="2704"/>
                </a:cubicBezTo>
                <a:cubicBezTo>
                  <a:pt x="17805" y="2616"/>
                  <a:pt x="17727" y="2604"/>
                  <a:pt x="17636" y="2604"/>
                </a:cubicBezTo>
              </a:path>
              <a:path w="7840" h="1068">
                <a:moveTo>
                  <a:pt x="15528" y="3249"/>
                </a:moveTo>
                <a:cubicBezTo>
                  <a:pt x="15586" y="3249"/>
                  <a:pt x="15595" y="3241"/>
                  <a:pt x="15652" y="3249"/>
                </a:cubicBezTo>
                <a:cubicBezTo>
                  <a:pt x="15908" y="3285"/>
                  <a:pt x="16166" y="3330"/>
                  <a:pt x="16421" y="3373"/>
                </a:cubicBezTo>
                <a:cubicBezTo>
                  <a:pt x="16745" y="3428"/>
                  <a:pt x="17060" y="3489"/>
                  <a:pt x="17388" y="3497"/>
                </a:cubicBezTo>
                <a:cubicBezTo>
                  <a:pt x="17686" y="3504"/>
                  <a:pt x="18482" y="3337"/>
                  <a:pt x="18231" y="3497"/>
                </a:cubicBezTo>
                <a:cubicBezTo>
                  <a:pt x="18215" y="3505"/>
                  <a:pt x="18198" y="3514"/>
                  <a:pt x="18182" y="3522"/>
                </a:cubicBezTo>
              </a:path>
              <a:path w="7840" h="1068">
                <a:moveTo>
                  <a:pt x="18157" y="2778"/>
                </a:moveTo>
                <a:cubicBezTo>
                  <a:pt x="18133" y="2808"/>
                  <a:pt x="18092" y="2861"/>
                  <a:pt x="18083" y="2902"/>
                </a:cubicBezTo>
                <a:cubicBezTo>
                  <a:pt x="18069" y="2963"/>
                  <a:pt x="18092" y="3000"/>
                  <a:pt x="18107" y="3026"/>
                </a:cubicBezTo>
                <a:cubicBezTo>
                  <a:pt x="18136" y="2977"/>
                  <a:pt x="18137" y="2947"/>
                  <a:pt x="18182" y="2902"/>
                </a:cubicBezTo>
                <a:cubicBezTo>
                  <a:pt x="18207" y="2877"/>
                  <a:pt x="18215" y="2869"/>
                  <a:pt x="18231" y="2853"/>
                </a:cubicBezTo>
                <a:cubicBezTo>
                  <a:pt x="18257" y="2895"/>
                  <a:pt x="18258" y="2926"/>
                  <a:pt x="18281" y="2977"/>
                </a:cubicBezTo>
                <a:cubicBezTo>
                  <a:pt x="18295" y="3008"/>
                  <a:pt x="18306" y="3055"/>
                  <a:pt x="18355" y="3051"/>
                </a:cubicBezTo>
                <a:cubicBezTo>
                  <a:pt x="18395" y="3048"/>
                  <a:pt x="18446" y="3010"/>
                  <a:pt x="18479" y="2977"/>
                </a:cubicBezTo>
                <a:cubicBezTo>
                  <a:pt x="18520" y="2936"/>
                  <a:pt x="18526" y="2935"/>
                  <a:pt x="18579" y="2927"/>
                </a:cubicBezTo>
                <a:cubicBezTo>
                  <a:pt x="18593" y="2951"/>
                  <a:pt x="18614" y="3015"/>
                  <a:pt x="18653" y="3026"/>
                </a:cubicBezTo>
                <a:cubicBezTo>
                  <a:pt x="18724" y="3046"/>
                  <a:pt x="18796" y="3017"/>
                  <a:pt x="18852" y="3001"/>
                </a:cubicBezTo>
                <a:cubicBezTo>
                  <a:pt x="18860" y="3001"/>
                  <a:pt x="18868" y="3001"/>
                  <a:pt x="18876" y="3001"/>
                </a:cubicBezTo>
                <a:cubicBezTo>
                  <a:pt x="18878" y="3008"/>
                  <a:pt x="18884" y="3020"/>
                  <a:pt x="18926" y="3051"/>
                </a:cubicBezTo>
                <a:cubicBezTo>
                  <a:pt x="18962" y="3078"/>
                  <a:pt x="18972" y="3113"/>
                  <a:pt x="19025" y="3101"/>
                </a:cubicBezTo>
                <a:cubicBezTo>
                  <a:pt x="19077" y="3089"/>
                  <a:pt x="19072" y="3076"/>
                  <a:pt x="19075" y="3026"/>
                </a:cubicBezTo>
                <a:cubicBezTo>
                  <a:pt x="19079" y="2966"/>
                  <a:pt x="19060" y="2932"/>
                  <a:pt x="19050" y="2877"/>
                </a:cubicBezTo>
                <a:cubicBezTo>
                  <a:pt x="19050" y="2869"/>
                  <a:pt x="19050" y="2861"/>
                  <a:pt x="19050" y="2853"/>
                </a:cubicBezTo>
                <a:cubicBezTo>
                  <a:pt x="19169" y="2853"/>
                  <a:pt x="19281" y="2858"/>
                  <a:pt x="19397" y="2828"/>
                </a:cubicBezTo>
                <a:cubicBezTo>
                  <a:pt x="19499" y="2802"/>
                  <a:pt x="19624" y="2734"/>
                  <a:pt x="19695" y="2654"/>
                </a:cubicBezTo>
                <a:cubicBezTo>
                  <a:pt x="19720" y="2604"/>
                  <a:pt x="19728" y="2588"/>
                  <a:pt x="19745" y="2555"/>
                </a:cubicBezTo>
                <a:cubicBezTo>
                  <a:pt x="19671" y="2506"/>
                  <a:pt x="19602" y="2496"/>
                  <a:pt x="19521" y="2555"/>
                </a:cubicBezTo>
                <a:cubicBezTo>
                  <a:pt x="19412" y="2635"/>
                  <a:pt x="19345" y="2819"/>
                  <a:pt x="19348" y="2952"/>
                </a:cubicBezTo>
                <a:cubicBezTo>
                  <a:pt x="19356" y="2985"/>
                  <a:pt x="19364" y="3018"/>
                  <a:pt x="19372" y="30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45080" y="1357200"/>
            <a:ext cx="992160" cy="258840"/>
          </a:xfrm>
          <a:custGeom>
            <a:avLst/>
            <a:gdLst/>
            <a:ahLst/>
            <a:rect l="l" t="t" r="r" b="b"/>
            <a:pathLst>
              <a:path w="2754" h="721">
                <a:moveTo>
                  <a:pt x="16049" y="3770"/>
                </a:moveTo>
                <a:cubicBezTo>
                  <a:pt x="16099" y="3783"/>
                  <a:pt x="16112" y="3795"/>
                  <a:pt x="16173" y="3795"/>
                </a:cubicBezTo>
                <a:cubicBezTo>
                  <a:pt x="16266" y="3795"/>
                  <a:pt x="16336" y="3800"/>
                  <a:pt x="16421" y="3820"/>
                </a:cubicBezTo>
                <a:cubicBezTo>
                  <a:pt x="16429" y="3820"/>
                  <a:pt x="16438" y="3820"/>
                  <a:pt x="16446" y="3820"/>
                </a:cubicBezTo>
              </a:path>
              <a:path w="2754" h="721">
                <a:moveTo>
                  <a:pt x="16173" y="3820"/>
                </a:moveTo>
                <a:cubicBezTo>
                  <a:pt x="16111" y="3837"/>
                  <a:pt x="16029" y="3834"/>
                  <a:pt x="15974" y="3870"/>
                </a:cubicBezTo>
                <a:cubicBezTo>
                  <a:pt x="15927" y="3901"/>
                  <a:pt x="15908" y="3967"/>
                  <a:pt x="15900" y="4018"/>
                </a:cubicBezTo>
                <a:cubicBezTo>
                  <a:pt x="15885" y="4105"/>
                  <a:pt x="15947" y="4146"/>
                  <a:pt x="15999" y="4192"/>
                </a:cubicBezTo>
                <a:cubicBezTo>
                  <a:pt x="16048" y="4235"/>
                  <a:pt x="16077" y="4257"/>
                  <a:pt x="16123" y="4291"/>
                </a:cubicBezTo>
                <a:cubicBezTo>
                  <a:pt x="16068" y="4291"/>
                  <a:pt x="16030" y="4314"/>
                  <a:pt x="15974" y="4316"/>
                </a:cubicBezTo>
                <a:cubicBezTo>
                  <a:pt x="15908" y="4319"/>
                  <a:pt x="15864" y="4341"/>
                  <a:pt x="15801" y="4341"/>
                </a:cubicBezTo>
              </a:path>
              <a:path w="2754" h="721">
                <a:moveTo>
                  <a:pt x="15503" y="4242"/>
                </a:moveTo>
                <a:cubicBezTo>
                  <a:pt x="15415" y="4268"/>
                  <a:pt x="15397" y="4296"/>
                  <a:pt x="15453" y="4266"/>
                </a:cubicBezTo>
                <a:cubicBezTo>
                  <a:pt x="15476" y="4244"/>
                  <a:pt x="15481" y="4236"/>
                  <a:pt x="15503" y="4242"/>
                </a:cubicBezTo>
              </a:path>
              <a:path w="2754" h="721">
                <a:moveTo>
                  <a:pt x="16694" y="4068"/>
                </a:moveTo>
                <a:cubicBezTo>
                  <a:pt x="16609" y="4068"/>
                  <a:pt x="16584" y="4058"/>
                  <a:pt x="16520" y="4118"/>
                </a:cubicBezTo>
                <a:cubicBezTo>
                  <a:pt x="16438" y="4195"/>
                  <a:pt x="16401" y="4229"/>
                  <a:pt x="16396" y="4341"/>
                </a:cubicBezTo>
                <a:cubicBezTo>
                  <a:pt x="16391" y="4451"/>
                  <a:pt x="16521" y="4434"/>
                  <a:pt x="16594" y="4415"/>
                </a:cubicBezTo>
                <a:cubicBezTo>
                  <a:pt x="16665" y="4397"/>
                  <a:pt x="16786" y="4313"/>
                  <a:pt x="16818" y="4242"/>
                </a:cubicBezTo>
                <a:cubicBezTo>
                  <a:pt x="16846" y="4179"/>
                  <a:pt x="16795" y="4115"/>
                  <a:pt x="16743" y="4093"/>
                </a:cubicBezTo>
                <a:cubicBezTo>
                  <a:pt x="16727" y="4086"/>
                  <a:pt x="16687" y="4093"/>
                  <a:pt x="16669" y="4093"/>
                </a:cubicBezTo>
              </a:path>
              <a:path w="2754" h="721">
                <a:moveTo>
                  <a:pt x="17115" y="4043"/>
                </a:moveTo>
                <a:cubicBezTo>
                  <a:pt x="17056" y="4103"/>
                  <a:pt x="17020" y="4131"/>
                  <a:pt x="17016" y="4217"/>
                </a:cubicBezTo>
                <a:cubicBezTo>
                  <a:pt x="17011" y="4325"/>
                  <a:pt x="17015" y="4391"/>
                  <a:pt x="17140" y="4415"/>
                </a:cubicBezTo>
                <a:cubicBezTo>
                  <a:pt x="17247" y="4436"/>
                  <a:pt x="17353" y="4407"/>
                  <a:pt x="17438" y="4341"/>
                </a:cubicBezTo>
                <a:cubicBezTo>
                  <a:pt x="17513" y="4282"/>
                  <a:pt x="17543" y="4202"/>
                  <a:pt x="17512" y="4118"/>
                </a:cubicBezTo>
                <a:cubicBezTo>
                  <a:pt x="17483" y="4040"/>
                  <a:pt x="17434" y="4011"/>
                  <a:pt x="17363" y="3994"/>
                </a:cubicBezTo>
              </a:path>
              <a:path w="2754" h="721">
                <a:moveTo>
                  <a:pt x="17884" y="4043"/>
                </a:moveTo>
                <a:cubicBezTo>
                  <a:pt x="17884" y="4018"/>
                  <a:pt x="17884" y="4010"/>
                  <a:pt x="17909" y="4018"/>
                </a:cubicBezTo>
                <a:cubicBezTo>
                  <a:pt x="17896" y="4071"/>
                  <a:pt x="17841" y="4116"/>
                  <a:pt x="17810" y="4167"/>
                </a:cubicBezTo>
                <a:cubicBezTo>
                  <a:pt x="17776" y="4224"/>
                  <a:pt x="17725" y="4324"/>
                  <a:pt x="17711" y="4390"/>
                </a:cubicBezTo>
                <a:cubicBezTo>
                  <a:pt x="17691" y="4480"/>
                  <a:pt x="17772" y="4488"/>
                  <a:pt x="17835" y="4490"/>
                </a:cubicBezTo>
                <a:cubicBezTo>
                  <a:pt x="17942" y="4494"/>
                  <a:pt x="18050" y="4490"/>
                  <a:pt x="18157" y="44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01920" y="1973160"/>
            <a:ext cx="750960" cy="295200"/>
          </a:xfrm>
          <a:custGeom>
            <a:avLst/>
            <a:gdLst/>
            <a:ahLst/>
            <a:rect l="l" t="t" r="r" b="b"/>
            <a:pathLst>
              <a:path w="2085" h="819">
                <a:moveTo>
                  <a:pt x="6846" y="5482"/>
                </a:moveTo>
                <a:cubicBezTo>
                  <a:pt x="6831" y="5573"/>
                  <a:pt x="6795" y="5665"/>
                  <a:pt x="6772" y="5755"/>
                </a:cubicBezTo>
                <a:cubicBezTo>
                  <a:pt x="6739" y="5884"/>
                  <a:pt x="6695" y="6021"/>
                  <a:pt x="6672" y="6152"/>
                </a:cubicBezTo>
                <a:cubicBezTo>
                  <a:pt x="6672" y="6201"/>
                  <a:pt x="6672" y="6218"/>
                  <a:pt x="6672" y="6251"/>
                </a:cubicBezTo>
              </a:path>
              <a:path w="2085" h="819">
                <a:moveTo>
                  <a:pt x="6672" y="5978"/>
                </a:moveTo>
                <a:cubicBezTo>
                  <a:pt x="6723" y="5978"/>
                  <a:pt x="6730" y="5971"/>
                  <a:pt x="6772" y="5953"/>
                </a:cubicBezTo>
                <a:cubicBezTo>
                  <a:pt x="6865" y="5914"/>
                  <a:pt x="6971" y="5912"/>
                  <a:pt x="7069" y="5879"/>
                </a:cubicBezTo>
                <a:cubicBezTo>
                  <a:pt x="7144" y="5854"/>
                  <a:pt x="7168" y="5846"/>
                  <a:pt x="7218" y="5829"/>
                </a:cubicBezTo>
              </a:path>
              <a:path w="2085" h="819">
                <a:moveTo>
                  <a:pt x="7243" y="5655"/>
                </a:moveTo>
                <a:cubicBezTo>
                  <a:pt x="7174" y="5665"/>
                  <a:pt x="7149" y="5684"/>
                  <a:pt x="7119" y="5755"/>
                </a:cubicBezTo>
                <a:cubicBezTo>
                  <a:pt x="7076" y="5860"/>
                  <a:pt x="7073" y="5990"/>
                  <a:pt x="7045" y="6102"/>
                </a:cubicBezTo>
                <a:cubicBezTo>
                  <a:pt x="7022" y="6192"/>
                  <a:pt x="7014" y="6216"/>
                  <a:pt x="7020" y="6276"/>
                </a:cubicBezTo>
              </a:path>
              <a:path w="2085" h="819">
                <a:moveTo>
                  <a:pt x="7764" y="5680"/>
                </a:moveTo>
                <a:cubicBezTo>
                  <a:pt x="7859" y="5648"/>
                  <a:pt x="7801" y="5735"/>
                  <a:pt x="7764" y="5804"/>
                </a:cubicBezTo>
                <a:cubicBezTo>
                  <a:pt x="7719" y="5887"/>
                  <a:pt x="7639" y="5986"/>
                  <a:pt x="7615" y="6077"/>
                </a:cubicBezTo>
                <a:cubicBezTo>
                  <a:pt x="7615" y="6094"/>
                  <a:pt x="7615" y="6110"/>
                  <a:pt x="7615" y="6127"/>
                </a:cubicBezTo>
                <a:cubicBezTo>
                  <a:pt x="7670" y="6058"/>
                  <a:pt x="7702" y="5983"/>
                  <a:pt x="7739" y="5904"/>
                </a:cubicBezTo>
                <a:cubicBezTo>
                  <a:pt x="7777" y="5822"/>
                  <a:pt x="7833" y="5648"/>
                  <a:pt x="7888" y="5581"/>
                </a:cubicBezTo>
                <a:cubicBezTo>
                  <a:pt x="7905" y="5560"/>
                  <a:pt x="7963" y="5531"/>
                  <a:pt x="7987" y="5507"/>
                </a:cubicBezTo>
                <a:cubicBezTo>
                  <a:pt x="8052" y="5587"/>
                  <a:pt x="8059" y="5651"/>
                  <a:pt x="8062" y="5755"/>
                </a:cubicBezTo>
                <a:cubicBezTo>
                  <a:pt x="8066" y="5900"/>
                  <a:pt x="8070" y="6034"/>
                  <a:pt x="8086" y="6176"/>
                </a:cubicBezTo>
                <a:cubicBezTo>
                  <a:pt x="8090" y="6216"/>
                  <a:pt x="8086" y="6259"/>
                  <a:pt x="8086" y="6300"/>
                </a:cubicBezTo>
              </a:path>
              <a:path w="2085" h="819">
                <a:moveTo>
                  <a:pt x="7615" y="5953"/>
                </a:moveTo>
                <a:cubicBezTo>
                  <a:pt x="7573" y="5953"/>
                  <a:pt x="7548" y="5953"/>
                  <a:pt x="7590" y="5953"/>
                </a:cubicBezTo>
                <a:cubicBezTo>
                  <a:pt x="7726" y="5953"/>
                  <a:pt x="7854" y="5939"/>
                  <a:pt x="7987" y="5928"/>
                </a:cubicBezTo>
                <a:cubicBezTo>
                  <a:pt x="8086" y="5928"/>
                  <a:pt x="8120" y="5928"/>
                  <a:pt x="8186" y="5928"/>
                </a:cubicBezTo>
              </a:path>
              <a:path w="2085" h="819">
                <a:moveTo>
                  <a:pt x="8756" y="5953"/>
                </a:moveTo>
                <a:cubicBezTo>
                  <a:pt x="8756" y="5928"/>
                  <a:pt x="8756" y="5920"/>
                  <a:pt x="8756" y="5904"/>
                </a:cubicBezTo>
                <a:cubicBezTo>
                  <a:pt x="8698" y="5904"/>
                  <a:pt x="8661" y="5904"/>
                  <a:pt x="8607" y="5928"/>
                </a:cubicBezTo>
                <a:cubicBezTo>
                  <a:pt x="8546" y="5955"/>
                  <a:pt x="8458" y="6022"/>
                  <a:pt x="8483" y="6102"/>
                </a:cubicBezTo>
                <a:cubicBezTo>
                  <a:pt x="8505" y="6172"/>
                  <a:pt x="8607" y="6152"/>
                  <a:pt x="8657" y="6152"/>
                </a:cubicBezTo>
                <a:cubicBezTo>
                  <a:pt x="8682" y="6152"/>
                  <a:pt x="8706" y="6152"/>
                  <a:pt x="8731" y="61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90920" y="1982880"/>
            <a:ext cx="590400" cy="374400"/>
          </a:xfrm>
          <a:custGeom>
            <a:avLst/>
            <a:gdLst/>
            <a:ahLst/>
            <a:rect l="l" t="t" r="r" b="b"/>
            <a:pathLst>
              <a:path w="1638" h="1042">
                <a:moveTo>
                  <a:pt x="9847" y="5829"/>
                </a:moveTo>
                <a:cubicBezTo>
                  <a:pt x="9904" y="5821"/>
                  <a:pt x="9936" y="5816"/>
                  <a:pt x="9996" y="5804"/>
                </a:cubicBezTo>
                <a:cubicBezTo>
                  <a:pt x="10161" y="5771"/>
                  <a:pt x="10325" y="5774"/>
                  <a:pt x="10492" y="5755"/>
                </a:cubicBezTo>
                <a:cubicBezTo>
                  <a:pt x="10662" y="5736"/>
                  <a:pt x="10847" y="5718"/>
                  <a:pt x="11013" y="5680"/>
                </a:cubicBezTo>
                <a:cubicBezTo>
                  <a:pt x="11089" y="5662"/>
                  <a:pt x="11135" y="5638"/>
                  <a:pt x="11212" y="5631"/>
                </a:cubicBezTo>
                <a:cubicBezTo>
                  <a:pt x="11180" y="5599"/>
                  <a:pt x="11164" y="5607"/>
                  <a:pt x="11112" y="5581"/>
                </a:cubicBezTo>
                <a:cubicBezTo>
                  <a:pt x="11043" y="5546"/>
                  <a:pt x="10971" y="5518"/>
                  <a:pt x="10889" y="5507"/>
                </a:cubicBezTo>
                <a:cubicBezTo>
                  <a:pt x="10813" y="5496"/>
                  <a:pt x="10730" y="5508"/>
                  <a:pt x="10691" y="5531"/>
                </a:cubicBezTo>
                <a:cubicBezTo>
                  <a:pt x="10699" y="5531"/>
                  <a:pt x="10708" y="5531"/>
                  <a:pt x="10716" y="5531"/>
                </a:cubicBezTo>
              </a:path>
              <a:path w="1638" h="1042">
                <a:moveTo>
                  <a:pt x="11336" y="6102"/>
                </a:moveTo>
                <a:cubicBezTo>
                  <a:pt x="11303" y="6122"/>
                  <a:pt x="11229" y="6147"/>
                  <a:pt x="11187" y="6152"/>
                </a:cubicBezTo>
                <a:cubicBezTo>
                  <a:pt x="11081" y="6165"/>
                  <a:pt x="10971" y="6193"/>
                  <a:pt x="10864" y="6201"/>
                </a:cubicBezTo>
                <a:cubicBezTo>
                  <a:pt x="10681" y="6215"/>
                  <a:pt x="10501" y="6224"/>
                  <a:pt x="10319" y="6251"/>
                </a:cubicBezTo>
                <a:cubicBezTo>
                  <a:pt x="10157" y="6275"/>
                  <a:pt x="9979" y="6298"/>
                  <a:pt x="9823" y="6350"/>
                </a:cubicBezTo>
                <a:cubicBezTo>
                  <a:pt x="9756" y="6372"/>
                  <a:pt x="9736" y="6397"/>
                  <a:pt x="9699" y="6449"/>
                </a:cubicBezTo>
                <a:cubicBezTo>
                  <a:pt x="9759" y="6492"/>
                  <a:pt x="9846" y="6539"/>
                  <a:pt x="9947" y="6548"/>
                </a:cubicBezTo>
                <a:cubicBezTo>
                  <a:pt x="10175" y="6567"/>
                  <a:pt x="10412" y="6548"/>
                  <a:pt x="10641" y="65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54360" y="1963800"/>
            <a:ext cx="544680" cy="331560"/>
          </a:xfrm>
          <a:custGeom>
            <a:avLst/>
            <a:gdLst/>
            <a:ahLst/>
            <a:rect l="l" t="t" r="r" b="b"/>
            <a:pathLst>
              <a:path w="1514" h="919">
                <a:moveTo>
                  <a:pt x="12898" y="5457"/>
                </a:moveTo>
                <a:cubicBezTo>
                  <a:pt x="12888" y="5543"/>
                  <a:pt x="12857" y="5648"/>
                  <a:pt x="12824" y="5730"/>
                </a:cubicBezTo>
                <a:cubicBezTo>
                  <a:pt x="12768" y="5869"/>
                  <a:pt x="12742" y="6007"/>
                  <a:pt x="12700" y="6152"/>
                </a:cubicBezTo>
                <a:cubicBezTo>
                  <a:pt x="12682" y="6213"/>
                  <a:pt x="12675" y="6240"/>
                  <a:pt x="12675" y="6300"/>
                </a:cubicBezTo>
              </a:path>
              <a:path w="1514" h="919">
                <a:moveTo>
                  <a:pt x="12650" y="6052"/>
                </a:moveTo>
                <a:cubicBezTo>
                  <a:pt x="12741" y="6052"/>
                  <a:pt x="12811" y="6036"/>
                  <a:pt x="12898" y="6003"/>
                </a:cubicBezTo>
                <a:cubicBezTo>
                  <a:pt x="13044" y="5947"/>
                  <a:pt x="13187" y="5912"/>
                  <a:pt x="13320" y="5829"/>
                </a:cubicBezTo>
                <a:cubicBezTo>
                  <a:pt x="13394" y="5783"/>
                  <a:pt x="13485" y="5774"/>
                  <a:pt x="13494" y="5680"/>
                </a:cubicBezTo>
                <a:cubicBezTo>
                  <a:pt x="13494" y="5672"/>
                  <a:pt x="13494" y="5663"/>
                  <a:pt x="13494" y="5655"/>
                </a:cubicBezTo>
                <a:cubicBezTo>
                  <a:pt x="13429" y="5655"/>
                  <a:pt x="13399" y="5666"/>
                  <a:pt x="13370" y="5730"/>
                </a:cubicBezTo>
                <a:cubicBezTo>
                  <a:pt x="13316" y="5848"/>
                  <a:pt x="13298" y="5974"/>
                  <a:pt x="13295" y="6102"/>
                </a:cubicBezTo>
                <a:cubicBezTo>
                  <a:pt x="13293" y="6193"/>
                  <a:pt x="13295" y="6284"/>
                  <a:pt x="13295" y="6375"/>
                </a:cubicBezTo>
              </a:path>
              <a:path w="1514" h="919">
                <a:moveTo>
                  <a:pt x="13767" y="5631"/>
                </a:moveTo>
                <a:cubicBezTo>
                  <a:pt x="13840" y="5631"/>
                  <a:pt x="13898" y="5647"/>
                  <a:pt x="13965" y="5655"/>
                </a:cubicBezTo>
                <a:cubicBezTo>
                  <a:pt x="14041" y="5665"/>
                  <a:pt x="14094" y="5645"/>
                  <a:pt x="14163" y="5631"/>
                </a:cubicBezTo>
              </a:path>
              <a:path w="1514" h="919">
                <a:moveTo>
                  <a:pt x="14064" y="5482"/>
                </a:moveTo>
                <a:cubicBezTo>
                  <a:pt x="13988" y="5537"/>
                  <a:pt x="13988" y="5569"/>
                  <a:pt x="13965" y="5655"/>
                </a:cubicBezTo>
                <a:cubicBezTo>
                  <a:pt x="13946" y="5728"/>
                  <a:pt x="13940" y="5779"/>
                  <a:pt x="13940" y="58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84880" y="2098800"/>
            <a:ext cx="179280" cy="160200"/>
          </a:xfrm>
          <a:custGeom>
            <a:avLst/>
            <a:gdLst/>
            <a:ahLst/>
            <a:rect l="l" t="t" r="r" b="b"/>
            <a:pathLst>
              <a:path w="497" h="448">
                <a:moveTo>
                  <a:pt x="14982" y="6052"/>
                </a:moveTo>
                <a:cubicBezTo>
                  <a:pt x="14941" y="6052"/>
                  <a:pt x="15016" y="6063"/>
                  <a:pt x="15056" y="6052"/>
                </a:cubicBezTo>
                <a:cubicBezTo>
                  <a:pt x="15148" y="6026"/>
                  <a:pt x="15231" y="6028"/>
                  <a:pt x="15329" y="6028"/>
                </a:cubicBezTo>
                <a:cubicBezTo>
                  <a:pt x="15395" y="6028"/>
                  <a:pt x="15412" y="6028"/>
                  <a:pt x="15453" y="6028"/>
                </a:cubicBezTo>
              </a:path>
              <a:path w="497" h="448">
                <a:moveTo>
                  <a:pt x="15329" y="5829"/>
                </a:moveTo>
                <a:cubicBezTo>
                  <a:pt x="15295" y="5885"/>
                  <a:pt x="15304" y="5932"/>
                  <a:pt x="15304" y="6003"/>
                </a:cubicBezTo>
                <a:cubicBezTo>
                  <a:pt x="15304" y="6094"/>
                  <a:pt x="15304" y="6185"/>
                  <a:pt x="15304" y="62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57920" y="1973160"/>
            <a:ext cx="687240" cy="304920"/>
          </a:xfrm>
          <a:custGeom>
            <a:avLst/>
            <a:gdLst/>
            <a:ahLst/>
            <a:rect l="l" t="t" r="r" b="b"/>
            <a:pathLst>
              <a:path w="1911" h="844">
                <a:moveTo>
                  <a:pt x="16594" y="5655"/>
                </a:moveTo>
                <a:cubicBezTo>
                  <a:pt x="16616" y="5677"/>
                  <a:pt x="16554" y="5776"/>
                  <a:pt x="16520" y="5829"/>
                </a:cubicBezTo>
                <a:cubicBezTo>
                  <a:pt x="16449" y="5939"/>
                  <a:pt x="16379" y="6034"/>
                  <a:pt x="16321" y="6152"/>
                </a:cubicBezTo>
                <a:cubicBezTo>
                  <a:pt x="16302" y="6189"/>
                  <a:pt x="16273" y="6273"/>
                  <a:pt x="16297" y="6201"/>
                </a:cubicBezTo>
                <a:cubicBezTo>
                  <a:pt x="16385" y="6102"/>
                  <a:pt x="16436" y="5998"/>
                  <a:pt x="16495" y="5879"/>
                </a:cubicBezTo>
                <a:cubicBezTo>
                  <a:pt x="16544" y="5780"/>
                  <a:pt x="16598" y="5612"/>
                  <a:pt x="16669" y="5531"/>
                </a:cubicBezTo>
                <a:cubicBezTo>
                  <a:pt x="16708" y="5487"/>
                  <a:pt x="16765" y="5482"/>
                  <a:pt x="16818" y="5482"/>
                </a:cubicBezTo>
                <a:cubicBezTo>
                  <a:pt x="16831" y="5600"/>
                  <a:pt x="16842" y="5707"/>
                  <a:pt x="16842" y="5829"/>
                </a:cubicBezTo>
                <a:cubicBezTo>
                  <a:pt x="16842" y="5975"/>
                  <a:pt x="16812" y="6111"/>
                  <a:pt x="16793" y="6251"/>
                </a:cubicBezTo>
                <a:cubicBezTo>
                  <a:pt x="16793" y="6295"/>
                  <a:pt x="16796" y="6309"/>
                  <a:pt x="16768" y="6325"/>
                </a:cubicBezTo>
              </a:path>
              <a:path w="1911" h="844">
                <a:moveTo>
                  <a:pt x="16421" y="6052"/>
                </a:moveTo>
                <a:cubicBezTo>
                  <a:pt x="16470" y="6004"/>
                  <a:pt x="16475" y="6003"/>
                  <a:pt x="16545" y="6003"/>
                </a:cubicBezTo>
                <a:cubicBezTo>
                  <a:pt x="16654" y="6003"/>
                  <a:pt x="16755" y="5978"/>
                  <a:pt x="16867" y="5978"/>
                </a:cubicBezTo>
                <a:cubicBezTo>
                  <a:pt x="16942" y="5978"/>
                  <a:pt x="16966" y="5978"/>
                  <a:pt x="17016" y="5978"/>
                </a:cubicBezTo>
              </a:path>
              <a:path w="1911" h="844">
                <a:moveTo>
                  <a:pt x="17363" y="6003"/>
                </a:moveTo>
                <a:cubicBezTo>
                  <a:pt x="17303" y="6003"/>
                  <a:pt x="17270" y="6042"/>
                  <a:pt x="17214" y="6052"/>
                </a:cubicBezTo>
                <a:cubicBezTo>
                  <a:pt x="17139" y="6065"/>
                  <a:pt x="17063" y="6084"/>
                  <a:pt x="17041" y="6176"/>
                </a:cubicBezTo>
                <a:cubicBezTo>
                  <a:pt x="17023" y="6251"/>
                  <a:pt x="17126" y="6314"/>
                  <a:pt x="17190" y="6325"/>
                </a:cubicBezTo>
                <a:cubicBezTo>
                  <a:pt x="17264" y="6325"/>
                  <a:pt x="17289" y="6325"/>
                  <a:pt x="17338" y="6325"/>
                </a:cubicBezTo>
              </a:path>
              <a:path w="1911" h="844">
                <a:moveTo>
                  <a:pt x="17785" y="5531"/>
                </a:moveTo>
                <a:cubicBezTo>
                  <a:pt x="17917" y="5531"/>
                  <a:pt x="18050" y="5531"/>
                  <a:pt x="18182" y="55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47920" y="2401920"/>
            <a:ext cx="403200" cy="277920"/>
          </a:xfrm>
          <a:custGeom>
            <a:avLst/>
            <a:gdLst/>
            <a:ahLst/>
            <a:rect l="l" t="t" r="r" b="b"/>
            <a:pathLst>
              <a:path w="1117" h="770">
                <a:moveTo>
                  <a:pt x="6945" y="6945"/>
                </a:moveTo>
                <a:cubicBezTo>
                  <a:pt x="6904" y="6945"/>
                  <a:pt x="6979" y="6945"/>
                  <a:pt x="7020" y="6945"/>
                </a:cubicBezTo>
                <a:cubicBezTo>
                  <a:pt x="7094" y="6945"/>
                  <a:pt x="7148" y="6965"/>
                  <a:pt x="7218" y="6970"/>
                </a:cubicBezTo>
                <a:cubicBezTo>
                  <a:pt x="7251" y="6973"/>
                  <a:pt x="7284" y="6970"/>
                  <a:pt x="7317" y="6970"/>
                </a:cubicBezTo>
              </a:path>
              <a:path w="1117" h="770">
                <a:moveTo>
                  <a:pt x="7491" y="6672"/>
                </a:moveTo>
                <a:cubicBezTo>
                  <a:pt x="7538" y="6726"/>
                  <a:pt x="7578" y="6785"/>
                  <a:pt x="7615" y="6846"/>
                </a:cubicBezTo>
                <a:cubicBezTo>
                  <a:pt x="7656" y="6914"/>
                  <a:pt x="7646" y="6977"/>
                  <a:pt x="7615" y="7045"/>
                </a:cubicBezTo>
                <a:cubicBezTo>
                  <a:pt x="7590" y="7101"/>
                  <a:pt x="7548" y="7142"/>
                  <a:pt x="7516" y="7193"/>
                </a:cubicBezTo>
              </a:path>
              <a:path w="1117" h="770">
                <a:moveTo>
                  <a:pt x="6772" y="6796"/>
                </a:moveTo>
                <a:cubicBezTo>
                  <a:pt x="6684" y="6860"/>
                  <a:pt x="6620" y="6918"/>
                  <a:pt x="6573" y="7020"/>
                </a:cubicBezTo>
                <a:cubicBezTo>
                  <a:pt x="6523" y="7128"/>
                  <a:pt x="6509" y="7229"/>
                  <a:pt x="6548" y="7342"/>
                </a:cubicBezTo>
                <a:cubicBezTo>
                  <a:pt x="6575" y="7421"/>
                  <a:pt x="6628" y="7426"/>
                  <a:pt x="6697" y="74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8320" y="2473200"/>
            <a:ext cx="411480" cy="196920"/>
          </a:xfrm>
          <a:custGeom>
            <a:avLst/>
            <a:gdLst/>
            <a:ahLst/>
            <a:rect l="l" t="t" r="r" b="b"/>
            <a:pathLst>
              <a:path w="1142" h="547">
                <a:moveTo>
                  <a:pt x="8186" y="7317"/>
                </a:moveTo>
                <a:cubicBezTo>
                  <a:pt x="8161" y="7317"/>
                  <a:pt x="8153" y="7317"/>
                  <a:pt x="8161" y="7342"/>
                </a:cubicBezTo>
                <a:cubicBezTo>
                  <a:pt x="8169" y="7339"/>
                  <a:pt x="8235" y="7293"/>
                  <a:pt x="8210" y="7268"/>
                </a:cubicBezTo>
                <a:cubicBezTo>
                  <a:pt x="8202" y="7268"/>
                  <a:pt x="8194" y="7268"/>
                  <a:pt x="8186" y="7268"/>
                </a:cubicBezTo>
              </a:path>
              <a:path w="1142" h="547">
                <a:moveTo>
                  <a:pt x="8607" y="6995"/>
                </a:moveTo>
                <a:cubicBezTo>
                  <a:pt x="8557" y="7024"/>
                  <a:pt x="8524" y="7053"/>
                  <a:pt x="8483" y="7094"/>
                </a:cubicBezTo>
                <a:cubicBezTo>
                  <a:pt x="8420" y="7157"/>
                  <a:pt x="8476" y="7188"/>
                  <a:pt x="8533" y="7218"/>
                </a:cubicBezTo>
                <a:cubicBezTo>
                  <a:pt x="8605" y="7256"/>
                  <a:pt x="8665" y="7244"/>
                  <a:pt x="8731" y="7193"/>
                </a:cubicBezTo>
                <a:cubicBezTo>
                  <a:pt x="8740" y="7186"/>
                  <a:pt x="8844" y="7103"/>
                  <a:pt x="8806" y="7069"/>
                </a:cubicBezTo>
                <a:cubicBezTo>
                  <a:pt x="8761" y="7029"/>
                  <a:pt x="8688" y="7008"/>
                  <a:pt x="8632" y="6995"/>
                </a:cubicBezTo>
                <a:cubicBezTo>
                  <a:pt x="8607" y="6995"/>
                  <a:pt x="8599" y="6995"/>
                  <a:pt x="8607" y="6970"/>
                </a:cubicBezTo>
              </a:path>
              <a:path w="1142" h="547">
                <a:moveTo>
                  <a:pt x="9004" y="6921"/>
                </a:moveTo>
                <a:cubicBezTo>
                  <a:pt x="9103" y="6921"/>
                  <a:pt x="9203" y="6921"/>
                  <a:pt x="9302" y="6921"/>
                </a:cubicBezTo>
              </a:path>
              <a:path w="1142" h="547">
                <a:moveTo>
                  <a:pt x="9227" y="6871"/>
                </a:moveTo>
                <a:cubicBezTo>
                  <a:pt x="9139" y="6915"/>
                  <a:pt x="9053" y="6958"/>
                  <a:pt x="8979" y="7020"/>
                </a:cubicBezTo>
                <a:cubicBezTo>
                  <a:pt x="8922" y="7067"/>
                  <a:pt x="8912" y="7107"/>
                  <a:pt x="8954" y="7144"/>
                </a:cubicBezTo>
                <a:cubicBezTo>
                  <a:pt x="9004" y="7188"/>
                  <a:pt x="9087" y="7169"/>
                  <a:pt x="9153" y="7169"/>
                </a:cubicBezTo>
                <a:cubicBezTo>
                  <a:pt x="9170" y="7169"/>
                  <a:pt x="9186" y="7169"/>
                  <a:pt x="9203" y="7169"/>
                </a:cubicBezTo>
                <a:cubicBezTo>
                  <a:pt x="9203" y="7248"/>
                  <a:pt x="9194" y="7237"/>
                  <a:pt x="9153" y="7293"/>
                </a:cubicBezTo>
                <a:cubicBezTo>
                  <a:pt x="9105" y="7358"/>
                  <a:pt x="9088" y="7400"/>
                  <a:pt x="9004" y="74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57920" y="2438280"/>
            <a:ext cx="285840" cy="187560"/>
          </a:xfrm>
          <a:custGeom>
            <a:avLst/>
            <a:gdLst/>
            <a:ahLst/>
            <a:rect l="l" t="t" r="r" b="b"/>
            <a:pathLst>
              <a:path w="795" h="522">
                <a:moveTo>
                  <a:pt x="16297" y="6945"/>
                </a:moveTo>
                <a:cubicBezTo>
                  <a:pt x="16229" y="6945"/>
                  <a:pt x="16382" y="6945"/>
                  <a:pt x="16396" y="6945"/>
                </a:cubicBezTo>
                <a:cubicBezTo>
                  <a:pt x="16496" y="6945"/>
                  <a:pt x="16573" y="6952"/>
                  <a:pt x="16669" y="6970"/>
                </a:cubicBezTo>
                <a:cubicBezTo>
                  <a:pt x="16694" y="6970"/>
                  <a:pt x="16702" y="6970"/>
                  <a:pt x="16718" y="6970"/>
                </a:cubicBezTo>
              </a:path>
              <a:path w="795" h="522">
                <a:moveTo>
                  <a:pt x="16545" y="6772"/>
                </a:moveTo>
                <a:cubicBezTo>
                  <a:pt x="16496" y="6804"/>
                  <a:pt x="16515" y="6854"/>
                  <a:pt x="16495" y="6921"/>
                </a:cubicBezTo>
                <a:cubicBezTo>
                  <a:pt x="16472" y="6998"/>
                  <a:pt x="16470" y="7062"/>
                  <a:pt x="16470" y="7144"/>
                </a:cubicBezTo>
              </a:path>
              <a:path w="795" h="522">
                <a:moveTo>
                  <a:pt x="17041" y="7218"/>
                </a:moveTo>
                <a:cubicBezTo>
                  <a:pt x="17041" y="7243"/>
                  <a:pt x="17041" y="7251"/>
                  <a:pt x="17016" y="7243"/>
                </a:cubicBezTo>
                <a:cubicBezTo>
                  <a:pt x="17048" y="7232"/>
                  <a:pt x="17093" y="7223"/>
                  <a:pt x="17066" y="7243"/>
                </a:cubicBezTo>
                <a:cubicBezTo>
                  <a:pt x="17045" y="7259"/>
                  <a:pt x="17016" y="7268"/>
                  <a:pt x="16991" y="72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76960" y="2463840"/>
            <a:ext cx="314280" cy="189000"/>
          </a:xfrm>
          <a:custGeom>
            <a:avLst/>
            <a:gdLst/>
            <a:ahLst/>
            <a:rect l="l" t="t" r="r" b="b"/>
            <a:pathLst>
              <a:path w="869" h="522">
                <a:moveTo>
                  <a:pt x="17562" y="6945"/>
                </a:moveTo>
                <a:cubicBezTo>
                  <a:pt x="17617" y="6945"/>
                  <a:pt x="17507" y="6971"/>
                  <a:pt x="17487" y="6995"/>
                </a:cubicBezTo>
                <a:cubicBezTo>
                  <a:pt x="17446" y="7042"/>
                  <a:pt x="17422" y="7132"/>
                  <a:pt x="17438" y="7193"/>
                </a:cubicBezTo>
                <a:cubicBezTo>
                  <a:pt x="17456" y="7259"/>
                  <a:pt x="17551" y="7260"/>
                  <a:pt x="17611" y="7243"/>
                </a:cubicBezTo>
                <a:cubicBezTo>
                  <a:pt x="17697" y="7219"/>
                  <a:pt x="17711" y="7170"/>
                  <a:pt x="17711" y="7094"/>
                </a:cubicBezTo>
                <a:cubicBezTo>
                  <a:pt x="17711" y="7046"/>
                  <a:pt x="17665" y="6982"/>
                  <a:pt x="17636" y="6945"/>
                </a:cubicBezTo>
                <a:cubicBezTo>
                  <a:pt x="17608" y="6909"/>
                  <a:pt x="17594" y="6910"/>
                  <a:pt x="17636" y="6896"/>
                </a:cubicBezTo>
              </a:path>
              <a:path w="869" h="522">
                <a:moveTo>
                  <a:pt x="18033" y="6846"/>
                </a:moveTo>
                <a:cubicBezTo>
                  <a:pt x="18033" y="6854"/>
                  <a:pt x="18033" y="6863"/>
                  <a:pt x="18033" y="6871"/>
                </a:cubicBezTo>
                <a:cubicBezTo>
                  <a:pt x="18079" y="6871"/>
                  <a:pt x="18092" y="6893"/>
                  <a:pt x="18132" y="6896"/>
                </a:cubicBezTo>
                <a:cubicBezTo>
                  <a:pt x="18189" y="6900"/>
                  <a:pt x="18248" y="6896"/>
                  <a:pt x="18306" y="6896"/>
                </a:cubicBezTo>
              </a:path>
              <a:path w="869" h="522">
                <a:moveTo>
                  <a:pt x="18207" y="6871"/>
                </a:moveTo>
                <a:cubicBezTo>
                  <a:pt x="18158" y="6871"/>
                  <a:pt x="18098" y="6876"/>
                  <a:pt x="18058" y="6896"/>
                </a:cubicBezTo>
                <a:cubicBezTo>
                  <a:pt x="18024" y="6913"/>
                  <a:pt x="17987" y="6961"/>
                  <a:pt x="17983" y="6995"/>
                </a:cubicBezTo>
                <a:cubicBezTo>
                  <a:pt x="17977" y="7045"/>
                  <a:pt x="17992" y="7046"/>
                  <a:pt x="18033" y="7069"/>
                </a:cubicBezTo>
                <a:cubicBezTo>
                  <a:pt x="18086" y="7099"/>
                  <a:pt x="18140" y="7110"/>
                  <a:pt x="18182" y="7144"/>
                </a:cubicBezTo>
                <a:cubicBezTo>
                  <a:pt x="18228" y="7181"/>
                  <a:pt x="18199" y="7216"/>
                  <a:pt x="18157" y="7243"/>
                </a:cubicBezTo>
                <a:cubicBezTo>
                  <a:pt x="18101" y="7279"/>
                  <a:pt x="18036" y="7302"/>
                  <a:pt x="17983" y="7342"/>
                </a:cubicBezTo>
                <a:cubicBezTo>
                  <a:pt x="17975" y="7350"/>
                  <a:pt x="17967" y="7359"/>
                  <a:pt x="17959" y="73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65160" y="2786040"/>
            <a:ext cx="4294080" cy="795240"/>
          </a:xfrm>
          <a:custGeom>
            <a:avLst/>
            <a:gdLst/>
            <a:ahLst/>
            <a:rect l="l" t="t" r="r" b="b"/>
            <a:pathLst>
              <a:path w="11932" h="2209">
                <a:moveTo>
                  <a:pt x="2778" y="9029"/>
                </a:moveTo>
                <a:cubicBezTo>
                  <a:pt x="2770" y="9146"/>
                  <a:pt x="2720" y="9234"/>
                  <a:pt x="2704" y="9351"/>
                </a:cubicBezTo>
                <a:cubicBezTo>
                  <a:pt x="2694" y="9429"/>
                  <a:pt x="2679" y="9495"/>
                  <a:pt x="2679" y="9575"/>
                </a:cubicBezTo>
                <a:cubicBezTo>
                  <a:pt x="2679" y="9495"/>
                  <a:pt x="2688" y="9431"/>
                  <a:pt x="2704" y="9351"/>
                </a:cubicBezTo>
                <a:cubicBezTo>
                  <a:pt x="2735" y="9196"/>
                  <a:pt x="2773" y="9068"/>
                  <a:pt x="2853" y="8930"/>
                </a:cubicBezTo>
                <a:cubicBezTo>
                  <a:pt x="2920" y="8814"/>
                  <a:pt x="3000" y="8788"/>
                  <a:pt x="3125" y="8781"/>
                </a:cubicBezTo>
                <a:cubicBezTo>
                  <a:pt x="3153" y="8781"/>
                  <a:pt x="3164" y="8783"/>
                  <a:pt x="3175" y="8806"/>
                </a:cubicBezTo>
                <a:cubicBezTo>
                  <a:pt x="3149" y="8923"/>
                  <a:pt x="3084" y="9012"/>
                  <a:pt x="3001" y="9103"/>
                </a:cubicBezTo>
                <a:cubicBezTo>
                  <a:pt x="2961" y="9147"/>
                  <a:pt x="2926" y="9183"/>
                  <a:pt x="2877" y="9203"/>
                </a:cubicBezTo>
              </a:path>
              <a:path w="11932" h="2209">
                <a:moveTo>
                  <a:pt x="3448" y="8260"/>
                </a:moveTo>
                <a:cubicBezTo>
                  <a:pt x="3448" y="8420"/>
                  <a:pt x="3451" y="8573"/>
                  <a:pt x="3423" y="8731"/>
                </a:cubicBezTo>
                <a:cubicBezTo>
                  <a:pt x="3402" y="8849"/>
                  <a:pt x="3394" y="8962"/>
                  <a:pt x="3373" y="9079"/>
                </a:cubicBezTo>
              </a:path>
              <a:path w="11932" h="2209">
                <a:moveTo>
                  <a:pt x="3398" y="8855"/>
                </a:moveTo>
                <a:cubicBezTo>
                  <a:pt x="3449" y="8855"/>
                  <a:pt x="3474" y="8858"/>
                  <a:pt x="3522" y="8830"/>
                </a:cubicBezTo>
                <a:cubicBezTo>
                  <a:pt x="3617" y="8774"/>
                  <a:pt x="3693" y="8710"/>
                  <a:pt x="3770" y="8632"/>
                </a:cubicBezTo>
                <a:cubicBezTo>
                  <a:pt x="3789" y="8613"/>
                  <a:pt x="3901" y="8497"/>
                  <a:pt x="3870" y="8458"/>
                </a:cubicBezTo>
                <a:cubicBezTo>
                  <a:pt x="3862" y="8458"/>
                  <a:pt x="3853" y="8458"/>
                  <a:pt x="3845" y="8458"/>
                </a:cubicBezTo>
                <a:cubicBezTo>
                  <a:pt x="3778" y="8458"/>
                  <a:pt x="3771" y="8495"/>
                  <a:pt x="3746" y="8558"/>
                </a:cubicBezTo>
                <a:cubicBezTo>
                  <a:pt x="3702" y="8671"/>
                  <a:pt x="3665" y="8833"/>
                  <a:pt x="3696" y="8954"/>
                </a:cubicBezTo>
                <a:cubicBezTo>
                  <a:pt x="3741" y="9044"/>
                  <a:pt x="3754" y="9066"/>
                  <a:pt x="3770" y="9128"/>
                </a:cubicBezTo>
              </a:path>
              <a:path w="11932" h="2209">
                <a:moveTo>
                  <a:pt x="4217" y="8806"/>
                </a:moveTo>
                <a:cubicBezTo>
                  <a:pt x="4316" y="8806"/>
                  <a:pt x="4415" y="8806"/>
                  <a:pt x="4514" y="8806"/>
                </a:cubicBezTo>
              </a:path>
              <a:path w="11932" h="2209">
                <a:moveTo>
                  <a:pt x="4341" y="9079"/>
                </a:moveTo>
                <a:cubicBezTo>
                  <a:pt x="4355" y="9120"/>
                  <a:pt x="4417" y="9091"/>
                  <a:pt x="4465" y="9079"/>
                </a:cubicBezTo>
                <a:cubicBezTo>
                  <a:pt x="4540" y="9059"/>
                  <a:pt x="4614" y="9029"/>
                  <a:pt x="4688" y="9004"/>
                </a:cubicBezTo>
              </a:path>
              <a:path w="11932" h="2209">
                <a:moveTo>
                  <a:pt x="5358" y="8806"/>
                </a:moveTo>
                <a:cubicBezTo>
                  <a:pt x="5409" y="8822"/>
                  <a:pt x="5375" y="8877"/>
                  <a:pt x="5358" y="8930"/>
                </a:cubicBezTo>
                <a:cubicBezTo>
                  <a:pt x="5315" y="9064"/>
                  <a:pt x="5283" y="9196"/>
                  <a:pt x="5234" y="9327"/>
                </a:cubicBezTo>
                <a:cubicBezTo>
                  <a:pt x="5207" y="9398"/>
                  <a:pt x="5176" y="9467"/>
                  <a:pt x="5135" y="9525"/>
                </a:cubicBezTo>
                <a:cubicBezTo>
                  <a:pt x="5135" y="9424"/>
                  <a:pt x="5169" y="9370"/>
                  <a:pt x="5209" y="9277"/>
                </a:cubicBezTo>
                <a:cubicBezTo>
                  <a:pt x="5285" y="9099"/>
                  <a:pt x="5329" y="8933"/>
                  <a:pt x="5457" y="8781"/>
                </a:cubicBezTo>
                <a:cubicBezTo>
                  <a:pt x="5512" y="8715"/>
                  <a:pt x="5629" y="8603"/>
                  <a:pt x="5730" y="8632"/>
                </a:cubicBezTo>
                <a:cubicBezTo>
                  <a:pt x="5738" y="8640"/>
                  <a:pt x="5747" y="8649"/>
                  <a:pt x="5755" y="8657"/>
                </a:cubicBezTo>
                <a:cubicBezTo>
                  <a:pt x="5803" y="8740"/>
                  <a:pt x="5739" y="8807"/>
                  <a:pt x="5680" y="8880"/>
                </a:cubicBezTo>
                <a:cubicBezTo>
                  <a:pt x="5612" y="8964"/>
                  <a:pt x="5533" y="8993"/>
                  <a:pt x="5432" y="9004"/>
                </a:cubicBezTo>
              </a:path>
              <a:path w="11932" h="2209">
                <a:moveTo>
                  <a:pt x="6300" y="7913"/>
                </a:moveTo>
                <a:cubicBezTo>
                  <a:pt x="6392" y="7943"/>
                  <a:pt x="6327" y="7971"/>
                  <a:pt x="6300" y="8062"/>
                </a:cubicBezTo>
                <a:cubicBezTo>
                  <a:pt x="6229" y="8302"/>
                  <a:pt x="6176" y="8582"/>
                  <a:pt x="6152" y="8830"/>
                </a:cubicBezTo>
                <a:cubicBezTo>
                  <a:pt x="6152" y="8923"/>
                  <a:pt x="6154" y="8949"/>
                  <a:pt x="6127" y="9004"/>
                </a:cubicBezTo>
              </a:path>
              <a:path w="11932" h="2209">
                <a:moveTo>
                  <a:pt x="6548" y="8607"/>
                </a:moveTo>
                <a:cubicBezTo>
                  <a:pt x="6569" y="8607"/>
                  <a:pt x="6474" y="8626"/>
                  <a:pt x="6424" y="8657"/>
                </a:cubicBezTo>
                <a:cubicBezTo>
                  <a:pt x="6360" y="8697"/>
                  <a:pt x="6273" y="8751"/>
                  <a:pt x="6251" y="8830"/>
                </a:cubicBezTo>
                <a:cubicBezTo>
                  <a:pt x="6251" y="8847"/>
                  <a:pt x="6251" y="8863"/>
                  <a:pt x="6251" y="8880"/>
                </a:cubicBezTo>
                <a:cubicBezTo>
                  <a:pt x="6298" y="8908"/>
                  <a:pt x="6390" y="8923"/>
                  <a:pt x="6449" y="8930"/>
                </a:cubicBezTo>
                <a:cubicBezTo>
                  <a:pt x="6524" y="8930"/>
                  <a:pt x="6548" y="8930"/>
                  <a:pt x="6598" y="8930"/>
                </a:cubicBezTo>
              </a:path>
              <a:path w="11932" h="2209">
                <a:moveTo>
                  <a:pt x="7094" y="8855"/>
                </a:moveTo>
                <a:cubicBezTo>
                  <a:pt x="7038" y="8826"/>
                  <a:pt x="7015" y="8855"/>
                  <a:pt x="6970" y="8905"/>
                </a:cubicBezTo>
                <a:cubicBezTo>
                  <a:pt x="6926" y="8953"/>
                  <a:pt x="6921" y="8961"/>
                  <a:pt x="6921" y="9029"/>
                </a:cubicBezTo>
                <a:cubicBezTo>
                  <a:pt x="6971" y="9029"/>
                  <a:pt x="7006" y="9038"/>
                  <a:pt x="7045" y="9004"/>
                </a:cubicBezTo>
                <a:cubicBezTo>
                  <a:pt x="7085" y="8969"/>
                  <a:pt x="7116" y="8911"/>
                  <a:pt x="7169" y="8905"/>
                </a:cubicBezTo>
                <a:cubicBezTo>
                  <a:pt x="7194" y="8902"/>
                  <a:pt x="7229" y="8981"/>
                  <a:pt x="7268" y="9004"/>
                </a:cubicBezTo>
                <a:cubicBezTo>
                  <a:pt x="7324" y="9033"/>
                  <a:pt x="7348" y="9044"/>
                  <a:pt x="7392" y="9054"/>
                </a:cubicBezTo>
              </a:path>
              <a:path w="11932" h="2209">
                <a:moveTo>
                  <a:pt x="7938" y="8756"/>
                </a:moveTo>
                <a:cubicBezTo>
                  <a:pt x="8032" y="8794"/>
                  <a:pt x="8065" y="8784"/>
                  <a:pt x="8161" y="8806"/>
                </a:cubicBezTo>
                <a:cubicBezTo>
                  <a:pt x="8237" y="8824"/>
                  <a:pt x="8303" y="8830"/>
                  <a:pt x="8384" y="8830"/>
                </a:cubicBezTo>
              </a:path>
              <a:path w="11932" h="2209">
                <a:moveTo>
                  <a:pt x="8210" y="8632"/>
                </a:moveTo>
                <a:cubicBezTo>
                  <a:pt x="8183" y="8708"/>
                  <a:pt x="8164" y="8773"/>
                  <a:pt x="8161" y="8855"/>
                </a:cubicBezTo>
                <a:cubicBezTo>
                  <a:pt x="8159" y="8913"/>
                  <a:pt x="8161" y="8971"/>
                  <a:pt x="8161" y="9029"/>
                </a:cubicBezTo>
              </a:path>
              <a:path w="11932" h="2209">
                <a:moveTo>
                  <a:pt x="8855" y="9103"/>
                </a:moveTo>
                <a:cubicBezTo>
                  <a:pt x="8895" y="9170"/>
                  <a:pt x="8895" y="9159"/>
                  <a:pt x="8979" y="9079"/>
                </a:cubicBezTo>
                <a:cubicBezTo>
                  <a:pt x="9151" y="8917"/>
                  <a:pt x="9340" y="8752"/>
                  <a:pt x="9500" y="8582"/>
                </a:cubicBezTo>
                <a:cubicBezTo>
                  <a:pt x="9590" y="8486"/>
                  <a:pt x="9689" y="8391"/>
                  <a:pt x="9699" y="8260"/>
                </a:cubicBezTo>
                <a:cubicBezTo>
                  <a:pt x="9704" y="8195"/>
                  <a:pt x="9682" y="8159"/>
                  <a:pt x="9674" y="8136"/>
                </a:cubicBezTo>
                <a:cubicBezTo>
                  <a:pt x="9550" y="8152"/>
                  <a:pt x="9538" y="8203"/>
                  <a:pt x="9475" y="8310"/>
                </a:cubicBezTo>
                <a:cubicBezTo>
                  <a:pt x="9360" y="8505"/>
                  <a:pt x="9331" y="8653"/>
                  <a:pt x="9327" y="8880"/>
                </a:cubicBezTo>
                <a:cubicBezTo>
                  <a:pt x="9324" y="9023"/>
                  <a:pt x="9378" y="9153"/>
                  <a:pt x="9550" y="9153"/>
                </a:cubicBezTo>
                <a:cubicBezTo>
                  <a:pt x="9634" y="9153"/>
                  <a:pt x="9751" y="9065"/>
                  <a:pt x="9823" y="9029"/>
                </a:cubicBezTo>
              </a:path>
              <a:path w="11932" h="2209">
                <a:moveTo>
                  <a:pt x="10145" y="8830"/>
                </a:moveTo>
                <a:cubicBezTo>
                  <a:pt x="10074" y="8875"/>
                  <a:pt x="10017" y="8933"/>
                  <a:pt x="9971" y="9004"/>
                </a:cubicBezTo>
                <a:cubicBezTo>
                  <a:pt x="9942" y="9048"/>
                  <a:pt x="9947" y="9079"/>
                  <a:pt x="9947" y="9128"/>
                </a:cubicBezTo>
                <a:cubicBezTo>
                  <a:pt x="10034" y="9117"/>
                  <a:pt x="10080" y="9091"/>
                  <a:pt x="10145" y="9029"/>
                </a:cubicBezTo>
                <a:cubicBezTo>
                  <a:pt x="10188" y="8988"/>
                  <a:pt x="10266" y="8910"/>
                  <a:pt x="10195" y="8855"/>
                </a:cubicBezTo>
                <a:cubicBezTo>
                  <a:pt x="10166" y="8833"/>
                  <a:pt x="10062" y="8778"/>
                  <a:pt x="10021" y="8806"/>
                </a:cubicBezTo>
                <a:cubicBezTo>
                  <a:pt x="10021" y="8830"/>
                  <a:pt x="10021" y="8839"/>
                  <a:pt x="10021" y="8855"/>
                </a:cubicBezTo>
              </a:path>
              <a:path w="11932" h="2209">
                <a:moveTo>
                  <a:pt x="10567" y="8830"/>
                </a:moveTo>
                <a:cubicBezTo>
                  <a:pt x="10513" y="8851"/>
                  <a:pt x="10433" y="8939"/>
                  <a:pt x="10418" y="9004"/>
                </a:cubicBezTo>
                <a:cubicBezTo>
                  <a:pt x="10378" y="9181"/>
                  <a:pt x="10430" y="9399"/>
                  <a:pt x="10443" y="9575"/>
                </a:cubicBezTo>
                <a:cubicBezTo>
                  <a:pt x="10450" y="9670"/>
                  <a:pt x="10439" y="9816"/>
                  <a:pt x="10344" y="9872"/>
                </a:cubicBezTo>
                <a:cubicBezTo>
                  <a:pt x="10266" y="9918"/>
                  <a:pt x="10166" y="9898"/>
                  <a:pt x="10096" y="9847"/>
                </a:cubicBezTo>
                <a:cubicBezTo>
                  <a:pt x="10001" y="9778"/>
                  <a:pt x="10057" y="9715"/>
                  <a:pt x="10120" y="9649"/>
                </a:cubicBezTo>
                <a:cubicBezTo>
                  <a:pt x="10223" y="9542"/>
                  <a:pt x="10360" y="9492"/>
                  <a:pt x="10492" y="9426"/>
                </a:cubicBezTo>
              </a:path>
              <a:path w="11932" h="2209">
                <a:moveTo>
                  <a:pt x="11361" y="8062"/>
                </a:moveTo>
                <a:cubicBezTo>
                  <a:pt x="11377" y="7999"/>
                  <a:pt x="11379" y="7991"/>
                  <a:pt x="11385" y="7938"/>
                </a:cubicBezTo>
                <a:cubicBezTo>
                  <a:pt x="11335" y="7945"/>
                  <a:pt x="11304" y="7951"/>
                  <a:pt x="11261" y="7987"/>
                </a:cubicBezTo>
                <a:cubicBezTo>
                  <a:pt x="11120" y="8104"/>
                  <a:pt x="11031" y="8253"/>
                  <a:pt x="10939" y="8409"/>
                </a:cubicBezTo>
                <a:cubicBezTo>
                  <a:pt x="10814" y="8620"/>
                  <a:pt x="10702" y="8852"/>
                  <a:pt x="10716" y="9103"/>
                </a:cubicBezTo>
                <a:cubicBezTo>
                  <a:pt x="10740" y="9227"/>
                  <a:pt x="10748" y="9268"/>
                  <a:pt x="10815" y="9327"/>
                </a:cubicBezTo>
              </a:path>
              <a:path w="11932" h="2209">
                <a:moveTo>
                  <a:pt x="11981" y="8062"/>
                </a:moveTo>
                <a:cubicBezTo>
                  <a:pt x="12021" y="8075"/>
                  <a:pt x="12014" y="8161"/>
                  <a:pt x="12005" y="8210"/>
                </a:cubicBezTo>
                <a:cubicBezTo>
                  <a:pt x="11988" y="8302"/>
                  <a:pt x="11975" y="8394"/>
                  <a:pt x="11956" y="8483"/>
                </a:cubicBezTo>
                <a:cubicBezTo>
                  <a:pt x="11956" y="8491"/>
                  <a:pt x="11956" y="8500"/>
                  <a:pt x="11956" y="8508"/>
                </a:cubicBezTo>
                <a:cubicBezTo>
                  <a:pt x="11998" y="8451"/>
                  <a:pt x="12029" y="8381"/>
                  <a:pt x="12055" y="8310"/>
                </a:cubicBezTo>
                <a:cubicBezTo>
                  <a:pt x="12095" y="8202"/>
                  <a:pt x="12133" y="8078"/>
                  <a:pt x="12204" y="7987"/>
                </a:cubicBezTo>
                <a:cubicBezTo>
                  <a:pt x="12239" y="7942"/>
                  <a:pt x="12322" y="7853"/>
                  <a:pt x="12378" y="7838"/>
                </a:cubicBezTo>
                <a:cubicBezTo>
                  <a:pt x="12394" y="7838"/>
                  <a:pt x="12411" y="7838"/>
                  <a:pt x="12427" y="7838"/>
                </a:cubicBezTo>
                <a:cubicBezTo>
                  <a:pt x="12427" y="7897"/>
                  <a:pt x="12436" y="7959"/>
                  <a:pt x="12402" y="8012"/>
                </a:cubicBezTo>
                <a:cubicBezTo>
                  <a:pt x="12366" y="8068"/>
                  <a:pt x="12291" y="8174"/>
                  <a:pt x="12229" y="8210"/>
                </a:cubicBezTo>
                <a:cubicBezTo>
                  <a:pt x="12221" y="8210"/>
                  <a:pt x="12212" y="8210"/>
                  <a:pt x="12204" y="8210"/>
                </a:cubicBezTo>
                <a:cubicBezTo>
                  <a:pt x="12262" y="8210"/>
                  <a:pt x="12320" y="8210"/>
                  <a:pt x="12378" y="8210"/>
                </a:cubicBezTo>
                <a:cubicBezTo>
                  <a:pt x="12378" y="8285"/>
                  <a:pt x="12351" y="8326"/>
                  <a:pt x="12303" y="8384"/>
                </a:cubicBezTo>
                <a:cubicBezTo>
                  <a:pt x="12252" y="8446"/>
                  <a:pt x="12189" y="8485"/>
                  <a:pt x="12129" y="8533"/>
                </a:cubicBezTo>
              </a:path>
              <a:path w="11932" h="2209">
                <a:moveTo>
                  <a:pt x="12650" y="8136"/>
                </a:moveTo>
                <a:cubicBezTo>
                  <a:pt x="12683" y="8201"/>
                  <a:pt x="12600" y="8199"/>
                  <a:pt x="12551" y="8260"/>
                </a:cubicBezTo>
                <a:cubicBezTo>
                  <a:pt x="12508" y="8312"/>
                  <a:pt x="12482" y="8374"/>
                  <a:pt x="12452" y="8434"/>
                </a:cubicBezTo>
                <a:cubicBezTo>
                  <a:pt x="12500" y="8469"/>
                  <a:pt x="12544" y="8468"/>
                  <a:pt x="12601" y="8434"/>
                </a:cubicBezTo>
                <a:cubicBezTo>
                  <a:pt x="12644" y="8408"/>
                  <a:pt x="12650" y="8379"/>
                  <a:pt x="12650" y="8334"/>
                </a:cubicBezTo>
                <a:cubicBezTo>
                  <a:pt x="12650" y="8310"/>
                  <a:pt x="12650" y="8301"/>
                  <a:pt x="12650" y="8285"/>
                </a:cubicBezTo>
                <a:cubicBezTo>
                  <a:pt x="12659" y="8347"/>
                  <a:pt x="12673" y="8397"/>
                  <a:pt x="12700" y="8458"/>
                </a:cubicBezTo>
                <a:cubicBezTo>
                  <a:pt x="12725" y="8508"/>
                  <a:pt x="12733" y="8524"/>
                  <a:pt x="12774" y="8533"/>
                </a:cubicBezTo>
              </a:path>
              <a:path w="11932" h="2209">
                <a:moveTo>
                  <a:pt x="13072" y="8359"/>
                </a:moveTo>
                <a:cubicBezTo>
                  <a:pt x="13123" y="8330"/>
                  <a:pt x="13134" y="8336"/>
                  <a:pt x="13146" y="8285"/>
                </a:cubicBezTo>
                <a:cubicBezTo>
                  <a:pt x="13088" y="8285"/>
                  <a:pt x="13051" y="8308"/>
                  <a:pt x="12998" y="8334"/>
                </a:cubicBezTo>
                <a:cubicBezTo>
                  <a:pt x="12946" y="8360"/>
                  <a:pt x="12912" y="8380"/>
                  <a:pt x="12898" y="8434"/>
                </a:cubicBezTo>
                <a:cubicBezTo>
                  <a:pt x="12995" y="8434"/>
                  <a:pt x="13087" y="8434"/>
                  <a:pt x="13171" y="8458"/>
                </a:cubicBezTo>
                <a:cubicBezTo>
                  <a:pt x="13179" y="8458"/>
                  <a:pt x="13188" y="8458"/>
                  <a:pt x="13196" y="8458"/>
                </a:cubicBezTo>
                <a:cubicBezTo>
                  <a:pt x="13162" y="8517"/>
                  <a:pt x="13128" y="8589"/>
                  <a:pt x="13072" y="8632"/>
                </a:cubicBezTo>
                <a:cubicBezTo>
                  <a:pt x="13028" y="8654"/>
                  <a:pt x="13017" y="8657"/>
                  <a:pt x="12998" y="8682"/>
                </a:cubicBezTo>
              </a:path>
              <a:path w="11932" h="2209">
                <a:moveTo>
                  <a:pt x="13271" y="8359"/>
                </a:moveTo>
                <a:cubicBezTo>
                  <a:pt x="13279" y="8408"/>
                  <a:pt x="13284" y="8430"/>
                  <a:pt x="13345" y="8434"/>
                </a:cubicBezTo>
                <a:cubicBezTo>
                  <a:pt x="13423" y="8440"/>
                  <a:pt x="13497" y="8439"/>
                  <a:pt x="13568" y="8409"/>
                </a:cubicBezTo>
                <a:cubicBezTo>
                  <a:pt x="13638" y="8379"/>
                  <a:pt x="13679" y="8349"/>
                  <a:pt x="13717" y="8285"/>
                </a:cubicBezTo>
                <a:cubicBezTo>
                  <a:pt x="13752" y="8226"/>
                  <a:pt x="13748" y="8212"/>
                  <a:pt x="13717" y="8161"/>
                </a:cubicBezTo>
                <a:cubicBezTo>
                  <a:pt x="13653" y="8161"/>
                  <a:pt x="13589" y="8186"/>
                  <a:pt x="13543" y="8235"/>
                </a:cubicBezTo>
                <a:cubicBezTo>
                  <a:pt x="13467" y="8315"/>
                  <a:pt x="13442" y="8437"/>
                  <a:pt x="13469" y="8533"/>
                </a:cubicBezTo>
                <a:cubicBezTo>
                  <a:pt x="13493" y="8604"/>
                  <a:pt x="13500" y="8627"/>
                  <a:pt x="13543" y="8657"/>
                </a:cubicBezTo>
              </a:path>
              <a:path w="11932" h="2209">
                <a:moveTo>
                  <a:pt x="11733" y="8855"/>
                </a:moveTo>
                <a:cubicBezTo>
                  <a:pt x="11962" y="8855"/>
                  <a:pt x="12175" y="8878"/>
                  <a:pt x="12402" y="8905"/>
                </a:cubicBezTo>
                <a:cubicBezTo>
                  <a:pt x="12683" y="8939"/>
                  <a:pt x="12963" y="8930"/>
                  <a:pt x="13246" y="8930"/>
                </a:cubicBezTo>
                <a:cubicBezTo>
                  <a:pt x="13377" y="8930"/>
                  <a:pt x="13492" y="8927"/>
                  <a:pt x="13618" y="8905"/>
                </a:cubicBezTo>
              </a:path>
              <a:path w="11932" h="2209">
                <a:moveTo>
                  <a:pt x="12278" y="9277"/>
                </a:moveTo>
                <a:cubicBezTo>
                  <a:pt x="12215" y="9341"/>
                  <a:pt x="12163" y="9407"/>
                  <a:pt x="12105" y="9475"/>
                </a:cubicBezTo>
                <a:cubicBezTo>
                  <a:pt x="12052" y="9537"/>
                  <a:pt x="11997" y="9566"/>
                  <a:pt x="11981" y="9649"/>
                </a:cubicBezTo>
                <a:cubicBezTo>
                  <a:pt x="11997" y="9565"/>
                  <a:pt x="12054" y="9540"/>
                  <a:pt x="12105" y="9475"/>
                </a:cubicBezTo>
                <a:cubicBezTo>
                  <a:pt x="12182" y="9377"/>
                  <a:pt x="12265" y="9292"/>
                  <a:pt x="12353" y="9203"/>
                </a:cubicBezTo>
                <a:cubicBezTo>
                  <a:pt x="12394" y="9162"/>
                  <a:pt x="12404" y="9140"/>
                  <a:pt x="12452" y="9128"/>
                </a:cubicBezTo>
                <a:cubicBezTo>
                  <a:pt x="12452" y="9241"/>
                  <a:pt x="12466" y="9341"/>
                  <a:pt x="12477" y="9451"/>
                </a:cubicBezTo>
                <a:cubicBezTo>
                  <a:pt x="12488" y="9564"/>
                  <a:pt x="12477" y="9684"/>
                  <a:pt x="12477" y="9798"/>
                </a:cubicBezTo>
              </a:path>
              <a:path w="11932" h="2209">
                <a:moveTo>
                  <a:pt x="12154" y="9525"/>
                </a:moveTo>
                <a:cubicBezTo>
                  <a:pt x="12286" y="9525"/>
                  <a:pt x="12419" y="9525"/>
                  <a:pt x="12551" y="9525"/>
                </a:cubicBezTo>
              </a:path>
              <a:path w="11932" h="2209">
                <a:moveTo>
                  <a:pt x="13097" y="9475"/>
                </a:moveTo>
                <a:cubicBezTo>
                  <a:pt x="13037" y="9475"/>
                  <a:pt x="12974" y="9489"/>
                  <a:pt x="12923" y="9525"/>
                </a:cubicBezTo>
                <a:cubicBezTo>
                  <a:pt x="12858" y="9571"/>
                  <a:pt x="12830" y="9649"/>
                  <a:pt x="12824" y="9723"/>
                </a:cubicBezTo>
                <a:cubicBezTo>
                  <a:pt x="12820" y="9781"/>
                  <a:pt x="12899" y="9809"/>
                  <a:pt x="12948" y="9798"/>
                </a:cubicBezTo>
                <a:cubicBezTo>
                  <a:pt x="12965" y="9790"/>
                  <a:pt x="12981" y="9781"/>
                  <a:pt x="12998" y="9773"/>
                </a:cubicBezTo>
              </a:path>
              <a:path w="11932" h="2209">
                <a:moveTo>
                  <a:pt x="13370" y="9575"/>
                </a:moveTo>
                <a:cubicBezTo>
                  <a:pt x="13362" y="9575"/>
                  <a:pt x="13353" y="9575"/>
                  <a:pt x="13345" y="9575"/>
                </a:cubicBezTo>
                <a:cubicBezTo>
                  <a:pt x="13331" y="9628"/>
                  <a:pt x="13299" y="9660"/>
                  <a:pt x="13295" y="9723"/>
                </a:cubicBezTo>
                <a:cubicBezTo>
                  <a:pt x="13291" y="9789"/>
                  <a:pt x="13256" y="9794"/>
                  <a:pt x="13295" y="9847"/>
                </a:cubicBezTo>
              </a:path>
              <a:path w="11932" h="2209">
                <a:moveTo>
                  <a:pt x="13519" y="9277"/>
                </a:moveTo>
                <a:cubicBezTo>
                  <a:pt x="13511" y="9277"/>
                  <a:pt x="13502" y="9277"/>
                  <a:pt x="13494" y="9277"/>
                </a:cubicBezTo>
              </a:path>
              <a:path w="11932" h="2209">
                <a:moveTo>
                  <a:pt x="13915" y="9203"/>
                </a:moveTo>
                <a:cubicBezTo>
                  <a:pt x="13883" y="9258"/>
                  <a:pt x="13865" y="9334"/>
                  <a:pt x="13841" y="9401"/>
                </a:cubicBezTo>
                <a:cubicBezTo>
                  <a:pt x="13806" y="9502"/>
                  <a:pt x="13761" y="9618"/>
                  <a:pt x="13742" y="9723"/>
                </a:cubicBezTo>
                <a:cubicBezTo>
                  <a:pt x="13737" y="9752"/>
                  <a:pt x="13742" y="9792"/>
                  <a:pt x="13742" y="9823"/>
                </a:cubicBezTo>
                <a:cubicBezTo>
                  <a:pt x="13790" y="9775"/>
                  <a:pt x="13791" y="9768"/>
                  <a:pt x="13791" y="9699"/>
                </a:cubicBezTo>
                <a:cubicBezTo>
                  <a:pt x="13791" y="9671"/>
                  <a:pt x="13789" y="9660"/>
                  <a:pt x="13767" y="9649"/>
                </a:cubicBezTo>
                <a:cubicBezTo>
                  <a:pt x="13668" y="9660"/>
                  <a:pt x="13576" y="9685"/>
                  <a:pt x="13494" y="9748"/>
                </a:cubicBezTo>
                <a:cubicBezTo>
                  <a:pt x="13412" y="9812"/>
                  <a:pt x="13395" y="9849"/>
                  <a:pt x="13395" y="9947"/>
                </a:cubicBezTo>
                <a:cubicBezTo>
                  <a:pt x="13525" y="9947"/>
                  <a:pt x="13639" y="9942"/>
                  <a:pt x="13767" y="9922"/>
                </a:cubicBezTo>
              </a:path>
              <a:path w="11932" h="2209">
                <a:moveTo>
                  <a:pt x="13990" y="7789"/>
                </a:moveTo>
                <a:cubicBezTo>
                  <a:pt x="14040" y="7722"/>
                  <a:pt x="14042" y="7790"/>
                  <a:pt x="14114" y="7888"/>
                </a:cubicBezTo>
                <a:cubicBezTo>
                  <a:pt x="14308" y="8151"/>
                  <a:pt x="14505" y="8485"/>
                  <a:pt x="14585" y="8806"/>
                </a:cubicBezTo>
                <a:cubicBezTo>
                  <a:pt x="14629" y="8982"/>
                  <a:pt x="14639" y="9263"/>
                  <a:pt x="14536" y="9426"/>
                </a:cubicBezTo>
                <a:cubicBezTo>
                  <a:pt x="14443" y="9573"/>
                  <a:pt x="14276" y="9717"/>
                  <a:pt x="14139" y="9823"/>
                </a:cubicBezTo>
                <a:cubicBezTo>
                  <a:pt x="14054" y="9886"/>
                  <a:pt x="14033" y="9898"/>
                  <a:pt x="13990" y="99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19840" y="3009960"/>
            <a:ext cx="2009880" cy="339840"/>
          </a:xfrm>
          <a:custGeom>
            <a:avLst/>
            <a:gdLst/>
            <a:ahLst/>
            <a:rect l="l" t="t" r="r" b="b"/>
            <a:pathLst>
              <a:path w="5582" h="944">
                <a:moveTo>
                  <a:pt x="16570" y="8384"/>
                </a:moveTo>
                <a:cubicBezTo>
                  <a:pt x="16496" y="8469"/>
                  <a:pt x="16497" y="8524"/>
                  <a:pt x="16470" y="8632"/>
                </a:cubicBezTo>
                <a:cubicBezTo>
                  <a:pt x="16441" y="8749"/>
                  <a:pt x="16446" y="8859"/>
                  <a:pt x="16446" y="8979"/>
                </a:cubicBezTo>
                <a:cubicBezTo>
                  <a:pt x="16446" y="8996"/>
                  <a:pt x="16446" y="9012"/>
                  <a:pt x="16446" y="9029"/>
                </a:cubicBezTo>
              </a:path>
              <a:path w="5582" h="944">
                <a:moveTo>
                  <a:pt x="16520" y="8483"/>
                </a:moveTo>
                <a:cubicBezTo>
                  <a:pt x="16574" y="8437"/>
                  <a:pt x="16616" y="8413"/>
                  <a:pt x="16694" y="8434"/>
                </a:cubicBezTo>
                <a:cubicBezTo>
                  <a:pt x="16740" y="8446"/>
                  <a:pt x="16808" y="8502"/>
                  <a:pt x="16793" y="8558"/>
                </a:cubicBezTo>
                <a:cubicBezTo>
                  <a:pt x="16773" y="8632"/>
                  <a:pt x="16696" y="8688"/>
                  <a:pt x="16644" y="8731"/>
                </a:cubicBezTo>
                <a:cubicBezTo>
                  <a:pt x="16621" y="8754"/>
                  <a:pt x="16617" y="8762"/>
                  <a:pt x="16594" y="8756"/>
                </a:cubicBezTo>
                <a:cubicBezTo>
                  <a:pt x="16647" y="8743"/>
                  <a:pt x="16680" y="8731"/>
                  <a:pt x="16743" y="8731"/>
                </a:cubicBezTo>
                <a:cubicBezTo>
                  <a:pt x="16788" y="8731"/>
                  <a:pt x="16801" y="8728"/>
                  <a:pt x="16818" y="8756"/>
                </a:cubicBezTo>
                <a:cubicBezTo>
                  <a:pt x="16818" y="8823"/>
                  <a:pt x="16798" y="8860"/>
                  <a:pt x="16743" y="8905"/>
                </a:cubicBezTo>
                <a:cubicBezTo>
                  <a:pt x="16668" y="8966"/>
                  <a:pt x="16610" y="9046"/>
                  <a:pt x="16520" y="9079"/>
                </a:cubicBezTo>
                <a:cubicBezTo>
                  <a:pt x="16495" y="9079"/>
                  <a:pt x="16487" y="9079"/>
                  <a:pt x="16520" y="9079"/>
                </a:cubicBezTo>
              </a:path>
              <a:path w="5582" h="944">
                <a:moveTo>
                  <a:pt x="17140" y="8806"/>
                </a:moveTo>
                <a:cubicBezTo>
                  <a:pt x="17157" y="8806"/>
                  <a:pt x="17173" y="8806"/>
                  <a:pt x="17190" y="8806"/>
                </a:cubicBezTo>
                <a:cubicBezTo>
                  <a:pt x="17128" y="8818"/>
                  <a:pt x="17041" y="8869"/>
                  <a:pt x="16991" y="8905"/>
                </a:cubicBezTo>
                <a:cubicBezTo>
                  <a:pt x="16946" y="8937"/>
                  <a:pt x="16871" y="9033"/>
                  <a:pt x="16942" y="9079"/>
                </a:cubicBezTo>
                <a:cubicBezTo>
                  <a:pt x="17008" y="9121"/>
                  <a:pt x="17075" y="9031"/>
                  <a:pt x="17115" y="9004"/>
                </a:cubicBezTo>
                <a:cubicBezTo>
                  <a:pt x="17163" y="8971"/>
                  <a:pt x="17165" y="8926"/>
                  <a:pt x="17165" y="8954"/>
                </a:cubicBezTo>
                <a:cubicBezTo>
                  <a:pt x="17211" y="9023"/>
                  <a:pt x="17232" y="9088"/>
                  <a:pt x="17289" y="9153"/>
                </a:cubicBezTo>
              </a:path>
              <a:path w="5582" h="944">
                <a:moveTo>
                  <a:pt x="17810" y="8806"/>
                </a:moveTo>
                <a:cubicBezTo>
                  <a:pt x="17727" y="8783"/>
                  <a:pt x="17666" y="8762"/>
                  <a:pt x="17587" y="8806"/>
                </a:cubicBezTo>
                <a:cubicBezTo>
                  <a:pt x="17566" y="8818"/>
                  <a:pt x="17419" y="8897"/>
                  <a:pt x="17462" y="8954"/>
                </a:cubicBezTo>
                <a:cubicBezTo>
                  <a:pt x="17505" y="9010"/>
                  <a:pt x="17630" y="9030"/>
                  <a:pt x="17686" y="9079"/>
                </a:cubicBezTo>
                <a:cubicBezTo>
                  <a:pt x="17729" y="9117"/>
                  <a:pt x="17705" y="9149"/>
                  <a:pt x="17661" y="9178"/>
                </a:cubicBezTo>
                <a:cubicBezTo>
                  <a:pt x="17618" y="9200"/>
                  <a:pt x="17606" y="9203"/>
                  <a:pt x="17587" y="9227"/>
                </a:cubicBezTo>
              </a:path>
              <a:path w="5582" h="944">
                <a:moveTo>
                  <a:pt x="17859" y="9054"/>
                </a:moveTo>
                <a:cubicBezTo>
                  <a:pt x="17899" y="9024"/>
                  <a:pt x="17933" y="9028"/>
                  <a:pt x="17983" y="9004"/>
                </a:cubicBezTo>
                <a:cubicBezTo>
                  <a:pt x="18068" y="8964"/>
                  <a:pt x="18131" y="8931"/>
                  <a:pt x="18207" y="8880"/>
                </a:cubicBezTo>
                <a:cubicBezTo>
                  <a:pt x="18247" y="8853"/>
                  <a:pt x="18272" y="8839"/>
                  <a:pt x="18306" y="8806"/>
                </a:cubicBezTo>
                <a:cubicBezTo>
                  <a:pt x="18246" y="8761"/>
                  <a:pt x="18224" y="8804"/>
                  <a:pt x="18157" y="8830"/>
                </a:cubicBezTo>
                <a:cubicBezTo>
                  <a:pt x="18092" y="8855"/>
                  <a:pt x="18004" y="8876"/>
                  <a:pt x="17983" y="8954"/>
                </a:cubicBezTo>
                <a:cubicBezTo>
                  <a:pt x="17963" y="9029"/>
                  <a:pt x="18080" y="9060"/>
                  <a:pt x="18132" y="9079"/>
                </a:cubicBezTo>
                <a:cubicBezTo>
                  <a:pt x="18157" y="9087"/>
                  <a:pt x="18182" y="9095"/>
                  <a:pt x="18207" y="9103"/>
                </a:cubicBezTo>
              </a:path>
              <a:path w="5582" h="944">
                <a:moveTo>
                  <a:pt x="18752" y="8855"/>
                </a:moveTo>
                <a:cubicBezTo>
                  <a:pt x="18799" y="8855"/>
                  <a:pt x="18815" y="8872"/>
                  <a:pt x="18852" y="8880"/>
                </a:cubicBezTo>
                <a:cubicBezTo>
                  <a:pt x="18909" y="8892"/>
                  <a:pt x="18969" y="8894"/>
                  <a:pt x="19025" y="8905"/>
                </a:cubicBezTo>
              </a:path>
              <a:path w="5582" h="944">
                <a:moveTo>
                  <a:pt x="18802" y="9103"/>
                </a:moveTo>
                <a:cubicBezTo>
                  <a:pt x="18794" y="9120"/>
                  <a:pt x="18785" y="9136"/>
                  <a:pt x="18777" y="9153"/>
                </a:cubicBezTo>
                <a:cubicBezTo>
                  <a:pt x="18846" y="9204"/>
                  <a:pt x="18896" y="9161"/>
                  <a:pt x="18976" y="9153"/>
                </a:cubicBezTo>
                <a:cubicBezTo>
                  <a:pt x="19054" y="9146"/>
                  <a:pt x="19123" y="9137"/>
                  <a:pt x="19199" y="9128"/>
                </a:cubicBezTo>
              </a:path>
              <a:path w="5582" h="944">
                <a:moveTo>
                  <a:pt x="19918" y="8607"/>
                </a:moveTo>
                <a:cubicBezTo>
                  <a:pt x="19907" y="8681"/>
                  <a:pt x="19862" y="8738"/>
                  <a:pt x="19819" y="8806"/>
                </a:cubicBezTo>
                <a:cubicBezTo>
                  <a:pt x="19767" y="8889"/>
                  <a:pt x="19714" y="8966"/>
                  <a:pt x="19670" y="9054"/>
                </a:cubicBezTo>
                <a:cubicBezTo>
                  <a:pt x="19670" y="9100"/>
                  <a:pt x="19725" y="8961"/>
                  <a:pt x="19745" y="8930"/>
                </a:cubicBezTo>
                <a:cubicBezTo>
                  <a:pt x="19821" y="8814"/>
                  <a:pt x="19885" y="8691"/>
                  <a:pt x="19968" y="8582"/>
                </a:cubicBezTo>
                <a:cubicBezTo>
                  <a:pt x="20003" y="8536"/>
                  <a:pt x="20066" y="8496"/>
                  <a:pt x="20117" y="8483"/>
                </a:cubicBezTo>
                <a:cubicBezTo>
                  <a:pt x="20165" y="8581"/>
                  <a:pt x="20182" y="8669"/>
                  <a:pt x="20166" y="8781"/>
                </a:cubicBezTo>
                <a:cubicBezTo>
                  <a:pt x="20147" y="8914"/>
                  <a:pt x="20109" y="9047"/>
                  <a:pt x="20092" y="9178"/>
                </a:cubicBezTo>
                <a:cubicBezTo>
                  <a:pt x="20092" y="9194"/>
                  <a:pt x="20092" y="9211"/>
                  <a:pt x="20092" y="9227"/>
                </a:cubicBezTo>
              </a:path>
              <a:path w="5582" h="944">
                <a:moveTo>
                  <a:pt x="19720" y="8979"/>
                </a:moveTo>
                <a:cubicBezTo>
                  <a:pt x="19773" y="8916"/>
                  <a:pt x="19873" y="8912"/>
                  <a:pt x="19968" y="8905"/>
                </a:cubicBezTo>
                <a:cubicBezTo>
                  <a:pt x="20126" y="8893"/>
                  <a:pt x="20262" y="8917"/>
                  <a:pt x="20414" y="8954"/>
                </a:cubicBezTo>
              </a:path>
              <a:path w="5582" h="944">
                <a:moveTo>
                  <a:pt x="20836" y="9029"/>
                </a:moveTo>
                <a:cubicBezTo>
                  <a:pt x="20877" y="9009"/>
                  <a:pt x="20893" y="9011"/>
                  <a:pt x="20886" y="8979"/>
                </a:cubicBezTo>
                <a:cubicBezTo>
                  <a:pt x="20876" y="8948"/>
                  <a:pt x="20831" y="8940"/>
                  <a:pt x="20786" y="8954"/>
                </a:cubicBezTo>
                <a:cubicBezTo>
                  <a:pt x="20712" y="8976"/>
                  <a:pt x="20690" y="9060"/>
                  <a:pt x="20687" y="9128"/>
                </a:cubicBezTo>
                <a:cubicBezTo>
                  <a:pt x="20682" y="9250"/>
                  <a:pt x="20743" y="9284"/>
                  <a:pt x="20861" y="9302"/>
                </a:cubicBezTo>
                <a:cubicBezTo>
                  <a:pt x="20886" y="9302"/>
                  <a:pt x="20910" y="9302"/>
                  <a:pt x="20935" y="9302"/>
                </a:cubicBezTo>
              </a:path>
              <a:path w="5582" h="944">
                <a:moveTo>
                  <a:pt x="21208" y="8806"/>
                </a:moveTo>
                <a:cubicBezTo>
                  <a:pt x="21156" y="8873"/>
                  <a:pt x="21174" y="8946"/>
                  <a:pt x="21158" y="9029"/>
                </a:cubicBezTo>
                <a:cubicBezTo>
                  <a:pt x="21142" y="9110"/>
                  <a:pt x="21116" y="9169"/>
                  <a:pt x="21109" y="9252"/>
                </a:cubicBezTo>
              </a:path>
              <a:path w="5582" h="944">
                <a:moveTo>
                  <a:pt x="21282" y="8483"/>
                </a:moveTo>
                <a:cubicBezTo>
                  <a:pt x="21260" y="8461"/>
                  <a:pt x="21252" y="8456"/>
                  <a:pt x="21258" y="8434"/>
                </a:cubicBezTo>
              </a:path>
              <a:path w="5582" h="944">
                <a:moveTo>
                  <a:pt x="21704" y="9004"/>
                </a:moveTo>
                <a:cubicBezTo>
                  <a:pt x="21737" y="8971"/>
                  <a:pt x="21798" y="8935"/>
                  <a:pt x="21779" y="8880"/>
                </a:cubicBezTo>
                <a:cubicBezTo>
                  <a:pt x="21771" y="8872"/>
                  <a:pt x="21762" y="8863"/>
                  <a:pt x="21754" y="8855"/>
                </a:cubicBezTo>
                <a:cubicBezTo>
                  <a:pt x="21689" y="8779"/>
                  <a:pt x="21586" y="8792"/>
                  <a:pt x="21481" y="8830"/>
                </a:cubicBezTo>
                <a:cubicBezTo>
                  <a:pt x="21367" y="8871"/>
                  <a:pt x="21233" y="8965"/>
                  <a:pt x="21233" y="9103"/>
                </a:cubicBezTo>
                <a:cubicBezTo>
                  <a:pt x="21233" y="9253"/>
                  <a:pt x="21441" y="9227"/>
                  <a:pt x="21530" y="9203"/>
                </a:cubicBezTo>
                <a:cubicBezTo>
                  <a:pt x="21650" y="9170"/>
                  <a:pt x="21869" y="9074"/>
                  <a:pt x="21927" y="8954"/>
                </a:cubicBezTo>
                <a:cubicBezTo>
                  <a:pt x="21986" y="8832"/>
                  <a:pt x="21996" y="8614"/>
                  <a:pt x="21977" y="8483"/>
                </a:cubicBezTo>
                <a:cubicBezTo>
                  <a:pt x="21954" y="8416"/>
                  <a:pt x="21949" y="8398"/>
                  <a:pt x="21927" y="8359"/>
                </a:cubicBezTo>
                <a:cubicBezTo>
                  <a:pt x="21859" y="8428"/>
                  <a:pt x="21837" y="8508"/>
                  <a:pt x="21828" y="8632"/>
                </a:cubicBezTo>
                <a:cubicBezTo>
                  <a:pt x="21809" y="8899"/>
                  <a:pt x="21881" y="9064"/>
                  <a:pt x="22027" y="92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90880" y="3848040"/>
            <a:ext cx="723960" cy="331920"/>
          </a:xfrm>
          <a:custGeom>
            <a:avLst/>
            <a:gdLst/>
            <a:ahLst/>
            <a:rect l="l" t="t" r="r" b="b"/>
            <a:pathLst>
              <a:path w="2010" h="919">
                <a:moveTo>
                  <a:pt x="8458" y="10790"/>
                </a:moveTo>
                <a:cubicBezTo>
                  <a:pt x="8482" y="10802"/>
                  <a:pt x="8429" y="10883"/>
                  <a:pt x="8409" y="10939"/>
                </a:cubicBezTo>
                <a:cubicBezTo>
                  <a:pt x="8372" y="11045"/>
                  <a:pt x="8348" y="11152"/>
                  <a:pt x="8334" y="11261"/>
                </a:cubicBezTo>
                <a:cubicBezTo>
                  <a:pt x="8326" y="11320"/>
                  <a:pt x="8315" y="11379"/>
                  <a:pt x="8310" y="11435"/>
                </a:cubicBezTo>
                <a:cubicBezTo>
                  <a:pt x="8310" y="11443"/>
                  <a:pt x="8310" y="11452"/>
                  <a:pt x="8310" y="11460"/>
                </a:cubicBezTo>
                <a:cubicBezTo>
                  <a:pt x="8327" y="11391"/>
                  <a:pt x="8364" y="11313"/>
                  <a:pt x="8384" y="11237"/>
                </a:cubicBezTo>
                <a:cubicBezTo>
                  <a:pt x="8417" y="11111"/>
                  <a:pt x="8461" y="10950"/>
                  <a:pt x="8533" y="10840"/>
                </a:cubicBezTo>
                <a:cubicBezTo>
                  <a:pt x="8575" y="10775"/>
                  <a:pt x="8618" y="10756"/>
                  <a:pt x="8682" y="10740"/>
                </a:cubicBezTo>
                <a:cubicBezTo>
                  <a:pt x="8735" y="10809"/>
                  <a:pt x="8772" y="10900"/>
                  <a:pt x="8781" y="10988"/>
                </a:cubicBezTo>
                <a:cubicBezTo>
                  <a:pt x="8795" y="11127"/>
                  <a:pt x="8801" y="11274"/>
                  <a:pt x="8830" y="11410"/>
                </a:cubicBezTo>
                <a:cubicBezTo>
                  <a:pt x="8849" y="11468"/>
                  <a:pt x="8858" y="11474"/>
                  <a:pt x="8855" y="11509"/>
                </a:cubicBezTo>
              </a:path>
              <a:path w="2010" h="919">
                <a:moveTo>
                  <a:pt x="8483" y="11311"/>
                </a:moveTo>
                <a:cubicBezTo>
                  <a:pt x="8543" y="11266"/>
                  <a:pt x="8537" y="11299"/>
                  <a:pt x="8607" y="11311"/>
                </a:cubicBezTo>
                <a:cubicBezTo>
                  <a:pt x="8711" y="11329"/>
                  <a:pt x="8831" y="11311"/>
                  <a:pt x="8930" y="11286"/>
                </a:cubicBezTo>
              </a:path>
              <a:path w="2010" h="919">
                <a:moveTo>
                  <a:pt x="9401" y="10691"/>
                </a:moveTo>
                <a:cubicBezTo>
                  <a:pt x="9364" y="10703"/>
                  <a:pt x="9335" y="10789"/>
                  <a:pt x="9327" y="10840"/>
                </a:cubicBezTo>
                <a:cubicBezTo>
                  <a:pt x="9310" y="10952"/>
                  <a:pt x="9367" y="11082"/>
                  <a:pt x="9401" y="11187"/>
                </a:cubicBezTo>
                <a:cubicBezTo>
                  <a:pt x="9425" y="11260"/>
                  <a:pt x="9474" y="11320"/>
                  <a:pt x="9500" y="11385"/>
                </a:cubicBezTo>
                <a:cubicBezTo>
                  <a:pt x="9500" y="11393"/>
                  <a:pt x="9500" y="11402"/>
                  <a:pt x="9500" y="11410"/>
                </a:cubicBezTo>
                <a:cubicBezTo>
                  <a:pt x="9411" y="11410"/>
                  <a:pt x="9328" y="11400"/>
                  <a:pt x="9252" y="11385"/>
                </a:cubicBezTo>
                <a:cubicBezTo>
                  <a:pt x="9183" y="11371"/>
                  <a:pt x="9178" y="11408"/>
                  <a:pt x="9178" y="11460"/>
                </a:cubicBezTo>
                <a:cubicBezTo>
                  <a:pt x="9178" y="11530"/>
                  <a:pt x="9165" y="11588"/>
                  <a:pt x="9252" y="11609"/>
                </a:cubicBezTo>
                <a:cubicBezTo>
                  <a:pt x="9310" y="11609"/>
                  <a:pt x="9335" y="11609"/>
                  <a:pt x="9376" y="11609"/>
                </a:cubicBezTo>
              </a:path>
              <a:path w="2010" h="919">
                <a:moveTo>
                  <a:pt x="10021" y="10740"/>
                </a:moveTo>
                <a:cubicBezTo>
                  <a:pt x="10021" y="10814"/>
                  <a:pt x="10019" y="10868"/>
                  <a:pt x="10046" y="10939"/>
                </a:cubicBezTo>
                <a:cubicBezTo>
                  <a:pt x="10069" y="10998"/>
                  <a:pt x="10122" y="11079"/>
                  <a:pt x="10170" y="11112"/>
                </a:cubicBezTo>
                <a:cubicBezTo>
                  <a:pt x="10197" y="11131"/>
                  <a:pt x="10206" y="11153"/>
                  <a:pt x="10220" y="11112"/>
                </a:cubicBezTo>
                <a:cubicBezTo>
                  <a:pt x="10181" y="11084"/>
                  <a:pt x="10123" y="11074"/>
                  <a:pt x="10071" y="11088"/>
                </a:cubicBezTo>
                <a:cubicBezTo>
                  <a:pt x="9966" y="11116"/>
                  <a:pt x="9936" y="11226"/>
                  <a:pt x="9897" y="11311"/>
                </a:cubicBezTo>
                <a:cubicBezTo>
                  <a:pt x="9858" y="11397"/>
                  <a:pt x="9846" y="11481"/>
                  <a:pt x="9922" y="11534"/>
                </a:cubicBezTo>
                <a:cubicBezTo>
                  <a:pt x="10004" y="11591"/>
                  <a:pt x="10144" y="11497"/>
                  <a:pt x="10220" y="11460"/>
                </a:cubicBezTo>
                <a:cubicBezTo>
                  <a:pt x="10253" y="11443"/>
                  <a:pt x="10286" y="11427"/>
                  <a:pt x="10319" y="114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98960" y="3946680"/>
            <a:ext cx="660240" cy="223560"/>
          </a:xfrm>
          <a:custGeom>
            <a:avLst/>
            <a:gdLst/>
            <a:ahLst/>
            <a:rect l="l" t="t" r="r" b="b"/>
            <a:pathLst>
              <a:path w="1837" h="621">
                <a:moveTo>
                  <a:pt x="11609" y="11088"/>
                </a:moveTo>
                <a:cubicBezTo>
                  <a:pt x="11553" y="11046"/>
                  <a:pt x="11530" y="11078"/>
                  <a:pt x="11485" y="11137"/>
                </a:cubicBezTo>
                <a:cubicBezTo>
                  <a:pt x="11408" y="11236"/>
                  <a:pt x="11340" y="11380"/>
                  <a:pt x="11385" y="11509"/>
                </a:cubicBezTo>
                <a:cubicBezTo>
                  <a:pt x="11433" y="11646"/>
                  <a:pt x="11593" y="11582"/>
                  <a:pt x="11683" y="11534"/>
                </a:cubicBezTo>
                <a:cubicBezTo>
                  <a:pt x="11783" y="11481"/>
                  <a:pt x="11849" y="11377"/>
                  <a:pt x="11832" y="11261"/>
                </a:cubicBezTo>
                <a:cubicBezTo>
                  <a:pt x="11815" y="11145"/>
                  <a:pt x="11764" y="11144"/>
                  <a:pt x="11683" y="11088"/>
                </a:cubicBezTo>
                <a:cubicBezTo>
                  <a:pt x="11675" y="11080"/>
                  <a:pt x="11666" y="11071"/>
                  <a:pt x="11658" y="11063"/>
                </a:cubicBezTo>
              </a:path>
              <a:path w="1837" h="621">
                <a:moveTo>
                  <a:pt x="12179" y="10988"/>
                </a:moveTo>
                <a:cubicBezTo>
                  <a:pt x="12196" y="10980"/>
                  <a:pt x="12212" y="10972"/>
                  <a:pt x="12229" y="10964"/>
                </a:cubicBezTo>
                <a:cubicBezTo>
                  <a:pt x="12213" y="11026"/>
                  <a:pt x="12194" y="11094"/>
                  <a:pt x="12179" y="11162"/>
                </a:cubicBezTo>
                <a:cubicBezTo>
                  <a:pt x="12154" y="11272"/>
                  <a:pt x="12154" y="11370"/>
                  <a:pt x="12154" y="11485"/>
                </a:cubicBezTo>
                <a:cubicBezTo>
                  <a:pt x="12154" y="11534"/>
                  <a:pt x="12154" y="11551"/>
                  <a:pt x="12154" y="11584"/>
                </a:cubicBezTo>
              </a:path>
              <a:path w="1837" h="621">
                <a:moveTo>
                  <a:pt x="12179" y="11410"/>
                </a:moveTo>
                <a:cubicBezTo>
                  <a:pt x="12267" y="11463"/>
                  <a:pt x="12291" y="11401"/>
                  <a:pt x="12378" y="11361"/>
                </a:cubicBezTo>
                <a:cubicBezTo>
                  <a:pt x="12471" y="11318"/>
                  <a:pt x="12525" y="11280"/>
                  <a:pt x="12576" y="11187"/>
                </a:cubicBezTo>
                <a:cubicBezTo>
                  <a:pt x="12594" y="11154"/>
                  <a:pt x="12657" y="11057"/>
                  <a:pt x="12626" y="11013"/>
                </a:cubicBezTo>
                <a:cubicBezTo>
                  <a:pt x="12618" y="11013"/>
                  <a:pt x="12609" y="11013"/>
                  <a:pt x="12601" y="11013"/>
                </a:cubicBezTo>
                <a:cubicBezTo>
                  <a:pt x="12569" y="11066"/>
                  <a:pt x="12535" y="11169"/>
                  <a:pt x="12526" y="11237"/>
                </a:cubicBezTo>
                <a:cubicBezTo>
                  <a:pt x="12514" y="11328"/>
                  <a:pt x="12504" y="11477"/>
                  <a:pt x="12551" y="11559"/>
                </a:cubicBezTo>
                <a:cubicBezTo>
                  <a:pt x="12574" y="11582"/>
                  <a:pt x="12578" y="11590"/>
                  <a:pt x="12601" y="11584"/>
                </a:cubicBezTo>
              </a:path>
              <a:path w="1837" h="621">
                <a:moveTo>
                  <a:pt x="12973" y="11038"/>
                </a:moveTo>
                <a:cubicBezTo>
                  <a:pt x="13046" y="11038"/>
                  <a:pt x="13104" y="11024"/>
                  <a:pt x="13171" y="11013"/>
                </a:cubicBezTo>
                <a:cubicBezTo>
                  <a:pt x="13188" y="11013"/>
                  <a:pt x="13204" y="11013"/>
                  <a:pt x="13221" y="110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6960" y="4037040"/>
            <a:ext cx="474840" cy="187200"/>
          </a:xfrm>
          <a:custGeom>
            <a:avLst/>
            <a:gdLst/>
            <a:ahLst/>
            <a:rect l="l" t="t" r="r" b="b"/>
            <a:pathLst>
              <a:path w="1316" h="522">
                <a:moveTo>
                  <a:pt x="14238" y="11311"/>
                </a:moveTo>
                <a:cubicBezTo>
                  <a:pt x="14238" y="11246"/>
                  <a:pt x="14216" y="11373"/>
                  <a:pt x="14213" y="11385"/>
                </a:cubicBezTo>
                <a:cubicBezTo>
                  <a:pt x="14193" y="11458"/>
                  <a:pt x="14151" y="11591"/>
                  <a:pt x="14213" y="11658"/>
                </a:cubicBezTo>
                <a:cubicBezTo>
                  <a:pt x="14263" y="11712"/>
                  <a:pt x="14383" y="11686"/>
                  <a:pt x="14436" y="11658"/>
                </a:cubicBezTo>
                <a:cubicBezTo>
                  <a:pt x="14519" y="11613"/>
                  <a:pt x="14582" y="11526"/>
                  <a:pt x="14610" y="11435"/>
                </a:cubicBezTo>
                <a:cubicBezTo>
                  <a:pt x="14612" y="11428"/>
                  <a:pt x="14610" y="11342"/>
                  <a:pt x="14610" y="11410"/>
                </a:cubicBezTo>
                <a:cubicBezTo>
                  <a:pt x="14610" y="11499"/>
                  <a:pt x="14604" y="11574"/>
                  <a:pt x="14635" y="11658"/>
                </a:cubicBezTo>
                <a:cubicBezTo>
                  <a:pt x="14663" y="11715"/>
                  <a:pt x="14679" y="11734"/>
                  <a:pt x="14734" y="11733"/>
                </a:cubicBezTo>
              </a:path>
              <a:path w="1316" h="522">
                <a:moveTo>
                  <a:pt x="15156" y="11286"/>
                </a:moveTo>
                <a:cubicBezTo>
                  <a:pt x="15085" y="11312"/>
                  <a:pt x="14987" y="11319"/>
                  <a:pt x="14957" y="11385"/>
                </a:cubicBezTo>
                <a:cubicBezTo>
                  <a:pt x="14936" y="11430"/>
                  <a:pt x="14980" y="11480"/>
                  <a:pt x="15007" y="11509"/>
                </a:cubicBezTo>
                <a:cubicBezTo>
                  <a:pt x="15041" y="11545"/>
                  <a:pt x="15100" y="11583"/>
                  <a:pt x="15106" y="11633"/>
                </a:cubicBezTo>
                <a:cubicBezTo>
                  <a:pt x="15110" y="11673"/>
                  <a:pt x="15039" y="11724"/>
                  <a:pt x="15007" y="11733"/>
                </a:cubicBezTo>
                <a:cubicBezTo>
                  <a:pt x="14990" y="11733"/>
                  <a:pt x="14974" y="11733"/>
                  <a:pt x="14957" y="11733"/>
                </a:cubicBezTo>
              </a:path>
              <a:path w="1316" h="522">
                <a:moveTo>
                  <a:pt x="15205" y="11534"/>
                </a:moveTo>
                <a:cubicBezTo>
                  <a:pt x="15326" y="11499"/>
                  <a:pt x="15345" y="11478"/>
                  <a:pt x="15429" y="11410"/>
                </a:cubicBezTo>
                <a:cubicBezTo>
                  <a:pt x="15494" y="11357"/>
                  <a:pt x="15503" y="11349"/>
                  <a:pt x="15503" y="11261"/>
                </a:cubicBezTo>
                <a:cubicBezTo>
                  <a:pt x="15503" y="11233"/>
                  <a:pt x="15500" y="11223"/>
                  <a:pt x="15478" y="11212"/>
                </a:cubicBezTo>
                <a:cubicBezTo>
                  <a:pt x="15415" y="11237"/>
                  <a:pt x="15377" y="11291"/>
                  <a:pt x="15354" y="11361"/>
                </a:cubicBezTo>
                <a:cubicBezTo>
                  <a:pt x="15317" y="11475"/>
                  <a:pt x="15313" y="11567"/>
                  <a:pt x="15429" y="11633"/>
                </a:cubicBezTo>
                <a:cubicBezTo>
                  <a:pt x="15454" y="11641"/>
                  <a:pt x="15478" y="11650"/>
                  <a:pt x="15503" y="116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76920" y="4062240"/>
            <a:ext cx="492120" cy="312840"/>
          </a:xfrm>
          <a:custGeom>
            <a:avLst/>
            <a:gdLst/>
            <a:ahLst/>
            <a:rect l="l" t="t" r="r" b="b"/>
            <a:pathLst>
              <a:path w="1365" h="869">
                <a:moveTo>
                  <a:pt x="16049" y="11286"/>
                </a:moveTo>
                <a:cubicBezTo>
                  <a:pt x="16049" y="11385"/>
                  <a:pt x="16018" y="11514"/>
                  <a:pt x="16098" y="11584"/>
                </a:cubicBezTo>
                <a:cubicBezTo>
                  <a:pt x="16177" y="11653"/>
                  <a:pt x="16301" y="11573"/>
                  <a:pt x="16371" y="11534"/>
                </a:cubicBezTo>
                <a:cubicBezTo>
                  <a:pt x="16461" y="11483"/>
                  <a:pt x="16482" y="11444"/>
                  <a:pt x="16520" y="11361"/>
                </a:cubicBezTo>
                <a:cubicBezTo>
                  <a:pt x="16457" y="11379"/>
                  <a:pt x="16414" y="11429"/>
                  <a:pt x="16396" y="11509"/>
                </a:cubicBezTo>
                <a:cubicBezTo>
                  <a:pt x="16396" y="11526"/>
                  <a:pt x="16396" y="11542"/>
                  <a:pt x="16396" y="11559"/>
                </a:cubicBezTo>
                <a:cubicBezTo>
                  <a:pt x="16478" y="11590"/>
                  <a:pt x="16558" y="11601"/>
                  <a:pt x="16644" y="11559"/>
                </a:cubicBezTo>
                <a:cubicBezTo>
                  <a:pt x="16724" y="11520"/>
                  <a:pt x="16801" y="11443"/>
                  <a:pt x="16867" y="11385"/>
                </a:cubicBezTo>
                <a:cubicBezTo>
                  <a:pt x="16867" y="11361"/>
                  <a:pt x="16867" y="11353"/>
                  <a:pt x="16867" y="11385"/>
                </a:cubicBezTo>
                <a:cubicBezTo>
                  <a:pt x="16855" y="11504"/>
                  <a:pt x="16830" y="11642"/>
                  <a:pt x="16793" y="11757"/>
                </a:cubicBezTo>
                <a:cubicBezTo>
                  <a:pt x="16752" y="11884"/>
                  <a:pt x="16703" y="11995"/>
                  <a:pt x="16694" y="12129"/>
                </a:cubicBezTo>
                <a:cubicBezTo>
                  <a:pt x="16694" y="12137"/>
                  <a:pt x="16694" y="12146"/>
                  <a:pt x="16694" y="12154"/>
                </a:cubicBezTo>
                <a:cubicBezTo>
                  <a:pt x="16708" y="12029"/>
                  <a:pt x="16770" y="11924"/>
                  <a:pt x="16818" y="11807"/>
                </a:cubicBezTo>
                <a:cubicBezTo>
                  <a:pt x="16883" y="11649"/>
                  <a:pt x="16959" y="11513"/>
                  <a:pt x="17115" y="11435"/>
                </a:cubicBezTo>
                <a:cubicBezTo>
                  <a:pt x="17212" y="11386"/>
                  <a:pt x="17290" y="11377"/>
                  <a:pt x="17388" y="11410"/>
                </a:cubicBezTo>
                <a:cubicBezTo>
                  <a:pt x="17398" y="11500"/>
                  <a:pt x="17412" y="11513"/>
                  <a:pt x="17314" y="11584"/>
                </a:cubicBezTo>
                <a:cubicBezTo>
                  <a:pt x="17271" y="11615"/>
                  <a:pt x="17144" y="11675"/>
                  <a:pt x="17090" y="11658"/>
                </a:cubicBezTo>
                <a:cubicBezTo>
                  <a:pt x="17082" y="11650"/>
                  <a:pt x="17074" y="11641"/>
                  <a:pt x="17066" y="116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83240" y="3867120"/>
            <a:ext cx="517680" cy="303120"/>
          </a:xfrm>
          <a:custGeom>
            <a:avLst/>
            <a:gdLst/>
            <a:ahLst/>
            <a:rect l="l" t="t" r="r" b="b"/>
            <a:pathLst>
              <a:path w="1440" h="845">
                <a:moveTo>
                  <a:pt x="18132" y="10914"/>
                </a:moveTo>
                <a:cubicBezTo>
                  <a:pt x="18140" y="10914"/>
                  <a:pt x="18149" y="10914"/>
                  <a:pt x="18157" y="10914"/>
                </a:cubicBezTo>
                <a:cubicBezTo>
                  <a:pt x="18143" y="10971"/>
                  <a:pt x="18101" y="11024"/>
                  <a:pt x="18083" y="11088"/>
                </a:cubicBezTo>
                <a:cubicBezTo>
                  <a:pt x="18050" y="11204"/>
                  <a:pt x="18012" y="11314"/>
                  <a:pt x="18008" y="11435"/>
                </a:cubicBezTo>
                <a:cubicBezTo>
                  <a:pt x="18006" y="11484"/>
                  <a:pt x="18008" y="11534"/>
                  <a:pt x="18008" y="11584"/>
                </a:cubicBezTo>
              </a:path>
              <a:path w="1440" h="845">
                <a:moveTo>
                  <a:pt x="18132" y="11187"/>
                </a:moveTo>
                <a:cubicBezTo>
                  <a:pt x="18107" y="11187"/>
                  <a:pt x="18099" y="11187"/>
                  <a:pt x="18083" y="11187"/>
                </a:cubicBezTo>
                <a:cubicBezTo>
                  <a:pt x="18148" y="11237"/>
                  <a:pt x="18227" y="11208"/>
                  <a:pt x="18306" y="11187"/>
                </a:cubicBezTo>
                <a:cubicBezTo>
                  <a:pt x="18443" y="11150"/>
                  <a:pt x="18536" y="11084"/>
                  <a:pt x="18628" y="10988"/>
                </a:cubicBezTo>
                <a:cubicBezTo>
                  <a:pt x="18682" y="10932"/>
                  <a:pt x="18678" y="10950"/>
                  <a:pt x="18678" y="10889"/>
                </a:cubicBezTo>
                <a:cubicBezTo>
                  <a:pt x="18611" y="10838"/>
                  <a:pt x="18589" y="10899"/>
                  <a:pt x="18554" y="10964"/>
                </a:cubicBezTo>
                <a:cubicBezTo>
                  <a:pt x="18474" y="11112"/>
                  <a:pt x="18459" y="11270"/>
                  <a:pt x="18455" y="11435"/>
                </a:cubicBezTo>
                <a:cubicBezTo>
                  <a:pt x="18455" y="11468"/>
                  <a:pt x="18455" y="11501"/>
                  <a:pt x="18455" y="11534"/>
                </a:cubicBezTo>
              </a:path>
              <a:path w="1440" h="845">
                <a:moveTo>
                  <a:pt x="19000" y="11013"/>
                </a:moveTo>
                <a:cubicBezTo>
                  <a:pt x="19074" y="11013"/>
                  <a:pt x="19132" y="10997"/>
                  <a:pt x="19199" y="10988"/>
                </a:cubicBezTo>
                <a:cubicBezTo>
                  <a:pt x="19277" y="10978"/>
                  <a:pt x="19302" y="10974"/>
                  <a:pt x="19372" y="10939"/>
                </a:cubicBezTo>
              </a:path>
              <a:path w="1440" h="845">
                <a:moveTo>
                  <a:pt x="19447" y="10740"/>
                </a:moveTo>
                <a:cubicBezTo>
                  <a:pt x="19359" y="10836"/>
                  <a:pt x="19271" y="10937"/>
                  <a:pt x="19224" y="11063"/>
                </a:cubicBezTo>
                <a:cubicBezTo>
                  <a:pt x="19201" y="11155"/>
                  <a:pt x="19195" y="11180"/>
                  <a:pt x="19174" y="112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52960" y="4599000"/>
            <a:ext cx="749160" cy="204840"/>
          </a:xfrm>
          <a:custGeom>
            <a:avLst/>
            <a:gdLst/>
            <a:ahLst/>
            <a:rect l="l" t="t" r="r" b="b"/>
            <a:pathLst>
              <a:path w="2085" h="572">
                <a:moveTo>
                  <a:pt x="11534" y="13246"/>
                </a:moveTo>
                <a:cubicBezTo>
                  <a:pt x="11534" y="13213"/>
                  <a:pt x="11544" y="13191"/>
                  <a:pt x="11559" y="13221"/>
                </a:cubicBezTo>
                <a:cubicBezTo>
                  <a:pt x="11574" y="13251"/>
                  <a:pt x="11570" y="13262"/>
                  <a:pt x="11584" y="13221"/>
                </a:cubicBezTo>
              </a:path>
              <a:path w="2085" h="572">
                <a:moveTo>
                  <a:pt x="12179" y="12849"/>
                </a:moveTo>
                <a:cubicBezTo>
                  <a:pt x="12161" y="12795"/>
                  <a:pt x="12103" y="12855"/>
                  <a:pt x="12080" y="12898"/>
                </a:cubicBezTo>
                <a:cubicBezTo>
                  <a:pt x="12039" y="12973"/>
                  <a:pt x="11995" y="13118"/>
                  <a:pt x="12055" y="13196"/>
                </a:cubicBezTo>
                <a:cubicBezTo>
                  <a:pt x="12113" y="13271"/>
                  <a:pt x="12240" y="13243"/>
                  <a:pt x="12303" y="13196"/>
                </a:cubicBezTo>
                <a:cubicBezTo>
                  <a:pt x="12374" y="13143"/>
                  <a:pt x="12401" y="13075"/>
                  <a:pt x="12353" y="12998"/>
                </a:cubicBezTo>
                <a:cubicBezTo>
                  <a:pt x="12323" y="12950"/>
                  <a:pt x="12229" y="12955"/>
                  <a:pt x="12229" y="12898"/>
                </a:cubicBezTo>
                <a:cubicBezTo>
                  <a:pt x="12251" y="12876"/>
                  <a:pt x="12256" y="12868"/>
                  <a:pt x="12278" y="12874"/>
                </a:cubicBezTo>
              </a:path>
              <a:path w="2085" h="572">
                <a:moveTo>
                  <a:pt x="12824" y="12774"/>
                </a:moveTo>
                <a:cubicBezTo>
                  <a:pt x="12877" y="12774"/>
                  <a:pt x="12897" y="12790"/>
                  <a:pt x="12948" y="12799"/>
                </a:cubicBezTo>
                <a:cubicBezTo>
                  <a:pt x="13042" y="12816"/>
                  <a:pt x="13140" y="12775"/>
                  <a:pt x="13221" y="12824"/>
                </a:cubicBezTo>
              </a:path>
              <a:path w="2085" h="572">
                <a:moveTo>
                  <a:pt x="13047" y="12799"/>
                </a:moveTo>
                <a:cubicBezTo>
                  <a:pt x="12975" y="12847"/>
                  <a:pt x="12887" y="12889"/>
                  <a:pt x="12824" y="12948"/>
                </a:cubicBezTo>
                <a:cubicBezTo>
                  <a:pt x="12785" y="12987"/>
                  <a:pt x="12768" y="12988"/>
                  <a:pt x="12774" y="13022"/>
                </a:cubicBezTo>
                <a:cubicBezTo>
                  <a:pt x="12787" y="13062"/>
                  <a:pt x="12822" y="13069"/>
                  <a:pt x="12874" y="13072"/>
                </a:cubicBezTo>
                <a:cubicBezTo>
                  <a:pt x="12951" y="13077"/>
                  <a:pt x="12967" y="13068"/>
                  <a:pt x="13022" y="13122"/>
                </a:cubicBezTo>
                <a:cubicBezTo>
                  <a:pt x="13078" y="13178"/>
                  <a:pt x="13033" y="13211"/>
                  <a:pt x="13022" y="13271"/>
                </a:cubicBezTo>
                <a:cubicBezTo>
                  <a:pt x="13012" y="13329"/>
                  <a:pt x="13029" y="13331"/>
                  <a:pt x="12973" y="13345"/>
                </a:cubicBezTo>
              </a:path>
              <a:path w="2085" h="572">
                <a:moveTo>
                  <a:pt x="13295" y="12948"/>
                </a:moveTo>
                <a:cubicBezTo>
                  <a:pt x="13289" y="13016"/>
                  <a:pt x="13252" y="13102"/>
                  <a:pt x="13271" y="13171"/>
                </a:cubicBezTo>
                <a:cubicBezTo>
                  <a:pt x="13293" y="13254"/>
                  <a:pt x="13332" y="13290"/>
                  <a:pt x="13419" y="13271"/>
                </a:cubicBezTo>
                <a:cubicBezTo>
                  <a:pt x="13495" y="13254"/>
                  <a:pt x="13599" y="13209"/>
                  <a:pt x="13618" y="13122"/>
                </a:cubicBezTo>
                <a:cubicBezTo>
                  <a:pt x="13635" y="13045"/>
                  <a:pt x="13612" y="12961"/>
                  <a:pt x="13568" y="12898"/>
                </a:cubicBezTo>
                <a:cubicBezTo>
                  <a:pt x="13537" y="12854"/>
                  <a:pt x="13492" y="12849"/>
                  <a:pt x="13444" y="128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6960" y="4572000"/>
            <a:ext cx="573120" cy="223920"/>
          </a:xfrm>
          <a:custGeom>
            <a:avLst/>
            <a:gdLst/>
            <a:ahLst/>
            <a:rect l="l" t="t" r="r" b="b"/>
            <a:pathLst>
              <a:path w="1589" h="621">
                <a:moveTo>
                  <a:pt x="14263" y="13122"/>
                </a:moveTo>
                <a:cubicBezTo>
                  <a:pt x="14236" y="13141"/>
                  <a:pt x="14197" y="13152"/>
                  <a:pt x="14188" y="13196"/>
                </a:cubicBezTo>
                <a:cubicBezTo>
                  <a:pt x="14176" y="13256"/>
                  <a:pt x="14200" y="13273"/>
                  <a:pt x="14213" y="13295"/>
                </a:cubicBezTo>
                <a:cubicBezTo>
                  <a:pt x="14242" y="13266"/>
                  <a:pt x="14311" y="13159"/>
                  <a:pt x="14337" y="13146"/>
                </a:cubicBezTo>
                <a:cubicBezTo>
                  <a:pt x="14383" y="13123"/>
                  <a:pt x="14422" y="13160"/>
                  <a:pt x="14436" y="13171"/>
                </a:cubicBezTo>
                <a:cubicBezTo>
                  <a:pt x="14466" y="13196"/>
                  <a:pt x="14466" y="13238"/>
                  <a:pt x="14486" y="13271"/>
                </a:cubicBezTo>
                <a:cubicBezTo>
                  <a:pt x="14519" y="13252"/>
                  <a:pt x="14549" y="13219"/>
                  <a:pt x="14585" y="13196"/>
                </a:cubicBezTo>
                <a:cubicBezTo>
                  <a:pt x="14638" y="13162"/>
                  <a:pt x="14656" y="13119"/>
                  <a:pt x="14709" y="13097"/>
                </a:cubicBezTo>
                <a:cubicBezTo>
                  <a:pt x="14717" y="13097"/>
                  <a:pt x="14726" y="13097"/>
                  <a:pt x="14734" y="13097"/>
                </a:cubicBezTo>
                <a:cubicBezTo>
                  <a:pt x="14742" y="13166"/>
                  <a:pt x="14741" y="13208"/>
                  <a:pt x="14784" y="13271"/>
                </a:cubicBezTo>
                <a:cubicBezTo>
                  <a:pt x="14825" y="13331"/>
                  <a:pt x="14871" y="13332"/>
                  <a:pt x="14932" y="13295"/>
                </a:cubicBezTo>
                <a:cubicBezTo>
                  <a:pt x="14964" y="13276"/>
                  <a:pt x="15047" y="13207"/>
                  <a:pt x="15032" y="13171"/>
                </a:cubicBezTo>
                <a:cubicBezTo>
                  <a:pt x="15024" y="13171"/>
                  <a:pt x="15015" y="13171"/>
                  <a:pt x="15007" y="13171"/>
                </a:cubicBezTo>
                <a:cubicBezTo>
                  <a:pt x="15007" y="13222"/>
                  <a:pt x="15000" y="13254"/>
                  <a:pt x="15032" y="13295"/>
                </a:cubicBezTo>
                <a:cubicBezTo>
                  <a:pt x="15074" y="13348"/>
                  <a:pt x="15137" y="13318"/>
                  <a:pt x="15180" y="13295"/>
                </a:cubicBezTo>
                <a:cubicBezTo>
                  <a:pt x="15240" y="13263"/>
                  <a:pt x="15240" y="13242"/>
                  <a:pt x="15230" y="13171"/>
                </a:cubicBezTo>
                <a:cubicBezTo>
                  <a:pt x="15223" y="13125"/>
                  <a:pt x="15183" y="13092"/>
                  <a:pt x="15131" y="13097"/>
                </a:cubicBezTo>
                <a:cubicBezTo>
                  <a:pt x="15131" y="13105"/>
                  <a:pt x="15131" y="13114"/>
                  <a:pt x="15131" y="13122"/>
                </a:cubicBezTo>
                <a:cubicBezTo>
                  <a:pt x="15196" y="13160"/>
                  <a:pt x="15280" y="13157"/>
                  <a:pt x="15354" y="13122"/>
                </a:cubicBezTo>
                <a:cubicBezTo>
                  <a:pt x="15444" y="13079"/>
                  <a:pt x="15582" y="13023"/>
                  <a:pt x="15652" y="12948"/>
                </a:cubicBezTo>
                <a:cubicBezTo>
                  <a:pt x="15694" y="12904"/>
                  <a:pt x="15717" y="12809"/>
                  <a:pt x="15701" y="12750"/>
                </a:cubicBezTo>
                <a:cubicBezTo>
                  <a:pt x="15693" y="12733"/>
                  <a:pt x="15685" y="12717"/>
                  <a:pt x="15677" y="12700"/>
                </a:cubicBezTo>
                <a:cubicBezTo>
                  <a:pt x="15624" y="12708"/>
                  <a:pt x="15594" y="12704"/>
                  <a:pt x="15577" y="12774"/>
                </a:cubicBezTo>
                <a:cubicBezTo>
                  <a:pt x="15549" y="12892"/>
                  <a:pt x="15588" y="12993"/>
                  <a:pt x="15627" y="13097"/>
                </a:cubicBezTo>
                <a:cubicBezTo>
                  <a:pt x="15664" y="13196"/>
                  <a:pt x="15691" y="13209"/>
                  <a:pt x="15776" y="132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35080" y="5143680"/>
            <a:ext cx="1270080" cy="250560"/>
          </a:xfrm>
          <a:custGeom>
            <a:avLst/>
            <a:gdLst/>
            <a:ahLst/>
            <a:rect l="l" t="t" r="r" b="b"/>
            <a:pathLst>
              <a:path w="3524" h="695">
                <a:moveTo>
                  <a:pt x="5680" y="14982"/>
                </a:moveTo>
                <a:cubicBezTo>
                  <a:pt x="5658" y="14975"/>
                  <a:pt x="5635" y="14943"/>
                  <a:pt x="5655" y="14908"/>
                </a:cubicBezTo>
                <a:cubicBezTo>
                  <a:pt x="5684" y="14857"/>
                  <a:pt x="5680" y="14851"/>
                  <a:pt x="5680" y="14908"/>
                </a:cubicBezTo>
                <a:cubicBezTo>
                  <a:pt x="5680" y="14959"/>
                  <a:pt x="5639" y="14937"/>
                  <a:pt x="5680" y="14957"/>
                </a:cubicBezTo>
              </a:path>
              <a:path w="3524" h="695">
                <a:moveTo>
                  <a:pt x="6102" y="14288"/>
                </a:moveTo>
                <a:cubicBezTo>
                  <a:pt x="6155" y="14288"/>
                  <a:pt x="6187" y="14278"/>
                  <a:pt x="6226" y="14312"/>
                </a:cubicBezTo>
                <a:cubicBezTo>
                  <a:pt x="6266" y="14347"/>
                  <a:pt x="6292" y="14407"/>
                  <a:pt x="6276" y="14461"/>
                </a:cubicBezTo>
                <a:cubicBezTo>
                  <a:pt x="6251" y="14544"/>
                  <a:pt x="6186" y="14548"/>
                  <a:pt x="6152" y="14610"/>
                </a:cubicBezTo>
                <a:cubicBezTo>
                  <a:pt x="6130" y="14650"/>
                  <a:pt x="6190" y="14572"/>
                  <a:pt x="6226" y="14560"/>
                </a:cubicBezTo>
                <a:cubicBezTo>
                  <a:pt x="6300" y="14535"/>
                  <a:pt x="6321" y="14573"/>
                  <a:pt x="6325" y="14635"/>
                </a:cubicBezTo>
                <a:cubicBezTo>
                  <a:pt x="6330" y="14714"/>
                  <a:pt x="6328" y="14784"/>
                  <a:pt x="6300" y="14858"/>
                </a:cubicBezTo>
                <a:cubicBezTo>
                  <a:pt x="6281" y="14910"/>
                  <a:pt x="6228" y="14951"/>
                  <a:pt x="6176" y="14957"/>
                </a:cubicBezTo>
                <a:cubicBezTo>
                  <a:pt x="6148" y="14957"/>
                  <a:pt x="6138" y="14954"/>
                  <a:pt x="6127" y="14932"/>
                </a:cubicBezTo>
              </a:path>
              <a:path w="3524" h="695">
                <a:moveTo>
                  <a:pt x="6772" y="14387"/>
                </a:moveTo>
                <a:cubicBezTo>
                  <a:pt x="6728" y="14430"/>
                  <a:pt x="6664" y="14502"/>
                  <a:pt x="6648" y="14560"/>
                </a:cubicBezTo>
                <a:cubicBezTo>
                  <a:pt x="6630" y="14628"/>
                  <a:pt x="6629" y="14758"/>
                  <a:pt x="6697" y="14784"/>
                </a:cubicBezTo>
                <a:cubicBezTo>
                  <a:pt x="6780" y="14816"/>
                  <a:pt x="6852" y="14745"/>
                  <a:pt x="6896" y="14684"/>
                </a:cubicBezTo>
                <a:cubicBezTo>
                  <a:pt x="6926" y="14642"/>
                  <a:pt x="6974" y="14539"/>
                  <a:pt x="6945" y="14486"/>
                </a:cubicBezTo>
                <a:cubicBezTo>
                  <a:pt x="6922" y="14444"/>
                  <a:pt x="6856" y="14397"/>
                  <a:pt x="6821" y="14362"/>
                </a:cubicBezTo>
                <a:cubicBezTo>
                  <a:pt x="6813" y="14354"/>
                  <a:pt x="6804" y="14345"/>
                  <a:pt x="6796" y="14337"/>
                </a:cubicBezTo>
              </a:path>
              <a:path w="3524" h="695">
                <a:moveTo>
                  <a:pt x="7367" y="14436"/>
                </a:moveTo>
                <a:cubicBezTo>
                  <a:pt x="7352" y="14392"/>
                  <a:pt x="7333" y="14422"/>
                  <a:pt x="7317" y="14461"/>
                </a:cubicBezTo>
                <a:cubicBezTo>
                  <a:pt x="7283" y="14544"/>
                  <a:pt x="7241" y="14667"/>
                  <a:pt x="7268" y="14759"/>
                </a:cubicBezTo>
                <a:cubicBezTo>
                  <a:pt x="7291" y="14836"/>
                  <a:pt x="7405" y="14797"/>
                  <a:pt x="7441" y="14759"/>
                </a:cubicBezTo>
                <a:cubicBezTo>
                  <a:pt x="7514" y="14682"/>
                  <a:pt x="7536" y="14586"/>
                  <a:pt x="7541" y="14486"/>
                </a:cubicBezTo>
                <a:cubicBezTo>
                  <a:pt x="7544" y="14417"/>
                  <a:pt x="7502" y="14348"/>
                  <a:pt x="7441" y="14312"/>
                </a:cubicBezTo>
                <a:cubicBezTo>
                  <a:pt x="7406" y="14291"/>
                  <a:pt x="7374" y="14316"/>
                  <a:pt x="7367" y="14337"/>
                </a:cubicBezTo>
              </a:path>
              <a:path w="3524" h="695">
                <a:moveTo>
                  <a:pt x="8012" y="14709"/>
                </a:moveTo>
                <a:cubicBezTo>
                  <a:pt x="7928" y="14709"/>
                  <a:pt x="7928" y="14709"/>
                  <a:pt x="8012" y="14709"/>
                </a:cubicBezTo>
                <a:cubicBezTo>
                  <a:pt x="8094" y="14709"/>
                  <a:pt x="8175" y="14756"/>
                  <a:pt x="8260" y="14734"/>
                </a:cubicBezTo>
                <a:cubicBezTo>
                  <a:pt x="8312" y="14720"/>
                  <a:pt x="8358" y="14703"/>
                  <a:pt x="8409" y="14684"/>
                </a:cubicBezTo>
              </a:path>
              <a:path w="3524" h="695">
                <a:moveTo>
                  <a:pt x="9178" y="14461"/>
                </a:moveTo>
                <a:cubicBezTo>
                  <a:pt x="9169" y="14498"/>
                  <a:pt x="9130" y="14552"/>
                  <a:pt x="9103" y="14585"/>
                </a:cubicBezTo>
                <a:cubicBezTo>
                  <a:pt x="9050" y="14650"/>
                  <a:pt x="8995" y="14710"/>
                  <a:pt x="8954" y="14784"/>
                </a:cubicBezTo>
                <a:cubicBezTo>
                  <a:pt x="8929" y="14829"/>
                  <a:pt x="8912" y="14868"/>
                  <a:pt x="8880" y="14908"/>
                </a:cubicBezTo>
              </a:path>
              <a:path w="3524" h="695">
                <a:moveTo>
                  <a:pt x="8855" y="14486"/>
                </a:moveTo>
                <a:cubicBezTo>
                  <a:pt x="8855" y="14435"/>
                  <a:pt x="8860" y="14535"/>
                  <a:pt x="8880" y="14560"/>
                </a:cubicBezTo>
                <a:cubicBezTo>
                  <a:pt x="8941" y="14639"/>
                  <a:pt x="8996" y="14724"/>
                  <a:pt x="9054" y="14808"/>
                </a:cubicBezTo>
                <a:cubicBezTo>
                  <a:pt x="9083" y="14850"/>
                  <a:pt x="9096" y="14893"/>
                  <a:pt x="9128" y="149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9200" y="5249880"/>
            <a:ext cx="179640" cy="117360"/>
          </a:xfrm>
          <a:custGeom>
            <a:avLst/>
            <a:gdLst/>
            <a:ahLst/>
            <a:rect l="l" t="t" r="r" b="b"/>
            <a:pathLst>
              <a:path w="498" h="324">
                <a:moveTo>
                  <a:pt x="9971" y="14585"/>
                </a:moveTo>
                <a:cubicBezTo>
                  <a:pt x="9980" y="14611"/>
                  <a:pt x="10028" y="14650"/>
                  <a:pt x="10071" y="14660"/>
                </a:cubicBezTo>
                <a:cubicBezTo>
                  <a:pt x="10153" y="14679"/>
                  <a:pt x="10260" y="14660"/>
                  <a:pt x="10344" y="14660"/>
                </a:cubicBezTo>
              </a:path>
              <a:path w="498" h="324">
                <a:moveTo>
                  <a:pt x="10046" y="14858"/>
                </a:moveTo>
                <a:cubicBezTo>
                  <a:pt x="10061" y="14902"/>
                  <a:pt x="10117" y="14883"/>
                  <a:pt x="10170" y="14883"/>
                </a:cubicBezTo>
                <a:cubicBezTo>
                  <a:pt x="10265" y="14883"/>
                  <a:pt x="10390" y="14861"/>
                  <a:pt x="10468" y="149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10040" y="5180040"/>
            <a:ext cx="1187280" cy="258840"/>
          </a:xfrm>
          <a:custGeom>
            <a:avLst/>
            <a:gdLst/>
            <a:ahLst/>
            <a:rect l="l" t="t" r="r" b="b"/>
            <a:pathLst>
              <a:path w="3300" h="720">
                <a:moveTo>
                  <a:pt x="11137" y="14908"/>
                </a:moveTo>
                <a:cubicBezTo>
                  <a:pt x="11161" y="14977"/>
                  <a:pt x="11170" y="14894"/>
                  <a:pt x="11187" y="14883"/>
                </a:cubicBezTo>
                <a:cubicBezTo>
                  <a:pt x="11233" y="14853"/>
                  <a:pt x="11199" y="14862"/>
                  <a:pt x="11187" y="14908"/>
                </a:cubicBezTo>
              </a:path>
              <a:path w="3300" h="720">
                <a:moveTo>
                  <a:pt x="11857" y="14387"/>
                </a:moveTo>
                <a:cubicBezTo>
                  <a:pt x="11920" y="14387"/>
                  <a:pt x="11930" y="14378"/>
                  <a:pt x="11956" y="14412"/>
                </a:cubicBezTo>
                <a:cubicBezTo>
                  <a:pt x="12002" y="14472"/>
                  <a:pt x="12021" y="14530"/>
                  <a:pt x="12005" y="14610"/>
                </a:cubicBezTo>
                <a:cubicBezTo>
                  <a:pt x="11989" y="14688"/>
                  <a:pt x="11945" y="14784"/>
                  <a:pt x="11881" y="14833"/>
                </a:cubicBezTo>
                <a:cubicBezTo>
                  <a:pt x="11855" y="14853"/>
                  <a:pt x="11741" y="14916"/>
                  <a:pt x="11708" y="14883"/>
                </a:cubicBezTo>
                <a:cubicBezTo>
                  <a:pt x="11686" y="14861"/>
                  <a:pt x="11665" y="14812"/>
                  <a:pt x="11658" y="14784"/>
                </a:cubicBezTo>
                <a:cubicBezTo>
                  <a:pt x="11702" y="14758"/>
                  <a:pt x="11775" y="14743"/>
                  <a:pt x="11832" y="14759"/>
                </a:cubicBezTo>
                <a:cubicBezTo>
                  <a:pt x="11872" y="14770"/>
                  <a:pt x="11979" y="14824"/>
                  <a:pt x="12005" y="14858"/>
                </a:cubicBezTo>
                <a:cubicBezTo>
                  <a:pt x="12005" y="14886"/>
                  <a:pt x="12007" y="14897"/>
                  <a:pt x="12030" y="14908"/>
                </a:cubicBezTo>
              </a:path>
              <a:path w="3300" h="720">
                <a:moveTo>
                  <a:pt x="12526" y="14585"/>
                </a:moveTo>
                <a:cubicBezTo>
                  <a:pt x="12477" y="14547"/>
                  <a:pt x="12437" y="14571"/>
                  <a:pt x="12402" y="14635"/>
                </a:cubicBezTo>
                <a:cubicBezTo>
                  <a:pt x="12360" y="14713"/>
                  <a:pt x="12317" y="14827"/>
                  <a:pt x="12353" y="14908"/>
                </a:cubicBezTo>
                <a:cubicBezTo>
                  <a:pt x="12398" y="15010"/>
                  <a:pt x="12504" y="14925"/>
                  <a:pt x="12551" y="14883"/>
                </a:cubicBezTo>
                <a:cubicBezTo>
                  <a:pt x="12619" y="14822"/>
                  <a:pt x="12694" y="14733"/>
                  <a:pt x="12675" y="14635"/>
                </a:cubicBezTo>
                <a:cubicBezTo>
                  <a:pt x="12665" y="14582"/>
                  <a:pt x="12618" y="14489"/>
                  <a:pt x="12551" y="14511"/>
                </a:cubicBezTo>
                <a:cubicBezTo>
                  <a:pt x="12526" y="14536"/>
                  <a:pt x="12518" y="14544"/>
                  <a:pt x="12502" y="14560"/>
                </a:cubicBezTo>
              </a:path>
              <a:path w="3300" h="720">
                <a:moveTo>
                  <a:pt x="13146" y="14759"/>
                </a:moveTo>
                <a:cubicBezTo>
                  <a:pt x="13088" y="14759"/>
                  <a:pt x="13282" y="14736"/>
                  <a:pt x="13295" y="14734"/>
                </a:cubicBezTo>
                <a:cubicBezTo>
                  <a:pt x="13375" y="14725"/>
                  <a:pt x="13462" y="14734"/>
                  <a:pt x="13543" y="14734"/>
                </a:cubicBezTo>
              </a:path>
              <a:path w="3300" h="720">
                <a:moveTo>
                  <a:pt x="13395" y="14461"/>
                </a:moveTo>
                <a:cubicBezTo>
                  <a:pt x="13395" y="14530"/>
                  <a:pt x="13373" y="14589"/>
                  <a:pt x="13370" y="14660"/>
                </a:cubicBezTo>
                <a:cubicBezTo>
                  <a:pt x="13366" y="14764"/>
                  <a:pt x="13386" y="14855"/>
                  <a:pt x="13395" y="14957"/>
                </a:cubicBezTo>
              </a:path>
              <a:path w="3300" h="720">
                <a:moveTo>
                  <a:pt x="14337" y="14585"/>
                </a:moveTo>
                <a:cubicBezTo>
                  <a:pt x="14301" y="14613"/>
                  <a:pt x="14274" y="14625"/>
                  <a:pt x="14238" y="14660"/>
                </a:cubicBezTo>
                <a:cubicBezTo>
                  <a:pt x="14160" y="14737"/>
                  <a:pt x="14082" y="14795"/>
                  <a:pt x="14015" y="14883"/>
                </a:cubicBezTo>
                <a:cubicBezTo>
                  <a:pt x="13978" y="14933"/>
                  <a:pt x="13953" y="14985"/>
                  <a:pt x="13915" y="15032"/>
                </a:cubicBezTo>
              </a:path>
              <a:path w="3300" h="720">
                <a:moveTo>
                  <a:pt x="14089" y="14511"/>
                </a:moveTo>
                <a:cubicBezTo>
                  <a:pt x="14101" y="14606"/>
                  <a:pt x="14133" y="14666"/>
                  <a:pt x="14163" y="14759"/>
                </a:cubicBezTo>
                <a:cubicBezTo>
                  <a:pt x="14202" y="14879"/>
                  <a:pt x="14284" y="14997"/>
                  <a:pt x="14387" y="15081"/>
                </a:cubicBezTo>
                <a:cubicBezTo>
                  <a:pt x="14403" y="15089"/>
                  <a:pt x="14420" y="15098"/>
                  <a:pt x="14436" y="151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72120" y="5072040"/>
            <a:ext cx="901800" cy="330120"/>
          </a:xfrm>
          <a:custGeom>
            <a:avLst/>
            <a:gdLst/>
            <a:ahLst/>
            <a:rect l="l" t="t" r="r" b="b"/>
            <a:pathLst>
              <a:path w="2506" h="919">
                <a:moveTo>
                  <a:pt x="17338" y="14114"/>
                </a:moveTo>
                <a:cubicBezTo>
                  <a:pt x="17283" y="14072"/>
                  <a:pt x="17292" y="14096"/>
                  <a:pt x="17239" y="14114"/>
                </a:cubicBezTo>
                <a:cubicBezTo>
                  <a:pt x="17171" y="14137"/>
                  <a:pt x="17127" y="14273"/>
                  <a:pt x="17090" y="14337"/>
                </a:cubicBezTo>
                <a:cubicBezTo>
                  <a:pt x="16998" y="14497"/>
                  <a:pt x="16867" y="14689"/>
                  <a:pt x="16867" y="14883"/>
                </a:cubicBezTo>
                <a:cubicBezTo>
                  <a:pt x="16875" y="14908"/>
                  <a:pt x="16884" y="14932"/>
                  <a:pt x="16892" y="14957"/>
                </a:cubicBezTo>
                <a:cubicBezTo>
                  <a:pt x="17014" y="14984"/>
                  <a:pt x="17109" y="14939"/>
                  <a:pt x="17214" y="14858"/>
                </a:cubicBezTo>
                <a:cubicBezTo>
                  <a:pt x="17266" y="14818"/>
                  <a:pt x="17297" y="14759"/>
                  <a:pt x="17338" y="14709"/>
                </a:cubicBezTo>
                <a:cubicBezTo>
                  <a:pt x="17276" y="14661"/>
                  <a:pt x="17195" y="14704"/>
                  <a:pt x="17140" y="14759"/>
                </a:cubicBezTo>
                <a:cubicBezTo>
                  <a:pt x="17060" y="14839"/>
                  <a:pt x="17029" y="14908"/>
                  <a:pt x="17066" y="15007"/>
                </a:cubicBezTo>
              </a:path>
              <a:path w="2506" h="919">
                <a:moveTo>
                  <a:pt x="17661" y="14932"/>
                </a:moveTo>
                <a:cubicBezTo>
                  <a:pt x="17600" y="14932"/>
                  <a:pt x="17609" y="14921"/>
                  <a:pt x="17661" y="14908"/>
                </a:cubicBezTo>
              </a:path>
              <a:path w="2506" h="919">
                <a:moveTo>
                  <a:pt x="18033" y="14337"/>
                </a:moveTo>
                <a:cubicBezTo>
                  <a:pt x="18033" y="14321"/>
                  <a:pt x="18033" y="14304"/>
                  <a:pt x="18033" y="14288"/>
                </a:cubicBezTo>
                <a:cubicBezTo>
                  <a:pt x="17972" y="14378"/>
                  <a:pt x="17941" y="14451"/>
                  <a:pt x="17934" y="14560"/>
                </a:cubicBezTo>
                <a:cubicBezTo>
                  <a:pt x="17928" y="14652"/>
                  <a:pt x="17918" y="14759"/>
                  <a:pt x="18033" y="14784"/>
                </a:cubicBezTo>
                <a:cubicBezTo>
                  <a:pt x="18148" y="14809"/>
                  <a:pt x="18229" y="14694"/>
                  <a:pt x="18281" y="14610"/>
                </a:cubicBezTo>
                <a:cubicBezTo>
                  <a:pt x="18336" y="14522"/>
                  <a:pt x="18352" y="14407"/>
                  <a:pt x="18306" y="14312"/>
                </a:cubicBezTo>
                <a:cubicBezTo>
                  <a:pt x="18277" y="14253"/>
                  <a:pt x="18223" y="14152"/>
                  <a:pt x="18157" y="14139"/>
                </a:cubicBezTo>
                <a:cubicBezTo>
                  <a:pt x="18149" y="14139"/>
                  <a:pt x="18140" y="14139"/>
                  <a:pt x="18132" y="14139"/>
                </a:cubicBezTo>
              </a:path>
              <a:path w="2506" h="919">
                <a:moveTo>
                  <a:pt x="18827" y="14461"/>
                </a:moveTo>
                <a:cubicBezTo>
                  <a:pt x="18877" y="14461"/>
                  <a:pt x="18929" y="14474"/>
                  <a:pt x="18976" y="14486"/>
                </a:cubicBezTo>
                <a:cubicBezTo>
                  <a:pt x="19034" y="14501"/>
                  <a:pt x="19079" y="14508"/>
                  <a:pt x="19124" y="14536"/>
                </a:cubicBezTo>
              </a:path>
              <a:path w="2506" h="919">
                <a:moveTo>
                  <a:pt x="18901" y="14759"/>
                </a:moveTo>
                <a:cubicBezTo>
                  <a:pt x="18971" y="14738"/>
                  <a:pt x="19004" y="14734"/>
                  <a:pt x="19075" y="14734"/>
                </a:cubicBezTo>
                <a:cubicBezTo>
                  <a:pt x="19174" y="14734"/>
                  <a:pt x="19273" y="14734"/>
                  <a:pt x="19372" y="147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15120" y="4983120"/>
            <a:ext cx="714600" cy="598680"/>
          </a:xfrm>
          <a:custGeom>
            <a:avLst/>
            <a:gdLst/>
            <a:ahLst/>
            <a:rect l="l" t="t" r="r" b="b"/>
            <a:pathLst>
              <a:path w="1986" h="1663">
                <a:moveTo>
                  <a:pt x="20117" y="14139"/>
                </a:moveTo>
                <a:cubicBezTo>
                  <a:pt x="20078" y="14225"/>
                  <a:pt x="20083" y="14189"/>
                  <a:pt x="20067" y="14238"/>
                </a:cubicBezTo>
                <a:cubicBezTo>
                  <a:pt x="20108" y="14228"/>
                  <a:pt x="20125" y="14198"/>
                  <a:pt x="20166" y="14188"/>
                </a:cubicBezTo>
                <a:cubicBezTo>
                  <a:pt x="20127" y="14159"/>
                  <a:pt x="20107" y="14161"/>
                  <a:pt x="20067" y="14188"/>
                </a:cubicBezTo>
                <a:cubicBezTo>
                  <a:pt x="20059" y="14196"/>
                  <a:pt x="20050" y="14205"/>
                  <a:pt x="20042" y="14213"/>
                </a:cubicBezTo>
              </a:path>
              <a:path w="1986" h="1663">
                <a:moveTo>
                  <a:pt x="20687" y="13915"/>
                </a:moveTo>
                <a:cubicBezTo>
                  <a:pt x="20707" y="13915"/>
                  <a:pt x="20678" y="13919"/>
                  <a:pt x="20638" y="13965"/>
                </a:cubicBezTo>
                <a:cubicBezTo>
                  <a:pt x="20583" y="14029"/>
                  <a:pt x="20507" y="14100"/>
                  <a:pt x="20563" y="14188"/>
                </a:cubicBezTo>
                <a:cubicBezTo>
                  <a:pt x="20600" y="14247"/>
                  <a:pt x="20722" y="14265"/>
                  <a:pt x="20786" y="14238"/>
                </a:cubicBezTo>
                <a:cubicBezTo>
                  <a:pt x="20852" y="14210"/>
                  <a:pt x="20927" y="14144"/>
                  <a:pt x="20910" y="14064"/>
                </a:cubicBezTo>
                <a:cubicBezTo>
                  <a:pt x="20901" y="14022"/>
                  <a:pt x="20851" y="13912"/>
                  <a:pt x="20811" y="13891"/>
                </a:cubicBezTo>
                <a:cubicBezTo>
                  <a:pt x="20803" y="13891"/>
                  <a:pt x="20794" y="13891"/>
                  <a:pt x="20786" y="13891"/>
                </a:cubicBezTo>
              </a:path>
              <a:path w="1986" h="1663">
                <a:moveTo>
                  <a:pt x="21332" y="13841"/>
                </a:moveTo>
                <a:cubicBezTo>
                  <a:pt x="21370" y="13870"/>
                  <a:pt x="21383" y="13866"/>
                  <a:pt x="21431" y="13866"/>
                </a:cubicBezTo>
                <a:cubicBezTo>
                  <a:pt x="21489" y="13866"/>
                  <a:pt x="21547" y="13866"/>
                  <a:pt x="21605" y="13866"/>
                </a:cubicBezTo>
              </a:path>
              <a:path w="1986" h="1663">
                <a:moveTo>
                  <a:pt x="21481" y="13866"/>
                </a:moveTo>
                <a:cubicBezTo>
                  <a:pt x="21413" y="13866"/>
                  <a:pt x="21362" y="13879"/>
                  <a:pt x="21307" y="13891"/>
                </a:cubicBezTo>
                <a:cubicBezTo>
                  <a:pt x="21245" y="13904"/>
                  <a:pt x="21210" y="13922"/>
                  <a:pt x="21183" y="13990"/>
                </a:cubicBezTo>
                <a:cubicBezTo>
                  <a:pt x="21183" y="13998"/>
                  <a:pt x="21183" y="14007"/>
                  <a:pt x="21183" y="14015"/>
                </a:cubicBezTo>
                <a:cubicBezTo>
                  <a:pt x="21245" y="14063"/>
                  <a:pt x="21319" y="14092"/>
                  <a:pt x="21382" y="14139"/>
                </a:cubicBezTo>
                <a:cubicBezTo>
                  <a:pt x="21413" y="14162"/>
                  <a:pt x="21423" y="14180"/>
                  <a:pt x="21431" y="14213"/>
                </a:cubicBezTo>
                <a:cubicBezTo>
                  <a:pt x="21370" y="14225"/>
                  <a:pt x="21340" y="14274"/>
                  <a:pt x="21282" y="14288"/>
                </a:cubicBezTo>
                <a:cubicBezTo>
                  <a:pt x="21241" y="14298"/>
                  <a:pt x="21220" y="14303"/>
                  <a:pt x="21183" y="14312"/>
                </a:cubicBezTo>
              </a:path>
              <a:path w="1986" h="1663">
                <a:moveTo>
                  <a:pt x="21803" y="14015"/>
                </a:moveTo>
                <a:cubicBezTo>
                  <a:pt x="21744" y="14030"/>
                  <a:pt x="21734" y="14053"/>
                  <a:pt x="21729" y="14114"/>
                </a:cubicBezTo>
                <a:cubicBezTo>
                  <a:pt x="21726" y="14152"/>
                  <a:pt x="21709" y="14246"/>
                  <a:pt x="21754" y="14263"/>
                </a:cubicBezTo>
                <a:cubicBezTo>
                  <a:pt x="21829" y="14292"/>
                  <a:pt x="21890" y="14259"/>
                  <a:pt x="21927" y="14213"/>
                </a:cubicBezTo>
                <a:cubicBezTo>
                  <a:pt x="21960" y="14173"/>
                  <a:pt x="21974" y="14116"/>
                  <a:pt x="21977" y="14064"/>
                </a:cubicBezTo>
                <a:cubicBezTo>
                  <a:pt x="21981" y="14001"/>
                  <a:pt x="21938" y="13960"/>
                  <a:pt x="21878" y="13940"/>
                </a:cubicBezTo>
                <a:cubicBezTo>
                  <a:pt x="21870" y="13940"/>
                  <a:pt x="21861" y="13940"/>
                  <a:pt x="21853" y="13940"/>
                </a:cubicBezTo>
              </a:path>
              <a:path w="1986" h="1663">
                <a:moveTo>
                  <a:pt x="20216" y="14486"/>
                </a:moveTo>
                <a:cubicBezTo>
                  <a:pt x="20174" y="14486"/>
                  <a:pt x="20166" y="14486"/>
                  <a:pt x="20141" y="14486"/>
                </a:cubicBezTo>
                <a:cubicBezTo>
                  <a:pt x="20302" y="14486"/>
                  <a:pt x="20453" y="14490"/>
                  <a:pt x="20613" y="14511"/>
                </a:cubicBezTo>
                <a:cubicBezTo>
                  <a:pt x="20928" y="14553"/>
                  <a:pt x="21240" y="14632"/>
                  <a:pt x="21555" y="14684"/>
                </a:cubicBezTo>
                <a:cubicBezTo>
                  <a:pt x="21682" y="14705"/>
                  <a:pt x="21847" y="14737"/>
                  <a:pt x="21977" y="14709"/>
                </a:cubicBezTo>
                <a:cubicBezTo>
                  <a:pt x="22005" y="14709"/>
                  <a:pt x="22016" y="14707"/>
                  <a:pt x="22027" y="14684"/>
                </a:cubicBezTo>
              </a:path>
              <a:path w="1986" h="1663">
                <a:moveTo>
                  <a:pt x="20960" y="15081"/>
                </a:moveTo>
                <a:cubicBezTo>
                  <a:pt x="21004" y="15103"/>
                  <a:pt x="20923" y="15133"/>
                  <a:pt x="20886" y="15156"/>
                </a:cubicBezTo>
                <a:cubicBezTo>
                  <a:pt x="20790" y="15217"/>
                  <a:pt x="20718" y="15299"/>
                  <a:pt x="20638" y="15379"/>
                </a:cubicBezTo>
                <a:cubicBezTo>
                  <a:pt x="20607" y="15410"/>
                  <a:pt x="20580" y="15420"/>
                  <a:pt x="20563" y="15453"/>
                </a:cubicBezTo>
              </a:path>
              <a:path w="1986" h="1663">
                <a:moveTo>
                  <a:pt x="20638" y="15056"/>
                </a:moveTo>
                <a:cubicBezTo>
                  <a:pt x="20692" y="15126"/>
                  <a:pt x="20705" y="15210"/>
                  <a:pt x="20762" y="15280"/>
                </a:cubicBezTo>
                <a:cubicBezTo>
                  <a:pt x="20835" y="15370"/>
                  <a:pt x="20934" y="15430"/>
                  <a:pt x="21034" y="15478"/>
                </a:cubicBezTo>
                <a:cubicBezTo>
                  <a:pt x="21051" y="15486"/>
                  <a:pt x="21067" y="15495"/>
                  <a:pt x="21084" y="155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56200" y="5813280"/>
            <a:ext cx="465120" cy="169920"/>
          </a:xfrm>
          <a:custGeom>
            <a:avLst/>
            <a:gdLst/>
            <a:ahLst/>
            <a:rect l="l" t="t" r="r" b="b"/>
            <a:pathLst>
              <a:path w="1291" h="472">
                <a:moveTo>
                  <a:pt x="16991" y="16148"/>
                </a:moveTo>
                <a:cubicBezTo>
                  <a:pt x="16897" y="16221"/>
                  <a:pt x="16820" y="16271"/>
                  <a:pt x="16743" y="16371"/>
                </a:cubicBezTo>
                <a:cubicBezTo>
                  <a:pt x="16685" y="16446"/>
                  <a:pt x="16627" y="16520"/>
                  <a:pt x="16570" y="16594"/>
                </a:cubicBezTo>
                <a:cubicBezTo>
                  <a:pt x="16562" y="16602"/>
                  <a:pt x="16553" y="16611"/>
                  <a:pt x="16545" y="16619"/>
                </a:cubicBezTo>
              </a:path>
              <a:path w="1291" h="472">
                <a:moveTo>
                  <a:pt x="16669" y="16173"/>
                </a:moveTo>
                <a:cubicBezTo>
                  <a:pt x="16716" y="16173"/>
                  <a:pt x="16738" y="16181"/>
                  <a:pt x="16768" y="16222"/>
                </a:cubicBezTo>
                <a:cubicBezTo>
                  <a:pt x="16842" y="16322"/>
                  <a:pt x="16903" y="16407"/>
                  <a:pt x="16991" y="16495"/>
                </a:cubicBezTo>
                <a:cubicBezTo>
                  <a:pt x="17041" y="16545"/>
                  <a:pt x="17057" y="16561"/>
                  <a:pt x="17090" y="16594"/>
                </a:cubicBezTo>
              </a:path>
              <a:path w="1291" h="472">
                <a:moveTo>
                  <a:pt x="17512" y="16222"/>
                </a:moveTo>
                <a:cubicBezTo>
                  <a:pt x="17571" y="16247"/>
                  <a:pt x="17585" y="16265"/>
                  <a:pt x="17636" y="16297"/>
                </a:cubicBezTo>
                <a:cubicBezTo>
                  <a:pt x="17688" y="16330"/>
                  <a:pt x="17703" y="16338"/>
                  <a:pt x="17760" y="16346"/>
                </a:cubicBezTo>
              </a:path>
              <a:path w="1291" h="472">
                <a:moveTo>
                  <a:pt x="17487" y="16495"/>
                </a:moveTo>
                <a:cubicBezTo>
                  <a:pt x="17479" y="16495"/>
                  <a:pt x="17470" y="16495"/>
                  <a:pt x="17462" y="16495"/>
                </a:cubicBezTo>
                <a:cubicBezTo>
                  <a:pt x="17481" y="16551"/>
                  <a:pt x="17552" y="16531"/>
                  <a:pt x="17611" y="16545"/>
                </a:cubicBezTo>
                <a:cubicBezTo>
                  <a:pt x="17693" y="16564"/>
                  <a:pt x="17750" y="16570"/>
                  <a:pt x="17835" y="165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69080" y="5759280"/>
            <a:ext cx="1295280" cy="268560"/>
          </a:xfrm>
          <a:custGeom>
            <a:avLst/>
            <a:gdLst/>
            <a:ahLst/>
            <a:rect l="l" t="t" r="r" b="b"/>
            <a:pathLst>
              <a:path w="3598" h="745">
                <a:moveTo>
                  <a:pt x="19124" y="16073"/>
                </a:moveTo>
                <a:cubicBezTo>
                  <a:pt x="19155" y="16033"/>
                  <a:pt x="19154" y="16017"/>
                  <a:pt x="19100" y="15999"/>
                </a:cubicBezTo>
                <a:cubicBezTo>
                  <a:pt x="19055" y="15984"/>
                  <a:pt x="19010" y="16006"/>
                  <a:pt x="18976" y="16024"/>
                </a:cubicBezTo>
                <a:cubicBezTo>
                  <a:pt x="18936" y="16046"/>
                  <a:pt x="18831" y="16065"/>
                  <a:pt x="18802" y="16098"/>
                </a:cubicBezTo>
                <a:cubicBezTo>
                  <a:pt x="18802" y="16123"/>
                  <a:pt x="18802" y="16131"/>
                  <a:pt x="18802" y="16148"/>
                </a:cubicBezTo>
                <a:cubicBezTo>
                  <a:pt x="18817" y="16193"/>
                  <a:pt x="18898" y="16199"/>
                  <a:pt x="18951" y="16222"/>
                </a:cubicBezTo>
                <a:cubicBezTo>
                  <a:pt x="19039" y="16260"/>
                  <a:pt x="19108" y="16277"/>
                  <a:pt x="19149" y="16371"/>
                </a:cubicBezTo>
                <a:cubicBezTo>
                  <a:pt x="19194" y="16475"/>
                  <a:pt x="19173" y="16517"/>
                  <a:pt x="19100" y="16594"/>
                </a:cubicBezTo>
                <a:cubicBezTo>
                  <a:pt x="19083" y="16612"/>
                  <a:pt x="18987" y="16684"/>
                  <a:pt x="18951" y="16644"/>
                </a:cubicBezTo>
                <a:cubicBezTo>
                  <a:pt x="18898" y="16585"/>
                  <a:pt x="18922" y="16458"/>
                  <a:pt x="18951" y="16396"/>
                </a:cubicBezTo>
                <a:cubicBezTo>
                  <a:pt x="19002" y="16288"/>
                  <a:pt x="19071" y="16227"/>
                  <a:pt x="19174" y="16173"/>
                </a:cubicBezTo>
                <a:cubicBezTo>
                  <a:pt x="19191" y="16165"/>
                  <a:pt x="19207" y="16156"/>
                  <a:pt x="19224" y="16148"/>
                </a:cubicBezTo>
              </a:path>
              <a:path w="3598" h="745">
                <a:moveTo>
                  <a:pt x="19472" y="16694"/>
                </a:moveTo>
                <a:cubicBezTo>
                  <a:pt x="19518" y="16694"/>
                  <a:pt x="19495" y="16677"/>
                  <a:pt x="19472" y="16669"/>
                </a:cubicBezTo>
              </a:path>
              <a:path w="3598" h="745">
                <a:moveTo>
                  <a:pt x="19794" y="16123"/>
                </a:moveTo>
                <a:cubicBezTo>
                  <a:pt x="19846" y="16101"/>
                  <a:pt x="19864" y="16098"/>
                  <a:pt x="19918" y="16098"/>
                </a:cubicBezTo>
                <a:cubicBezTo>
                  <a:pt x="19981" y="16098"/>
                  <a:pt x="19968" y="16148"/>
                  <a:pt x="19968" y="16197"/>
                </a:cubicBezTo>
                <a:cubicBezTo>
                  <a:pt x="19968" y="16241"/>
                  <a:pt x="19940" y="16309"/>
                  <a:pt x="19918" y="16346"/>
                </a:cubicBezTo>
                <a:cubicBezTo>
                  <a:pt x="19910" y="16354"/>
                  <a:pt x="19901" y="16363"/>
                  <a:pt x="19893" y="16371"/>
                </a:cubicBezTo>
                <a:cubicBezTo>
                  <a:pt x="19940" y="16371"/>
                  <a:pt x="20003" y="16376"/>
                  <a:pt x="20042" y="16396"/>
                </a:cubicBezTo>
                <a:cubicBezTo>
                  <a:pt x="20088" y="16419"/>
                  <a:pt x="20067" y="16505"/>
                  <a:pt x="20067" y="16545"/>
                </a:cubicBezTo>
                <a:cubicBezTo>
                  <a:pt x="20067" y="16608"/>
                  <a:pt x="19999" y="16662"/>
                  <a:pt x="19943" y="16694"/>
                </a:cubicBezTo>
                <a:cubicBezTo>
                  <a:pt x="19941" y="16695"/>
                  <a:pt x="19829" y="16742"/>
                  <a:pt x="19819" y="16718"/>
                </a:cubicBezTo>
                <a:cubicBezTo>
                  <a:pt x="19819" y="16702"/>
                  <a:pt x="19819" y="16685"/>
                  <a:pt x="19819" y="16669"/>
                </a:cubicBezTo>
              </a:path>
              <a:path w="3598" h="745">
                <a:moveTo>
                  <a:pt x="20489" y="16173"/>
                </a:moveTo>
                <a:cubicBezTo>
                  <a:pt x="20496" y="16130"/>
                  <a:pt x="20495" y="16101"/>
                  <a:pt x="20538" y="16098"/>
                </a:cubicBezTo>
                <a:cubicBezTo>
                  <a:pt x="20598" y="16093"/>
                  <a:pt x="20661" y="16089"/>
                  <a:pt x="20712" y="16123"/>
                </a:cubicBezTo>
                <a:cubicBezTo>
                  <a:pt x="20761" y="16156"/>
                  <a:pt x="20739" y="16232"/>
                  <a:pt x="20712" y="16272"/>
                </a:cubicBezTo>
                <a:cubicBezTo>
                  <a:pt x="20672" y="16333"/>
                  <a:pt x="20642" y="16338"/>
                  <a:pt x="20588" y="16371"/>
                </a:cubicBezTo>
                <a:cubicBezTo>
                  <a:pt x="20580" y="16379"/>
                  <a:pt x="20571" y="16388"/>
                  <a:pt x="20563" y="16396"/>
                </a:cubicBezTo>
                <a:cubicBezTo>
                  <a:pt x="20616" y="16396"/>
                  <a:pt x="20643" y="16397"/>
                  <a:pt x="20687" y="16421"/>
                </a:cubicBezTo>
                <a:cubicBezTo>
                  <a:pt x="20718" y="16438"/>
                  <a:pt x="20792" y="16467"/>
                  <a:pt x="20762" y="16520"/>
                </a:cubicBezTo>
                <a:cubicBezTo>
                  <a:pt x="20735" y="16568"/>
                  <a:pt x="20685" y="16636"/>
                  <a:pt x="20638" y="16669"/>
                </a:cubicBezTo>
                <a:cubicBezTo>
                  <a:pt x="20597" y="16698"/>
                  <a:pt x="20552" y="16712"/>
                  <a:pt x="20513" y="16743"/>
                </a:cubicBezTo>
              </a:path>
              <a:path w="3598" h="745">
                <a:moveTo>
                  <a:pt x="21158" y="16470"/>
                </a:moveTo>
                <a:cubicBezTo>
                  <a:pt x="21151" y="16500"/>
                  <a:pt x="21146" y="16565"/>
                  <a:pt x="21134" y="16594"/>
                </a:cubicBezTo>
                <a:cubicBezTo>
                  <a:pt x="21116" y="16638"/>
                  <a:pt x="21109" y="16665"/>
                  <a:pt x="21109" y="16718"/>
                </a:cubicBezTo>
                <a:cubicBezTo>
                  <a:pt x="21158" y="16706"/>
                  <a:pt x="21181" y="16664"/>
                  <a:pt x="21208" y="16619"/>
                </a:cubicBezTo>
                <a:cubicBezTo>
                  <a:pt x="21230" y="16576"/>
                  <a:pt x="21234" y="16564"/>
                  <a:pt x="21258" y="16545"/>
                </a:cubicBezTo>
                <a:cubicBezTo>
                  <a:pt x="21290" y="16567"/>
                  <a:pt x="21282" y="16594"/>
                  <a:pt x="21282" y="16644"/>
                </a:cubicBezTo>
                <a:cubicBezTo>
                  <a:pt x="21282" y="16669"/>
                  <a:pt x="21282" y="16693"/>
                  <a:pt x="21282" y="16718"/>
                </a:cubicBezTo>
                <a:cubicBezTo>
                  <a:pt x="21306" y="16710"/>
                  <a:pt x="21349" y="16669"/>
                  <a:pt x="21382" y="16644"/>
                </a:cubicBezTo>
                <a:cubicBezTo>
                  <a:pt x="21442" y="16599"/>
                  <a:pt x="21484" y="16513"/>
                  <a:pt x="21555" y="16495"/>
                </a:cubicBezTo>
                <a:cubicBezTo>
                  <a:pt x="21555" y="16548"/>
                  <a:pt x="21571" y="16569"/>
                  <a:pt x="21580" y="16619"/>
                </a:cubicBezTo>
                <a:cubicBezTo>
                  <a:pt x="21591" y="16681"/>
                  <a:pt x="21585" y="16674"/>
                  <a:pt x="21630" y="16718"/>
                </a:cubicBezTo>
              </a:path>
              <a:path w="3598" h="745">
                <a:moveTo>
                  <a:pt x="22076" y="16098"/>
                </a:moveTo>
                <a:cubicBezTo>
                  <a:pt x="22076" y="16034"/>
                  <a:pt x="22053" y="16184"/>
                  <a:pt x="22051" y="16197"/>
                </a:cubicBezTo>
                <a:cubicBezTo>
                  <a:pt x="22035" y="16318"/>
                  <a:pt x="22037" y="16423"/>
                  <a:pt x="22002" y="16545"/>
                </a:cubicBezTo>
                <a:cubicBezTo>
                  <a:pt x="21982" y="16614"/>
                  <a:pt x="21941" y="16675"/>
                  <a:pt x="21927" y="16743"/>
                </a:cubicBezTo>
                <a:cubicBezTo>
                  <a:pt x="21980" y="16730"/>
                  <a:pt x="21989" y="16698"/>
                  <a:pt x="22051" y="16694"/>
                </a:cubicBezTo>
                <a:cubicBezTo>
                  <a:pt x="22127" y="16690"/>
                  <a:pt x="22180" y="16702"/>
                  <a:pt x="22250" y="16718"/>
                </a:cubicBezTo>
                <a:cubicBezTo>
                  <a:pt x="22305" y="16730"/>
                  <a:pt x="22340" y="16743"/>
                  <a:pt x="22399" y="167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62200" y="1724040"/>
            <a:ext cx="777960" cy="241200"/>
          </a:xfrm>
          <a:custGeom>
            <a:avLst/>
            <a:gdLst/>
            <a:ahLst/>
            <a:rect l="l" t="t" r="r" b="b"/>
            <a:pathLst>
              <a:path w="2159" h="671">
                <a:moveTo>
                  <a:pt x="9947" y="5135"/>
                </a:moveTo>
                <a:cubicBezTo>
                  <a:pt x="9922" y="5135"/>
                  <a:pt x="9914" y="5135"/>
                  <a:pt x="9897" y="5135"/>
                </a:cubicBezTo>
                <a:cubicBezTo>
                  <a:pt x="9944" y="5130"/>
                  <a:pt x="9977" y="5117"/>
                  <a:pt x="10021" y="5110"/>
                </a:cubicBezTo>
                <a:cubicBezTo>
                  <a:pt x="10120" y="5093"/>
                  <a:pt x="10220" y="5077"/>
                  <a:pt x="10319" y="5060"/>
                </a:cubicBezTo>
                <a:cubicBezTo>
                  <a:pt x="10461" y="5035"/>
                  <a:pt x="10595" y="5035"/>
                  <a:pt x="10740" y="5035"/>
                </a:cubicBezTo>
                <a:cubicBezTo>
                  <a:pt x="10866" y="5035"/>
                  <a:pt x="10984" y="5060"/>
                  <a:pt x="11112" y="5060"/>
                </a:cubicBezTo>
                <a:cubicBezTo>
                  <a:pt x="11242" y="5060"/>
                  <a:pt x="11362" y="5065"/>
                  <a:pt x="11485" y="5085"/>
                </a:cubicBezTo>
                <a:cubicBezTo>
                  <a:pt x="11588" y="5101"/>
                  <a:pt x="11714" y="5095"/>
                  <a:pt x="11807" y="5110"/>
                </a:cubicBezTo>
                <a:cubicBezTo>
                  <a:pt x="11832" y="5110"/>
                  <a:pt x="11840" y="5110"/>
                  <a:pt x="11857" y="5110"/>
                </a:cubicBezTo>
                <a:cubicBezTo>
                  <a:pt x="11818" y="5086"/>
                  <a:pt x="11793" y="5068"/>
                  <a:pt x="11757" y="5035"/>
                </a:cubicBezTo>
                <a:cubicBezTo>
                  <a:pt x="11741" y="5020"/>
                  <a:pt x="11714" y="5003"/>
                  <a:pt x="11683" y="4986"/>
                </a:cubicBezTo>
                <a:cubicBezTo>
                  <a:pt x="11644" y="4965"/>
                  <a:pt x="11619" y="4944"/>
                  <a:pt x="11584" y="4911"/>
                </a:cubicBezTo>
                <a:cubicBezTo>
                  <a:pt x="11553" y="4882"/>
                  <a:pt x="11525" y="4854"/>
                  <a:pt x="11509" y="4837"/>
                </a:cubicBezTo>
                <a:cubicBezTo>
                  <a:pt x="11486" y="4813"/>
                  <a:pt x="11404" y="4822"/>
                  <a:pt x="11435" y="4812"/>
                </a:cubicBezTo>
                <a:cubicBezTo>
                  <a:pt x="11465" y="4802"/>
                  <a:pt x="11516" y="4824"/>
                  <a:pt x="11534" y="4837"/>
                </a:cubicBezTo>
                <a:cubicBezTo>
                  <a:pt x="11573" y="4866"/>
                  <a:pt x="11622" y="4906"/>
                  <a:pt x="11658" y="4936"/>
                </a:cubicBezTo>
                <a:cubicBezTo>
                  <a:pt x="11703" y="4974"/>
                  <a:pt x="11733" y="5002"/>
                  <a:pt x="11782" y="5035"/>
                </a:cubicBezTo>
                <a:cubicBezTo>
                  <a:pt x="11814" y="5057"/>
                  <a:pt x="11851" y="5071"/>
                  <a:pt x="11881" y="5110"/>
                </a:cubicBezTo>
                <a:cubicBezTo>
                  <a:pt x="11907" y="5144"/>
                  <a:pt x="11912" y="5163"/>
                  <a:pt x="11931" y="5184"/>
                </a:cubicBezTo>
                <a:cubicBezTo>
                  <a:pt x="11956" y="5184"/>
                  <a:pt x="11964" y="5184"/>
                  <a:pt x="11956" y="5209"/>
                </a:cubicBezTo>
                <a:cubicBezTo>
                  <a:pt x="11906" y="5222"/>
                  <a:pt x="11902" y="5238"/>
                  <a:pt x="11857" y="5259"/>
                </a:cubicBezTo>
                <a:cubicBezTo>
                  <a:pt x="11790" y="5290"/>
                  <a:pt x="11770" y="5312"/>
                  <a:pt x="11708" y="5358"/>
                </a:cubicBezTo>
                <a:cubicBezTo>
                  <a:pt x="11667" y="5388"/>
                  <a:pt x="11591" y="5406"/>
                  <a:pt x="11559" y="5432"/>
                </a:cubicBezTo>
                <a:cubicBezTo>
                  <a:pt x="11536" y="5455"/>
                  <a:pt x="11525" y="5463"/>
                  <a:pt x="11559" y="5457"/>
                </a:cubicBezTo>
              </a:path>
              <a:path w="2159" h="671">
                <a:moveTo>
                  <a:pt x="10021" y="5234"/>
                </a:moveTo>
                <a:cubicBezTo>
                  <a:pt x="10038" y="5176"/>
                  <a:pt x="10031" y="5195"/>
                  <a:pt x="10071" y="5159"/>
                </a:cubicBezTo>
                <a:cubicBezTo>
                  <a:pt x="10099" y="5134"/>
                  <a:pt x="10098" y="5152"/>
                  <a:pt x="10145" y="5135"/>
                </a:cubicBezTo>
                <a:cubicBezTo>
                  <a:pt x="10205" y="5114"/>
                  <a:pt x="10218" y="5113"/>
                  <a:pt x="10294" y="5110"/>
                </a:cubicBezTo>
                <a:cubicBezTo>
                  <a:pt x="10429" y="5105"/>
                  <a:pt x="10557" y="5088"/>
                  <a:pt x="10691" y="5085"/>
                </a:cubicBezTo>
                <a:cubicBezTo>
                  <a:pt x="10893" y="5080"/>
                  <a:pt x="11087" y="5095"/>
                  <a:pt x="11286" y="5110"/>
                </a:cubicBezTo>
                <a:cubicBezTo>
                  <a:pt x="11395" y="5118"/>
                  <a:pt x="11499" y="5135"/>
                  <a:pt x="11609" y="5135"/>
                </a:cubicBezTo>
                <a:cubicBezTo>
                  <a:pt x="11658" y="5135"/>
                  <a:pt x="11675" y="5135"/>
                  <a:pt x="11708" y="5135"/>
                </a:cubicBezTo>
                <a:cubicBezTo>
                  <a:pt x="11719" y="5168"/>
                  <a:pt x="11742" y="5168"/>
                  <a:pt x="11683" y="5159"/>
                </a:cubicBezTo>
                <a:cubicBezTo>
                  <a:pt x="11623" y="5150"/>
                  <a:pt x="11530" y="5117"/>
                  <a:pt x="11460" y="5110"/>
                </a:cubicBezTo>
                <a:cubicBezTo>
                  <a:pt x="11302" y="5095"/>
                  <a:pt x="11148" y="5085"/>
                  <a:pt x="10988" y="5085"/>
                </a:cubicBezTo>
                <a:cubicBezTo>
                  <a:pt x="10793" y="5085"/>
                  <a:pt x="10571" y="5065"/>
                  <a:pt x="10393" y="5110"/>
                </a:cubicBezTo>
                <a:cubicBezTo>
                  <a:pt x="10512" y="5110"/>
                  <a:pt x="10624" y="5094"/>
                  <a:pt x="10740" y="5085"/>
                </a:cubicBezTo>
                <a:cubicBezTo>
                  <a:pt x="10912" y="5072"/>
                  <a:pt x="11090" y="5079"/>
                  <a:pt x="11261" y="5060"/>
                </a:cubicBezTo>
                <a:cubicBezTo>
                  <a:pt x="11404" y="5044"/>
                  <a:pt x="11538" y="5035"/>
                  <a:pt x="11683" y="5035"/>
                </a:cubicBezTo>
                <a:cubicBezTo>
                  <a:pt x="11728" y="5035"/>
                  <a:pt x="11741" y="5031"/>
                  <a:pt x="11757" y="5060"/>
                </a:cubicBezTo>
                <a:cubicBezTo>
                  <a:pt x="11724" y="5077"/>
                  <a:pt x="11742" y="5072"/>
                  <a:pt x="11708" y="5085"/>
                </a:cubicBezTo>
                <a:cubicBezTo>
                  <a:pt x="11586" y="5132"/>
                  <a:pt x="11463" y="5095"/>
                  <a:pt x="11336" y="5110"/>
                </a:cubicBezTo>
                <a:cubicBezTo>
                  <a:pt x="11163" y="5130"/>
                  <a:pt x="10987" y="5114"/>
                  <a:pt x="10815" y="5135"/>
                </a:cubicBezTo>
                <a:cubicBezTo>
                  <a:pt x="10689" y="5150"/>
                  <a:pt x="10572" y="5159"/>
                  <a:pt x="10443" y="5159"/>
                </a:cubicBezTo>
                <a:cubicBezTo>
                  <a:pt x="10371" y="5159"/>
                  <a:pt x="10397" y="5164"/>
                  <a:pt x="10344" y="5184"/>
                </a:cubicBezTo>
                <a:cubicBezTo>
                  <a:pt x="10429" y="5156"/>
                  <a:pt x="10502" y="5148"/>
                  <a:pt x="10592" y="5135"/>
                </a:cubicBezTo>
                <a:cubicBezTo>
                  <a:pt x="10784" y="5106"/>
                  <a:pt x="10971" y="5081"/>
                  <a:pt x="11162" y="5060"/>
                </a:cubicBezTo>
                <a:cubicBezTo>
                  <a:pt x="11330" y="5041"/>
                  <a:pt x="11489" y="5035"/>
                  <a:pt x="11658" y="5035"/>
                </a:cubicBezTo>
                <a:cubicBezTo>
                  <a:pt x="11703" y="5035"/>
                  <a:pt x="11716" y="5032"/>
                  <a:pt x="11733" y="5060"/>
                </a:cubicBezTo>
                <a:cubicBezTo>
                  <a:pt x="11701" y="5081"/>
                  <a:pt x="11702" y="5106"/>
                  <a:pt x="11633" y="5110"/>
                </a:cubicBezTo>
                <a:cubicBezTo>
                  <a:pt x="11228" y="5133"/>
                  <a:pt x="10820" y="5102"/>
                  <a:pt x="10418" y="5135"/>
                </a:cubicBezTo>
                <a:cubicBezTo>
                  <a:pt x="10362" y="5140"/>
                  <a:pt x="10301" y="5135"/>
                  <a:pt x="10244" y="5135"/>
                </a:cubicBezTo>
                <a:cubicBezTo>
                  <a:pt x="10302" y="5154"/>
                  <a:pt x="10371" y="5154"/>
                  <a:pt x="10468" y="5135"/>
                </a:cubicBezTo>
                <a:cubicBezTo>
                  <a:pt x="10633" y="5102"/>
                  <a:pt x="10799" y="5107"/>
                  <a:pt x="10964" y="5085"/>
                </a:cubicBezTo>
                <a:cubicBezTo>
                  <a:pt x="11115" y="5065"/>
                  <a:pt x="11257" y="5060"/>
                  <a:pt x="11410" y="5060"/>
                </a:cubicBezTo>
                <a:cubicBezTo>
                  <a:pt x="11508" y="5060"/>
                  <a:pt x="11600" y="5053"/>
                  <a:pt x="11683" y="5085"/>
                </a:cubicBezTo>
                <a:cubicBezTo>
                  <a:pt x="11703" y="5092"/>
                  <a:pt x="11767" y="5099"/>
                  <a:pt x="11782" y="5110"/>
                </a:cubicBezTo>
                <a:cubicBezTo>
                  <a:pt x="11821" y="5139"/>
                  <a:pt x="11787" y="5113"/>
                  <a:pt x="11757" y="5135"/>
                </a:cubicBezTo>
                <a:cubicBezTo>
                  <a:pt x="11717" y="5130"/>
                  <a:pt x="11666" y="5130"/>
                  <a:pt x="11633" y="5110"/>
                </a:cubicBezTo>
                <a:cubicBezTo>
                  <a:pt x="11608" y="5094"/>
                  <a:pt x="11525" y="5029"/>
                  <a:pt x="11509" y="5011"/>
                </a:cubicBezTo>
                <a:cubicBezTo>
                  <a:pt x="11472" y="4968"/>
                  <a:pt x="11437" y="4888"/>
                  <a:pt x="11410" y="4837"/>
                </a:cubicBezTo>
                <a:cubicBezTo>
                  <a:pt x="11397" y="4813"/>
                  <a:pt x="11335" y="4751"/>
                  <a:pt x="11385" y="4812"/>
                </a:cubicBezTo>
                <a:cubicBezTo>
                  <a:pt x="11437" y="4876"/>
                  <a:pt x="11513" y="4900"/>
                  <a:pt x="11584" y="4936"/>
                </a:cubicBezTo>
                <a:cubicBezTo>
                  <a:pt x="11626" y="4957"/>
                  <a:pt x="11619" y="4960"/>
                  <a:pt x="11658" y="4986"/>
                </a:cubicBezTo>
                <a:cubicBezTo>
                  <a:pt x="11582" y="4976"/>
                  <a:pt x="11549" y="4947"/>
                  <a:pt x="11485" y="4911"/>
                </a:cubicBezTo>
                <a:cubicBezTo>
                  <a:pt x="11473" y="4904"/>
                  <a:pt x="11353" y="4838"/>
                  <a:pt x="11361" y="4812"/>
                </a:cubicBezTo>
                <a:cubicBezTo>
                  <a:pt x="11364" y="4804"/>
                  <a:pt x="11480" y="4883"/>
                  <a:pt x="11485" y="4887"/>
                </a:cubicBezTo>
                <a:cubicBezTo>
                  <a:pt x="11550" y="4941"/>
                  <a:pt x="11626" y="4979"/>
                  <a:pt x="11708" y="5011"/>
                </a:cubicBezTo>
                <a:cubicBezTo>
                  <a:pt x="11736" y="5038"/>
                  <a:pt x="11750" y="5046"/>
                  <a:pt x="11782" y="5035"/>
                </a:cubicBezTo>
                <a:cubicBezTo>
                  <a:pt x="11734" y="5035"/>
                  <a:pt x="11728" y="5029"/>
                  <a:pt x="11683" y="5011"/>
                </a:cubicBezTo>
                <a:cubicBezTo>
                  <a:pt x="11642" y="4995"/>
                  <a:pt x="11598" y="4975"/>
                  <a:pt x="11559" y="4961"/>
                </a:cubicBezTo>
                <a:cubicBezTo>
                  <a:pt x="11559" y="4961"/>
                  <a:pt x="11631" y="4963"/>
                  <a:pt x="11683" y="4986"/>
                </a:cubicBezTo>
                <a:cubicBezTo>
                  <a:pt x="11769" y="5025"/>
                  <a:pt x="11843" y="5062"/>
                  <a:pt x="11931" y="5085"/>
                </a:cubicBezTo>
                <a:cubicBezTo>
                  <a:pt x="11959" y="5092"/>
                  <a:pt x="12025" y="5134"/>
                  <a:pt x="12030" y="5135"/>
                </a:cubicBezTo>
                <a:cubicBezTo>
                  <a:pt x="12038" y="5135"/>
                  <a:pt x="12047" y="5135"/>
                  <a:pt x="12055" y="5135"/>
                </a:cubicBezTo>
                <a:cubicBezTo>
                  <a:pt x="12003" y="5160"/>
                  <a:pt x="11966" y="5183"/>
                  <a:pt x="11906" y="5209"/>
                </a:cubicBezTo>
                <a:cubicBezTo>
                  <a:pt x="11818" y="5247"/>
                  <a:pt x="11741" y="5310"/>
                  <a:pt x="11658" y="5358"/>
                </a:cubicBezTo>
                <a:cubicBezTo>
                  <a:pt x="11635" y="5371"/>
                  <a:pt x="11546" y="5417"/>
                  <a:pt x="11534" y="5432"/>
                </a:cubicBezTo>
                <a:cubicBezTo>
                  <a:pt x="11542" y="5432"/>
                  <a:pt x="11551" y="5432"/>
                  <a:pt x="11559" y="5432"/>
                </a:cubicBezTo>
                <a:cubicBezTo>
                  <a:pt x="11603" y="5394"/>
                  <a:pt x="11643" y="5340"/>
                  <a:pt x="11683" y="5308"/>
                </a:cubicBezTo>
                <a:cubicBezTo>
                  <a:pt x="11684" y="5308"/>
                  <a:pt x="11804" y="5234"/>
                  <a:pt x="11782" y="5234"/>
                </a:cubicBezTo>
                <a:cubicBezTo>
                  <a:pt x="11729" y="5234"/>
                  <a:pt x="11625" y="5304"/>
                  <a:pt x="11584" y="5333"/>
                </a:cubicBezTo>
                <a:cubicBezTo>
                  <a:pt x="11534" y="5369"/>
                  <a:pt x="11407" y="5377"/>
                  <a:pt x="11435" y="5432"/>
                </a:cubicBezTo>
                <a:cubicBezTo>
                  <a:pt x="11447" y="5456"/>
                  <a:pt x="11607" y="5384"/>
                  <a:pt x="11609" y="5383"/>
                </a:cubicBezTo>
                <a:cubicBezTo>
                  <a:pt x="11655" y="5336"/>
                  <a:pt x="11667" y="5322"/>
                  <a:pt x="11708" y="5308"/>
                </a:cubicBezTo>
                <a:cubicBezTo>
                  <a:pt x="11770" y="5277"/>
                  <a:pt x="11802" y="5271"/>
                  <a:pt x="11733" y="5308"/>
                </a:cubicBezTo>
                <a:cubicBezTo>
                  <a:pt x="11694" y="5329"/>
                  <a:pt x="11610" y="5345"/>
                  <a:pt x="11609" y="5383"/>
                </a:cubicBezTo>
                <a:cubicBezTo>
                  <a:pt x="11617" y="5383"/>
                  <a:pt x="11625" y="5383"/>
                  <a:pt x="11633" y="53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53000" y="2401920"/>
            <a:ext cx="374760" cy="162000"/>
          </a:xfrm>
          <a:custGeom>
            <a:avLst/>
            <a:gdLst/>
            <a:ahLst/>
            <a:rect l="l" t="t" r="r" b="b"/>
            <a:pathLst>
              <a:path w="1043" h="448">
                <a:moveTo>
                  <a:pt x="12973" y="6672"/>
                </a:moveTo>
                <a:cubicBezTo>
                  <a:pt x="12953" y="6713"/>
                  <a:pt x="12944" y="6719"/>
                  <a:pt x="12948" y="6747"/>
                </a:cubicBezTo>
                <a:cubicBezTo>
                  <a:pt x="13099" y="6747"/>
                  <a:pt x="13244" y="6769"/>
                  <a:pt x="13395" y="6772"/>
                </a:cubicBezTo>
                <a:cubicBezTo>
                  <a:pt x="13554" y="6775"/>
                  <a:pt x="13706" y="6747"/>
                  <a:pt x="13866" y="6747"/>
                </a:cubicBezTo>
                <a:cubicBezTo>
                  <a:pt x="13927" y="6747"/>
                  <a:pt x="13943" y="6738"/>
                  <a:pt x="13965" y="6772"/>
                </a:cubicBezTo>
              </a:path>
              <a:path w="1043" h="448">
                <a:moveTo>
                  <a:pt x="12923" y="7119"/>
                </a:moveTo>
                <a:cubicBezTo>
                  <a:pt x="13018" y="7119"/>
                  <a:pt x="13102" y="7100"/>
                  <a:pt x="13196" y="7094"/>
                </a:cubicBezTo>
                <a:cubicBezTo>
                  <a:pt x="13417" y="7080"/>
                  <a:pt x="13644" y="7094"/>
                  <a:pt x="13866" y="70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89040" y="4680000"/>
            <a:ext cx="4340160" cy="1098360"/>
          </a:xfrm>
          <a:custGeom>
            <a:avLst/>
            <a:gdLst/>
            <a:ahLst/>
            <a:rect l="l" t="t" r="r" b="b"/>
            <a:pathLst>
              <a:path w="12056" h="3052">
                <a:moveTo>
                  <a:pt x="4961" y="13965"/>
                </a:moveTo>
                <a:cubicBezTo>
                  <a:pt x="4942" y="13927"/>
                  <a:pt x="4922" y="13907"/>
                  <a:pt x="4911" y="13866"/>
                </a:cubicBezTo>
                <a:cubicBezTo>
                  <a:pt x="4911" y="13841"/>
                  <a:pt x="4911" y="13833"/>
                  <a:pt x="4911" y="13816"/>
                </a:cubicBezTo>
                <a:cubicBezTo>
                  <a:pt x="4885" y="13901"/>
                  <a:pt x="4866" y="13977"/>
                  <a:pt x="4837" y="14064"/>
                </a:cubicBezTo>
                <a:cubicBezTo>
                  <a:pt x="4774" y="14256"/>
                  <a:pt x="4709" y="14448"/>
                  <a:pt x="4638" y="14635"/>
                </a:cubicBezTo>
                <a:cubicBezTo>
                  <a:pt x="4578" y="14794"/>
                  <a:pt x="4532" y="14942"/>
                  <a:pt x="4490" y="15106"/>
                </a:cubicBezTo>
                <a:cubicBezTo>
                  <a:pt x="4461" y="15219"/>
                  <a:pt x="4393" y="15355"/>
                  <a:pt x="4415" y="15478"/>
                </a:cubicBezTo>
                <a:cubicBezTo>
                  <a:pt x="4435" y="15591"/>
                  <a:pt x="4461" y="15645"/>
                  <a:pt x="4564" y="15677"/>
                </a:cubicBezTo>
                <a:cubicBezTo>
                  <a:pt x="4652" y="15704"/>
                  <a:pt x="4748" y="15649"/>
                  <a:pt x="4837" y="15652"/>
                </a:cubicBezTo>
                <a:cubicBezTo>
                  <a:pt x="5195" y="15663"/>
                  <a:pt x="5527" y="15612"/>
                  <a:pt x="5879" y="15577"/>
                </a:cubicBezTo>
                <a:cubicBezTo>
                  <a:pt x="6012" y="15564"/>
                  <a:pt x="6141" y="15558"/>
                  <a:pt x="6276" y="15553"/>
                </a:cubicBezTo>
                <a:cubicBezTo>
                  <a:pt x="6639" y="15539"/>
                  <a:pt x="7007" y="15553"/>
                  <a:pt x="7367" y="15577"/>
                </a:cubicBezTo>
                <a:cubicBezTo>
                  <a:pt x="7550" y="15589"/>
                  <a:pt x="7728" y="15609"/>
                  <a:pt x="7913" y="15602"/>
                </a:cubicBezTo>
                <a:cubicBezTo>
                  <a:pt x="8222" y="15590"/>
                  <a:pt x="8520" y="15563"/>
                  <a:pt x="8830" y="15602"/>
                </a:cubicBezTo>
                <a:cubicBezTo>
                  <a:pt x="9238" y="15653"/>
                  <a:pt x="9638" y="15762"/>
                  <a:pt x="10046" y="15825"/>
                </a:cubicBezTo>
                <a:cubicBezTo>
                  <a:pt x="10509" y="15896"/>
                  <a:pt x="10970" y="15957"/>
                  <a:pt x="11435" y="15999"/>
                </a:cubicBezTo>
                <a:cubicBezTo>
                  <a:pt x="11690" y="16022"/>
                  <a:pt x="11947" y="16022"/>
                  <a:pt x="12204" y="16024"/>
                </a:cubicBezTo>
                <a:cubicBezTo>
                  <a:pt x="12668" y="16028"/>
                  <a:pt x="13128" y="16049"/>
                  <a:pt x="13593" y="16049"/>
                </a:cubicBezTo>
                <a:cubicBezTo>
                  <a:pt x="14057" y="16049"/>
                  <a:pt x="14497" y="15992"/>
                  <a:pt x="14957" y="15949"/>
                </a:cubicBezTo>
                <a:cubicBezTo>
                  <a:pt x="15377" y="15909"/>
                  <a:pt x="15811" y="15876"/>
                  <a:pt x="16222" y="15776"/>
                </a:cubicBezTo>
                <a:cubicBezTo>
                  <a:pt x="16286" y="15760"/>
                  <a:pt x="16377" y="15757"/>
                  <a:pt x="16421" y="15701"/>
                </a:cubicBezTo>
                <a:cubicBezTo>
                  <a:pt x="16450" y="15664"/>
                  <a:pt x="16422" y="15665"/>
                  <a:pt x="16446" y="15602"/>
                </a:cubicBezTo>
                <a:cubicBezTo>
                  <a:pt x="16553" y="15322"/>
                  <a:pt x="16467" y="14788"/>
                  <a:pt x="16470" y="14486"/>
                </a:cubicBezTo>
                <a:cubicBezTo>
                  <a:pt x="16472" y="14222"/>
                  <a:pt x="16489" y="13913"/>
                  <a:pt x="16371" y="13667"/>
                </a:cubicBezTo>
                <a:cubicBezTo>
                  <a:pt x="16327" y="13576"/>
                  <a:pt x="16234" y="13424"/>
                  <a:pt x="16123" y="13395"/>
                </a:cubicBezTo>
                <a:cubicBezTo>
                  <a:pt x="15931" y="13345"/>
                  <a:pt x="15689" y="13445"/>
                  <a:pt x="15503" y="13469"/>
                </a:cubicBezTo>
                <a:cubicBezTo>
                  <a:pt x="15387" y="13484"/>
                  <a:pt x="15274" y="13495"/>
                  <a:pt x="15156" y="13494"/>
                </a:cubicBezTo>
                <a:cubicBezTo>
                  <a:pt x="14979" y="13492"/>
                  <a:pt x="14788" y="13459"/>
                  <a:pt x="14610" y="13444"/>
                </a:cubicBezTo>
                <a:cubicBezTo>
                  <a:pt x="14426" y="13429"/>
                  <a:pt x="14247" y="13415"/>
                  <a:pt x="14064" y="13395"/>
                </a:cubicBezTo>
                <a:cubicBezTo>
                  <a:pt x="13963" y="13384"/>
                  <a:pt x="13866" y="13387"/>
                  <a:pt x="13767" y="13370"/>
                </a:cubicBezTo>
                <a:cubicBezTo>
                  <a:pt x="13668" y="13353"/>
                  <a:pt x="13567" y="13338"/>
                  <a:pt x="13469" y="13320"/>
                </a:cubicBezTo>
                <a:cubicBezTo>
                  <a:pt x="13369" y="13302"/>
                  <a:pt x="13270" y="13268"/>
                  <a:pt x="13171" y="13246"/>
                </a:cubicBezTo>
                <a:cubicBezTo>
                  <a:pt x="13071" y="13224"/>
                  <a:pt x="12974" y="13214"/>
                  <a:pt x="12874" y="13196"/>
                </a:cubicBezTo>
                <a:cubicBezTo>
                  <a:pt x="12765" y="13177"/>
                  <a:pt x="12661" y="13158"/>
                  <a:pt x="12551" y="13146"/>
                </a:cubicBezTo>
                <a:cubicBezTo>
                  <a:pt x="12458" y="13136"/>
                  <a:pt x="12373" y="13131"/>
                  <a:pt x="12278" y="13122"/>
                </a:cubicBezTo>
                <a:cubicBezTo>
                  <a:pt x="12113" y="13106"/>
                  <a:pt x="11947" y="13090"/>
                  <a:pt x="11782" y="13072"/>
                </a:cubicBezTo>
                <a:cubicBezTo>
                  <a:pt x="11682" y="13061"/>
                  <a:pt x="11584" y="13057"/>
                  <a:pt x="11485" y="13047"/>
                </a:cubicBezTo>
                <a:cubicBezTo>
                  <a:pt x="11347" y="13033"/>
                  <a:pt x="11202" y="12997"/>
                  <a:pt x="11063" y="12998"/>
                </a:cubicBezTo>
                <a:cubicBezTo>
                  <a:pt x="10955" y="12999"/>
                  <a:pt x="10846" y="13003"/>
                  <a:pt x="10740" y="13022"/>
                </a:cubicBezTo>
                <a:cubicBezTo>
                  <a:pt x="10578" y="13051"/>
                  <a:pt x="10420" y="13113"/>
                  <a:pt x="10269" y="13171"/>
                </a:cubicBezTo>
                <a:cubicBezTo>
                  <a:pt x="10151" y="13216"/>
                  <a:pt x="10008" y="13260"/>
                  <a:pt x="9897" y="13320"/>
                </a:cubicBezTo>
                <a:cubicBezTo>
                  <a:pt x="9765" y="13392"/>
                  <a:pt x="9654" y="13488"/>
                  <a:pt x="9525" y="13568"/>
                </a:cubicBezTo>
                <a:cubicBezTo>
                  <a:pt x="9400" y="13646"/>
                  <a:pt x="9291" y="13732"/>
                  <a:pt x="9153" y="13791"/>
                </a:cubicBezTo>
                <a:cubicBezTo>
                  <a:pt x="9000" y="13857"/>
                  <a:pt x="8798" y="13889"/>
                  <a:pt x="8632" y="13866"/>
                </a:cubicBezTo>
                <a:cubicBezTo>
                  <a:pt x="8209" y="13807"/>
                  <a:pt x="7678" y="13615"/>
                  <a:pt x="7293" y="13444"/>
                </a:cubicBezTo>
                <a:cubicBezTo>
                  <a:pt x="7080" y="13349"/>
                  <a:pt x="6888" y="13203"/>
                  <a:pt x="6672" y="13122"/>
                </a:cubicBezTo>
                <a:cubicBezTo>
                  <a:pt x="6544" y="13074"/>
                  <a:pt x="6409" y="13053"/>
                  <a:pt x="6276" y="13047"/>
                </a:cubicBezTo>
                <a:cubicBezTo>
                  <a:pt x="6126" y="13040"/>
                  <a:pt x="6000" y="13066"/>
                  <a:pt x="5854" y="13097"/>
                </a:cubicBezTo>
                <a:cubicBezTo>
                  <a:pt x="5662" y="13137"/>
                  <a:pt x="5488" y="13198"/>
                  <a:pt x="5308" y="13271"/>
                </a:cubicBezTo>
                <a:cubicBezTo>
                  <a:pt x="5218" y="13307"/>
                  <a:pt x="5118" y="13344"/>
                  <a:pt x="5035" y="13395"/>
                </a:cubicBezTo>
                <a:cubicBezTo>
                  <a:pt x="4971" y="13434"/>
                  <a:pt x="4855" y="13505"/>
                  <a:pt x="4812" y="13568"/>
                </a:cubicBezTo>
                <a:cubicBezTo>
                  <a:pt x="4762" y="13642"/>
                  <a:pt x="4761" y="13688"/>
                  <a:pt x="4738" y="13767"/>
                </a:cubicBezTo>
                <a:cubicBezTo>
                  <a:pt x="4728" y="13801"/>
                  <a:pt x="4798" y="13808"/>
                  <a:pt x="4787" y="13841"/>
                </a:cubicBezTo>
                <a:cubicBezTo>
                  <a:pt x="4774" y="13879"/>
                  <a:pt x="4772" y="13876"/>
                  <a:pt x="4762" y="13915"/>
                </a:cubicBezTo>
                <a:cubicBezTo>
                  <a:pt x="4748" y="13968"/>
                  <a:pt x="4663" y="14002"/>
                  <a:pt x="4663" y="14064"/>
                </a:cubicBezTo>
                <a:cubicBezTo>
                  <a:pt x="4663" y="14094"/>
                  <a:pt x="4713" y="14107"/>
                  <a:pt x="4713" y="14114"/>
                </a:cubicBezTo>
                <a:cubicBezTo>
                  <a:pt x="4721" y="14114"/>
                  <a:pt x="4730" y="14114"/>
                  <a:pt x="4738" y="141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25320" y="1393920"/>
            <a:ext cx="312840" cy="312480"/>
          </a:xfrm>
          <a:custGeom>
            <a:avLst/>
            <a:gdLst/>
            <a:ahLst/>
            <a:rect l="l" t="t" r="r" b="b"/>
            <a:pathLst>
              <a:path w="869" h="869">
                <a:moveTo>
                  <a:pt x="1935" y="3870"/>
                </a:moveTo>
                <a:cubicBezTo>
                  <a:pt x="1913" y="3973"/>
                  <a:pt x="1893" y="4066"/>
                  <a:pt x="1860" y="4167"/>
                </a:cubicBezTo>
                <a:cubicBezTo>
                  <a:pt x="1832" y="4252"/>
                  <a:pt x="1816" y="4351"/>
                  <a:pt x="1811" y="4440"/>
                </a:cubicBezTo>
                <a:cubicBezTo>
                  <a:pt x="1807" y="4522"/>
                  <a:pt x="1765" y="4611"/>
                  <a:pt x="1736" y="4688"/>
                </a:cubicBezTo>
              </a:path>
              <a:path w="869" h="869">
                <a:moveTo>
                  <a:pt x="2356" y="3919"/>
                </a:moveTo>
                <a:cubicBezTo>
                  <a:pt x="2347" y="3985"/>
                  <a:pt x="2314" y="4029"/>
                  <a:pt x="2282" y="4093"/>
                </a:cubicBezTo>
                <a:cubicBezTo>
                  <a:pt x="2254" y="4149"/>
                  <a:pt x="2239" y="4195"/>
                  <a:pt x="2282" y="4242"/>
                </a:cubicBezTo>
                <a:cubicBezTo>
                  <a:pt x="2327" y="4291"/>
                  <a:pt x="2340" y="4291"/>
                  <a:pt x="2406" y="4291"/>
                </a:cubicBezTo>
                <a:cubicBezTo>
                  <a:pt x="2440" y="4291"/>
                  <a:pt x="2474" y="4259"/>
                  <a:pt x="2505" y="4242"/>
                </a:cubicBezTo>
              </a:path>
              <a:path w="869" h="869">
                <a:moveTo>
                  <a:pt x="2580" y="3944"/>
                </a:moveTo>
                <a:cubicBezTo>
                  <a:pt x="2541" y="3992"/>
                  <a:pt x="2513" y="4057"/>
                  <a:pt x="2505" y="4118"/>
                </a:cubicBezTo>
                <a:cubicBezTo>
                  <a:pt x="2487" y="4252"/>
                  <a:pt x="2516" y="4386"/>
                  <a:pt x="2530" y="4514"/>
                </a:cubicBezTo>
                <a:cubicBezTo>
                  <a:pt x="2537" y="4580"/>
                  <a:pt x="2546" y="4655"/>
                  <a:pt x="2580" y="4713"/>
                </a:cubicBezTo>
                <a:cubicBezTo>
                  <a:pt x="2588" y="4721"/>
                  <a:pt x="2596" y="4730"/>
                  <a:pt x="2604" y="47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81080" y="1303200"/>
            <a:ext cx="963720" cy="322560"/>
          </a:xfrm>
          <a:custGeom>
            <a:avLst/>
            <a:gdLst/>
            <a:ahLst/>
            <a:rect l="l" t="t" r="r" b="b"/>
            <a:pathLst>
              <a:path w="2680" h="894">
                <a:moveTo>
                  <a:pt x="3820" y="3721"/>
                </a:moveTo>
                <a:cubicBezTo>
                  <a:pt x="3849" y="3683"/>
                  <a:pt x="3845" y="3670"/>
                  <a:pt x="3845" y="3621"/>
                </a:cubicBezTo>
                <a:cubicBezTo>
                  <a:pt x="3795" y="3621"/>
                  <a:pt x="3737" y="3664"/>
                  <a:pt x="3696" y="3696"/>
                </a:cubicBezTo>
                <a:cubicBezTo>
                  <a:pt x="3607" y="3767"/>
                  <a:pt x="3545" y="3865"/>
                  <a:pt x="3522" y="3969"/>
                </a:cubicBezTo>
                <a:cubicBezTo>
                  <a:pt x="3572" y="4006"/>
                  <a:pt x="3636" y="4006"/>
                  <a:pt x="3696" y="3969"/>
                </a:cubicBezTo>
                <a:cubicBezTo>
                  <a:pt x="3759" y="3930"/>
                  <a:pt x="3817" y="3848"/>
                  <a:pt x="3870" y="3795"/>
                </a:cubicBezTo>
                <a:cubicBezTo>
                  <a:pt x="3870" y="3731"/>
                  <a:pt x="3824" y="3904"/>
                  <a:pt x="3820" y="3919"/>
                </a:cubicBezTo>
                <a:cubicBezTo>
                  <a:pt x="3784" y="4061"/>
                  <a:pt x="3740" y="4221"/>
                  <a:pt x="3721" y="4366"/>
                </a:cubicBezTo>
                <a:cubicBezTo>
                  <a:pt x="3713" y="4431"/>
                  <a:pt x="3717" y="4466"/>
                  <a:pt x="3746" y="4514"/>
                </a:cubicBezTo>
              </a:path>
              <a:path w="2680" h="894">
                <a:moveTo>
                  <a:pt x="4217" y="4316"/>
                </a:moveTo>
                <a:cubicBezTo>
                  <a:pt x="4217" y="4341"/>
                  <a:pt x="4217" y="4349"/>
                  <a:pt x="4192" y="4341"/>
                </a:cubicBezTo>
              </a:path>
              <a:path w="2680" h="894">
                <a:moveTo>
                  <a:pt x="4589" y="3721"/>
                </a:moveTo>
                <a:cubicBezTo>
                  <a:pt x="4544" y="3743"/>
                  <a:pt x="4490" y="3840"/>
                  <a:pt x="4465" y="3894"/>
                </a:cubicBezTo>
                <a:cubicBezTo>
                  <a:pt x="4407" y="4020"/>
                  <a:pt x="4389" y="4161"/>
                  <a:pt x="4415" y="4291"/>
                </a:cubicBezTo>
                <a:cubicBezTo>
                  <a:pt x="4428" y="4359"/>
                  <a:pt x="4505" y="4537"/>
                  <a:pt x="4614" y="4490"/>
                </a:cubicBezTo>
                <a:cubicBezTo>
                  <a:pt x="4698" y="4454"/>
                  <a:pt x="4770" y="4356"/>
                  <a:pt x="4787" y="4266"/>
                </a:cubicBezTo>
                <a:cubicBezTo>
                  <a:pt x="4787" y="4217"/>
                  <a:pt x="4787" y="4200"/>
                  <a:pt x="4787" y="4167"/>
                </a:cubicBezTo>
                <a:cubicBezTo>
                  <a:pt x="4707" y="4167"/>
                  <a:pt x="4681" y="4169"/>
                  <a:pt x="4638" y="4242"/>
                </a:cubicBezTo>
                <a:cubicBezTo>
                  <a:pt x="4615" y="4290"/>
                  <a:pt x="4607" y="4304"/>
                  <a:pt x="4614" y="4341"/>
                </a:cubicBezTo>
              </a:path>
              <a:path w="2680" h="894">
                <a:moveTo>
                  <a:pt x="5407" y="3845"/>
                </a:moveTo>
                <a:cubicBezTo>
                  <a:pt x="5358" y="3815"/>
                  <a:pt x="5290" y="3819"/>
                  <a:pt x="5234" y="3845"/>
                </a:cubicBezTo>
                <a:cubicBezTo>
                  <a:pt x="5186" y="3867"/>
                  <a:pt x="5135" y="3937"/>
                  <a:pt x="5159" y="3994"/>
                </a:cubicBezTo>
                <a:cubicBezTo>
                  <a:pt x="5186" y="4059"/>
                  <a:pt x="5257" y="4095"/>
                  <a:pt x="5308" y="4142"/>
                </a:cubicBezTo>
                <a:cubicBezTo>
                  <a:pt x="5363" y="4193"/>
                  <a:pt x="5406" y="4234"/>
                  <a:pt x="5383" y="4316"/>
                </a:cubicBezTo>
                <a:cubicBezTo>
                  <a:pt x="5368" y="4369"/>
                  <a:pt x="5329" y="4403"/>
                  <a:pt x="5283" y="4415"/>
                </a:cubicBezTo>
              </a:path>
              <a:path w="2680" h="894">
                <a:moveTo>
                  <a:pt x="5358" y="3845"/>
                </a:moveTo>
                <a:cubicBezTo>
                  <a:pt x="5470" y="3845"/>
                  <a:pt x="5572" y="3847"/>
                  <a:pt x="5680" y="3820"/>
                </a:cubicBezTo>
              </a:path>
              <a:path w="2680" h="894">
                <a:moveTo>
                  <a:pt x="3001" y="4142"/>
                </a:moveTo>
                <a:cubicBezTo>
                  <a:pt x="3092" y="4142"/>
                  <a:pt x="3183" y="4142"/>
                  <a:pt x="3274" y="41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51080" y="1473120"/>
            <a:ext cx="142920" cy="90720"/>
          </a:xfrm>
          <a:custGeom>
            <a:avLst/>
            <a:gdLst/>
            <a:ahLst/>
            <a:rect l="l" t="t" r="r" b="b"/>
            <a:pathLst>
              <a:path w="398" h="249">
                <a:moveTo>
                  <a:pt x="6251" y="4093"/>
                </a:moveTo>
                <a:cubicBezTo>
                  <a:pt x="6259" y="4093"/>
                  <a:pt x="6268" y="4093"/>
                  <a:pt x="6276" y="4093"/>
                </a:cubicBezTo>
                <a:cubicBezTo>
                  <a:pt x="6298" y="4127"/>
                  <a:pt x="6324" y="4118"/>
                  <a:pt x="6375" y="4118"/>
                </a:cubicBezTo>
                <a:cubicBezTo>
                  <a:pt x="6429" y="4118"/>
                  <a:pt x="6445" y="4135"/>
                  <a:pt x="6499" y="4142"/>
                </a:cubicBezTo>
              </a:path>
              <a:path w="398" h="249">
                <a:moveTo>
                  <a:pt x="6300" y="4291"/>
                </a:moveTo>
                <a:cubicBezTo>
                  <a:pt x="6343" y="4356"/>
                  <a:pt x="6344" y="4341"/>
                  <a:pt x="6424" y="4341"/>
                </a:cubicBezTo>
                <a:cubicBezTo>
                  <a:pt x="6499" y="4341"/>
                  <a:pt x="6573" y="4341"/>
                  <a:pt x="6648" y="43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32040" y="1204920"/>
            <a:ext cx="706320" cy="509760"/>
          </a:xfrm>
          <a:custGeom>
            <a:avLst/>
            <a:gdLst/>
            <a:ahLst/>
            <a:rect l="l" t="t" r="r" b="b"/>
            <a:pathLst>
              <a:path w="1961" h="1414">
                <a:moveTo>
                  <a:pt x="7739" y="4217"/>
                </a:moveTo>
                <a:cubicBezTo>
                  <a:pt x="7693" y="4308"/>
                  <a:pt x="7669" y="4392"/>
                  <a:pt x="7640" y="4490"/>
                </a:cubicBezTo>
                <a:cubicBezTo>
                  <a:pt x="7613" y="4580"/>
                  <a:pt x="7590" y="4644"/>
                  <a:pt x="7590" y="4738"/>
                </a:cubicBezTo>
                <a:cubicBezTo>
                  <a:pt x="7590" y="4746"/>
                  <a:pt x="7590" y="4754"/>
                  <a:pt x="7590" y="4762"/>
                </a:cubicBezTo>
                <a:cubicBezTo>
                  <a:pt x="7590" y="4690"/>
                  <a:pt x="7614" y="4605"/>
                  <a:pt x="7640" y="4539"/>
                </a:cubicBezTo>
                <a:cubicBezTo>
                  <a:pt x="7696" y="4398"/>
                  <a:pt x="7734" y="4280"/>
                  <a:pt x="7838" y="4167"/>
                </a:cubicBezTo>
                <a:cubicBezTo>
                  <a:pt x="7919" y="4079"/>
                  <a:pt x="7973" y="4068"/>
                  <a:pt x="8086" y="4068"/>
                </a:cubicBezTo>
                <a:cubicBezTo>
                  <a:pt x="8128" y="4068"/>
                  <a:pt x="8136" y="4068"/>
                  <a:pt x="8161" y="4068"/>
                </a:cubicBezTo>
                <a:cubicBezTo>
                  <a:pt x="8161" y="4127"/>
                  <a:pt x="8139" y="4208"/>
                  <a:pt x="8086" y="4242"/>
                </a:cubicBezTo>
                <a:cubicBezTo>
                  <a:pt x="8047" y="4267"/>
                  <a:pt x="7940" y="4342"/>
                  <a:pt x="7888" y="4316"/>
                </a:cubicBezTo>
                <a:cubicBezTo>
                  <a:pt x="7880" y="4308"/>
                  <a:pt x="7871" y="4299"/>
                  <a:pt x="7863" y="4291"/>
                </a:cubicBezTo>
              </a:path>
              <a:path w="1961" h="1414">
                <a:moveTo>
                  <a:pt x="8706" y="3349"/>
                </a:moveTo>
                <a:cubicBezTo>
                  <a:pt x="8758" y="3365"/>
                  <a:pt x="8723" y="3420"/>
                  <a:pt x="8706" y="3473"/>
                </a:cubicBezTo>
                <a:cubicBezTo>
                  <a:pt x="8664" y="3608"/>
                  <a:pt x="8644" y="3755"/>
                  <a:pt x="8607" y="3894"/>
                </a:cubicBezTo>
                <a:cubicBezTo>
                  <a:pt x="8576" y="4010"/>
                  <a:pt x="8570" y="4132"/>
                  <a:pt x="8533" y="4242"/>
                </a:cubicBezTo>
              </a:path>
              <a:path w="1961" h="1414">
                <a:moveTo>
                  <a:pt x="9178" y="3646"/>
                </a:moveTo>
                <a:cubicBezTo>
                  <a:pt x="9202" y="3695"/>
                  <a:pt x="9158" y="3727"/>
                  <a:pt x="9103" y="3770"/>
                </a:cubicBezTo>
                <a:cubicBezTo>
                  <a:pt x="9016" y="3837"/>
                  <a:pt x="8923" y="3911"/>
                  <a:pt x="8830" y="3969"/>
                </a:cubicBezTo>
                <a:cubicBezTo>
                  <a:pt x="8786" y="3996"/>
                  <a:pt x="8743" y="4007"/>
                  <a:pt x="8731" y="4043"/>
                </a:cubicBezTo>
                <a:cubicBezTo>
                  <a:pt x="8790" y="4055"/>
                  <a:pt x="8849" y="4068"/>
                  <a:pt x="8905" y="4093"/>
                </a:cubicBezTo>
                <a:cubicBezTo>
                  <a:pt x="8973" y="4124"/>
                  <a:pt x="9005" y="4177"/>
                  <a:pt x="9079" y="4192"/>
                </a:cubicBezTo>
              </a:path>
              <a:path w="1961" h="1414">
                <a:moveTo>
                  <a:pt x="9475" y="4043"/>
                </a:moveTo>
                <a:cubicBezTo>
                  <a:pt x="9419" y="4089"/>
                  <a:pt x="9348" y="4107"/>
                  <a:pt x="9302" y="4167"/>
                </a:cubicBezTo>
                <a:cubicBezTo>
                  <a:pt x="9266" y="4214"/>
                  <a:pt x="9259" y="4261"/>
                  <a:pt x="9252" y="4316"/>
                </a:cubicBezTo>
                <a:cubicBezTo>
                  <a:pt x="9312" y="4352"/>
                  <a:pt x="9365" y="4338"/>
                  <a:pt x="9426" y="4291"/>
                </a:cubicBezTo>
                <a:cubicBezTo>
                  <a:pt x="9478" y="4250"/>
                  <a:pt x="9500" y="4227"/>
                  <a:pt x="9500" y="4167"/>
                </a:cubicBezTo>
                <a:cubicBezTo>
                  <a:pt x="9458" y="4181"/>
                  <a:pt x="9454" y="4237"/>
                  <a:pt x="9451" y="4291"/>
                </a:cubicBezTo>
                <a:cubicBezTo>
                  <a:pt x="9446" y="4377"/>
                  <a:pt x="9487" y="4420"/>
                  <a:pt x="9550" y="44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33840" y="1393920"/>
            <a:ext cx="152280" cy="150840"/>
          </a:xfrm>
          <a:custGeom>
            <a:avLst/>
            <a:gdLst/>
            <a:ahLst/>
            <a:rect l="l" t="t" r="r" b="b"/>
            <a:pathLst>
              <a:path w="422" h="422">
                <a:moveTo>
                  <a:pt x="10096" y="4043"/>
                </a:moveTo>
                <a:cubicBezTo>
                  <a:pt x="10173" y="4027"/>
                  <a:pt x="10236" y="4018"/>
                  <a:pt x="10319" y="4018"/>
                </a:cubicBezTo>
                <a:cubicBezTo>
                  <a:pt x="10397" y="4018"/>
                  <a:pt x="10446" y="4019"/>
                  <a:pt x="10517" y="4043"/>
                </a:cubicBezTo>
              </a:path>
              <a:path w="422" h="422">
                <a:moveTo>
                  <a:pt x="10393" y="3870"/>
                </a:moveTo>
                <a:cubicBezTo>
                  <a:pt x="10393" y="3951"/>
                  <a:pt x="10407" y="4015"/>
                  <a:pt x="10418" y="4093"/>
                </a:cubicBezTo>
                <a:cubicBezTo>
                  <a:pt x="10427" y="4156"/>
                  <a:pt x="10418" y="4228"/>
                  <a:pt x="10418" y="42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81320" y="1177920"/>
            <a:ext cx="812880" cy="635040"/>
          </a:xfrm>
          <a:custGeom>
            <a:avLst/>
            <a:gdLst/>
            <a:ahLst/>
            <a:rect l="l" t="t" r="r" b="b"/>
            <a:pathLst>
              <a:path w="2258" h="1762">
                <a:moveTo>
                  <a:pt x="11336" y="4316"/>
                </a:moveTo>
                <a:cubicBezTo>
                  <a:pt x="11414" y="4237"/>
                  <a:pt x="11497" y="4161"/>
                  <a:pt x="11584" y="4093"/>
                </a:cubicBezTo>
                <a:cubicBezTo>
                  <a:pt x="11688" y="4012"/>
                  <a:pt x="11785" y="3909"/>
                  <a:pt x="11857" y="3795"/>
                </a:cubicBezTo>
                <a:cubicBezTo>
                  <a:pt x="11913" y="3707"/>
                  <a:pt x="11886" y="3603"/>
                  <a:pt x="11782" y="3597"/>
                </a:cubicBezTo>
                <a:cubicBezTo>
                  <a:pt x="11695" y="3592"/>
                  <a:pt x="11611" y="3719"/>
                  <a:pt x="11584" y="3795"/>
                </a:cubicBezTo>
                <a:cubicBezTo>
                  <a:pt x="11536" y="3930"/>
                  <a:pt x="11548" y="4098"/>
                  <a:pt x="11633" y="4217"/>
                </a:cubicBezTo>
                <a:cubicBezTo>
                  <a:pt x="11719" y="4337"/>
                  <a:pt x="11822" y="4357"/>
                  <a:pt x="11956" y="4366"/>
                </a:cubicBezTo>
              </a:path>
              <a:path w="2258" h="1762">
                <a:moveTo>
                  <a:pt x="12204" y="4192"/>
                </a:moveTo>
                <a:cubicBezTo>
                  <a:pt x="12212" y="4167"/>
                  <a:pt x="12221" y="4143"/>
                  <a:pt x="12229" y="4118"/>
                </a:cubicBezTo>
                <a:cubicBezTo>
                  <a:pt x="12156" y="4118"/>
                  <a:pt x="12139" y="4155"/>
                  <a:pt x="12105" y="4217"/>
                </a:cubicBezTo>
                <a:cubicBezTo>
                  <a:pt x="12059" y="4299"/>
                  <a:pt x="12077" y="4326"/>
                  <a:pt x="12154" y="4366"/>
                </a:cubicBezTo>
                <a:cubicBezTo>
                  <a:pt x="12231" y="4406"/>
                  <a:pt x="12302" y="4393"/>
                  <a:pt x="12353" y="4316"/>
                </a:cubicBezTo>
                <a:cubicBezTo>
                  <a:pt x="12377" y="4279"/>
                  <a:pt x="12348" y="4174"/>
                  <a:pt x="12328" y="4142"/>
                </a:cubicBezTo>
                <a:cubicBezTo>
                  <a:pt x="12311" y="4114"/>
                  <a:pt x="12234" y="4102"/>
                  <a:pt x="12204" y="4118"/>
                </a:cubicBezTo>
                <a:cubicBezTo>
                  <a:pt x="12181" y="4140"/>
                  <a:pt x="12173" y="4145"/>
                  <a:pt x="12179" y="4167"/>
                </a:cubicBezTo>
              </a:path>
              <a:path w="2258" h="1762">
                <a:moveTo>
                  <a:pt x="12452" y="4291"/>
                </a:moveTo>
                <a:cubicBezTo>
                  <a:pt x="12452" y="4410"/>
                  <a:pt x="12437" y="4523"/>
                  <a:pt x="12427" y="4638"/>
                </a:cubicBezTo>
                <a:cubicBezTo>
                  <a:pt x="12416" y="4756"/>
                  <a:pt x="12379" y="4862"/>
                  <a:pt x="12303" y="4961"/>
                </a:cubicBezTo>
                <a:cubicBezTo>
                  <a:pt x="12270" y="5004"/>
                  <a:pt x="12249" y="5024"/>
                  <a:pt x="12204" y="5035"/>
                </a:cubicBezTo>
                <a:cubicBezTo>
                  <a:pt x="12166" y="4974"/>
                  <a:pt x="12183" y="4877"/>
                  <a:pt x="12229" y="4812"/>
                </a:cubicBezTo>
                <a:cubicBezTo>
                  <a:pt x="12311" y="4695"/>
                  <a:pt x="12406" y="4611"/>
                  <a:pt x="12526" y="4539"/>
                </a:cubicBezTo>
              </a:path>
              <a:path w="2258" h="1762">
                <a:moveTo>
                  <a:pt x="13568" y="3373"/>
                </a:moveTo>
                <a:cubicBezTo>
                  <a:pt x="13592" y="3325"/>
                  <a:pt x="13601" y="3311"/>
                  <a:pt x="13593" y="3274"/>
                </a:cubicBezTo>
                <a:cubicBezTo>
                  <a:pt x="13518" y="3274"/>
                  <a:pt x="13504" y="3268"/>
                  <a:pt x="13444" y="3324"/>
                </a:cubicBezTo>
                <a:cubicBezTo>
                  <a:pt x="13265" y="3490"/>
                  <a:pt x="13144" y="3696"/>
                  <a:pt x="13047" y="3919"/>
                </a:cubicBezTo>
                <a:cubicBezTo>
                  <a:pt x="12952" y="4137"/>
                  <a:pt x="12876" y="4397"/>
                  <a:pt x="12898" y="4638"/>
                </a:cubicBezTo>
                <a:cubicBezTo>
                  <a:pt x="12922" y="4734"/>
                  <a:pt x="12928" y="4763"/>
                  <a:pt x="12973" y="48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95280" y="1866960"/>
            <a:ext cx="2062440" cy="606240"/>
          </a:xfrm>
          <a:custGeom>
            <a:avLst/>
            <a:gdLst/>
            <a:ahLst/>
            <a:rect l="l" t="t" r="r" b="b"/>
            <a:pathLst>
              <a:path w="5731" h="1688">
                <a:moveTo>
                  <a:pt x="3671" y="5779"/>
                </a:moveTo>
                <a:cubicBezTo>
                  <a:pt x="3619" y="5844"/>
                  <a:pt x="3601" y="5870"/>
                  <a:pt x="3597" y="5953"/>
                </a:cubicBezTo>
                <a:cubicBezTo>
                  <a:pt x="3594" y="6011"/>
                  <a:pt x="3658" y="6113"/>
                  <a:pt x="3721" y="6127"/>
                </a:cubicBezTo>
                <a:cubicBezTo>
                  <a:pt x="3830" y="6152"/>
                  <a:pt x="3927" y="6123"/>
                  <a:pt x="4018" y="6077"/>
                </a:cubicBezTo>
                <a:cubicBezTo>
                  <a:pt x="4035" y="6069"/>
                  <a:pt x="4051" y="6060"/>
                  <a:pt x="4068" y="6052"/>
                </a:cubicBezTo>
              </a:path>
              <a:path w="5731" h="1688">
                <a:moveTo>
                  <a:pt x="4167" y="5680"/>
                </a:moveTo>
                <a:cubicBezTo>
                  <a:pt x="4125" y="5807"/>
                  <a:pt x="4105" y="5916"/>
                  <a:pt x="4118" y="6052"/>
                </a:cubicBezTo>
                <a:cubicBezTo>
                  <a:pt x="4131" y="6186"/>
                  <a:pt x="4163" y="6318"/>
                  <a:pt x="4192" y="6449"/>
                </a:cubicBezTo>
              </a:path>
              <a:path w="5731" h="1688">
                <a:moveTo>
                  <a:pt x="4589" y="6325"/>
                </a:moveTo>
                <a:cubicBezTo>
                  <a:pt x="4611" y="6347"/>
                  <a:pt x="4616" y="6356"/>
                  <a:pt x="4638" y="6350"/>
                </a:cubicBezTo>
              </a:path>
              <a:path w="5731" h="1688">
                <a:moveTo>
                  <a:pt x="4936" y="5655"/>
                </a:moveTo>
                <a:cubicBezTo>
                  <a:pt x="4958" y="5649"/>
                  <a:pt x="5050" y="5613"/>
                  <a:pt x="5085" y="5631"/>
                </a:cubicBezTo>
                <a:cubicBezTo>
                  <a:pt x="5141" y="5661"/>
                  <a:pt x="5135" y="5727"/>
                  <a:pt x="5135" y="5779"/>
                </a:cubicBezTo>
                <a:cubicBezTo>
                  <a:pt x="5135" y="5834"/>
                  <a:pt x="5096" y="5889"/>
                  <a:pt x="5060" y="5928"/>
                </a:cubicBezTo>
                <a:cubicBezTo>
                  <a:pt x="5052" y="5936"/>
                  <a:pt x="5043" y="5945"/>
                  <a:pt x="5035" y="5953"/>
                </a:cubicBezTo>
                <a:cubicBezTo>
                  <a:pt x="5097" y="5953"/>
                  <a:pt x="5155" y="5942"/>
                  <a:pt x="5209" y="5978"/>
                </a:cubicBezTo>
                <a:cubicBezTo>
                  <a:pt x="5268" y="6017"/>
                  <a:pt x="5226" y="6103"/>
                  <a:pt x="5209" y="6152"/>
                </a:cubicBezTo>
                <a:cubicBezTo>
                  <a:pt x="5175" y="6248"/>
                  <a:pt x="5157" y="6303"/>
                  <a:pt x="5085" y="6375"/>
                </a:cubicBezTo>
              </a:path>
              <a:path w="5731" h="1688">
                <a:moveTo>
                  <a:pt x="5730" y="5779"/>
                </a:moveTo>
                <a:cubicBezTo>
                  <a:pt x="5730" y="5763"/>
                  <a:pt x="5730" y="5746"/>
                  <a:pt x="5730" y="5730"/>
                </a:cubicBezTo>
                <a:cubicBezTo>
                  <a:pt x="5659" y="5730"/>
                  <a:pt x="5643" y="5746"/>
                  <a:pt x="5581" y="5779"/>
                </a:cubicBezTo>
                <a:cubicBezTo>
                  <a:pt x="5540" y="5800"/>
                  <a:pt x="5489" y="5873"/>
                  <a:pt x="5507" y="5928"/>
                </a:cubicBezTo>
                <a:cubicBezTo>
                  <a:pt x="5520" y="5969"/>
                  <a:pt x="5622" y="6003"/>
                  <a:pt x="5655" y="6028"/>
                </a:cubicBezTo>
                <a:cubicBezTo>
                  <a:pt x="5704" y="6065"/>
                  <a:pt x="5721" y="6143"/>
                  <a:pt x="5705" y="6201"/>
                </a:cubicBezTo>
                <a:cubicBezTo>
                  <a:pt x="5687" y="6264"/>
                  <a:pt x="5625" y="6306"/>
                  <a:pt x="5581" y="6350"/>
                </a:cubicBezTo>
              </a:path>
              <a:path w="5731" h="1688">
                <a:moveTo>
                  <a:pt x="5705" y="5730"/>
                </a:moveTo>
                <a:cubicBezTo>
                  <a:pt x="5713" y="5730"/>
                  <a:pt x="5722" y="5730"/>
                  <a:pt x="5730" y="5730"/>
                </a:cubicBezTo>
                <a:cubicBezTo>
                  <a:pt x="5746" y="5682"/>
                  <a:pt x="5778" y="5698"/>
                  <a:pt x="5829" y="5680"/>
                </a:cubicBezTo>
                <a:cubicBezTo>
                  <a:pt x="5882" y="5661"/>
                  <a:pt x="5925" y="5650"/>
                  <a:pt x="5978" y="5631"/>
                </a:cubicBezTo>
              </a:path>
              <a:path w="5731" h="1688">
                <a:moveTo>
                  <a:pt x="6375" y="5804"/>
                </a:moveTo>
                <a:cubicBezTo>
                  <a:pt x="6431" y="5793"/>
                  <a:pt x="6465" y="5779"/>
                  <a:pt x="6524" y="5779"/>
                </a:cubicBezTo>
                <a:cubicBezTo>
                  <a:pt x="6532" y="5779"/>
                  <a:pt x="6540" y="5779"/>
                  <a:pt x="6548" y="5779"/>
                </a:cubicBezTo>
              </a:path>
              <a:path w="5731" h="1688">
                <a:moveTo>
                  <a:pt x="6499" y="6152"/>
                </a:moveTo>
                <a:cubicBezTo>
                  <a:pt x="6499" y="6160"/>
                  <a:pt x="6499" y="6168"/>
                  <a:pt x="6499" y="6176"/>
                </a:cubicBezTo>
                <a:cubicBezTo>
                  <a:pt x="6548" y="6164"/>
                  <a:pt x="6597" y="6150"/>
                  <a:pt x="6648" y="6127"/>
                </a:cubicBezTo>
                <a:cubicBezTo>
                  <a:pt x="6664" y="6119"/>
                  <a:pt x="6681" y="6110"/>
                  <a:pt x="6697" y="6102"/>
                </a:cubicBezTo>
              </a:path>
              <a:path w="5731" h="1688">
                <a:moveTo>
                  <a:pt x="7317" y="6102"/>
                </a:moveTo>
                <a:cubicBezTo>
                  <a:pt x="7272" y="6182"/>
                  <a:pt x="7247" y="6228"/>
                  <a:pt x="7243" y="6325"/>
                </a:cubicBezTo>
                <a:cubicBezTo>
                  <a:pt x="7238" y="6459"/>
                  <a:pt x="7204" y="6590"/>
                  <a:pt x="7193" y="6722"/>
                </a:cubicBezTo>
                <a:cubicBezTo>
                  <a:pt x="7193" y="6805"/>
                  <a:pt x="7193" y="6821"/>
                  <a:pt x="7193" y="6871"/>
                </a:cubicBezTo>
                <a:cubicBezTo>
                  <a:pt x="7154" y="6857"/>
                  <a:pt x="7183" y="6772"/>
                  <a:pt x="7193" y="6722"/>
                </a:cubicBezTo>
                <a:cubicBezTo>
                  <a:pt x="7221" y="6578"/>
                  <a:pt x="7256" y="6432"/>
                  <a:pt x="7317" y="6300"/>
                </a:cubicBezTo>
                <a:cubicBezTo>
                  <a:pt x="7370" y="6184"/>
                  <a:pt x="7424" y="6066"/>
                  <a:pt x="7541" y="6003"/>
                </a:cubicBezTo>
                <a:cubicBezTo>
                  <a:pt x="7608" y="5967"/>
                  <a:pt x="7636" y="5970"/>
                  <a:pt x="7689" y="6003"/>
                </a:cubicBezTo>
                <a:cubicBezTo>
                  <a:pt x="7725" y="6062"/>
                  <a:pt x="7712" y="6116"/>
                  <a:pt x="7665" y="6176"/>
                </a:cubicBezTo>
                <a:cubicBezTo>
                  <a:pt x="7626" y="6227"/>
                  <a:pt x="7543" y="6319"/>
                  <a:pt x="7466" y="6276"/>
                </a:cubicBezTo>
                <a:cubicBezTo>
                  <a:pt x="7420" y="6229"/>
                  <a:pt x="7406" y="6217"/>
                  <a:pt x="7392" y="6176"/>
                </a:cubicBezTo>
              </a:path>
              <a:path w="5731" h="1688">
                <a:moveTo>
                  <a:pt x="8136" y="5184"/>
                </a:moveTo>
                <a:cubicBezTo>
                  <a:pt x="8186" y="5250"/>
                  <a:pt x="8121" y="5298"/>
                  <a:pt x="8111" y="5383"/>
                </a:cubicBezTo>
                <a:cubicBezTo>
                  <a:pt x="8092" y="5539"/>
                  <a:pt x="8066" y="5696"/>
                  <a:pt x="8062" y="5854"/>
                </a:cubicBezTo>
                <a:cubicBezTo>
                  <a:pt x="8060" y="5937"/>
                  <a:pt x="8062" y="6019"/>
                  <a:pt x="8062" y="6102"/>
                </a:cubicBezTo>
              </a:path>
              <a:path w="5731" h="1688">
                <a:moveTo>
                  <a:pt x="8409" y="5631"/>
                </a:moveTo>
                <a:cubicBezTo>
                  <a:pt x="8461" y="5656"/>
                  <a:pt x="8344" y="5678"/>
                  <a:pt x="8310" y="5705"/>
                </a:cubicBezTo>
                <a:cubicBezTo>
                  <a:pt x="8253" y="5749"/>
                  <a:pt x="8156" y="5832"/>
                  <a:pt x="8136" y="5904"/>
                </a:cubicBezTo>
                <a:cubicBezTo>
                  <a:pt x="8108" y="6005"/>
                  <a:pt x="8208" y="5966"/>
                  <a:pt x="8260" y="5978"/>
                </a:cubicBezTo>
                <a:cubicBezTo>
                  <a:pt x="8347" y="5997"/>
                  <a:pt x="8418" y="6003"/>
                  <a:pt x="8508" y="6003"/>
                </a:cubicBezTo>
              </a:path>
              <a:path w="5731" h="1688">
                <a:moveTo>
                  <a:pt x="8855" y="6028"/>
                </a:moveTo>
                <a:cubicBezTo>
                  <a:pt x="8822" y="6103"/>
                  <a:pt x="8824" y="6172"/>
                  <a:pt x="8806" y="6251"/>
                </a:cubicBezTo>
                <a:cubicBezTo>
                  <a:pt x="8782" y="6358"/>
                  <a:pt x="8761" y="6464"/>
                  <a:pt x="8756" y="6573"/>
                </a:cubicBezTo>
                <a:cubicBezTo>
                  <a:pt x="8756" y="6615"/>
                  <a:pt x="8756" y="6623"/>
                  <a:pt x="8756" y="6648"/>
                </a:cubicBezTo>
                <a:cubicBezTo>
                  <a:pt x="8809" y="6582"/>
                  <a:pt x="8832" y="6501"/>
                  <a:pt x="8905" y="6449"/>
                </a:cubicBezTo>
                <a:cubicBezTo>
                  <a:pt x="8968" y="6404"/>
                  <a:pt x="9078" y="6361"/>
                  <a:pt x="9153" y="6350"/>
                </a:cubicBezTo>
                <a:cubicBezTo>
                  <a:pt x="9236" y="6337"/>
                  <a:pt x="9273" y="6372"/>
                  <a:pt x="9327" y="6424"/>
                </a:cubicBezTo>
                <a:cubicBezTo>
                  <a:pt x="9300" y="6491"/>
                  <a:pt x="9244" y="6533"/>
                  <a:pt x="9178" y="6573"/>
                </a:cubicBezTo>
                <a:cubicBezTo>
                  <a:pt x="9134" y="6599"/>
                  <a:pt x="9123" y="6598"/>
                  <a:pt x="9079" y="65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68840" y="1795320"/>
            <a:ext cx="2928960" cy="669960"/>
          </a:xfrm>
          <a:custGeom>
            <a:avLst/>
            <a:gdLst/>
            <a:ahLst/>
            <a:rect l="l" t="t" r="r" b="b"/>
            <a:pathLst>
              <a:path w="8137" h="1861">
                <a:moveTo>
                  <a:pt x="10468" y="5904"/>
                </a:moveTo>
                <a:cubicBezTo>
                  <a:pt x="10580" y="5904"/>
                  <a:pt x="10685" y="5892"/>
                  <a:pt x="10790" y="5879"/>
                </a:cubicBezTo>
                <a:cubicBezTo>
                  <a:pt x="10815" y="5879"/>
                  <a:pt x="10839" y="5879"/>
                  <a:pt x="10864" y="5879"/>
                </a:cubicBezTo>
              </a:path>
              <a:path w="8137" h="1861">
                <a:moveTo>
                  <a:pt x="10840" y="5581"/>
                </a:moveTo>
                <a:cubicBezTo>
                  <a:pt x="10794" y="5672"/>
                  <a:pt x="10790" y="5726"/>
                  <a:pt x="10790" y="5829"/>
                </a:cubicBezTo>
                <a:cubicBezTo>
                  <a:pt x="10790" y="5941"/>
                  <a:pt x="10798" y="6022"/>
                  <a:pt x="10840" y="6127"/>
                </a:cubicBezTo>
              </a:path>
              <a:path w="8137" h="1861">
                <a:moveTo>
                  <a:pt x="11757" y="6201"/>
                </a:moveTo>
                <a:cubicBezTo>
                  <a:pt x="11815" y="6143"/>
                  <a:pt x="11873" y="6086"/>
                  <a:pt x="11931" y="6028"/>
                </a:cubicBezTo>
                <a:cubicBezTo>
                  <a:pt x="12046" y="5912"/>
                  <a:pt x="12098" y="5793"/>
                  <a:pt x="12179" y="5655"/>
                </a:cubicBezTo>
                <a:cubicBezTo>
                  <a:pt x="12235" y="5558"/>
                  <a:pt x="12249" y="5489"/>
                  <a:pt x="12204" y="5383"/>
                </a:cubicBezTo>
                <a:cubicBezTo>
                  <a:pt x="12180" y="5335"/>
                  <a:pt x="12174" y="5318"/>
                  <a:pt x="12129" y="5333"/>
                </a:cubicBezTo>
                <a:cubicBezTo>
                  <a:pt x="12025" y="5408"/>
                  <a:pt x="12011" y="5474"/>
                  <a:pt x="12005" y="5606"/>
                </a:cubicBezTo>
                <a:cubicBezTo>
                  <a:pt x="11997" y="5783"/>
                  <a:pt x="11997" y="5952"/>
                  <a:pt x="12105" y="6102"/>
                </a:cubicBezTo>
                <a:cubicBezTo>
                  <a:pt x="12173" y="6170"/>
                  <a:pt x="12190" y="6192"/>
                  <a:pt x="12254" y="6201"/>
                </a:cubicBezTo>
              </a:path>
              <a:path w="8137" h="1861">
                <a:moveTo>
                  <a:pt x="12601" y="5928"/>
                </a:moveTo>
                <a:cubicBezTo>
                  <a:pt x="12529" y="5969"/>
                  <a:pt x="12507" y="5990"/>
                  <a:pt x="12502" y="6077"/>
                </a:cubicBezTo>
                <a:cubicBezTo>
                  <a:pt x="12497" y="6170"/>
                  <a:pt x="12555" y="6217"/>
                  <a:pt x="12650" y="6201"/>
                </a:cubicBezTo>
                <a:cubicBezTo>
                  <a:pt x="12736" y="6187"/>
                  <a:pt x="12840" y="6132"/>
                  <a:pt x="12849" y="6052"/>
                </a:cubicBezTo>
                <a:cubicBezTo>
                  <a:pt x="12860" y="5959"/>
                  <a:pt x="12806" y="5932"/>
                  <a:pt x="12725" y="5928"/>
                </a:cubicBezTo>
                <a:cubicBezTo>
                  <a:pt x="12675" y="5926"/>
                  <a:pt x="12554" y="5937"/>
                  <a:pt x="12601" y="5953"/>
                </a:cubicBezTo>
                <a:cubicBezTo>
                  <a:pt x="12617" y="5953"/>
                  <a:pt x="12634" y="5953"/>
                  <a:pt x="12650" y="5953"/>
                </a:cubicBezTo>
              </a:path>
              <a:path w="8137" h="1861">
                <a:moveTo>
                  <a:pt x="13146" y="5928"/>
                </a:moveTo>
                <a:cubicBezTo>
                  <a:pt x="13130" y="6025"/>
                  <a:pt x="13100" y="6100"/>
                  <a:pt x="13097" y="6201"/>
                </a:cubicBezTo>
                <a:cubicBezTo>
                  <a:pt x="13092" y="6379"/>
                  <a:pt x="13146" y="6631"/>
                  <a:pt x="13072" y="6796"/>
                </a:cubicBezTo>
                <a:cubicBezTo>
                  <a:pt x="13046" y="6854"/>
                  <a:pt x="12968" y="6866"/>
                  <a:pt x="12923" y="6821"/>
                </a:cubicBezTo>
                <a:cubicBezTo>
                  <a:pt x="12863" y="6762"/>
                  <a:pt x="12904" y="6637"/>
                  <a:pt x="12923" y="6573"/>
                </a:cubicBezTo>
                <a:cubicBezTo>
                  <a:pt x="12958" y="6458"/>
                  <a:pt x="13075" y="6415"/>
                  <a:pt x="13171" y="6350"/>
                </a:cubicBezTo>
              </a:path>
              <a:path w="8137" h="1861">
                <a:moveTo>
                  <a:pt x="14337" y="4986"/>
                </a:moveTo>
                <a:cubicBezTo>
                  <a:pt x="14205" y="5030"/>
                  <a:pt x="14117" y="5057"/>
                  <a:pt x="14039" y="5184"/>
                </a:cubicBezTo>
                <a:cubicBezTo>
                  <a:pt x="13899" y="5412"/>
                  <a:pt x="13810" y="5674"/>
                  <a:pt x="13742" y="5928"/>
                </a:cubicBezTo>
                <a:cubicBezTo>
                  <a:pt x="13693" y="6112"/>
                  <a:pt x="13662" y="6331"/>
                  <a:pt x="13692" y="6524"/>
                </a:cubicBezTo>
                <a:cubicBezTo>
                  <a:pt x="13700" y="6549"/>
                  <a:pt x="13709" y="6573"/>
                  <a:pt x="13717" y="6598"/>
                </a:cubicBezTo>
              </a:path>
              <a:path w="8137" h="1861">
                <a:moveTo>
                  <a:pt x="14486" y="5705"/>
                </a:moveTo>
                <a:cubicBezTo>
                  <a:pt x="14461" y="5705"/>
                  <a:pt x="14453" y="5705"/>
                  <a:pt x="14461" y="5730"/>
                </a:cubicBezTo>
                <a:cubicBezTo>
                  <a:pt x="14499" y="5720"/>
                  <a:pt x="14530" y="5707"/>
                  <a:pt x="14560" y="5680"/>
                </a:cubicBezTo>
                <a:cubicBezTo>
                  <a:pt x="14568" y="5672"/>
                  <a:pt x="14577" y="5663"/>
                  <a:pt x="14585" y="5655"/>
                </a:cubicBezTo>
                <a:cubicBezTo>
                  <a:pt x="14572" y="5658"/>
                  <a:pt x="14458" y="5684"/>
                  <a:pt x="14486" y="5705"/>
                </a:cubicBezTo>
                <a:cubicBezTo>
                  <a:pt x="14494" y="5705"/>
                  <a:pt x="14503" y="5705"/>
                  <a:pt x="14511" y="5705"/>
                </a:cubicBezTo>
              </a:path>
              <a:path w="8137" h="1861">
                <a:moveTo>
                  <a:pt x="15255" y="5209"/>
                </a:moveTo>
                <a:cubicBezTo>
                  <a:pt x="15196" y="5224"/>
                  <a:pt x="15166" y="5257"/>
                  <a:pt x="15131" y="5308"/>
                </a:cubicBezTo>
                <a:cubicBezTo>
                  <a:pt x="15058" y="5415"/>
                  <a:pt x="14991" y="5501"/>
                  <a:pt x="14982" y="5631"/>
                </a:cubicBezTo>
                <a:cubicBezTo>
                  <a:pt x="14975" y="5730"/>
                  <a:pt x="14972" y="5792"/>
                  <a:pt x="15081" y="5804"/>
                </a:cubicBezTo>
                <a:cubicBezTo>
                  <a:pt x="15153" y="5812"/>
                  <a:pt x="15184" y="5751"/>
                  <a:pt x="15230" y="5705"/>
                </a:cubicBezTo>
                <a:cubicBezTo>
                  <a:pt x="15210" y="5636"/>
                  <a:pt x="15185" y="5611"/>
                  <a:pt x="15106" y="5606"/>
                </a:cubicBezTo>
                <a:cubicBezTo>
                  <a:pt x="15059" y="5603"/>
                  <a:pt x="14988" y="5661"/>
                  <a:pt x="14982" y="5705"/>
                </a:cubicBezTo>
                <a:cubicBezTo>
                  <a:pt x="14982" y="5722"/>
                  <a:pt x="14982" y="5738"/>
                  <a:pt x="14982" y="5755"/>
                </a:cubicBezTo>
              </a:path>
              <a:path w="8137" h="1861">
                <a:moveTo>
                  <a:pt x="15701" y="5283"/>
                </a:moveTo>
                <a:cubicBezTo>
                  <a:pt x="15689" y="5332"/>
                  <a:pt x="15652" y="5382"/>
                  <a:pt x="15627" y="5432"/>
                </a:cubicBezTo>
                <a:cubicBezTo>
                  <a:pt x="15589" y="5508"/>
                  <a:pt x="15542" y="5578"/>
                  <a:pt x="15503" y="5655"/>
                </a:cubicBezTo>
                <a:cubicBezTo>
                  <a:pt x="15483" y="5696"/>
                  <a:pt x="15474" y="5702"/>
                  <a:pt x="15478" y="5730"/>
                </a:cubicBezTo>
              </a:path>
              <a:path w="8137" h="1861">
                <a:moveTo>
                  <a:pt x="15900" y="5333"/>
                </a:moveTo>
                <a:cubicBezTo>
                  <a:pt x="15869" y="5374"/>
                  <a:pt x="15844" y="5380"/>
                  <a:pt x="15825" y="5432"/>
                </a:cubicBezTo>
                <a:cubicBezTo>
                  <a:pt x="15812" y="5466"/>
                  <a:pt x="15821" y="5536"/>
                  <a:pt x="15850" y="5556"/>
                </a:cubicBezTo>
                <a:cubicBezTo>
                  <a:pt x="15922" y="5606"/>
                  <a:pt x="15976" y="5568"/>
                  <a:pt x="16049" y="5556"/>
                </a:cubicBezTo>
                <a:cubicBezTo>
                  <a:pt x="16065" y="5556"/>
                  <a:pt x="16082" y="5556"/>
                  <a:pt x="16098" y="5556"/>
                </a:cubicBezTo>
              </a:path>
              <a:path w="8137" h="1861">
                <a:moveTo>
                  <a:pt x="16321" y="5283"/>
                </a:moveTo>
                <a:cubicBezTo>
                  <a:pt x="16242" y="5283"/>
                  <a:pt x="16203" y="5291"/>
                  <a:pt x="16148" y="5358"/>
                </a:cubicBezTo>
                <a:cubicBezTo>
                  <a:pt x="16079" y="5443"/>
                  <a:pt x="16018" y="5557"/>
                  <a:pt x="15974" y="5655"/>
                </a:cubicBezTo>
                <a:cubicBezTo>
                  <a:pt x="15945" y="5720"/>
                  <a:pt x="15932" y="5785"/>
                  <a:pt x="15925" y="5854"/>
                </a:cubicBezTo>
              </a:path>
              <a:path w="8137" h="1861">
                <a:moveTo>
                  <a:pt x="16917" y="5259"/>
                </a:moveTo>
                <a:cubicBezTo>
                  <a:pt x="16863" y="5272"/>
                  <a:pt x="16787" y="5321"/>
                  <a:pt x="16743" y="5358"/>
                </a:cubicBezTo>
                <a:cubicBezTo>
                  <a:pt x="16622" y="5461"/>
                  <a:pt x="16526" y="5589"/>
                  <a:pt x="16421" y="5705"/>
                </a:cubicBezTo>
                <a:cubicBezTo>
                  <a:pt x="16359" y="5773"/>
                  <a:pt x="16292" y="5898"/>
                  <a:pt x="16222" y="5953"/>
                </a:cubicBezTo>
                <a:cubicBezTo>
                  <a:pt x="16214" y="5953"/>
                  <a:pt x="16205" y="5953"/>
                  <a:pt x="16197" y="5953"/>
                </a:cubicBezTo>
              </a:path>
              <a:path w="8137" h="1861">
                <a:moveTo>
                  <a:pt x="16768" y="5854"/>
                </a:moveTo>
                <a:cubicBezTo>
                  <a:pt x="16816" y="5870"/>
                  <a:pt x="16779" y="5870"/>
                  <a:pt x="16768" y="5904"/>
                </a:cubicBezTo>
                <a:cubicBezTo>
                  <a:pt x="16804" y="5892"/>
                  <a:pt x="16804" y="5891"/>
                  <a:pt x="16768" y="5879"/>
                </a:cubicBezTo>
              </a:path>
              <a:path w="8137" h="1861">
                <a:moveTo>
                  <a:pt x="17388" y="5631"/>
                </a:moveTo>
                <a:cubicBezTo>
                  <a:pt x="17355" y="5554"/>
                  <a:pt x="17373" y="5556"/>
                  <a:pt x="17289" y="5556"/>
                </a:cubicBezTo>
                <a:cubicBezTo>
                  <a:pt x="17256" y="5556"/>
                  <a:pt x="17162" y="5561"/>
                  <a:pt x="17140" y="5581"/>
                </a:cubicBezTo>
                <a:cubicBezTo>
                  <a:pt x="17111" y="5608"/>
                  <a:pt x="17103" y="5694"/>
                  <a:pt x="17115" y="5730"/>
                </a:cubicBezTo>
                <a:cubicBezTo>
                  <a:pt x="17140" y="5803"/>
                  <a:pt x="17186" y="5851"/>
                  <a:pt x="17239" y="5904"/>
                </a:cubicBezTo>
                <a:cubicBezTo>
                  <a:pt x="17264" y="5928"/>
                  <a:pt x="17273" y="5936"/>
                  <a:pt x="17289" y="5953"/>
                </a:cubicBezTo>
                <a:cubicBezTo>
                  <a:pt x="17275" y="5995"/>
                  <a:pt x="17241" y="5978"/>
                  <a:pt x="17190" y="5978"/>
                </a:cubicBezTo>
                <a:cubicBezTo>
                  <a:pt x="17155" y="5978"/>
                  <a:pt x="17118" y="5942"/>
                  <a:pt x="17140" y="5904"/>
                </a:cubicBezTo>
                <a:cubicBezTo>
                  <a:pt x="17176" y="5840"/>
                  <a:pt x="17252" y="5810"/>
                  <a:pt x="17314" y="5779"/>
                </a:cubicBezTo>
                <a:cubicBezTo>
                  <a:pt x="17330" y="5771"/>
                  <a:pt x="17347" y="5763"/>
                  <a:pt x="17363" y="5755"/>
                </a:cubicBezTo>
              </a:path>
              <a:path w="8137" h="1861">
                <a:moveTo>
                  <a:pt x="17835" y="5606"/>
                </a:moveTo>
                <a:cubicBezTo>
                  <a:pt x="17746" y="5662"/>
                  <a:pt x="17694" y="5672"/>
                  <a:pt x="17686" y="5779"/>
                </a:cubicBezTo>
                <a:cubicBezTo>
                  <a:pt x="17681" y="5850"/>
                  <a:pt x="17785" y="5864"/>
                  <a:pt x="17835" y="5854"/>
                </a:cubicBezTo>
                <a:cubicBezTo>
                  <a:pt x="17883" y="5845"/>
                  <a:pt x="17955" y="5805"/>
                  <a:pt x="17959" y="5755"/>
                </a:cubicBezTo>
                <a:cubicBezTo>
                  <a:pt x="17964" y="5690"/>
                  <a:pt x="17927" y="5673"/>
                  <a:pt x="17884" y="5631"/>
                </a:cubicBezTo>
              </a:path>
              <a:path w="8137" h="1861">
                <a:moveTo>
                  <a:pt x="18132" y="5655"/>
                </a:moveTo>
                <a:cubicBezTo>
                  <a:pt x="18192" y="5695"/>
                  <a:pt x="18182" y="5687"/>
                  <a:pt x="18182" y="5755"/>
                </a:cubicBezTo>
                <a:cubicBezTo>
                  <a:pt x="18182" y="5811"/>
                  <a:pt x="18185" y="5886"/>
                  <a:pt x="18231" y="5928"/>
                </a:cubicBezTo>
                <a:cubicBezTo>
                  <a:pt x="18290" y="5983"/>
                  <a:pt x="18380" y="5948"/>
                  <a:pt x="18430" y="5904"/>
                </a:cubicBezTo>
                <a:cubicBezTo>
                  <a:pt x="18476" y="5863"/>
                  <a:pt x="18562" y="5749"/>
                  <a:pt x="18529" y="5680"/>
                </a:cubicBezTo>
                <a:cubicBezTo>
                  <a:pt x="18504" y="5628"/>
                  <a:pt x="18427" y="5604"/>
                  <a:pt x="18380" y="5581"/>
                </a:cubicBezTo>
              </a:path>
              <a:path w="8137" h="1861">
                <a:moveTo>
                  <a:pt x="14312" y="6201"/>
                </a:moveTo>
                <a:cubicBezTo>
                  <a:pt x="14489" y="6201"/>
                  <a:pt x="14660" y="6211"/>
                  <a:pt x="14833" y="6226"/>
                </a:cubicBezTo>
                <a:cubicBezTo>
                  <a:pt x="14988" y="6239"/>
                  <a:pt x="15149" y="6234"/>
                  <a:pt x="15304" y="6251"/>
                </a:cubicBezTo>
                <a:cubicBezTo>
                  <a:pt x="15479" y="6271"/>
                  <a:pt x="15647" y="6276"/>
                  <a:pt x="15825" y="6276"/>
                </a:cubicBezTo>
                <a:cubicBezTo>
                  <a:pt x="16182" y="6276"/>
                  <a:pt x="16539" y="6271"/>
                  <a:pt x="16892" y="6300"/>
                </a:cubicBezTo>
                <a:cubicBezTo>
                  <a:pt x="17123" y="6319"/>
                  <a:pt x="17360" y="6292"/>
                  <a:pt x="17587" y="6276"/>
                </a:cubicBezTo>
                <a:cubicBezTo>
                  <a:pt x="17721" y="6267"/>
                  <a:pt x="17848" y="6251"/>
                  <a:pt x="17983" y="6251"/>
                </a:cubicBezTo>
                <a:cubicBezTo>
                  <a:pt x="18098" y="6251"/>
                  <a:pt x="18198" y="6255"/>
                  <a:pt x="18306" y="6276"/>
                </a:cubicBezTo>
                <a:cubicBezTo>
                  <a:pt x="18374" y="6289"/>
                  <a:pt x="18433" y="6298"/>
                  <a:pt x="18504" y="6300"/>
                </a:cubicBezTo>
                <a:cubicBezTo>
                  <a:pt x="18537" y="6301"/>
                  <a:pt x="18571" y="6300"/>
                  <a:pt x="18604" y="63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214960" y="2394000"/>
            <a:ext cx="839880" cy="312840"/>
          </a:xfrm>
          <a:custGeom>
            <a:avLst/>
            <a:gdLst/>
            <a:ahLst/>
            <a:rect l="l" t="t" r="r" b="b"/>
            <a:pathLst>
              <a:path w="2333" h="869">
                <a:moveTo>
                  <a:pt x="14486" y="7045"/>
                </a:moveTo>
                <a:cubicBezTo>
                  <a:pt x="14530" y="7034"/>
                  <a:pt x="14551" y="7004"/>
                  <a:pt x="14585" y="6970"/>
                </a:cubicBezTo>
                <a:cubicBezTo>
                  <a:pt x="14532" y="6970"/>
                  <a:pt x="14524" y="6982"/>
                  <a:pt x="14486" y="7020"/>
                </a:cubicBezTo>
              </a:path>
              <a:path w="2333" h="869">
                <a:moveTo>
                  <a:pt x="14908" y="6648"/>
                </a:moveTo>
                <a:cubicBezTo>
                  <a:pt x="14981" y="6648"/>
                  <a:pt x="15066" y="6632"/>
                  <a:pt x="15131" y="6672"/>
                </a:cubicBezTo>
                <a:cubicBezTo>
                  <a:pt x="15190" y="6708"/>
                  <a:pt x="15149" y="6825"/>
                  <a:pt x="15131" y="6871"/>
                </a:cubicBezTo>
                <a:cubicBezTo>
                  <a:pt x="15095" y="6964"/>
                  <a:pt x="15004" y="7010"/>
                  <a:pt x="14932" y="7069"/>
                </a:cubicBezTo>
                <a:cubicBezTo>
                  <a:pt x="14904" y="7098"/>
                  <a:pt x="14891" y="7106"/>
                  <a:pt x="14858" y="7094"/>
                </a:cubicBezTo>
                <a:cubicBezTo>
                  <a:pt x="14858" y="7014"/>
                  <a:pt x="14859" y="7009"/>
                  <a:pt x="14932" y="6970"/>
                </a:cubicBezTo>
                <a:cubicBezTo>
                  <a:pt x="14991" y="6938"/>
                  <a:pt x="15041" y="6945"/>
                  <a:pt x="15106" y="6945"/>
                </a:cubicBezTo>
                <a:cubicBezTo>
                  <a:pt x="15147" y="6945"/>
                  <a:pt x="15156" y="6989"/>
                  <a:pt x="15180" y="7020"/>
                </a:cubicBezTo>
              </a:path>
              <a:path w="2333" h="869">
                <a:moveTo>
                  <a:pt x="15528" y="6772"/>
                </a:moveTo>
                <a:cubicBezTo>
                  <a:pt x="15548" y="6726"/>
                  <a:pt x="15574" y="6668"/>
                  <a:pt x="15553" y="6747"/>
                </a:cubicBezTo>
                <a:cubicBezTo>
                  <a:pt x="15528" y="6841"/>
                  <a:pt x="15489" y="6923"/>
                  <a:pt x="15478" y="7020"/>
                </a:cubicBezTo>
                <a:cubicBezTo>
                  <a:pt x="15471" y="7086"/>
                  <a:pt x="15474" y="7120"/>
                  <a:pt x="15503" y="7169"/>
                </a:cubicBezTo>
              </a:path>
              <a:path w="2333" h="869">
                <a:moveTo>
                  <a:pt x="15999" y="6747"/>
                </a:moveTo>
                <a:cubicBezTo>
                  <a:pt x="15948" y="6772"/>
                  <a:pt x="15884" y="6862"/>
                  <a:pt x="15850" y="6921"/>
                </a:cubicBezTo>
                <a:cubicBezTo>
                  <a:pt x="15800" y="7008"/>
                  <a:pt x="15727" y="7170"/>
                  <a:pt x="15801" y="7268"/>
                </a:cubicBezTo>
                <a:cubicBezTo>
                  <a:pt x="15856" y="7341"/>
                  <a:pt x="15979" y="7281"/>
                  <a:pt x="16024" y="7243"/>
                </a:cubicBezTo>
                <a:cubicBezTo>
                  <a:pt x="16088" y="7189"/>
                  <a:pt x="16098" y="7173"/>
                  <a:pt x="16098" y="7094"/>
                </a:cubicBezTo>
                <a:cubicBezTo>
                  <a:pt x="16020" y="7064"/>
                  <a:pt x="15951" y="7068"/>
                  <a:pt x="15875" y="7119"/>
                </a:cubicBezTo>
                <a:cubicBezTo>
                  <a:pt x="15799" y="7170"/>
                  <a:pt x="15762" y="7233"/>
                  <a:pt x="15751" y="7317"/>
                </a:cubicBezTo>
              </a:path>
              <a:path w="2333" h="869">
                <a:moveTo>
                  <a:pt x="16718" y="6697"/>
                </a:moveTo>
                <a:cubicBezTo>
                  <a:pt x="16726" y="6697"/>
                  <a:pt x="16735" y="6697"/>
                  <a:pt x="16743" y="6697"/>
                </a:cubicBezTo>
                <a:cubicBezTo>
                  <a:pt x="16730" y="6748"/>
                  <a:pt x="16675" y="6800"/>
                  <a:pt x="16644" y="6846"/>
                </a:cubicBezTo>
                <a:cubicBezTo>
                  <a:pt x="16552" y="6981"/>
                  <a:pt x="16472" y="7112"/>
                  <a:pt x="16371" y="7243"/>
                </a:cubicBezTo>
                <a:cubicBezTo>
                  <a:pt x="16302" y="7332"/>
                  <a:pt x="16244" y="7429"/>
                  <a:pt x="16173" y="7516"/>
                </a:cubicBezTo>
              </a:path>
              <a:path w="2333" h="869">
                <a:moveTo>
                  <a:pt x="16743" y="7342"/>
                </a:moveTo>
                <a:cubicBezTo>
                  <a:pt x="16697" y="7342"/>
                  <a:pt x="16752" y="7329"/>
                  <a:pt x="16768" y="7317"/>
                </a:cubicBezTo>
                <a:cubicBezTo>
                  <a:pt x="16791" y="7295"/>
                  <a:pt x="16796" y="7287"/>
                  <a:pt x="16818" y="7293"/>
                </a:cubicBezTo>
                <a:cubicBezTo>
                  <a:pt x="16780" y="7320"/>
                  <a:pt x="16775" y="7331"/>
                  <a:pt x="16743" y="73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05680" y="1751040"/>
            <a:ext cx="768240" cy="1035000"/>
          </a:xfrm>
          <a:custGeom>
            <a:avLst/>
            <a:gdLst/>
            <a:ahLst/>
            <a:rect l="l" t="t" r="r" b="b"/>
            <a:pathLst>
              <a:path w="2134" h="2878">
                <a:moveTo>
                  <a:pt x="17487" y="6945"/>
                </a:moveTo>
                <a:cubicBezTo>
                  <a:pt x="17430" y="6937"/>
                  <a:pt x="17414" y="6902"/>
                  <a:pt x="17363" y="6896"/>
                </a:cubicBezTo>
                <a:cubicBezTo>
                  <a:pt x="17337" y="6893"/>
                  <a:pt x="17282" y="6966"/>
                  <a:pt x="17264" y="6995"/>
                </a:cubicBezTo>
                <a:cubicBezTo>
                  <a:pt x="17240" y="7032"/>
                  <a:pt x="17215" y="7151"/>
                  <a:pt x="17239" y="7193"/>
                </a:cubicBezTo>
                <a:cubicBezTo>
                  <a:pt x="17275" y="7258"/>
                  <a:pt x="17443" y="7329"/>
                  <a:pt x="17413" y="7417"/>
                </a:cubicBezTo>
                <a:cubicBezTo>
                  <a:pt x="17398" y="7460"/>
                  <a:pt x="17326" y="7487"/>
                  <a:pt x="17289" y="7491"/>
                </a:cubicBezTo>
                <a:cubicBezTo>
                  <a:pt x="17281" y="7491"/>
                  <a:pt x="17272" y="7491"/>
                  <a:pt x="17264" y="7491"/>
                </a:cubicBezTo>
                <a:cubicBezTo>
                  <a:pt x="17223" y="7395"/>
                  <a:pt x="17256" y="7375"/>
                  <a:pt x="17314" y="7293"/>
                </a:cubicBezTo>
                <a:cubicBezTo>
                  <a:pt x="17386" y="7190"/>
                  <a:pt x="17483" y="7139"/>
                  <a:pt x="17587" y="7069"/>
                </a:cubicBezTo>
              </a:path>
              <a:path w="2134" h="2878">
                <a:moveTo>
                  <a:pt x="17835" y="6945"/>
                </a:moveTo>
                <a:cubicBezTo>
                  <a:pt x="17799" y="6981"/>
                  <a:pt x="17769" y="7017"/>
                  <a:pt x="17760" y="7069"/>
                </a:cubicBezTo>
                <a:cubicBezTo>
                  <a:pt x="17751" y="7119"/>
                  <a:pt x="17746" y="7229"/>
                  <a:pt x="17785" y="7268"/>
                </a:cubicBezTo>
                <a:cubicBezTo>
                  <a:pt x="17858" y="7341"/>
                  <a:pt x="17879" y="7309"/>
                  <a:pt x="17934" y="7268"/>
                </a:cubicBezTo>
                <a:cubicBezTo>
                  <a:pt x="18003" y="7218"/>
                  <a:pt x="18008" y="7203"/>
                  <a:pt x="18008" y="7119"/>
                </a:cubicBezTo>
                <a:cubicBezTo>
                  <a:pt x="18008" y="7060"/>
                  <a:pt x="17994" y="7040"/>
                  <a:pt x="17959" y="6995"/>
                </a:cubicBezTo>
              </a:path>
              <a:path w="2134" h="2878">
                <a:moveTo>
                  <a:pt x="18107" y="7020"/>
                </a:moveTo>
                <a:cubicBezTo>
                  <a:pt x="18139" y="7057"/>
                  <a:pt x="18178" y="7087"/>
                  <a:pt x="18157" y="7144"/>
                </a:cubicBezTo>
                <a:cubicBezTo>
                  <a:pt x="18124" y="7236"/>
                  <a:pt x="18115" y="7257"/>
                  <a:pt x="18182" y="7317"/>
                </a:cubicBezTo>
                <a:cubicBezTo>
                  <a:pt x="18246" y="7374"/>
                  <a:pt x="18335" y="7323"/>
                  <a:pt x="18405" y="7293"/>
                </a:cubicBezTo>
                <a:cubicBezTo>
                  <a:pt x="18465" y="7268"/>
                  <a:pt x="18520" y="7189"/>
                  <a:pt x="18504" y="7119"/>
                </a:cubicBezTo>
                <a:cubicBezTo>
                  <a:pt x="18491" y="7059"/>
                  <a:pt x="18440" y="6963"/>
                  <a:pt x="18380" y="6945"/>
                </a:cubicBezTo>
                <a:cubicBezTo>
                  <a:pt x="18364" y="6945"/>
                  <a:pt x="18347" y="6945"/>
                  <a:pt x="18331" y="6945"/>
                </a:cubicBezTo>
              </a:path>
              <a:path w="2134" h="2878">
                <a:moveTo>
                  <a:pt x="18951" y="4911"/>
                </a:moveTo>
                <a:cubicBezTo>
                  <a:pt x="18943" y="4895"/>
                  <a:pt x="18934" y="4878"/>
                  <a:pt x="18926" y="4862"/>
                </a:cubicBezTo>
                <a:cubicBezTo>
                  <a:pt x="18987" y="4890"/>
                  <a:pt x="18991" y="4867"/>
                  <a:pt x="19050" y="4936"/>
                </a:cubicBezTo>
                <a:cubicBezTo>
                  <a:pt x="19257" y="5179"/>
                  <a:pt x="19348" y="5516"/>
                  <a:pt x="19372" y="5829"/>
                </a:cubicBezTo>
                <a:cubicBezTo>
                  <a:pt x="19400" y="6193"/>
                  <a:pt x="19359" y="6544"/>
                  <a:pt x="19273" y="6896"/>
                </a:cubicBezTo>
                <a:cubicBezTo>
                  <a:pt x="19224" y="7097"/>
                  <a:pt x="19136" y="7316"/>
                  <a:pt x="19025" y="7491"/>
                </a:cubicBezTo>
                <a:cubicBezTo>
                  <a:pt x="18962" y="7590"/>
                  <a:pt x="18910" y="7663"/>
                  <a:pt x="18827" y="77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2840040"/>
            <a:ext cx="376200" cy="571320"/>
          </a:xfrm>
          <a:custGeom>
            <a:avLst/>
            <a:gdLst/>
            <a:ahLst/>
            <a:rect l="l" t="t" r="r" b="b"/>
            <a:pathLst>
              <a:path w="1043" h="1588">
                <a:moveTo>
                  <a:pt x="8781" y="8037"/>
                </a:moveTo>
                <a:cubicBezTo>
                  <a:pt x="8781" y="7987"/>
                  <a:pt x="8792" y="7978"/>
                  <a:pt x="8806" y="7938"/>
                </a:cubicBezTo>
                <a:cubicBezTo>
                  <a:pt x="8842" y="7832"/>
                  <a:pt x="8789" y="7983"/>
                  <a:pt x="8781" y="8012"/>
                </a:cubicBezTo>
                <a:cubicBezTo>
                  <a:pt x="8739" y="8173"/>
                  <a:pt x="8722" y="8366"/>
                  <a:pt x="8706" y="8533"/>
                </a:cubicBezTo>
                <a:cubicBezTo>
                  <a:pt x="8699" y="8604"/>
                  <a:pt x="8685" y="8751"/>
                  <a:pt x="8731" y="8781"/>
                </a:cubicBezTo>
              </a:path>
              <a:path w="1043" h="1588">
                <a:moveTo>
                  <a:pt x="9178" y="8062"/>
                </a:moveTo>
                <a:cubicBezTo>
                  <a:pt x="9194" y="8062"/>
                  <a:pt x="9211" y="8062"/>
                  <a:pt x="9227" y="8062"/>
                </a:cubicBezTo>
                <a:cubicBezTo>
                  <a:pt x="9203" y="8122"/>
                  <a:pt x="9126" y="8207"/>
                  <a:pt x="9079" y="8260"/>
                </a:cubicBezTo>
                <a:cubicBezTo>
                  <a:pt x="8994" y="8356"/>
                  <a:pt x="8898" y="8448"/>
                  <a:pt x="8830" y="8558"/>
                </a:cubicBezTo>
                <a:cubicBezTo>
                  <a:pt x="8806" y="8597"/>
                  <a:pt x="8790" y="8639"/>
                  <a:pt x="8781" y="8682"/>
                </a:cubicBezTo>
                <a:cubicBezTo>
                  <a:pt x="8849" y="8692"/>
                  <a:pt x="8902" y="8706"/>
                  <a:pt x="8979" y="8706"/>
                </a:cubicBezTo>
                <a:cubicBezTo>
                  <a:pt x="9004" y="8706"/>
                  <a:pt x="9029" y="8706"/>
                  <a:pt x="9054" y="8706"/>
                </a:cubicBezTo>
              </a:path>
              <a:path w="1043" h="1588">
                <a:moveTo>
                  <a:pt x="9500" y="8731"/>
                </a:moveTo>
                <a:cubicBezTo>
                  <a:pt x="9500" y="8827"/>
                  <a:pt x="9478" y="8908"/>
                  <a:pt x="9475" y="9004"/>
                </a:cubicBezTo>
                <a:cubicBezTo>
                  <a:pt x="9471" y="9145"/>
                  <a:pt x="9422" y="9263"/>
                  <a:pt x="9401" y="9401"/>
                </a:cubicBezTo>
                <a:cubicBezTo>
                  <a:pt x="9401" y="9446"/>
                  <a:pt x="9405" y="9459"/>
                  <a:pt x="9376" y="9475"/>
                </a:cubicBezTo>
                <a:cubicBezTo>
                  <a:pt x="9330" y="9416"/>
                  <a:pt x="9371" y="9345"/>
                  <a:pt x="9401" y="9277"/>
                </a:cubicBezTo>
                <a:cubicBezTo>
                  <a:pt x="9446" y="9175"/>
                  <a:pt x="9504" y="9062"/>
                  <a:pt x="9599" y="9004"/>
                </a:cubicBezTo>
                <a:cubicBezTo>
                  <a:pt x="9648" y="8974"/>
                  <a:pt x="9738" y="8954"/>
                  <a:pt x="9748" y="9029"/>
                </a:cubicBezTo>
                <a:cubicBezTo>
                  <a:pt x="9761" y="9121"/>
                  <a:pt x="9724" y="9173"/>
                  <a:pt x="9649" y="9227"/>
                </a:cubicBezTo>
                <a:cubicBezTo>
                  <a:pt x="9594" y="9267"/>
                  <a:pt x="9552" y="9291"/>
                  <a:pt x="9500" y="92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43200" y="2990880"/>
            <a:ext cx="115920" cy="125280"/>
          </a:xfrm>
          <a:custGeom>
            <a:avLst/>
            <a:gdLst/>
            <a:ahLst/>
            <a:rect l="l" t="t" r="r" b="b"/>
            <a:pathLst>
              <a:path w="324" h="348">
                <a:moveTo>
                  <a:pt x="10120" y="8334"/>
                </a:moveTo>
                <a:cubicBezTo>
                  <a:pt x="10172" y="8319"/>
                  <a:pt x="10262" y="8289"/>
                  <a:pt x="10319" y="8310"/>
                </a:cubicBezTo>
                <a:cubicBezTo>
                  <a:pt x="10344" y="8319"/>
                  <a:pt x="10394" y="8370"/>
                  <a:pt x="10418" y="8384"/>
                </a:cubicBezTo>
              </a:path>
              <a:path w="324" h="348">
                <a:moveTo>
                  <a:pt x="10269" y="8582"/>
                </a:moveTo>
                <a:cubicBezTo>
                  <a:pt x="10211" y="8617"/>
                  <a:pt x="10183" y="8619"/>
                  <a:pt x="10170" y="8657"/>
                </a:cubicBezTo>
                <a:cubicBezTo>
                  <a:pt x="10245" y="8657"/>
                  <a:pt x="10295" y="8655"/>
                  <a:pt x="10368" y="8632"/>
                </a:cubicBezTo>
                <a:cubicBezTo>
                  <a:pt x="10393" y="8624"/>
                  <a:pt x="10418" y="8615"/>
                  <a:pt x="10443" y="86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17960" y="2973240"/>
            <a:ext cx="162000" cy="277920"/>
          </a:xfrm>
          <a:custGeom>
            <a:avLst/>
            <a:gdLst/>
            <a:ahLst/>
            <a:rect l="l" t="t" r="r" b="b"/>
            <a:pathLst>
              <a:path w="448" h="770">
                <a:moveTo>
                  <a:pt x="11410" y="8260"/>
                </a:moveTo>
                <a:cubicBezTo>
                  <a:pt x="11355" y="8288"/>
                  <a:pt x="11330" y="8367"/>
                  <a:pt x="11311" y="8434"/>
                </a:cubicBezTo>
                <a:cubicBezTo>
                  <a:pt x="11270" y="8575"/>
                  <a:pt x="11223" y="8712"/>
                  <a:pt x="11187" y="8855"/>
                </a:cubicBezTo>
                <a:cubicBezTo>
                  <a:pt x="11169" y="8926"/>
                  <a:pt x="11162" y="8962"/>
                  <a:pt x="11162" y="9029"/>
                </a:cubicBezTo>
              </a:path>
              <a:path w="448" h="770">
                <a:moveTo>
                  <a:pt x="11485" y="8855"/>
                </a:moveTo>
                <a:cubicBezTo>
                  <a:pt x="11485" y="8880"/>
                  <a:pt x="11485" y="8888"/>
                  <a:pt x="11485" y="8905"/>
                </a:cubicBezTo>
                <a:cubicBezTo>
                  <a:pt x="11519" y="8870"/>
                  <a:pt x="11587" y="8845"/>
                  <a:pt x="11609" y="8806"/>
                </a:cubicBezTo>
                <a:cubicBezTo>
                  <a:pt x="11632" y="8765"/>
                  <a:pt x="11580" y="8815"/>
                  <a:pt x="11559" y="88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03800" y="3009960"/>
            <a:ext cx="98280" cy="196920"/>
          </a:xfrm>
          <a:custGeom>
            <a:avLst/>
            <a:gdLst/>
            <a:ahLst/>
            <a:rect l="l" t="t" r="r" b="b"/>
            <a:pathLst>
              <a:path w="274" h="547">
                <a:moveTo>
                  <a:pt x="12129" y="8359"/>
                </a:moveTo>
                <a:cubicBezTo>
                  <a:pt x="12186" y="8397"/>
                  <a:pt x="12192" y="8428"/>
                  <a:pt x="12204" y="8508"/>
                </a:cubicBezTo>
                <a:cubicBezTo>
                  <a:pt x="12217" y="8597"/>
                  <a:pt x="12195" y="8701"/>
                  <a:pt x="12154" y="8781"/>
                </a:cubicBezTo>
                <a:cubicBezTo>
                  <a:pt x="12112" y="8862"/>
                  <a:pt x="12060" y="8893"/>
                  <a:pt x="11981" y="8905"/>
                </a:cubicBezTo>
                <a:cubicBezTo>
                  <a:pt x="11964" y="8882"/>
                  <a:pt x="11932" y="8815"/>
                  <a:pt x="11956" y="8781"/>
                </a:cubicBezTo>
                <a:cubicBezTo>
                  <a:pt x="11985" y="8742"/>
                  <a:pt x="12046" y="8763"/>
                  <a:pt x="12080" y="8781"/>
                </a:cubicBezTo>
                <a:cubicBezTo>
                  <a:pt x="12150" y="8819"/>
                  <a:pt x="12161" y="8861"/>
                  <a:pt x="12229" y="88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37080" y="3017880"/>
            <a:ext cx="527040" cy="233280"/>
          </a:xfrm>
          <a:custGeom>
            <a:avLst/>
            <a:gdLst/>
            <a:ahLst/>
            <a:rect l="l" t="t" r="r" b="b"/>
            <a:pathLst>
              <a:path w="1464" h="646">
                <a:moveTo>
                  <a:pt x="12601" y="8409"/>
                </a:moveTo>
                <a:cubicBezTo>
                  <a:pt x="12639" y="8380"/>
                  <a:pt x="12652" y="8384"/>
                  <a:pt x="12700" y="8384"/>
                </a:cubicBezTo>
                <a:cubicBezTo>
                  <a:pt x="12748" y="8384"/>
                  <a:pt x="12809" y="8385"/>
                  <a:pt x="12849" y="8409"/>
                </a:cubicBezTo>
                <a:cubicBezTo>
                  <a:pt x="12900" y="8440"/>
                  <a:pt x="12913" y="8502"/>
                  <a:pt x="12898" y="8558"/>
                </a:cubicBezTo>
                <a:cubicBezTo>
                  <a:pt x="12876" y="8641"/>
                  <a:pt x="12806" y="8703"/>
                  <a:pt x="12774" y="8781"/>
                </a:cubicBezTo>
                <a:cubicBezTo>
                  <a:pt x="12747" y="8846"/>
                  <a:pt x="12734" y="8868"/>
                  <a:pt x="12725" y="8930"/>
                </a:cubicBezTo>
              </a:path>
              <a:path w="1464" h="646">
                <a:moveTo>
                  <a:pt x="13221" y="8632"/>
                </a:moveTo>
                <a:cubicBezTo>
                  <a:pt x="13238" y="8632"/>
                  <a:pt x="13254" y="8632"/>
                  <a:pt x="13271" y="8632"/>
                </a:cubicBezTo>
                <a:cubicBezTo>
                  <a:pt x="13259" y="8693"/>
                  <a:pt x="13238" y="8771"/>
                  <a:pt x="13221" y="8830"/>
                </a:cubicBezTo>
                <a:cubicBezTo>
                  <a:pt x="13206" y="8882"/>
                  <a:pt x="13160" y="8998"/>
                  <a:pt x="13246" y="9029"/>
                </a:cubicBezTo>
                <a:cubicBezTo>
                  <a:pt x="13316" y="9054"/>
                  <a:pt x="13347" y="9015"/>
                  <a:pt x="13395" y="8979"/>
                </a:cubicBezTo>
              </a:path>
              <a:path w="1464" h="646">
                <a:moveTo>
                  <a:pt x="13196" y="8781"/>
                </a:moveTo>
                <a:cubicBezTo>
                  <a:pt x="13179" y="8781"/>
                  <a:pt x="13163" y="8781"/>
                  <a:pt x="13146" y="8781"/>
                </a:cubicBezTo>
                <a:cubicBezTo>
                  <a:pt x="13210" y="8743"/>
                  <a:pt x="13292" y="8754"/>
                  <a:pt x="13370" y="8731"/>
                </a:cubicBezTo>
                <a:cubicBezTo>
                  <a:pt x="13437" y="8708"/>
                  <a:pt x="13455" y="8703"/>
                  <a:pt x="13494" y="8682"/>
                </a:cubicBezTo>
              </a:path>
              <a:path w="1464" h="646">
                <a:moveTo>
                  <a:pt x="13370" y="8458"/>
                </a:moveTo>
                <a:cubicBezTo>
                  <a:pt x="13350" y="8438"/>
                  <a:pt x="13441" y="8416"/>
                  <a:pt x="13494" y="8409"/>
                </a:cubicBezTo>
                <a:cubicBezTo>
                  <a:pt x="13570" y="8409"/>
                  <a:pt x="13596" y="8408"/>
                  <a:pt x="13643" y="8384"/>
                </a:cubicBezTo>
              </a:path>
              <a:path w="1464" h="646">
                <a:moveTo>
                  <a:pt x="13841" y="8731"/>
                </a:moveTo>
                <a:cubicBezTo>
                  <a:pt x="13906" y="8731"/>
                  <a:pt x="13954" y="8716"/>
                  <a:pt x="14015" y="8706"/>
                </a:cubicBezTo>
                <a:cubicBezTo>
                  <a:pt x="14031" y="8706"/>
                  <a:pt x="14048" y="8706"/>
                  <a:pt x="14064" y="87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05240" y="3000240"/>
            <a:ext cx="233640" cy="322560"/>
          </a:xfrm>
          <a:custGeom>
            <a:avLst/>
            <a:gdLst/>
            <a:ahLst/>
            <a:rect l="l" t="t" r="r" b="b"/>
            <a:pathLst>
              <a:path w="646" h="894">
                <a:moveTo>
                  <a:pt x="14560" y="8434"/>
                </a:moveTo>
                <a:cubicBezTo>
                  <a:pt x="14491" y="8451"/>
                  <a:pt x="14506" y="8476"/>
                  <a:pt x="14486" y="8533"/>
                </a:cubicBezTo>
                <a:cubicBezTo>
                  <a:pt x="14463" y="8599"/>
                  <a:pt x="14440" y="8655"/>
                  <a:pt x="14511" y="8706"/>
                </a:cubicBezTo>
                <a:cubicBezTo>
                  <a:pt x="14583" y="8758"/>
                  <a:pt x="14649" y="8756"/>
                  <a:pt x="14734" y="8756"/>
                </a:cubicBezTo>
              </a:path>
              <a:path w="646" h="894">
                <a:moveTo>
                  <a:pt x="15106" y="8334"/>
                </a:moveTo>
                <a:cubicBezTo>
                  <a:pt x="15048" y="8349"/>
                  <a:pt x="15040" y="8383"/>
                  <a:pt x="15007" y="8434"/>
                </a:cubicBezTo>
                <a:cubicBezTo>
                  <a:pt x="14923" y="8565"/>
                  <a:pt x="14883" y="8731"/>
                  <a:pt x="14833" y="8880"/>
                </a:cubicBezTo>
                <a:cubicBezTo>
                  <a:pt x="14794" y="8995"/>
                  <a:pt x="14764" y="9109"/>
                  <a:pt x="14734" y="92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03240" y="3741840"/>
            <a:ext cx="4608720" cy="768240"/>
          </a:xfrm>
          <a:custGeom>
            <a:avLst/>
            <a:gdLst/>
            <a:ahLst/>
            <a:rect l="l" t="t" r="r" b="b"/>
            <a:pathLst>
              <a:path w="12800" h="2134">
                <a:moveTo>
                  <a:pt x="5110" y="11757"/>
                </a:moveTo>
                <a:cubicBezTo>
                  <a:pt x="5085" y="11734"/>
                  <a:pt x="5064" y="11900"/>
                  <a:pt x="5060" y="11956"/>
                </a:cubicBezTo>
                <a:cubicBezTo>
                  <a:pt x="5049" y="12106"/>
                  <a:pt x="5017" y="12252"/>
                  <a:pt x="5011" y="12402"/>
                </a:cubicBezTo>
                <a:cubicBezTo>
                  <a:pt x="5011" y="12419"/>
                  <a:pt x="5011" y="12435"/>
                  <a:pt x="5011" y="12452"/>
                </a:cubicBezTo>
                <a:cubicBezTo>
                  <a:pt x="5011" y="12588"/>
                  <a:pt x="5033" y="12338"/>
                  <a:pt x="5035" y="12328"/>
                </a:cubicBezTo>
                <a:cubicBezTo>
                  <a:pt x="5070" y="12178"/>
                  <a:pt x="5116" y="12045"/>
                  <a:pt x="5184" y="11906"/>
                </a:cubicBezTo>
                <a:cubicBezTo>
                  <a:pt x="5239" y="11794"/>
                  <a:pt x="5305" y="11710"/>
                  <a:pt x="5432" y="11683"/>
                </a:cubicBezTo>
                <a:cubicBezTo>
                  <a:pt x="5449" y="11683"/>
                  <a:pt x="5465" y="11683"/>
                  <a:pt x="5482" y="11683"/>
                </a:cubicBezTo>
                <a:cubicBezTo>
                  <a:pt x="5509" y="11755"/>
                  <a:pt x="5523" y="11809"/>
                  <a:pt x="5482" y="11881"/>
                </a:cubicBezTo>
                <a:cubicBezTo>
                  <a:pt x="5451" y="11935"/>
                  <a:pt x="5362" y="12059"/>
                  <a:pt x="5283" y="12055"/>
                </a:cubicBezTo>
                <a:cubicBezTo>
                  <a:pt x="5267" y="12047"/>
                  <a:pt x="5250" y="12038"/>
                  <a:pt x="5234" y="12030"/>
                </a:cubicBezTo>
              </a:path>
              <a:path w="12800" h="2134">
                <a:moveTo>
                  <a:pt x="6028" y="11112"/>
                </a:moveTo>
                <a:cubicBezTo>
                  <a:pt x="5966" y="11190"/>
                  <a:pt x="5928" y="11263"/>
                  <a:pt x="5904" y="11361"/>
                </a:cubicBezTo>
                <a:cubicBezTo>
                  <a:pt x="5871" y="11493"/>
                  <a:pt x="5802" y="11698"/>
                  <a:pt x="5928" y="11807"/>
                </a:cubicBezTo>
                <a:cubicBezTo>
                  <a:pt x="6026" y="11891"/>
                  <a:pt x="6161" y="11812"/>
                  <a:pt x="6226" y="11733"/>
                </a:cubicBezTo>
                <a:cubicBezTo>
                  <a:pt x="6289" y="11657"/>
                  <a:pt x="6304" y="11524"/>
                  <a:pt x="6251" y="11435"/>
                </a:cubicBezTo>
                <a:cubicBezTo>
                  <a:pt x="6221" y="11384"/>
                  <a:pt x="6138" y="11314"/>
                  <a:pt x="6102" y="11286"/>
                </a:cubicBezTo>
                <a:cubicBezTo>
                  <a:pt x="6094" y="11278"/>
                  <a:pt x="6085" y="11269"/>
                  <a:pt x="6077" y="11261"/>
                </a:cubicBezTo>
              </a:path>
              <a:path w="12800" h="2134">
                <a:moveTo>
                  <a:pt x="6648" y="11063"/>
                </a:moveTo>
                <a:cubicBezTo>
                  <a:pt x="6648" y="11163"/>
                  <a:pt x="6611" y="11237"/>
                  <a:pt x="6598" y="11336"/>
                </a:cubicBezTo>
                <a:cubicBezTo>
                  <a:pt x="6586" y="11423"/>
                  <a:pt x="6598" y="11521"/>
                  <a:pt x="6598" y="11609"/>
                </a:cubicBezTo>
              </a:path>
              <a:path w="12800" h="2134">
                <a:moveTo>
                  <a:pt x="6697" y="11609"/>
                </a:moveTo>
                <a:cubicBezTo>
                  <a:pt x="6752" y="11565"/>
                  <a:pt x="6814" y="11527"/>
                  <a:pt x="6871" y="11485"/>
                </a:cubicBezTo>
                <a:cubicBezTo>
                  <a:pt x="6956" y="11422"/>
                  <a:pt x="7055" y="11374"/>
                  <a:pt x="7119" y="11286"/>
                </a:cubicBezTo>
                <a:cubicBezTo>
                  <a:pt x="7183" y="11198"/>
                  <a:pt x="7162" y="11149"/>
                  <a:pt x="7119" y="11063"/>
                </a:cubicBezTo>
                <a:cubicBezTo>
                  <a:pt x="7094" y="11014"/>
                  <a:pt x="7042" y="10976"/>
                  <a:pt x="6995" y="11038"/>
                </a:cubicBezTo>
                <a:cubicBezTo>
                  <a:pt x="6933" y="11119"/>
                  <a:pt x="6978" y="11249"/>
                  <a:pt x="6995" y="11336"/>
                </a:cubicBezTo>
                <a:cubicBezTo>
                  <a:pt x="7025" y="11488"/>
                  <a:pt x="7092" y="11613"/>
                  <a:pt x="7144" y="11757"/>
                </a:cubicBezTo>
                <a:cubicBezTo>
                  <a:pt x="7166" y="11822"/>
                  <a:pt x="7174" y="11837"/>
                  <a:pt x="7169" y="11881"/>
                </a:cubicBezTo>
              </a:path>
              <a:path w="12800" h="2134">
                <a:moveTo>
                  <a:pt x="6697" y="11063"/>
                </a:moveTo>
                <a:cubicBezTo>
                  <a:pt x="6654" y="11134"/>
                  <a:pt x="6650" y="11223"/>
                  <a:pt x="6648" y="11311"/>
                </a:cubicBezTo>
                <a:cubicBezTo>
                  <a:pt x="6643" y="11478"/>
                  <a:pt x="6640" y="11644"/>
                  <a:pt x="6672" y="11807"/>
                </a:cubicBezTo>
                <a:cubicBezTo>
                  <a:pt x="6687" y="11882"/>
                  <a:pt x="6706" y="12024"/>
                  <a:pt x="6747" y="12080"/>
                </a:cubicBezTo>
                <a:cubicBezTo>
                  <a:pt x="6755" y="12088"/>
                  <a:pt x="6764" y="12097"/>
                  <a:pt x="6772" y="12105"/>
                </a:cubicBezTo>
              </a:path>
              <a:path w="12800" h="2134">
                <a:moveTo>
                  <a:pt x="7838" y="11509"/>
                </a:moveTo>
                <a:cubicBezTo>
                  <a:pt x="7822" y="11509"/>
                  <a:pt x="7805" y="11509"/>
                  <a:pt x="7789" y="11509"/>
                </a:cubicBezTo>
                <a:cubicBezTo>
                  <a:pt x="7842" y="11469"/>
                  <a:pt x="7891" y="11463"/>
                  <a:pt x="7962" y="11460"/>
                </a:cubicBezTo>
                <a:cubicBezTo>
                  <a:pt x="8022" y="11457"/>
                  <a:pt x="8077" y="11478"/>
                  <a:pt x="8136" y="11485"/>
                </a:cubicBezTo>
              </a:path>
              <a:path w="12800" h="2134">
                <a:moveTo>
                  <a:pt x="8012" y="11757"/>
                </a:moveTo>
                <a:cubicBezTo>
                  <a:pt x="8025" y="11797"/>
                  <a:pt x="8060" y="11782"/>
                  <a:pt x="8111" y="11782"/>
                </a:cubicBezTo>
                <a:cubicBezTo>
                  <a:pt x="8211" y="11782"/>
                  <a:pt x="8311" y="11755"/>
                  <a:pt x="8409" y="11733"/>
                </a:cubicBezTo>
              </a:path>
              <a:path w="12800" h="2134">
                <a:moveTo>
                  <a:pt x="9079" y="11609"/>
                </a:moveTo>
                <a:lnTo>
                  <a:pt x="9079" y="11584"/>
                </a:lnTo>
                <a:lnTo>
                  <a:pt x="9079" y="11609"/>
                </a:lnTo>
                <a:lnTo>
                  <a:pt x="9079" y="11633"/>
                </a:lnTo>
                <a:lnTo>
                  <a:pt x="9079" y="11683"/>
                </a:lnTo>
                <a:lnTo>
                  <a:pt x="9054" y="11782"/>
                </a:lnTo>
                <a:lnTo>
                  <a:pt x="9029" y="11906"/>
                </a:lnTo>
                <a:lnTo>
                  <a:pt x="9029" y="12005"/>
                </a:lnTo>
                <a:lnTo>
                  <a:pt x="9004" y="12129"/>
                </a:lnTo>
                <a:lnTo>
                  <a:pt x="9004" y="12229"/>
                </a:lnTo>
                <a:lnTo>
                  <a:pt x="8979" y="12303"/>
                </a:lnTo>
                <a:lnTo>
                  <a:pt x="8979" y="12353"/>
                </a:lnTo>
                <a:lnTo>
                  <a:pt x="8979" y="12378"/>
                </a:lnTo>
                <a:lnTo>
                  <a:pt x="8979" y="12353"/>
                </a:lnTo>
                <a:lnTo>
                  <a:pt x="8979" y="12303"/>
                </a:lnTo>
                <a:lnTo>
                  <a:pt x="8979" y="12229"/>
                </a:lnTo>
                <a:lnTo>
                  <a:pt x="9004" y="12129"/>
                </a:lnTo>
                <a:lnTo>
                  <a:pt x="9029" y="12030"/>
                </a:lnTo>
                <a:lnTo>
                  <a:pt x="9054" y="11931"/>
                </a:lnTo>
                <a:lnTo>
                  <a:pt x="9103" y="11807"/>
                </a:lnTo>
                <a:lnTo>
                  <a:pt x="9153" y="11733"/>
                </a:lnTo>
                <a:lnTo>
                  <a:pt x="9203" y="11658"/>
                </a:lnTo>
                <a:lnTo>
                  <a:pt x="9277" y="11633"/>
                </a:lnTo>
                <a:lnTo>
                  <a:pt x="9327" y="11609"/>
                </a:lnTo>
                <a:lnTo>
                  <a:pt x="9376" y="11609"/>
                </a:lnTo>
                <a:lnTo>
                  <a:pt x="9426" y="11609"/>
                </a:lnTo>
                <a:lnTo>
                  <a:pt x="9426" y="11633"/>
                </a:lnTo>
                <a:lnTo>
                  <a:pt x="9426" y="11683"/>
                </a:lnTo>
                <a:lnTo>
                  <a:pt x="9401" y="11733"/>
                </a:lnTo>
                <a:lnTo>
                  <a:pt x="9351" y="11782"/>
                </a:lnTo>
                <a:lnTo>
                  <a:pt x="9302" y="11807"/>
                </a:lnTo>
                <a:lnTo>
                  <a:pt x="9227" y="11857"/>
                </a:lnTo>
                <a:lnTo>
                  <a:pt x="9178" y="11857"/>
                </a:lnTo>
                <a:lnTo>
                  <a:pt x="9128" y="11857"/>
                </a:lnTo>
                <a:lnTo>
                  <a:pt x="9103" y="11857"/>
                </a:lnTo>
                <a:lnTo>
                  <a:pt x="9103" y="11857"/>
                </a:lnTo>
              </a:path>
              <a:path w="12800" h="2134">
                <a:moveTo>
                  <a:pt x="9847" y="10840"/>
                </a:moveTo>
                <a:cubicBezTo>
                  <a:pt x="9888" y="10853"/>
                  <a:pt x="9858" y="10890"/>
                  <a:pt x="9847" y="10939"/>
                </a:cubicBezTo>
                <a:cubicBezTo>
                  <a:pt x="9815" y="11086"/>
                  <a:pt x="9803" y="11235"/>
                  <a:pt x="9773" y="11385"/>
                </a:cubicBezTo>
                <a:cubicBezTo>
                  <a:pt x="9746" y="11519"/>
                  <a:pt x="9748" y="11646"/>
                  <a:pt x="9748" y="11782"/>
                </a:cubicBezTo>
                <a:cubicBezTo>
                  <a:pt x="9748" y="11799"/>
                  <a:pt x="9748" y="11815"/>
                  <a:pt x="9748" y="11832"/>
                </a:cubicBezTo>
              </a:path>
              <a:path w="12800" h="2134">
                <a:moveTo>
                  <a:pt x="10294" y="11137"/>
                </a:moveTo>
                <a:cubicBezTo>
                  <a:pt x="10329" y="11154"/>
                  <a:pt x="10237" y="11206"/>
                  <a:pt x="10195" y="11237"/>
                </a:cubicBezTo>
                <a:cubicBezTo>
                  <a:pt x="10096" y="11310"/>
                  <a:pt x="10013" y="11399"/>
                  <a:pt x="9922" y="11485"/>
                </a:cubicBezTo>
                <a:cubicBezTo>
                  <a:pt x="9877" y="11527"/>
                  <a:pt x="9837" y="11577"/>
                  <a:pt x="9823" y="11633"/>
                </a:cubicBezTo>
                <a:cubicBezTo>
                  <a:pt x="9889" y="11687"/>
                  <a:pt x="9935" y="11705"/>
                  <a:pt x="10021" y="11708"/>
                </a:cubicBezTo>
                <a:cubicBezTo>
                  <a:pt x="10099" y="11711"/>
                  <a:pt x="10148" y="11709"/>
                  <a:pt x="10220" y="11733"/>
                </a:cubicBezTo>
              </a:path>
              <a:path w="12800" h="2134">
                <a:moveTo>
                  <a:pt x="10542" y="11782"/>
                </a:moveTo>
                <a:cubicBezTo>
                  <a:pt x="10532" y="11859"/>
                  <a:pt x="10512" y="11927"/>
                  <a:pt x="10492" y="12005"/>
                </a:cubicBezTo>
                <a:cubicBezTo>
                  <a:pt x="10458" y="12139"/>
                  <a:pt x="10427" y="12275"/>
                  <a:pt x="10393" y="12402"/>
                </a:cubicBezTo>
                <a:cubicBezTo>
                  <a:pt x="10379" y="12452"/>
                  <a:pt x="10368" y="12472"/>
                  <a:pt x="10368" y="12526"/>
                </a:cubicBezTo>
                <a:cubicBezTo>
                  <a:pt x="10419" y="12464"/>
                  <a:pt x="10435" y="12401"/>
                  <a:pt x="10468" y="12328"/>
                </a:cubicBezTo>
                <a:cubicBezTo>
                  <a:pt x="10523" y="12205"/>
                  <a:pt x="10551" y="12107"/>
                  <a:pt x="10666" y="12030"/>
                </a:cubicBezTo>
                <a:cubicBezTo>
                  <a:pt x="10704" y="12004"/>
                  <a:pt x="10831" y="11976"/>
                  <a:pt x="10864" y="12030"/>
                </a:cubicBezTo>
                <a:cubicBezTo>
                  <a:pt x="10900" y="12089"/>
                  <a:pt x="10848" y="12191"/>
                  <a:pt x="10815" y="12229"/>
                </a:cubicBezTo>
                <a:cubicBezTo>
                  <a:pt x="10757" y="12297"/>
                  <a:pt x="10607" y="12340"/>
                  <a:pt x="10517" y="12353"/>
                </a:cubicBezTo>
                <a:cubicBezTo>
                  <a:pt x="10443" y="12364"/>
                  <a:pt x="10385" y="12350"/>
                  <a:pt x="10319" y="12328"/>
                </a:cubicBezTo>
              </a:path>
              <a:path w="12800" h="2134">
                <a:moveTo>
                  <a:pt x="10616" y="11534"/>
                </a:moveTo>
                <a:cubicBezTo>
                  <a:pt x="10542" y="11572"/>
                  <a:pt x="10564" y="11609"/>
                  <a:pt x="10542" y="11683"/>
                </a:cubicBezTo>
                <a:cubicBezTo>
                  <a:pt x="10514" y="11738"/>
                  <a:pt x="10506" y="11761"/>
                  <a:pt x="10517" y="11807"/>
                </a:cubicBezTo>
              </a:path>
              <a:path w="12800" h="2134">
                <a:moveTo>
                  <a:pt x="11509" y="11311"/>
                </a:moveTo>
                <a:cubicBezTo>
                  <a:pt x="11493" y="11311"/>
                  <a:pt x="11476" y="11311"/>
                  <a:pt x="11460" y="11311"/>
                </a:cubicBezTo>
                <a:cubicBezTo>
                  <a:pt x="11511" y="11272"/>
                  <a:pt x="11565" y="11286"/>
                  <a:pt x="11633" y="11286"/>
                </a:cubicBezTo>
                <a:cubicBezTo>
                  <a:pt x="11749" y="11286"/>
                  <a:pt x="11865" y="11286"/>
                  <a:pt x="11981" y="11286"/>
                </a:cubicBezTo>
              </a:path>
              <a:path w="12800" h="2134">
                <a:moveTo>
                  <a:pt x="11931" y="11038"/>
                </a:moveTo>
                <a:cubicBezTo>
                  <a:pt x="11900" y="11110"/>
                  <a:pt x="11882" y="11185"/>
                  <a:pt x="11857" y="11261"/>
                </a:cubicBezTo>
                <a:cubicBezTo>
                  <a:pt x="11821" y="11369"/>
                  <a:pt x="11791" y="11472"/>
                  <a:pt x="11782" y="11584"/>
                </a:cubicBezTo>
              </a:path>
              <a:path w="12800" h="2134">
                <a:moveTo>
                  <a:pt x="12576" y="11757"/>
                </a:moveTo>
                <a:cubicBezTo>
                  <a:pt x="12658" y="11741"/>
                  <a:pt x="12660" y="11711"/>
                  <a:pt x="12725" y="11658"/>
                </a:cubicBezTo>
                <a:cubicBezTo>
                  <a:pt x="12909" y="11510"/>
                  <a:pt x="13101" y="11377"/>
                  <a:pt x="13271" y="11212"/>
                </a:cubicBezTo>
                <a:cubicBezTo>
                  <a:pt x="13351" y="11134"/>
                  <a:pt x="13433" y="11024"/>
                  <a:pt x="13444" y="10914"/>
                </a:cubicBezTo>
                <a:cubicBezTo>
                  <a:pt x="13444" y="10897"/>
                  <a:pt x="13444" y="10881"/>
                  <a:pt x="13444" y="10864"/>
                </a:cubicBezTo>
                <a:cubicBezTo>
                  <a:pt x="13370" y="10848"/>
                  <a:pt x="13322" y="10833"/>
                  <a:pt x="13246" y="10889"/>
                </a:cubicBezTo>
                <a:cubicBezTo>
                  <a:pt x="13127" y="10976"/>
                  <a:pt x="13045" y="11197"/>
                  <a:pt x="13022" y="11336"/>
                </a:cubicBezTo>
                <a:cubicBezTo>
                  <a:pt x="12999" y="11473"/>
                  <a:pt x="13053" y="11652"/>
                  <a:pt x="13171" y="11733"/>
                </a:cubicBezTo>
                <a:cubicBezTo>
                  <a:pt x="13271" y="11801"/>
                  <a:pt x="13417" y="11784"/>
                  <a:pt x="13519" y="11733"/>
                </a:cubicBezTo>
                <a:cubicBezTo>
                  <a:pt x="13629" y="11678"/>
                  <a:pt x="13672" y="11576"/>
                  <a:pt x="13742" y="11485"/>
                </a:cubicBezTo>
                <a:cubicBezTo>
                  <a:pt x="13750" y="11477"/>
                  <a:pt x="13759" y="11468"/>
                  <a:pt x="13767" y="11460"/>
                </a:cubicBezTo>
                <a:cubicBezTo>
                  <a:pt x="13743" y="11490"/>
                  <a:pt x="13721" y="11517"/>
                  <a:pt x="13717" y="11584"/>
                </a:cubicBezTo>
                <a:cubicBezTo>
                  <a:pt x="13717" y="11628"/>
                  <a:pt x="13714" y="11642"/>
                  <a:pt x="13742" y="11658"/>
                </a:cubicBezTo>
                <a:cubicBezTo>
                  <a:pt x="13815" y="11658"/>
                  <a:pt x="13878" y="11657"/>
                  <a:pt x="13940" y="11609"/>
                </a:cubicBezTo>
                <a:cubicBezTo>
                  <a:pt x="13986" y="11573"/>
                  <a:pt x="14042" y="11496"/>
                  <a:pt x="14039" y="11435"/>
                </a:cubicBezTo>
                <a:cubicBezTo>
                  <a:pt x="14036" y="11371"/>
                  <a:pt x="13920" y="11324"/>
                  <a:pt x="13866" y="11336"/>
                </a:cubicBezTo>
                <a:cubicBezTo>
                  <a:pt x="13797" y="11351"/>
                  <a:pt x="13772" y="11393"/>
                  <a:pt x="13742" y="11435"/>
                </a:cubicBezTo>
              </a:path>
              <a:path w="12800" h="2134">
                <a:moveTo>
                  <a:pt x="14511" y="11336"/>
                </a:moveTo>
                <a:cubicBezTo>
                  <a:pt x="14440" y="11336"/>
                  <a:pt x="14420" y="11351"/>
                  <a:pt x="14362" y="11385"/>
                </a:cubicBezTo>
                <a:cubicBezTo>
                  <a:pt x="14266" y="11442"/>
                  <a:pt x="14283" y="11513"/>
                  <a:pt x="14312" y="11609"/>
                </a:cubicBezTo>
                <a:cubicBezTo>
                  <a:pt x="14350" y="11732"/>
                  <a:pt x="14380" y="11850"/>
                  <a:pt x="14362" y="11981"/>
                </a:cubicBezTo>
                <a:cubicBezTo>
                  <a:pt x="14349" y="12071"/>
                  <a:pt x="14308" y="12212"/>
                  <a:pt x="14213" y="12254"/>
                </a:cubicBezTo>
                <a:cubicBezTo>
                  <a:pt x="14130" y="12291"/>
                  <a:pt x="14071" y="12187"/>
                  <a:pt x="14064" y="12129"/>
                </a:cubicBezTo>
                <a:cubicBezTo>
                  <a:pt x="14051" y="12011"/>
                  <a:pt x="14130" y="11945"/>
                  <a:pt x="14213" y="11881"/>
                </a:cubicBezTo>
                <a:cubicBezTo>
                  <a:pt x="14307" y="11811"/>
                  <a:pt x="14333" y="11788"/>
                  <a:pt x="14412" y="11782"/>
                </a:cubicBezTo>
              </a:path>
              <a:path w="12800" h="2134">
                <a:moveTo>
                  <a:pt x="15627" y="10468"/>
                </a:moveTo>
                <a:cubicBezTo>
                  <a:pt x="15506" y="10479"/>
                  <a:pt x="15462" y="10520"/>
                  <a:pt x="15379" y="10616"/>
                </a:cubicBezTo>
                <a:cubicBezTo>
                  <a:pt x="15236" y="10783"/>
                  <a:pt x="15153" y="10982"/>
                  <a:pt x="15081" y="11187"/>
                </a:cubicBezTo>
                <a:cubicBezTo>
                  <a:pt x="15008" y="11395"/>
                  <a:pt x="14982" y="11564"/>
                  <a:pt x="14982" y="11782"/>
                </a:cubicBezTo>
                <a:cubicBezTo>
                  <a:pt x="14982" y="11909"/>
                  <a:pt x="14984" y="12007"/>
                  <a:pt x="15007" y="12129"/>
                </a:cubicBezTo>
              </a:path>
              <a:path w="12800" h="2134">
                <a:moveTo>
                  <a:pt x="16247" y="10641"/>
                </a:moveTo>
                <a:cubicBezTo>
                  <a:pt x="16222" y="10604"/>
                  <a:pt x="16150" y="10603"/>
                  <a:pt x="16098" y="10641"/>
                </a:cubicBezTo>
                <a:cubicBezTo>
                  <a:pt x="16021" y="10697"/>
                  <a:pt x="15921" y="10809"/>
                  <a:pt x="15925" y="10914"/>
                </a:cubicBezTo>
                <a:cubicBezTo>
                  <a:pt x="15929" y="11004"/>
                  <a:pt x="16073" y="11096"/>
                  <a:pt x="16148" y="11112"/>
                </a:cubicBezTo>
                <a:cubicBezTo>
                  <a:pt x="16181" y="11112"/>
                  <a:pt x="16214" y="11112"/>
                  <a:pt x="16247" y="11112"/>
                </a:cubicBezTo>
              </a:path>
              <a:path w="12800" h="2134">
                <a:moveTo>
                  <a:pt x="16768" y="10641"/>
                </a:moveTo>
                <a:cubicBezTo>
                  <a:pt x="16759" y="10705"/>
                  <a:pt x="16740" y="10750"/>
                  <a:pt x="16718" y="10815"/>
                </a:cubicBezTo>
                <a:cubicBezTo>
                  <a:pt x="16693" y="10887"/>
                  <a:pt x="16675" y="10965"/>
                  <a:pt x="16669" y="11038"/>
                </a:cubicBezTo>
                <a:cubicBezTo>
                  <a:pt x="16669" y="11046"/>
                  <a:pt x="16669" y="11055"/>
                  <a:pt x="16669" y="11063"/>
                </a:cubicBezTo>
                <a:cubicBezTo>
                  <a:pt x="16669" y="10986"/>
                  <a:pt x="16693" y="10937"/>
                  <a:pt x="16718" y="10864"/>
                </a:cubicBezTo>
                <a:cubicBezTo>
                  <a:pt x="16755" y="10757"/>
                  <a:pt x="16789" y="10665"/>
                  <a:pt x="16842" y="10567"/>
                </a:cubicBezTo>
                <a:cubicBezTo>
                  <a:pt x="16867" y="10517"/>
                  <a:pt x="16875" y="10500"/>
                  <a:pt x="16917" y="10492"/>
                </a:cubicBezTo>
                <a:cubicBezTo>
                  <a:pt x="16971" y="10506"/>
                  <a:pt x="16984" y="10554"/>
                  <a:pt x="16991" y="10616"/>
                </a:cubicBezTo>
                <a:cubicBezTo>
                  <a:pt x="17004" y="10722"/>
                  <a:pt x="17005" y="10835"/>
                  <a:pt x="17016" y="10939"/>
                </a:cubicBezTo>
                <a:cubicBezTo>
                  <a:pt x="17022" y="10995"/>
                  <a:pt x="17016" y="11055"/>
                  <a:pt x="17016" y="11112"/>
                </a:cubicBezTo>
              </a:path>
              <a:path w="12800" h="2134">
                <a:moveTo>
                  <a:pt x="16619" y="10889"/>
                </a:moveTo>
                <a:cubicBezTo>
                  <a:pt x="16619" y="10873"/>
                  <a:pt x="16619" y="10856"/>
                  <a:pt x="16619" y="10840"/>
                </a:cubicBezTo>
                <a:cubicBezTo>
                  <a:pt x="16793" y="10840"/>
                  <a:pt x="16971" y="10826"/>
                  <a:pt x="17140" y="10864"/>
                </a:cubicBezTo>
              </a:path>
              <a:path w="12800" h="2134">
                <a:moveTo>
                  <a:pt x="15404" y="11485"/>
                </a:moveTo>
                <a:cubicBezTo>
                  <a:pt x="15371" y="11485"/>
                  <a:pt x="15337" y="11485"/>
                  <a:pt x="15304" y="11485"/>
                </a:cubicBezTo>
                <a:cubicBezTo>
                  <a:pt x="15453" y="11454"/>
                  <a:pt x="15625" y="11397"/>
                  <a:pt x="15776" y="11385"/>
                </a:cubicBezTo>
                <a:cubicBezTo>
                  <a:pt x="16112" y="11357"/>
                  <a:pt x="16456" y="11361"/>
                  <a:pt x="16793" y="11361"/>
                </a:cubicBezTo>
                <a:cubicBezTo>
                  <a:pt x="16909" y="11361"/>
                  <a:pt x="17007" y="11356"/>
                  <a:pt x="17115" y="11385"/>
                </a:cubicBezTo>
              </a:path>
              <a:path w="12800" h="2134">
                <a:moveTo>
                  <a:pt x="15875" y="11857"/>
                </a:moveTo>
                <a:cubicBezTo>
                  <a:pt x="15875" y="11936"/>
                  <a:pt x="15853" y="12003"/>
                  <a:pt x="15850" y="12080"/>
                </a:cubicBezTo>
                <a:cubicBezTo>
                  <a:pt x="15848" y="12130"/>
                  <a:pt x="15850" y="12361"/>
                  <a:pt x="15850" y="12328"/>
                </a:cubicBezTo>
                <a:cubicBezTo>
                  <a:pt x="15850" y="12241"/>
                  <a:pt x="15859" y="12160"/>
                  <a:pt x="15900" y="12080"/>
                </a:cubicBezTo>
                <a:cubicBezTo>
                  <a:pt x="15965" y="11953"/>
                  <a:pt x="16061" y="11903"/>
                  <a:pt x="16197" y="11881"/>
                </a:cubicBezTo>
                <a:cubicBezTo>
                  <a:pt x="16282" y="11867"/>
                  <a:pt x="16296" y="11881"/>
                  <a:pt x="16346" y="11931"/>
                </a:cubicBezTo>
                <a:cubicBezTo>
                  <a:pt x="16346" y="12019"/>
                  <a:pt x="16333" y="12080"/>
                  <a:pt x="16247" y="12129"/>
                </a:cubicBezTo>
                <a:cubicBezTo>
                  <a:pt x="16192" y="12160"/>
                  <a:pt x="16135" y="12204"/>
                  <a:pt x="16073" y="12204"/>
                </a:cubicBezTo>
                <a:cubicBezTo>
                  <a:pt x="16180" y="12204"/>
                  <a:pt x="16327" y="12175"/>
                  <a:pt x="16421" y="12229"/>
                </a:cubicBezTo>
                <a:cubicBezTo>
                  <a:pt x="16446" y="12254"/>
                  <a:pt x="16454" y="12262"/>
                  <a:pt x="16470" y="12278"/>
                </a:cubicBezTo>
                <a:cubicBezTo>
                  <a:pt x="16417" y="12333"/>
                  <a:pt x="16342" y="12371"/>
                  <a:pt x="16272" y="12402"/>
                </a:cubicBezTo>
                <a:cubicBezTo>
                  <a:pt x="16179" y="12443"/>
                  <a:pt x="16050" y="12484"/>
                  <a:pt x="15949" y="12502"/>
                </a:cubicBezTo>
                <a:cubicBezTo>
                  <a:pt x="15933" y="12502"/>
                  <a:pt x="15916" y="12502"/>
                  <a:pt x="15900" y="12502"/>
                </a:cubicBezTo>
              </a:path>
              <a:path w="12800" h="2134">
                <a:moveTo>
                  <a:pt x="17388" y="10393"/>
                </a:moveTo>
                <a:cubicBezTo>
                  <a:pt x="17441" y="10465"/>
                  <a:pt x="17510" y="10558"/>
                  <a:pt x="17562" y="10641"/>
                </a:cubicBezTo>
                <a:cubicBezTo>
                  <a:pt x="17689" y="10846"/>
                  <a:pt x="17789" y="11043"/>
                  <a:pt x="17810" y="11286"/>
                </a:cubicBezTo>
                <a:cubicBezTo>
                  <a:pt x="17832" y="11545"/>
                  <a:pt x="17743" y="11846"/>
                  <a:pt x="17587" y="12055"/>
                </a:cubicBezTo>
                <a:cubicBezTo>
                  <a:pt x="17491" y="12184"/>
                  <a:pt x="17357" y="12296"/>
                  <a:pt x="17239" y="124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itration Curv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066680" y="380880"/>
            <a:ext cx="8001000" cy="5562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137520" y="443412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71800" y="5867280"/>
            <a:ext cx="5334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L of Base ad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43000" y="762120"/>
            <a:ext cx="7392960" cy="4954320"/>
          </a:xfrm>
          <a:custGeom>
            <a:avLst/>
            <a:gdLst/>
            <a:ahLst/>
            <a:rect l="l" t="t" r="r" b="b"/>
            <a:pathLst>
              <a:path w="4657" h="3121">
                <a:moveTo>
                  <a:pt x="0" y="3120"/>
                </a:moveTo>
                <a:lnTo>
                  <a:pt x="2033" y="2995"/>
                </a:lnTo>
                <a:lnTo>
                  <a:pt x="2275" y="2946"/>
                </a:lnTo>
                <a:lnTo>
                  <a:pt x="2459" y="2878"/>
                </a:lnTo>
                <a:lnTo>
                  <a:pt x="2536" y="2782"/>
                </a:lnTo>
                <a:lnTo>
                  <a:pt x="2575" y="2656"/>
                </a:lnTo>
                <a:lnTo>
                  <a:pt x="2614" y="2443"/>
                </a:lnTo>
                <a:lnTo>
                  <a:pt x="2832" y="528"/>
                </a:lnTo>
                <a:lnTo>
                  <a:pt x="2880" y="432"/>
                </a:lnTo>
                <a:lnTo>
                  <a:pt x="2981" y="353"/>
                </a:lnTo>
                <a:lnTo>
                  <a:pt x="3069" y="314"/>
                </a:lnTo>
                <a:lnTo>
                  <a:pt x="3168" y="288"/>
                </a:lnTo>
                <a:lnTo>
                  <a:pt x="4656" y="0"/>
                </a:lnTo>
              </a:path>
            </a:pathLst>
          </a:custGeom>
          <a:noFill/>
          <a:ln cap="rnd" w="25560">
            <a:solidFill>
              <a:srgbClr val="e84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12760" y="3179880"/>
            <a:ext cx="792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4240" y="2889360"/>
            <a:ext cx="21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590400" y="507600"/>
            <a:ext cx="7772400" cy="132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Strong acid with strong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Equivalence at pH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065240" y="533520"/>
            <a:ext cx="8001000" cy="556236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136080" y="458640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70360" y="6019920"/>
            <a:ext cx="5333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L of Base ad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27160" y="798480"/>
            <a:ext cx="7593120" cy="4748400"/>
          </a:xfrm>
          <a:custGeom>
            <a:avLst/>
            <a:gdLst/>
            <a:ahLst/>
            <a:rect l="l" t="t" r="r" b="b"/>
            <a:pathLst>
              <a:path w="4783" h="2991">
                <a:moveTo>
                  <a:pt x="0" y="2990"/>
                </a:moveTo>
                <a:lnTo>
                  <a:pt x="99" y="2913"/>
                </a:lnTo>
                <a:lnTo>
                  <a:pt x="205" y="2855"/>
                </a:lnTo>
                <a:lnTo>
                  <a:pt x="331" y="2787"/>
                </a:lnTo>
                <a:lnTo>
                  <a:pt x="631" y="2700"/>
                </a:lnTo>
                <a:lnTo>
                  <a:pt x="2102" y="2487"/>
                </a:lnTo>
                <a:lnTo>
                  <a:pt x="2276" y="2448"/>
                </a:lnTo>
                <a:lnTo>
                  <a:pt x="2470" y="2352"/>
                </a:lnTo>
                <a:lnTo>
                  <a:pt x="2586" y="2265"/>
                </a:lnTo>
                <a:lnTo>
                  <a:pt x="2692" y="2119"/>
                </a:lnTo>
                <a:lnTo>
                  <a:pt x="2731" y="1974"/>
                </a:lnTo>
                <a:lnTo>
                  <a:pt x="2832" y="398"/>
                </a:lnTo>
                <a:lnTo>
                  <a:pt x="2880" y="302"/>
                </a:lnTo>
                <a:lnTo>
                  <a:pt x="2981" y="223"/>
                </a:lnTo>
                <a:lnTo>
                  <a:pt x="3069" y="184"/>
                </a:lnTo>
                <a:lnTo>
                  <a:pt x="3168" y="158"/>
                </a:lnTo>
                <a:lnTo>
                  <a:pt x="4782" y="0"/>
                </a:lnTo>
              </a:path>
            </a:pathLst>
          </a:custGeom>
          <a:noFill/>
          <a:ln cap="rnd" w="25560">
            <a:solidFill>
              <a:srgbClr val="e84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50840" y="2579760"/>
            <a:ext cx="792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8360" y="2303640"/>
            <a:ext cx="113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&gt;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7200" y="660240"/>
            <a:ext cx="77724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20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Weak acid with strong 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20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Equivalence at pH &gt;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28800" y="457200"/>
            <a:ext cx="8001000" cy="5562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-360" y="4510440"/>
            <a:ext cx="1067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33560" y="5943600"/>
            <a:ext cx="5334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L of Base ad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30240" y="1122480"/>
            <a:ext cx="7593120" cy="4748040"/>
          </a:xfrm>
          <a:custGeom>
            <a:avLst/>
            <a:gdLst/>
            <a:ahLst/>
            <a:rect l="l" t="t" r="r" b="b"/>
            <a:pathLst>
              <a:path w="4783" h="2991">
                <a:moveTo>
                  <a:pt x="0" y="0"/>
                </a:moveTo>
                <a:lnTo>
                  <a:pt x="99" y="77"/>
                </a:lnTo>
                <a:lnTo>
                  <a:pt x="205" y="135"/>
                </a:lnTo>
                <a:lnTo>
                  <a:pt x="331" y="203"/>
                </a:lnTo>
                <a:lnTo>
                  <a:pt x="631" y="290"/>
                </a:lnTo>
                <a:lnTo>
                  <a:pt x="2102" y="503"/>
                </a:lnTo>
                <a:lnTo>
                  <a:pt x="2276" y="542"/>
                </a:lnTo>
                <a:lnTo>
                  <a:pt x="2470" y="638"/>
                </a:lnTo>
                <a:lnTo>
                  <a:pt x="2586" y="725"/>
                </a:lnTo>
                <a:lnTo>
                  <a:pt x="2692" y="871"/>
                </a:lnTo>
                <a:lnTo>
                  <a:pt x="2731" y="1016"/>
                </a:lnTo>
                <a:lnTo>
                  <a:pt x="2832" y="2592"/>
                </a:lnTo>
                <a:lnTo>
                  <a:pt x="2880" y="2688"/>
                </a:lnTo>
                <a:lnTo>
                  <a:pt x="2981" y="2767"/>
                </a:lnTo>
                <a:lnTo>
                  <a:pt x="3069" y="2806"/>
                </a:lnTo>
                <a:lnTo>
                  <a:pt x="3168" y="2832"/>
                </a:lnTo>
                <a:lnTo>
                  <a:pt x="4782" y="2990"/>
                </a:lnTo>
              </a:path>
            </a:pathLst>
          </a:custGeom>
          <a:noFill/>
          <a:ln cap="rnd" w="25560">
            <a:solidFill>
              <a:srgbClr val="e84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76320" y="3778200"/>
            <a:ext cx="792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61800" y="3440160"/>
            <a:ext cx="1136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&lt;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1760" y="476280"/>
            <a:ext cx="55468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20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Weak base with strong ac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20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Equivalence at pH &lt;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acid and base just stoichiome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Ka, use for 0 mL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 acid before equivalence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ichiometry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Henderson-Hasselb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 acid at equivalence point K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 base after equivalence - leftover strong b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Buffered solu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olution that resists a change in 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ther a weak acid and its salt or a weak base and its sa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make a buffer of any pH by varying the concentrations of these solu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calculations as bef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pH of a solution that is .50 M HAc and .25 M NaAc (Ka = 1.8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ndicator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31920" y="1143000"/>
            <a:ext cx="8278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 acids that change color when they become b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 acid written H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I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ibrium is controlled by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point - when the indicator changes colo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834920" y="3460680"/>
            <a:ext cx="838440" cy="381240"/>
            <a:chOff x="1834920" y="3460680"/>
            <a:chExt cx="838440" cy="381240"/>
          </a:xfrm>
        </p:grpSpPr>
        <p:grpSp>
          <p:nvGrpSpPr>
            <p:cNvPr id="362" name=""/>
            <p:cNvGrpSpPr/>
            <p:nvPr/>
          </p:nvGrpSpPr>
          <p:grpSpPr>
            <a:xfrm>
              <a:off x="1835280" y="3460680"/>
              <a:ext cx="838080" cy="152640"/>
              <a:chOff x="1835280" y="3460680"/>
              <a:chExt cx="838080" cy="152640"/>
            </a:xfrm>
          </p:grpSpPr>
          <p:sp>
            <p:nvSpPr>
              <p:cNvPr id="363" name=""/>
              <p:cNvSpPr/>
              <p:nvPr/>
            </p:nvSpPr>
            <p:spPr>
              <a:xfrm>
                <a:off x="1835280" y="3613320"/>
                <a:ext cx="83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521080" y="3460680"/>
                <a:ext cx="152280" cy="152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1834920" y="3689280"/>
              <a:ext cx="838440" cy="152640"/>
              <a:chOff x="1834920" y="3689280"/>
              <a:chExt cx="838440" cy="152640"/>
            </a:xfrm>
          </p:grpSpPr>
          <p:sp>
            <p:nvSpPr>
              <p:cNvPr id="366" name=""/>
              <p:cNvSpPr/>
              <p:nvPr/>
            </p:nvSpPr>
            <p:spPr>
              <a:xfrm flipH="1">
                <a:off x="1835280" y="3689280"/>
                <a:ext cx="83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1834920" y="3689280"/>
                <a:ext cx="152280" cy="152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ndicator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85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it is an equilibrium the color change is grad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noticeable when the ratio o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I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/[HI] or [HI]/[I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is 1/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the Indicator is a weak acid, it has a 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the indicator changes at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=pKa +log([I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/[HI]) = pKa +log(1/10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=pKa - 1 on the way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ndicator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=pKa + log([HI]/[I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) = pKa + log(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=pKa+1 on the way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the indicator with a pKa 1 less than the pH at equivalence point if you are titrating with b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the indicator with a pKa 1 greater than the pH at equivalence point if you are titrating with ac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ind your ass-ids and bases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pH of a solution that is .50 M HAc and .25 M NaAc (Ka = 1.8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dding a strong acid or bas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e stoichiometry f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rong base will grab protons from the weak acid reducing [H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rong acid will add its proton to the anion of the salt reducing [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do the equilibrium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pH of 1.0 L of the previous solution when 0.010 mol of solid NaOH is ad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pH of 1.0 L of the previous solution when 0.010 mol of solid NaOH is ad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General equ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 =  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HA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= Ka [HA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depends on the ratio [HA]/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ing the negative log of both s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= -log(Ka [HA]/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) 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= -log(Ka)-log([HA]/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) 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= pKa + log(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/[HA]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19320" y="1900080"/>
            <a:ext cx="1981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2971800"/>
            <a:ext cx="99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is is called the Henderson-Hasselbach equ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= pKa + log(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/[HA]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= pKa + log(base/ac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pH of the following 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75 M lactic acid (H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and 0.25 M sodium lactate (Ka = 1.4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25 M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0.40 M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Kb = 1.8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75 M lactic acid (H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and 0.25 M sodium lactate (Ka = 1.4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4-17T17:44:54Z</dcterms:created>
  <dc:creator/>
  <dc:description/>
  <cp:keywords/>
  <dc:language>en-US</dc:language>
  <cp:lastModifiedBy>FPS</cp:lastModifiedBy>
  <dcterms:modified xsi:type="dcterms:W3CDTF">2008-12-09T17:52:42Z</dcterms:modified>
  <cp:revision>12</cp:revision>
  <dc:subject/>
  <dc:title>Chapter 15</dc:title>
</cp:coreProperties>
</file>